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4.gif" ContentType="image/gif"/>
  <Override PartName="/ppt/media/image22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400-86BD-42C4-8EAD-FB37C914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3A9-2224-4B39-BE61-B1E7DD9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08FFD-0531-4145-9971-421E57D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5095F-C996-40A5-B4DC-0208CC52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D799-153C-435D-8594-CD01F58A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A4C56-A3F9-4452-A506-EA0386F9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DD9C6-5005-4562-979D-EA11A6E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B1838-06DB-41BE-AD57-A886CA8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73B60-7DFD-4598-B174-213B962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B6CB4-DA8E-48AF-B515-E71DE926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333E5-7CC6-4E09-8FAC-B57F6FDC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FE8EA-B2B5-4E65-A300-FAFD6E80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B2B-0787-4994-9828-956EC5D3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A496B-39E7-4DBF-90E5-E88BA588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7938F-9FA8-4FFB-B916-DE45DBD2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1B35-768B-42D5-A790-B37EDCD1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CC67-9618-4627-98AB-D1F7731B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0E689-76C0-4651-B924-C6B3C73F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77D5C-C682-4665-8C5E-7F13407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766C4-2958-4D4C-8765-20689462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8596F-B639-4002-8FDC-1BDFD96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5860-3969-47DA-A8CB-E9F72E9A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EDA1C-5B74-4CD0-AFA7-46E5CC20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A08-10FF-490B-8630-60FA144A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1A7B-8B1A-4806-93BE-B55A8201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3CF1-B48A-4225-85C1-44070216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09F8-148F-418D-AFD6-3D91CE90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BA46-ADC0-4D04-9CBC-EF0FFE9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8E8-6CAC-4D83-81BC-37AA99AB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D5FD-7E6E-40BF-AA70-2A0072E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80C0-6B32-42D7-AB91-9AC6BF33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B27C-01DE-411D-B94D-C8B57910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9FE-CAE4-4B0E-88E1-B90B6082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DBD-A9A3-419F-ABCD-68A7A9B2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FE31-CFB7-47BD-A3E5-046077C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488C-D156-4869-A7AF-5D90362C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8627-0646-4EAD-AFE4-B6D352DE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E6DD-6294-4FB8-BC20-2C89A3AE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FC59-5E55-4682-A1EB-CC77A5D0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773A-1F43-4C9E-9C98-1F13AB3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CF07-881B-454B-81C4-0846F60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04D2-22BD-47C0-A184-92A06A6A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E52F-9FB1-4471-AE93-84F45265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5F8-E19F-4615-A61E-4B8DE0C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BB61-81F1-4BA7-A4C5-33737207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5FF3-43BC-4F0D-BC25-E0E21C4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2A4D-94F9-4AB3-871A-3897808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7CA0-879E-44B8-A0F6-43FA1D9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0C73-C4F8-4212-B4EC-F9630044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08CB-153E-4DE6-B86C-DCD47DE4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13E0-25EB-441E-BA93-342AB685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92BF-CEFA-48D0-8E51-7B83E0FF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EB1E-FBDD-468A-95E3-96FD9AA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17ED-507A-431F-88DB-304D2F30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7A5-1FF8-4DB6-86CF-4C63B46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7D6BD-6B51-492D-AED6-67EAD21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A9AD-E9F6-44F1-8D25-095DB20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D625-947D-4D94-823F-919F7FD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700A-5C32-46E1-B72E-9AF2A8F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154C-BF13-4957-8325-3964372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D209-DB06-4EB8-87CA-B83C3CB4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B0C00-48E0-46AD-9AF6-E8C3152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30D3-A66D-4F17-9D51-979F5FB3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AF09-DC22-448A-8703-BDA74CC7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79C8-88CD-4AD6-8B82-D501473B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2F3-35AD-44AA-9E03-09EE163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5E44-8D2D-4508-950A-26EBD724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ABF36-4EAB-4E3A-9F89-E11FA072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633ED-4392-4CAB-9576-634DDBAF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0987-B7EF-4F43-B905-C0D2290D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DC52-51A8-4F5E-8775-60CB0A4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0EBD-CB7B-415A-BECB-05D874F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15F6-1AD2-4099-98C3-B64F5B2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7737-D245-47B4-8795-8891A85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415F7-3F64-4FAF-A486-C1E72FF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98C6-BA9C-4047-95B6-AC16BAC7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BFF-18A7-454D-9793-4D2D04B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A59F-68D6-404E-8EA6-6114EB83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C4D8-AE4D-40A9-BC54-8E32348E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3F90-792E-4F61-A6C1-A1FF5EA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502E-2DC2-43AD-B159-484085A8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F4F4-4C15-4E31-8D5A-BC14285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1482-EFCA-41B8-9D78-B2EB3882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4819-0A70-41C9-9327-F8788446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9580-29B1-47E9-B413-5E38B33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753E-BAF8-4E1C-91DD-3BEB4F24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0960-F891-4D41-A407-66676AD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43F-D404-4325-A0B3-9D45B4D1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8D09-32D3-472D-B5C4-6DF7AF6B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8189-913B-46A2-82A1-70858BF0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46D1-70D2-43B6-852F-A285F36B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74AE-641C-4780-BA11-137E8D31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C60A6-37A6-4CA6-B4F0-D32D088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7E094-6141-4C30-8FC0-E5DE3B95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438B-6EF8-448B-B005-5067B48B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B82FF-CB76-475B-A755-5E914BA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C9C2-9FE9-4085-855C-1A41593D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EDA5-DE91-410F-88CF-4E4C11C2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77E-75C1-44B1-B9A3-B4C063B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2BFF9-C3A3-40D4-A6D5-AC2F09D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A4CB-8D26-43B3-A066-936BD32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174E-7F01-478D-B272-4A057D14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EB98-B46F-4CB7-9007-3002757E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FFFDD-2F4A-4F9A-82FF-071694BC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84AF9-ADE2-4AF2-9832-9CF92FF1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249D-68E5-48C1-B60B-BC50594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9C133-5918-4D2C-8771-32F6C8C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4266A-22C1-46B4-B155-5FBEA18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AECC3-BAFD-4B8F-9BE2-3D2CABA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96F-C277-4B42-B5E9-4FF3F00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32911-92E0-4053-ACFD-6BAF0EA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A4F2-6893-4708-84CC-51AD68A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3A59A-291A-47C2-85A1-EB321A6E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2EA1-6DB3-4A84-9B78-0687CF1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568B9-8FC8-4C8A-81F3-6D23B29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602C-0FD6-4D59-B4E3-0384693A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66280-7EA6-47EF-8F01-97EF78C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67CD0-92FF-4C2B-A026-3BBC8634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A200B-57A7-4545-B684-F7CBB80B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9D068-471A-4DC7-AC2E-EBADF0BD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1DA0-84FD-455B-8E19-EBC704D70CF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0C1E-5CF0-413D-8AD7-65270B5D550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34F-29F3-480E-9FE3-B646752CF0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3E42-E58A-4178-A274-90AEA19D0C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648-4F6F-4F29-A3FA-CB39695651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8202-FC24-4996-BA26-AC7A9EBEC2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64F2-3F12-45AC-86B6-CCA8A2CF88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DE08-239C-4E1B-9904-07143EFAE6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9A0C-92C8-4CB2-87B4-ACC0282B07B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25AF-62C1-42AE-B26F-866560AB345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ВКЛАД  М.В. ЛОМОНОСОВА В РАЗВИТИЕ ХИМИИ</a:t>
            </a:r>
            <a:endParaRPr b="0" lang="en-US" sz="43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2" name="Picture 8" descr="l_107i"/>
          <p:cNvPicPr/>
          <p:nvPr/>
        </p:nvPicPr>
        <p:blipFill>
          <a:blip r:embed="rId1"/>
          <a:stretch/>
        </p:blipFill>
        <p:spPr>
          <a:xfrm>
            <a:off x="2411280" y="2060640"/>
            <a:ext cx="4119840" cy="4581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493" name="Рисунок 9" descr="J0076135.GIF"/>
          <p:cNvPicPr/>
          <p:nvPr/>
        </p:nvPicPr>
        <p:blipFill>
          <a:blip r:embed="rId2"/>
          <a:stretch/>
        </p:blipFill>
        <p:spPr>
          <a:xfrm>
            <a:off x="6929280" y="5143680"/>
            <a:ext cx="1785960" cy="129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Arial Narrow"/>
              </a:rPr>
              <a:t>«Физическая химия – писал Ломоносов, – есть наука, объясняющая на основании положений и опытов физики то, что происходит в смешанных телах при химических операциях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168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Материалистический подход к явлениям природы, знакомство с достижениями науки того времени позволили Ломоносову впервые объединить в одной формулировке принципы сохранения материи и движения. Этот закон он назвал «всеобщим естественным законом» и в 1760 году опубликовал его в «Рассуждении о твердости и жидкости тел»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1" name="Picture 7" descr="4248_p0003"/>
          <p:cNvPicPr/>
          <p:nvPr/>
        </p:nvPicPr>
        <p:blipFill>
          <a:blip r:embed="rId1"/>
          <a:stretch/>
        </p:blipFill>
        <p:spPr>
          <a:xfrm>
            <a:off x="3780000" y="2924280"/>
            <a:ext cx="4929120" cy="34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22" name="Picture 9" descr="labtex_flask_conical_sj"/>
          <p:cNvPicPr/>
          <p:nvPr/>
        </p:nvPicPr>
        <p:blipFill>
          <a:blip r:embed="rId2"/>
          <a:stretch/>
        </p:blipFill>
        <p:spPr>
          <a:xfrm>
            <a:off x="6084720" y="620640"/>
            <a:ext cx="2540160" cy="1803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428720" y="2071800"/>
            <a:ext cx="4429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менитый английский химик Р. Бойл, прокаливая в открытой реторте различные металлы и взвешивая их до и после нагревания, обнаружил, что масса металлов становится больше. М.В. Ломоносов в отличие от Р. Бойля прокаливал металлы не на открытом воздухе, а в запаянных ретортах и взвешивал их до и после прокалива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7120" y="285480"/>
            <a:ext cx="3929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се перемены, в натуре случающиеся, такого суть состояния, что сколько чего у одного тела отнимается, столько присовокупится к другому»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" name="Picture 10" descr="Старинное хим"/>
          <p:cNvPicPr/>
          <p:nvPr/>
        </p:nvPicPr>
        <p:blipFill>
          <a:blip r:embed="rId1"/>
          <a:stretch/>
        </p:blipFill>
        <p:spPr>
          <a:xfrm>
            <a:off x="642960" y="4572000"/>
            <a:ext cx="3095640" cy="20448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000" y="3240"/>
            <a:ext cx="7808760" cy="90648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ПРОИЗВОДСТВО ЦВЕТНОГО СТЕКЛ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898200"/>
            <a:ext cx="4356000" cy="5194440"/>
          </a:xfrm>
          <a:prstGeom prst="rect">
            <a:avLst/>
          </a:prstGeom>
          <a:noFill/>
          <a:ln w="0">
            <a:noFill/>
          </a:ln>
        </p:spPr>
        <p:txBody>
          <a:bodyPr tIns="6840" anchor="t">
            <a:normAutofit/>
          </a:bodyPr>
          <a:p>
            <a:pPr marL="430200" indent="-324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ff00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e6ff00"/>
                </a:solidFill>
                <a:latin typeface="Arial Narrow"/>
              </a:rPr>
              <a:t>В Химической лаборатории Ломоносов провел более четырех тысяч опытов и разработал технологию изготовления цветных прозрачных и непрозрачных (смальт) стекол. Эту технологию он решил использовать для промышленного изготовления изделий из цветного стекла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4356000" y="3692520"/>
            <a:ext cx="2562480" cy="1728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6599160" y="1557360"/>
            <a:ext cx="2486160" cy="21351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tretch/>
        </p:blipFill>
        <p:spPr>
          <a:xfrm>
            <a:off x="7122960" y="4221000"/>
            <a:ext cx="1914840" cy="2135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179280"/>
            <a:ext cx="8572680" cy="1106640"/>
          </a:xfrm>
          <a:prstGeom prst="rect">
            <a:avLst/>
          </a:prstGeom>
          <a:noFill/>
          <a:ln w="0">
            <a:noFill/>
          </a:ln>
        </p:spPr>
        <p:txBody>
          <a:bodyPr tIns="424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МАКЕТ ХИМИЧЕСКОЙ  ЛАБОРАТОРИИ  ЛОМОНОСОВ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4200" y="1438200"/>
            <a:ext cx="8715600" cy="520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671400" y="25560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6e64c"/>
                </a:solidFill>
                <a:latin typeface="Comic Sans MS"/>
              </a:rPr>
              <a:t>Мозаичные картины М. В. Ломонос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500040" y="4214880"/>
            <a:ext cx="1800360" cy="2340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6643800" y="1928880"/>
            <a:ext cx="19875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e6e64c"/>
                </a:solidFill>
                <a:latin typeface="Comic Sans MS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2"/>
          <a:stretch/>
        </p:blipFill>
        <p:spPr>
          <a:xfrm>
            <a:off x="4071960" y="1571760"/>
            <a:ext cx="1603440" cy="2492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3"/>
          <a:stretch/>
        </p:blipFill>
        <p:spPr>
          <a:xfrm>
            <a:off x="3214800" y="4429080"/>
            <a:ext cx="4071960" cy="2143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4"/>
          <a:stretch/>
        </p:blipFill>
        <p:spPr>
          <a:xfrm>
            <a:off x="1357200" y="1643040"/>
            <a:ext cx="180972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8920" y="428760"/>
            <a:ext cx="810756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моносов показывает Екатери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заичную мастерскую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0" name="Picture 8" descr="lomonos_mozay"/>
          <p:cNvPicPr/>
          <p:nvPr/>
        </p:nvPicPr>
        <p:blipFill>
          <a:blip r:embed="rId1"/>
          <a:stretch/>
        </p:blipFill>
        <p:spPr>
          <a:xfrm>
            <a:off x="357120" y="1785960"/>
            <a:ext cx="7953480" cy="47386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671400" y="25560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5261040" y="1440000"/>
            <a:ext cx="3882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e6e6e6"/>
                </a:solidFill>
                <a:latin typeface="Times New Roman"/>
              </a:rPr>
              <a:t>В «Краткой истории о поведении Академической Канцелярии», составленной в 1764 г., Ломоносов писал: «Под смотрением и по расположению Ломоносова построена химическая лаборатория, в которой он, трудясь многими опытами, кроме других исследований, изобрел фарфоровую массу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112760" y="362412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29080" y="1434960"/>
            <a:ext cx="1731960" cy="2135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3"/>
          <a:stretch/>
        </p:blipFill>
        <p:spPr>
          <a:xfrm>
            <a:off x="0" y="1440000"/>
            <a:ext cx="2747880" cy="213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ОСНОВНЫЕ ДОСТИЖЕНИЯ ЛОМОНОСОВА В ОБЛАСТИ ХИМИ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834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широкое введение физических методов и представлений для объяснения химических явлений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Текст 9"/>
          <p:cNvSpPr/>
          <p:nvPr/>
        </p:nvSpPr>
        <p:spPr>
          <a:xfrm>
            <a:off x="285840" y="2571840"/>
            <a:ext cx="834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атериалистическое истолкование химических явл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14"/>
          <p:cNvSpPr/>
          <p:nvPr/>
        </p:nvSpPr>
        <p:spPr>
          <a:xfrm>
            <a:off x="285840" y="3286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здание корпускулярной теор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16"/>
          <p:cNvSpPr/>
          <p:nvPr/>
        </p:nvSpPr>
        <p:spPr>
          <a:xfrm>
            <a:off x="285840" y="38577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ая формулировка закона сохранения массы веществ и энерг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17"/>
          <p:cNvSpPr/>
          <p:nvPr/>
        </p:nvSpPr>
        <p:spPr>
          <a:xfrm>
            <a:off x="285840" y="428616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ложил научные основы русской промышленности по производству цветного стек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18"/>
          <p:cNvSpPr/>
          <p:nvPr/>
        </p:nvSpPr>
        <p:spPr>
          <a:xfrm>
            <a:off x="285840" y="50007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боты Ломоносова в области физической химии заложили основы развития этой науки в нашей стран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331640" y="981000"/>
            <a:ext cx="65926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Arial Narrow"/>
              </a:rPr>
              <a:t>Презентацию подготовили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f0"/>
                </a:solidFill>
                <a:latin typeface="Arial Narrow"/>
              </a:rPr>
              <a:t>студенты группы 12СМ</a:t>
            </a: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: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Ольховик Андрей,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Савасов Сергей,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Ланшаков Денис.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f0"/>
                </a:solidFill>
                <a:latin typeface="Arial Narrow"/>
              </a:rPr>
              <a:t>Руководитель: преподаватель химии </a:t>
            </a: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Болдырева Оксана Викторовна</a:t>
            </a:r>
            <a:r>
              <a:rPr b="0" lang="ru-RU" sz="3300" spc="-1" strike="noStrike">
                <a:solidFill>
                  <a:srgbClr val="00b0f0"/>
                </a:solidFill>
                <a:latin typeface="Arial Narrow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784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00"/>
                </a:solidFill>
                <a:latin typeface="Times New Roman"/>
              </a:rPr>
              <a:t>«Широко распростирает химия руки свои в дела человеческие….. Куда  ни посмотрим, куда ни оглянемся, везде обращаются пред очами нашими успехи ея прилежания»  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00"/>
                </a:solidFill>
                <a:latin typeface="Times New Roman"/>
              </a:rPr>
              <a:t>                                        </a:t>
            </a:r>
            <a:r>
              <a:rPr b="0" i="1" lang="ru-RU" sz="3300" spc="-1" strike="noStrike">
                <a:solidFill>
                  <a:srgbClr val="ffff00"/>
                </a:solidFill>
                <a:latin typeface="Times New Roman"/>
              </a:rPr>
              <a:t>М.В. Ломоносов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4" name="Рисунок 9" descr="J0076135.GIF"/>
          <p:cNvPicPr/>
          <p:nvPr/>
        </p:nvPicPr>
        <p:blipFill>
          <a:blip r:embed="rId1"/>
          <a:stretch/>
        </p:blipFill>
        <p:spPr>
          <a:xfrm>
            <a:off x="3357720" y="4572000"/>
            <a:ext cx="17859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81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Narrow"/>
              </a:rPr>
              <a:t>ИСПОЛЬЗОВАННАЯ ЛИТЕРАТУРА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15840" y="1260360"/>
            <a:ext cx="8228160" cy="51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1. “Энциклопедический словарь юного техника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102,164,234,238,239,461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2. “Энциклопедический словарь юного химика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10,25,32,33,85,257,279,280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3. П.С.Кудрявцев “Курс истории физики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118-125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4. К.Манолов “Великие химики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том I стр. 66,68-93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5. В.Чолаков “Нобелевские премии.Учёные и открытия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48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6. “Физическая энциклопедия”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том III стр. 65-67., том I стр. 152,559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7. “Химическая энциклопедия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том IV стр. 772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8. М.В.Ломоносов “Избранные философские сочинения”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;Tahoma"/>
              </a:rPr>
              <a:t>1940г</a:t>
            </a:r>
            <a:r>
              <a:rPr b="0" lang="en-US" sz="1400" spc="-1" strike="noStrike">
                <a:solidFill>
                  <a:srgbClr val="777777"/>
                </a:solidFill>
                <a:latin typeface="Verdana;Tahoma"/>
              </a:rPr>
              <a:t>.</a:t>
            </a:r>
            <a:r>
              <a:rPr b="0" lang="en-US" sz="1400" spc="-1" strike="noStrike">
                <a:solidFill>
                  <a:srgbClr val="cccccc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«Широко распростирает химия руки сво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в дела человеческие… Куда  ни посмотрим, куда ни оглянемся, везде обращаются пред очами нашими успехи ея прилежания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М.В. Ломоносов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9" name="Рисунок 9" descr="J0076135.GIF"/>
          <p:cNvPicPr/>
          <p:nvPr/>
        </p:nvPicPr>
        <p:blipFill>
          <a:blip r:embed="rId1"/>
          <a:stretch/>
        </p:blipFill>
        <p:spPr>
          <a:xfrm>
            <a:off x="785880" y="4643280"/>
            <a:ext cx="17859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03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1740-х годах Ломоносов разработал корпускулярную теорию строения вещества, отдельные положения которой предвосхитили представления атомно-молекулярного уче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1" name="Picture 8" descr="labtex_kipp"/>
          <p:cNvPicPr/>
          <p:nvPr/>
        </p:nvPicPr>
        <p:blipFill>
          <a:blip r:embed="rId1"/>
          <a:stretch/>
        </p:blipFill>
        <p:spPr>
          <a:xfrm>
            <a:off x="5786280" y="642960"/>
            <a:ext cx="2826000" cy="3476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02" name="Picture 12" descr="logo"/>
          <p:cNvPicPr/>
          <p:nvPr/>
        </p:nvPicPr>
        <p:blipFill>
          <a:blip r:embed="rId2"/>
          <a:stretch/>
        </p:blipFill>
        <p:spPr>
          <a:xfrm>
            <a:off x="3059280" y="4437000"/>
            <a:ext cx="3024000" cy="22208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ХИМИЯ – НАУКА ОБ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ИЗМЕНЕНИЯХ, ПРОИСХОДЯЩИХ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В СМЕШАННОМ ТЕЛЕ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5" name="Рисунок 9" descr="J0076135.GIF"/>
          <p:cNvPicPr/>
          <p:nvPr/>
        </p:nvPicPr>
        <p:blipFill>
          <a:blip r:embed="rId1"/>
          <a:stretch/>
        </p:blipFill>
        <p:spPr>
          <a:xfrm>
            <a:off x="3857760" y="4572000"/>
            <a:ext cx="17859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616720" cy="4680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5050"/>
                </a:solidFill>
                <a:latin typeface="Arial Narrow"/>
              </a:rPr>
              <a:t>КАБИНЕТ ХИМИКА М.В.ЛОМОНОСОВ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140360" y="549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745 году Ломоносов был избран в число академиков, стал первым русским профессором химии в университет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9" name="Picture 9" descr="kjv"/>
          <p:cNvPicPr/>
          <p:nvPr/>
        </p:nvPicPr>
        <p:blipFill>
          <a:blip r:embed="rId1"/>
          <a:stretch/>
        </p:blipFill>
        <p:spPr>
          <a:xfrm>
            <a:off x="395280" y="765000"/>
            <a:ext cx="3081240" cy="45370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10" name="Picture 11" descr="wpermr24"/>
          <p:cNvPicPr/>
          <p:nvPr/>
        </p:nvPicPr>
        <p:blipFill>
          <a:blip r:embed="rId2"/>
          <a:stretch/>
        </p:blipFill>
        <p:spPr>
          <a:xfrm>
            <a:off x="4643280" y="2997360"/>
            <a:ext cx="3378240" cy="3344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250920" y="285480"/>
            <a:ext cx="4038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748 году он создаёт первую русскую химическую лабораторию, помогает Ломоносову в этом его близкий друг Г.Рихман-русский физик, занимавшийся работами по электричеству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2" name="Picture 9" descr="Химич"/>
          <p:cNvPicPr/>
          <p:nvPr/>
        </p:nvPicPr>
        <p:blipFill>
          <a:blip r:embed="rId1"/>
          <a:stretch/>
        </p:blipFill>
        <p:spPr>
          <a:xfrm>
            <a:off x="611280" y="4005360"/>
            <a:ext cx="3457440" cy="26319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13" name="Picture 11" descr="3-1"/>
          <p:cNvPicPr/>
          <p:nvPr/>
        </p:nvPicPr>
        <p:blipFill>
          <a:blip r:embed="rId2"/>
          <a:stretch/>
        </p:blipFill>
        <p:spPr>
          <a:xfrm>
            <a:off x="5003640" y="1341360"/>
            <a:ext cx="3240360" cy="2293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14" name="Picture 12" descr="Лаборатория"/>
          <p:cNvPicPr/>
          <p:nvPr/>
        </p:nvPicPr>
        <p:blipFill>
          <a:blip r:embed="rId3"/>
          <a:stretch/>
        </p:blipFill>
        <p:spPr>
          <a:xfrm>
            <a:off x="4859280" y="4292640"/>
            <a:ext cx="3816360" cy="2090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3:06:08Z</dcterms:created>
  <dc:creator>Ксюша</dc:creator>
  <dc:description/>
  <dc:language>en-US</dc:language>
  <cp:lastModifiedBy>user</cp:lastModifiedBy>
  <dcterms:modified xsi:type="dcterms:W3CDTF">2011-11-18T06:50:30Z</dcterms:modified>
  <cp:revision>69</cp:revision>
  <dc:subject/>
  <dc:title>Слайд 1</dc:title>
</cp:coreProperties>
</file>