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4.gif" ContentType="image/gif"/>
  <Override PartName="/ppt/media/image22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726-467D-4512-B879-5061B64D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E1E-4DE7-41C2-A474-94CE255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AD19F-2EBA-4F74-B607-51ECFA4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0613A-F28B-4479-ADC0-8661E85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8ADE4-5765-42F0-ACAB-A7A38680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D98C8-ADFF-45B1-9DB4-1DB603A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B1DF6-4B3A-4537-9B05-A5D50F16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63863-C8BD-48FD-9F9A-0F20432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55C2E-7B20-4A7D-9412-35D0EE2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BDF85-B856-47A8-82CD-5A55C5C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A10AD-3261-42D4-807D-F8F3EEE9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40A17-DC91-4A45-BEDD-CC14A586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4B8-6DA2-4170-86D7-A8663347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C5326-2F36-47D2-9F05-254B9327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35BD1-8B9E-4CFF-9280-B9CF87E7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69E00-0054-4D30-836C-E990ED91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450E0-5CE6-4321-9406-A082549C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221AF-7F0C-4EB8-A7FD-3C49A3D6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15FDB-249F-422E-BB15-AAD881C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1C299-B9D7-4EC0-8294-012A008C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68038-4E13-4115-8E73-6ACF14D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F75E8-43D8-4B89-BF49-F686209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3288B-419D-4D58-8227-DA9C5DC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FF5-F3D4-494D-BCFF-37FE0440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2080B-ED9C-4C99-B631-3CBADD7A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981A-7A3B-43D4-A10D-A569D3AF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2642-B5AE-4B28-8180-3349C39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F3C-9E42-42FA-8D53-91BC4B1F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E90-A4A7-4949-AD9E-E784AB73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883C-EB0D-4EA6-9246-5C40BB40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A39E-E628-4513-AE50-C294BCDC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707-4434-4EB0-8D54-FE50723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AF7-5D55-4E27-B036-DD6B24BF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D179-9E4C-4BCE-A53F-44B4AEA8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194D-F78C-41F4-B057-7EFAA9D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69B1-321E-4EAB-9BFA-137157ED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24D-F553-4247-9381-4DA9977D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90B-8F4F-42AA-B83F-9A5BF617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01DA-3FE4-4E79-A5AA-AE5E8831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FA93-11D3-4D50-A0DA-48C11382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40E3-0E49-42E3-A444-7D2D85CB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B28A-ABD6-4D2D-BBE7-82CD3008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8BC1-3DC1-4D0D-B69D-B1E33C5A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493-20AF-4E18-BAA7-5A50ED2A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3EED-6FE6-4C5D-B2A1-30BD18D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7B62-5A13-4620-BD01-CDDEB04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FE71-5B4B-4797-8FD4-FE7AD7A6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6F97-50B7-4C0F-AF48-AC39FBE6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1792-CA7A-4A7E-BB24-8CB5861D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EE62-6AF4-4DE2-9949-8A688425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6F75-1BF5-462D-A61D-EE3305B1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584FC-2AA4-477A-8C2B-FB43375E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C32B-11A1-4F27-9547-CC2CF84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93E9-0C81-465F-95FD-71E6348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1FB-0AAA-4688-9C62-64AECF3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B37D-7466-44F9-9FEA-93C5C81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392F-2764-44EA-9059-8744E47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832C-842D-41C1-A29A-38C19310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3E9B-91CB-4879-824C-E778CBC7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9D87-B66D-4E60-9D42-3427E93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0568-340D-4FAF-A9A4-30088D4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45DA-0232-4A3A-9B6C-25CD1A86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138E-5A3D-4F0E-8E07-9B50968B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DB88-500A-4B57-BE33-43D97B52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64A6-C451-45F4-822E-7425FE9A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947-3D00-432D-A0BA-1277935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06260-23A0-47B6-B6C1-C4A699BF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5794-E401-49A0-BBE8-27FD78E9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1047-2C26-40CA-B27E-C2BCA618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4905-BC30-4030-80CA-0A22684D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A22D-F01E-4FD2-B16D-DCC01EB3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E379-24E3-4F91-A380-3C850876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D37C-B8D1-4230-AED8-579613F4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2BC8-01B7-4068-9F39-BF93A5B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5C86A-3EB7-4317-8BFE-8F92F4A1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5DFD-EAA7-443B-A963-1A61D2C5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91E-C655-4A73-AF71-B3D700D5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5C25-F39A-40AA-81AF-87E5A40E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C058D-F6C9-41BD-93B9-8A250772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DC9AF-312A-4A1F-83D7-3CC7FC1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916B6-B770-451B-8539-5A22AF5E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7C7E-8CFA-41B9-B3A2-461B084A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FEB2-9A1C-47BF-ACD7-75A11738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4F149-A81F-42B0-B820-4825D68C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E797-7DAE-4C92-A3BD-B2D01D2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B05C-143C-4469-A7DE-FCDBB87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F5BF-2A19-4188-8DF0-B935990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88D-7ECE-4AE9-B578-EC8AD62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DD0BE-8936-4892-8B74-F9AF3F46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8FD3-4F8F-4042-8A62-9BCDCF72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A965-2959-401E-A40B-2A78B97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B11D-486D-428F-8F24-C4D48802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F00A-0F0E-4F34-8D78-813C6B0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6840-9D0E-49C5-8240-5AD026F2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E3D3B-0F70-4DD3-8D39-C13D388C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B4F5E-DD86-46A4-8E1B-985C916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410B9-333E-4345-BC10-52583AC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5336A-0975-4564-91B6-C480CC06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B85-CB33-4DD9-920C-59FE566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8D55-ABF3-45D3-8343-F57659AD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3CEBD-FCF8-4D07-828C-4EEF3818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82D50-CDF4-4435-A85F-6895DC6D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3243-17F7-4D78-BD91-DED41324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5F28D-D0C1-4F70-8A5E-6A150E7C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0967-C976-4DAC-877F-60AF4AEF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BD95A-9F9E-45E0-A7DD-70939F36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9A701-0EC1-4A8C-AE7F-E60DB9F0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20C1-3C61-4D1A-BDA7-7E9F88B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711F2-4E8D-46D4-9ABD-5049FB1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527-7B8C-43C3-B592-26E1FD9B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75FEE-2E33-4091-8CEF-ED82BA50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B5AD4-21E3-4D94-8A3B-2E0A461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07E10-8642-4601-89F1-1EF546E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FE450-F696-4B7C-A1AF-A38823A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51DC-9E43-40AC-AF0F-B65EE466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F19D6-C40E-40CA-95EF-3E4F24F2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B69A1-1A13-41BC-9331-BC87CE3D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CA797-9503-41D1-B83B-6C48BF94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3CC4-5B7C-4F9C-B84D-05BFDA3E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9B043-1F55-492D-9B85-D5FC7383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2D86-0457-44DC-8E0A-F55F8F04233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DB6-7177-4FE3-9A69-070CA06573D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1C51-5D9C-4FCD-9EA4-863772963F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92F1-146C-4651-99EB-B5EF362C4F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16E-BE98-4D50-BC63-1CFD482B8F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DF63-0455-429E-9A68-FF02551964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488C-21A5-4F97-99FC-020DA69045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6FF5-EFD5-4E4A-BCCC-80FEABC600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33C-D24E-4941-BD27-6B70F485B83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D910-FAC2-48F2-BD8A-3834720B9A1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ВКЛАД  М.В. ЛОМОНОСОВА В РАЗВИТИЕ ХИМИИ</a:t>
            </a:r>
            <a:endParaRPr b="0" lang="en-US" sz="43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2" name="Picture 8" descr="l_107i"/>
          <p:cNvPicPr/>
          <p:nvPr/>
        </p:nvPicPr>
        <p:blipFill>
          <a:blip r:embed="rId1"/>
          <a:stretch/>
        </p:blipFill>
        <p:spPr>
          <a:xfrm>
            <a:off x="2411280" y="2060640"/>
            <a:ext cx="4119840" cy="45813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493" name="Рисунок 9" descr="J0076135.GIF"/>
          <p:cNvPicPr/>
          <p:nvPr/>
        </p:nvPicPr>
        <p:blipFill>
          <a:blip r:embed="rId2"/>
          <a:stretch/>
        </p:blipFill>
        <p:spPr>
          <a:xfrm>
            <a:off x="6929280" y="5143680"/>
            <a:ext cx="1785960" cy="129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14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200" spc="-1" strike="noStrike">
                <a:solidFill>
                  <a:srgbClr val="ffc000"/>
                </a:solidFill>
                <a:latin typeface="Arial Narrow"/>
              </a:rPr>
              <a:t>«Физическая химия – писал Ломоносов, – есть наука, объясняющая на основании положений и опытов физики то, что происходит в смешанных телах при химических операциях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3168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Материалистический подход к явлениям природы, знакомство с достижениями науки того времени позволили Ломоносову впервые объединить в одной формулировке принципы сохранения материи и движения. Этот закон он назвал «всеобщим естественным законом» и в 1760 году опубликовал его в «Рассуждении о твердости и жидкости тел»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1" name="Picture 7" descr="4248_p0003"/>
          <p:cNvPicPr/>
          <p:nvPr/>
        </p:nvPicPr>
        <p:blipFill>
          <a:blip r:embed="rId1"/>
          <a:stretch/>
        </p:blipFill>
        <p:spPr>
          <a:xfrm>
            <a:off x="3780000" y="2924280"/>
            <a:ext cx="4929120" cy="34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22" name="Picture 9" descr="labtex_flask_conical_sj"/>
          <p:cNvPicPr/>
          <p:nvPr/>
        </p:nvPicPr>
        <p:blipFill>
          <a:blip r:embed="rId2"/>
          <a:stretch/>
        </p:blipFill>
        <p:spPr>
          <a:xfrm>
            <a:off x="6084720" y="620640"/>
            <a:ext cx="2540160" cy="1803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428720" y="2071800"/>
            <a:ext cx="4429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менитый английский химик Р. Бойл, прокаливая в открытой реторте различные металлы и взвешивая их до и после нагревания, обнаружил, что масса металлов становится больше. М.В. Ломоносов в отличие от Р. Бойля прокаливал металлы не на открытом воздухе, а в запаянных ретортах и взвешивал их до и после прокалива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7120" y="285480"/>
            <a:ext cx="39290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се перемены, в натуре случающиеся, такого суть состояния, что сколько чего у одного тела отнимается, столько присовокупится к другому»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" name="Picture 10" descr="Старинное хим"/>
          <p:cNvPicPr/>
          <p:nvPr/>
        </p:nvPicPr>
        <p:blipFill>
          <a:blip r:embed="rId1"/>
          <a:stretch/>
        </p:blipFill>
        <p:spPr>
          <a:xfrm>
            <a:off x="642960" y="4572000"/>
            <a:ext cx="3095640" cy="20448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000" y="3240"/>
            <a:ext cx="7808760" cy="906480"/>
          </a:xfrm>
          <a:prstGeom prst="rect">
            <a:avLst/>
          </a:prstGeom>
          <a:noFill/>
          <a:ln w="0">
            <a:noFill/>
          </a:ln>
        </p:spPr>
        <p:txBody>
          <a:bodyPr tIns="352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ПРОИЗВОДСТВО ЦВЕТНОГО СТЕКЛ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898200"/>
            <a:ext cx="4356000" cy="5194440"/>
          </a:xfrm>
          <a:prstGeom prst="rect">
            <a:avLst/>
          </a:prstGeom>
          <a:noFill/>
          <a:ln w="0">
            <a:noFill/>
          </a:ln>
        </p:spPr>
        <p:txBody>
          <a:bodyPr tIns="6840" anchor="t">
            <a:normAutofit/>
          </a:bodyPr>
          <a:p>
            <a:pPr marL="430200" indent="-324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6ff00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e6ff00"/>
                </a:solidFill>
                <a:latin typeface="Arial Narrow"/>
              </a:rPr>
              <a:t>В Химической лаборатории Ломоносов провел более четырех тысяч опытов и разработал технологию изготовления цветных прозрачных и непрозрачных (смальт) стекол. Эту технологию он решил использовать для промышленного изготовления изделий из цветного стекла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4356000" y="3692520"/>
            <a:ext cx="2562480" cy="1728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6599160" y="1557360"/>
            <a:ext cx="2486160" cy="21351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tretch/>
        </p:blipFill>
        <p:spPr>
          <a:xfrm>
            <a:off x="7122960" y="4221000"/>
            <a:ext cx="1914840" cy="2135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6760" y="179280"/>
            <a:ext cx="8572680" cy="1106640"/>
          </a:xfrm>
          <a:prstGeom prst="rect">
            <a:avLst/>
          </a:prstGeom>
          <a:noFill/>
          <a:ln w="0">
            <a:noFill/>
          </a:ln>
        </p:spPr>
        <p:txBody>
          <a:bodyPr tIns="4248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МАКЕТ ХИМИЧЕСКОЙ  ЛАБОРАТОРИИ  ЛОМОНОСОВ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4200" y="1438200"/>
            <a:ext cx="8715600" cy="520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671400" y="25560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6e64c"/>
                </a:solidFill>
                <a:latin typeface="Comic Sans MS"/>
              </a:rPr>
              <a:t>Мозаичные картины М. В. Ломонос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500040" y="4214880"/>
            <a:ext cx="1800360" cy="2340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6643800" y="1928880"/>
            <a:ext cx="19875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e6e64c"/>
                </a:solidFill>
                <a:latin typeface="Comic Sans MS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2"/>
          <a:stretch/>
        </p:blipFill>
        <p:spPr>
          <a:xfrm>
            <a:off x="4071960" y="1571760"/>
            <a:ext cx="1603440" cy="2492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3"/>
          <a:stretch/>
        </p:blipFill>
        <p:spPr>
          <a:xfrm>
            <a:off x="3214800" y="4429080"/>
            <a:ext cx="4071960" cy="2143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4"/>
          <a:stretch/>
        </p:blipFill>
        <p:spPr>
          <a:xfrm>
            <a:off x="1357200" y="1643040"/>
            <a:ext cx="180972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78920" y="428760"/>
            <a:ext cx="810756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моносов показывает Екатери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заичную мастерскую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0" name="Picture 8" descr="lomonos_mozay"/>
          <p:cNvPicPr/>
          <p:nvPr/>
        </p:nvPicPr>
        <p:blipFill>
          <a:blip r:embed="rId1"/>
          <a:stretch/>
        </p:blipFill>
        <p:spPr>
          <a:xfrm>
            <a:off x="357120" y="1785960"/>
            <a:ext cx="7953480" cy="47386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671400" y="255600"/>
            <a:ext cx="780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5261040" y="1440000"/>
            <a:ext cx="3882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3080" indent="-341640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e6e6e6"/>
                </a:solidFill>
                <a:latin typeface="Times New Roman"/>
              </a:rPr>
              <a:t>В «Краткой истории о поведении Академической Канцелярии», составленной в 1764 г., Ломоносов писал: «Под смотрением и по расположению Ломоносова построена химическая лаборатория, в которой он, трудясь многими опытами, кроме других исследований, изобрел фарфоровую массу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112760" y="362412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29080" y="1434960"/>
            <a:ext cx="1731960" cy="2135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"/>
          <p:cNvPicPr/>
          <p:nvPr/>
        </p:nvPicPr>
        <p:blipFill>
          <a:blip r:embed="rId3"/>
          <a:stretch/>
        </p:blipFill>
        <p:spPr>
          <a:xfrm>
            <a:off x="0" y="1440000"/>
            <a:ext cx="2747880" cy="213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5880" cy="11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ОСНОВНЫЕ ДОСТИЖЕНИЯ ЛОМОНОСОВА В ОБЛАСТИ ХИМИ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834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широкое введение физических методов и представлений для объяснения химических явлений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Текст 9"/>
          <p:cNvSpPr/>
          <p:nvPr/>
        </p:nvSpPr>
        <p:spPr>
          <a:xfrm>
            <a:off x="285840" y="2571840"/>
            <a:ext cx="8340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атериалистическое истолкование химических явл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Прямоугольник 14"/>
          <p:cNvSpPr/>
          <p:nvPr/>
        </p:nvSpPr>
        <p:spPr>
          <a:xfrm>
            <a:off x="285840" y="3286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здание корпускулярной теор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16"/>
          <p:cNvSpPr/>
          <p:nvPr/>
        </p:nvSpPr>
        <p:spPr>
          <a:xfrm>
            <a:off x="285840" y="385776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ая формулировка закона сохранения массы веществ и энерг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17"/>
          <p:cNvSpPr/>
          <p:nvPr/>
        </p:nvSpPr>
        <p:spPr>
          <a:xfrm>
            <a:off x="285840" y="428616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ложил научные основы русской промышленности по производству цветного стек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18"/>
          <p:cNvSpPr/>
          <p:nvPr/>
        </p:nvSpPr>
        <p:spPr>
          <a:xfrm>
            <a:off x="285840" y="50007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dc9e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боты Ломоносова в области физической химии заложили основы развития этой науки в нашей стран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331640" y="981000"/>
            <a:ext cx="65926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Arial Narrow"/>
              </a:rPr>
              <a:t>Презентацию подготовили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f0"/>
                </a:solidFill>
                <a:latin typeface="Arial Narrow"/>
              </a:rPr>
              <a:t>студенты группы 12СМ</a:t>
            </a: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: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Ольховик Андрей,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Савасов Сергей,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Ланшаков Денис.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f0"/>
                </a:solidFill>
                <a:latin typeface="Arial Narrow"/>
              </a:rPr>
              <a:t>Руководитель: преподаватель химии </a:t>
            </a:r>
            <a:r>
              <a:rPr b="0" i="1" lang="ru-RU" sz="3300" spc="-1" strike="noStrike">
                <a:solidFill>
                  <a:srgbClr val="00b0f0"/>
                </a:solidFill>
                <a:latin typeface="Arial Narrow"/>
              </a:rPr>
              <a:t>Болдырева Оксана Викторовна</a:t>
            </a:r>
            <a:r>
              <a:rPr b="0" lang="ru-RU" sz="3300" spc="-1" strike="noStrike">
                <a:solidFill>
                  <a:srgbClr val="00b0f0"/>
                </a:solidFill>
                <a:latin typeface="Arial Narrow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784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00"/>
                </a:solidFill>
                <a:latin typeface="Times New Roman"/>
              </a:rPr>
              <a:t>«Широко распростирает химия руки свои в дела человеческие….. Куда  ни посмотрим, куда ни оглянемся, везде обращаются пред очами нашими успехи ея прилежания»  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00"/>
                </a:solidFill>
                <a:latin typeface="Times New Roman"/>
              </a:rPr>
              <a:t>                                        </a:t>
            </a:r>
            <a:r>
              <a:rPr b="0" i="1" lang="ru-RU" sz="3300" spc="-1" strike="noStrike">
                <a:solidFill>
                  <a:srgbClr val="ffff00"/>
                </a:solidFill>
                <a:latin typeface="Times New Roman"/>
              </a:rPr>
              <a:t>М.В. Ломоносов 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4" name="Рисунок 9" descr="J0076135.GIF"/>
          <p:cNvPicPr/>
          <p:nvPr/>
        </p:nvPicPr>
        <p:blipFill>
          <a:blip r:embed="rId1"/>
          <a:stretch/>
        </p:blipFill>
        <p:spPr>
          <a:xfrm>
            <a:off x="3357720" y="4572000"/>
            <a:ext cx="17859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81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Narrow"/>
              </a:rPr>
              <a:t>ИСПОЛЬЗОВАННАЯ ЛИТЕРАТУРА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15840" y="1260360"/>
            <a:ext cx="8228160" cy="51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1. “Энциклопедический словарь юного техника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102,164,234,238,239,461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2. “Энциклопедический словарь юного химика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10,25,32,33,85,257,279,280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3. П.С.Кудрявцев “Курс истории физики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118-125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4. К.Манолов “Великие химики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том I стр. 66,68-93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5. В.Чолаков “Нобелевские премии.Учёные и открытия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стр. 48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6. “Физическая энциклопедия” 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том III стр. 65-67., том I стр. 152,559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7. “Химическая энциклопедия”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том IV стр. 772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;Tahoma"/>
              </a:rPr>
              <a:t>8. М.В.Ломоносов “Избранные философские сочинения”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;Tahoma"/>
              </a:rPr>
              <a:t>1940г</a:t>
            </a:r>
            <a:r>
              <a:rPr b="0" lang="en-US" sz="1400" spc="-1" strike="noStrike">
                <a:solidFill>
                  <a:srgbClr val="777777"/>
                </a:solidFill>
                <a:latin typeface="Verdana;Tahoma"/>
              </a:rPr>
              <a:t>.</a:t>
            </a:r>
            <a:r>
              <a:rPr b="0" lang="en-US" sz="1400" spc="-1" strike="noStrike">
                <a:solidFill>
                  <a:srgbClr val="cccccc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«Широко распростирает химия руки сво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в дела человеческие… Куда  ни посмотрим, куда ни оглянемся, везде обращаются пред очами нашими успехи ея прилежания»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М.В. Ломоносов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99" name="Рисунок 9" descr="J0076135.GIF"/>
          <p:cNvPicPr/>
          <p:nvPr/>
        </p:nvPicPr>
        <p:blipFill>
          <a:blip r:embed="rId1"/>
          <a:stretch/>
        </p:blipFill>
        <p:spPr>
          <a:xfrm>
            <a:off x="785880" y="4643280"/>
            <a:ext cx="17859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03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1740-х годах Ломоносов разработал корпускулярную теорию строения вещества, отдельные положения которой предвосхитили представления атомно-молекулярного учения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1" name="Picture 8" descr="labtex_kipp"/>
          <p:cNvPicPr/>
          <p:nvPr/>
        </p:nvPicPr>
        <p:blipFill>
          <a:blip r:embed="rId1"/>
          <a:stretch/>
        </p:blipFill>
        <p:spPr>
          <a:xfrm>
            <a:off x="5786280" y="642960"/>
            <a:ext cx="2826000" cy="3476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02" name="Picture 12" descr="logo"/>
          <p:cNvPicPr/>
          <p:nvPr/>
        </p:nvPicPr>
        <p:blipFill>
          <a:blip r:embed="rId2"/>
          <a:stretch/>
        </p:blipFill>
        <p:spPr>
          <a:xfrm>
            <a:off x="3059280" y="4437000"/>
            <a:ext cx="3024000" cy="22208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ХИМИЯ – НАУКА ОБ 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ИЗМЕНЕНИЯХ, ПРОИСХОДЯЩИХ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В СМЕШАННОМ ТЕЛЕ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5" name="Рисунок 9" descr="J0076135.GIF"/>
          <p:cNvPicPr/>
          <p:nvPr/>
        </p:nvPicPr>
        <p:blipFill>
          <a:blip r:embed="rId1"/>
          <a:stretch/>
        </p:blipFill>
        <p:spPr>
          <a:xfrm>
            <a:off x="3857760" y="4572000"/>
            <a:ext cx="178596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616720" cy="4680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5050"/>
                </a:solidFill>
                <a:latin typeface="Arial Narrow"/>
              </a:rPr>
              <a:t>КАБИНЕТ ХИМИКА М.В.ЛОМОНОСОВА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140360" y="549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745 году Ломоносов был избран в число академиков, стал первым русским профессором химии в университет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9" name="Picture 9" descr="kjv"/>
          <p:cNvPicPr/>
          <p:nvPr/>
        </p:nvPicPr>
        <p:blipFill>
          <a:blip r:embed="rId1"/>
          <a:stretch/>
        </p:blipFill>
        <p:spPr>
          <a:xfrm>
            <a:off x="395280" y="765000"/>
            <a:ext cx="3081240" cy="45370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10" name="Picture 11" descr="wpermr24"/>
          <p:cNvPicPr/>
          <p:nvPr/>
        </p:nvPicPr>
        <p:blipFill>
          <a:blip r:embed="rId2"/>
          <a:stretch/>
        </p:blipFill>
        <p:spPr>
          <a:xfrm>
            <a:off x="4643280" y="2997360"/>
            <a:ext cx="3378240" cy="3344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250920" y="285480"/>
            <a:ext cx="40384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748 году он создаёт первую русскую химическую лабораторию, помогает Ломоносову в этом его близкий друг Г.Рихман-русский физик, занимавшийся работами по электричеству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2" name="Picture 9" descr="Химич"/>
          <p:cNvPicPr/>
          <p:nvPr/>
        </p:nvPicPr>
        <p:blipFill>
          <a:blip r:embed="rId1"/>
          <a:stretch/>
        </p:blipFill>
        <p:spPr>
          <a:xfrm>
            <a:off x="611280" y="4005360"/>
            <a:ext cx="3457440" cy="26319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13" name="Picture 11" descr="3-1"/>
          <p:cNvPicPr/>
          <p:nvPr/>
        </p:nvPicPr>
        <p:blipFill>
          <a:blip r:embed="rId2"/>
          <a:stretch/>
        </p:blipFill>
        <p:spPr>
          <a:xfrm>
            <a:off x="5003640" y="1341360"/>
            <a:ext cx="3240360" cy="2293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514" name="Picture 12" descr="Лаборатория"/>
          <p:cNvPicPr/>
          <p:nvPr/>
        </p:nvPicPr>
        <p:blipFill>
          <a:blip r:embed="rId3"/>
          <a:stretch/>
        </p:blipFill>
        <p:spPr>
          <a:xfrm>
            <a:off x="4859280" y="4292640"/>
            <a:ext cx="3816360" cy="20905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slow">
    <p:cover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3:06:08Z</dcterms:created>
  <dc:creator>Ксюша</dc:creator>
  <dc:description/>
  <dc:language>en-US</dc:language>
  <cp:lastModifiedBy>user</cp:lastModifiedBy>
  <dcterms:modified xsi:type="dcterms:W3CDTF">2011-11-18T06:50:30Z</dcterms:modified>
  <cp:revision>69</cp:revision>
  <dc:subject/>
  <dc:title>Слайд 1</dc:title>
</cp:coreProperties>
</file>