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D8E-1C22-434A-B346-E0766118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D1E-A73C-469D-9DCD-EA11ECF0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266-C35A-4417-AA30-0825B7C7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E48-533D-4453-9AA4-68B78DD2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815E-1F9D-49D8-AD96-4E9C4C9C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BAE-E7EF-446A-8E35-A647677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DE6B-6EDE-4F54-AA96-0BE80028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9391-86D4-4985-B0DF-D7BA248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B79D-F55F-412F-AF13-BCB555E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B7F9-00F6-4F5E-9B68-E4A622B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2AC6-9A3F-4615-9850-BFAF06FD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91F-C86E-4E23-82CF-9B714850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ED6B-CBAB-4ED6-BCD4-B59A3D50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AC0-D1AA-47FF-9282-85B2ADE7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A74E-3B7C-4F16-83FA-64BF024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3E4-0367-40EF-AAED-94E997BD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6AB5-50AB-4797-9C64-782FDA3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DA4-DA00-4A3C-A09B-0AF20659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6D4-A67A-4AAF-A91B-3853B7E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57E-ECD2-4D3E-9635-37663E01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7C2-F8CB-458B-8895-52A24300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920-BB04-45E0-8041-874BB24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615-5846-4AEC-BE18-367AA37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651-D346-4C1C-AB03-55ABA2E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E66E-17CD-471A-88E9-1ECA386A4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0461-54D8-4D50-9981-150E1AAF8A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Картинка 20 из 105714"/>
          <p:cNvPicPr/>
          <p:nvPr/>
        </p:nvPicPr>
        <p:blipFill>
          <a:blip r:embed="rId1"/>
          <a:stretch/>
        </p:blipFill>
        <p:spPr>
          <a:xfrm rot="21118800">
            <a:off x="7093080" y="4005360"/>
            <a:ext cx="183492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ff33"/>
                </a:solidFill>
                <a:latin typeface="Monotype Corsiva"/>
              </a:rPr>
              <a:t>Праздник</a:t>
            </a:r>
            <a:br>
              <a:rPr sz="5400"/>
            </a:br>
            <a:r>
              <a:rPr b="1" i="1" lang="ru-RU" sz="5400" spc="-1" strike="noStrike">
                <a:solidFill>
                  <a:srgbClr val="99ff33"/>
                </a:solidFill>
                <a:latin typeface="Monotype Corsiva"/>
              </a:rPr>
              <a:t>«Прощание с Букварём».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11280" y="3141360"/>
            <a:ext cx="8137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Беру букварь в последний раз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есу букварь в просторный клас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И дорогому букварю я говорю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Благодарю! Ты- книга первая м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Теперь читать умею 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а свете много книжек е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Все книжки я смогу проче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лялк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971640" y="69228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6429240" y="1000080"/>
            <a:ext cx="122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900000" y="2997360"/>
            <a:ext cx="155268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2771640" y="1557360"/>
            <a:ext cx="12956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6084720" y="4221000"/>
            <a:ext cx="158436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7715160" y="2143080"/>
            <a:ext cx="122400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3059280" y="3860640"/>
            <a:ext cx="136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4929120" y="2643120"/>
            <a:ext cx="165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4429080" y="500040"/>
            <a:ext cx="129528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2195640" y="1844640"/>
            <a:ext cx="6840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амматическ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ов много зубов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ей много зубе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У рыб много зуб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ыбери правильны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 рыб много зуб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Картинка 62 из 13355"/>
          <p:cNvPicPr/>
          <p:nvPr/>
        </p:nvPicPr>
        <p:blipFill>
          <a:blip r:embed="rId1"/>
          <a:stretch/>
        </p:blipFill>
        <p:spPr>
          <a:xfrm>
            <a:off x="2340000" y="1700280"/>
            <a:ext cx="4653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Разделите согласны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 две группы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18" descr="Картинка 3 из 83134"/>
          <p:cNvPicPr/>
          <p:nvPr/>
        </p:nvPicPr>
        <p:blipFill>
          <a:blip r:embed="rId1"/>
          <a:stretch/>
        </p:blipFill>
        <p:spPr>
          <a:xfrm>
            <a:off x="125892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Картинка 1 из 104608"/>
          <p:cNvPicPr/>
          <p:nvPr/>
        </p:nvPicPr>
        <p:blipFill>
          <a:blip r:embed="rId2"/>
          <a:stretch/>
        </p:blipFill>
        <p:spPr>
          <a:xfrm>
            <a:off x="6012000" y="3357720"/>
            <a:ext cx="1047600" cy="1439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1"/>
          <p:cNvSpPr txBox="1"/>
          <p:nvPr/>
        </p:nvSpPr>
        <p:spPr>
          <a:xfrm>
            <a:off x="2916360" y="1844640"/>
            <a:ext cx="2950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Б З 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Х Ч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Г К 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154" name="WordArt 22"/>
          <p:cNvSpPr txBox="1"/>
          <p:nvPr/>
        </p:nvSpPr>
        <p:spPr>
          <a:xfrm>
            <a:off x="395280" y="170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55" name="WordArt 23"/>
          <p:cNvSpPr txBox="1"/>
          <p:nvPr/>
        </p:nvSpPr>
        <p:spPr>
          <a:xfrm>
            <a:off x="395280" y="2781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56" name="WordArt 24"/>
          <p:cNvSpPr txBox="1"/>
          <p:nvPr/>
        </p:nvSpPr>
        <p:spPr>
          <a:xfrm>
            <a:off x="7380360" y="170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7" name="WordArt 25"/>
          <p:cNvSpPr txBox="1"/>
          <p:nvPr/>
        </p:nvSpPr>
        <p:spPr>
          <a:xfrm>
            <a:off x="7380360" y="2781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8" name="WordArt 26"/>
          <p:cNvSpPr txBox="1"/>
          <p:nvPr/>
        </p:nvSpPr>
        <p:spPr>
          <a:xfrm>
            <a:off x="7380360" y="4005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59" name="WordArt 27"/>
          <p:cNvSpPr txBox="1"/>
          <p:nvPr/>
        </p:nvSpPr>
        <p:spPr>
          <a:xfrm>
            <a:off x="395280" y="393372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60" name="WordArt 28"/>
          <p:cNvSpPr txBox="1"/>
          <p:nvPr/>
        </p:nvSpPr>
        <p:spPr>
          <a:xfrm>
            <a:off x="1476360" y="479736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61" name="WordArt 30"/>
          <p:cNvSpPr txBox="1"/>
          <p:nvPr/>
        </p:nvSpPr>
        <p:spPr>
          <a:xfrm>
            <a:off x="7451640" y="522936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62" name="WordArt 31"/>
          <p:cNvSpPr txBox="1"/>
          <p:nvPr/>
        </p:nvSpPr>
        <p:spPr>
          <a:xfrm>
            <a:off x="468360" y="515772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2195640" y="1628640"/>
            <a:ext cx="684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ова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Игра «Прятки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132000" y="1268280"/>
            <a:ext cx="2880000" cy="4176720"/>
          </a:xfrm>
          <a:prstGeom prst="rect">
            <a:avLst/>
          </a:prstGeom>
          <a:solidFill>
            <a:srgbClr val="2b87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356000" y="2852640"/>
            <a:ext cx="1368360" cy="23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356000" y="3213000"/>
            <a:ext cx="576360" cy="0"/>
          </a:xfrm>
          <a:prstGeom prst="line">
            <a:avLst/>
          </a:prstGeom>
          <a:ln w="291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 rot="5400000">
            <a:off x="3706920" y="3933000"/>
            <a:ext cx="1224000" cy="1368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2195640" y="1420920"/>
            <a:ext cx="4968720" cy="1944720"/>
          </a:xfrm>
          <a:prstGeom prst="rect">
            <a:avLst/>
          </a:prstGeom>
          <a:noFill/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643280" y="1413000"/>
            <a:ext cx="0" cy="403200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 flipV="1">
            <a:off x="3059280" y="1420920"/>
            <a:ext cx="3025440" cy="403200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276720" y="1413000"/>
            <a:ext cx="2879640" cy="4103640"/>
          </a:xfrm>
          <a:prstGeom prst="line">
            <a:avLst/>
          </a:prstGeom>
          <a:ln w="177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айкин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оберите слово из букв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395280" y="162864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-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3276720" y="126828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6227640" y="1916280"/>
            <a:ext cx="2448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-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3276720" y="126828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6227640" y="414972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-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3276720" y="2997360"/>
            <a:ext cx="24476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-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0"/>
          <p:cNvSpPr txBox="1"/>
          <p:nvPr/>
        </p:nvSpPr>
        <p:spPr>
          <a:xfrm>
            <a:off x="324000" y="3933720"/>
            <a:ext cx="244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-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1"/>
          <p:cNvSpPr txBox="1"/>
          <p:nvPr/>
        </p:nvSpPr>
        <p:spPr>
          <a:xfrm>
            <a:off x="3132000" y="4797360"/>
            <a:ext cx="24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-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Картинка 203 из 56466"/>
          <p:cNvPicPr/>
          <p:nvPr/>
        </p:nvPicPr>
        <p:blipFill>
          <a:blip r:embed="rId1"/>
          <a:stretch/>
        </p:blipFill>
        <p:spPr>
          <a:xfrm>
            <a:off x="755640" y="-24300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Мы теперь умнее стали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едь мы буквы все узнали!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от два столба наискосок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А между ними – поясок.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ы эту букву знаешь? А?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еред тобою буква …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Картинка 3 из 54550"/>
          <p:cNvPicPr/>
          <p:nvPr/>
        </p:nvPicPr>
        <p:blipFill>
          <a:blip r:embed="rId1"/>
          <a:stretch/>
        </p:blipFill>
        <p:spPr>
          <a:xfrm>
            <a:off x="2411280" y="836640"/>
            <a:ext cx="4770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ишет он, когда диктуют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н и чертит, и рисует,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А сегодня вечерком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н раскрасит мне альбом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Картинка 6 из 96013"/>
          <p:cNvPicPr/>
          <p:nvPr/>
        </p:nvPicPr>
        <p:blipFill>
          <a:blip r:embed="rId1"/>
          <a:stretch/>
        </p:blipFill>
        <p:spPr>
          <a:xfrm>
            <a:off x="2771640" y="549360"/>
            <a:ext cx="3648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Картинка 10 из 104470"/>
          <p:cNvPicPr/>
          <p:nvPr/>
        </p:nvPicPr>
        <p:blipFill>
          <a:blip r:embed="rId1"/>
          <a:stretch/>
        </p:blipFill>
        <p:spPr>
          <a:xfrm>
            <a:off x="0" y="1700280"/>
            <a:ext cx="8785080" cy="46083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2195640" y="2060640"/>
            <a:ext cx="6840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оланд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Картинка 13 из 2712"/>
          <p:cNvPicPr/>
          <p:nvPr/>
        </p:nvPicPr>
        <p:blipFill>
          <a:blip r:embed="rId1"/>
          <a:stretch/>
        </p:blipFill>
        <p:spPr>
          <a:xfrm>
            <a:off x="1547640" y="1844640"/>
            <a:ext cx="60962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Картинка 57 из 98611"/>
          <p:cNvPicPr/>
          <p:nvPr/>
        </p:nvPicPr>
        <p:blipFill>
          <a:blip r:embed="rId1"/>
          <a:stretch/>
        </p:blipFill>
        <p:spPr>
          <a:xfrm>
            <a:off x="2124000" y="981000"/>
            <a:ext cx="51436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9:33:19Z</dcterms:created>
  <dc:creator>1</dc:creator>
  <dc:description/>
  <dc:language>en-US</dc:language>
  <cp:lastModifiedBy>Александр</cp:lastModifiedBy>
  <dcterms:modified xsi:type="dcterms:W3CDTF">2012-09-12T18:56:50Z</dcterms:modified>
  <cp:revision>15</cp:revision>
  <dc:subject/>
  <dc:title>Слайд 1</dc:title>
</cp:coreProperties>
</file>