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10F-4DEA-4F03-BAF3-7553E8FF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38A-AB2C-4386-8BD8-0FF72999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A75-D0AB-4532-9AC1-D88F9363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8D1-7899-4163-BDFF-340B4CE2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35C-2489-4CC0-A22F-7C8B7614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806-C6B8-4233-8CE6-76B7ED9C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76C-0E63-4951-91C8-029A12DF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A14-5DF0-42B1-97D8-76C98782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AE8-1497-47F9-B7BE-4A3B5290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DD7-51F6-4A8E-BDAF-5783FDC8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420-5BC4-4CDB-803C-E3A605E9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907-B99E-42A0-9306-EC9AA55B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FDE5-AEA2-4974-9D7A-F9C2132D8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416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возникновения бумаг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5734080"/>
            <a:ext cx="7048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 Байрамгазиевой Зар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«Б»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Наримановского района «СОШ   №11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трах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con150"/>
          <p:cNvPicPr/>
          <p:nvPr/>
        </p:nvPicPr>
        <p:blipFill>
          <a:blip r:embed="rId1"/>
          <a:stretch/>
        </p:blipFill>
        <p:spPr>
          <a:xfrm>
            <a:off x="1116000" y="1700280"/>
            <a:ext cx="7128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производство бум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n1photo"/>
          <p:cNvPicPr/>
          <p:nvPr/>
        </p:nvPicPr>
        <p:blipFill>
          <a:blip r:embed="rId1"/>
          <a:stretch/>
        </p:blipFill>
        <p:spPr>
          <a:xfrm>
            <a:off x="1042920" y="1700280"/>
            <a:ext cx="72741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newspapers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бум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умаги изготавливают: газеты, книги, деньги, тетради, салфетки,  картон и многие другие тов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books3"/>
          <p:cNvPicPr/>
          <p:nvPr/>
        </p:nvPicPr>
        <p:blipFill>
          <a:blip r:embed="rId1"/>
          <a:stretch/>
        </p:blipFill>
        <p:spPr>
          <a:xfrm>
            <a:off x="468360" y="262080"/>
            <a:ext cx="80643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87322920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aper"/>
          <p:cNvPicPr/>
          <p:nvPr/>
        </p:nvPicPr>
        <p:blipFill>
          <a:blip r:embed="rId1"/>
          <a:stretch/>
        </p:blipFill>
        <p:spPr>
          <a:xfrm>
            <a:off x="1547640" y="1052640"/>
            <a:ext cx="59976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кул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улатура – отслужившие свой срок изделия из бумаги и используются на бумажных фабриках в качестве втор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илизация макулатуры имеет большое значение, так как её применение позволяет экономить древесное сырь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тонна макулатуры заменяет 4 кубических метра  древесины (40 - 50 шт. больших ёлок и сосен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277480097_filestack_retouched"/>
          <p:cNvPicPr/>
          <p:nvPr/>
        </p:nvPicPr>
        <p:blipFill>
          <a:blip r:embed="rId1"/>
          <a:stretch/>
        </p:blipFill>
        <p:spPr>
          <a:xfrm>
            <a:off x="900000" y="1341360"/>
            <a:ext cx="7704360" cy="4959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давайте бумагу в макулату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кулатура – бережет наши леса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%CB%E5%F120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214720" y="235728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обретение бума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– от итальянского «хлопок» - материал в виде листов для письма, рисования, упаковки и т.п., получаемый из целлюлозы: из растений, а также из вторсырья (макулату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ПИРУ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3500 лет до нашей эры в Древнем Египте в качестве письменного материала употребляли папирус. Это особый вид тростника, растущий на берегу реки Н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kniga mertvix1"/>
          <p:cNvPicPr/>
          <p:nvPr/>
        </p:nvPicPr>
        <p:blipFill>
          <a:blip r:embed="rId1"/>
          <a:stretch/>
        </p:blipFill>
        <p:spPr>
          <a:xfrm>
            <a:off x="1908000" y="2924280"/>
            <a:ext cx="5545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обретение бум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 была изобретена в Китае в 105 году нашей эры важным чиновником при дворе императора – Чай Лу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ткрытие имело важное  значение не только для Китая, но и для всего мира. Имя Чай Луня по праву входит в число имён величайших изобретателей в истории челове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ились бумага, кни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0015"/>
          <p:cNvPicPr/>
          <p:nvPr/>
        </p:nvPicPr>
        <p:blipFill>
          <a:blip r:embed="rId1"/>
          <a:stretch/>
        </p:blipFill>
        <p:spPr>
          <a:xfrm>
            <a:off x="755640" y="333360"/>
            <a:ext cx="7201080" cy="61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готовление бумаги в древнем Кита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02s03i07"/>
          <p:cNvPicPr/>
          <p:nvPr/>
        </p:nvPicPr>
        <p:blipFill>
          <a:blip r:embed="rId1"/>
          <a:stretch/>
        </p:blipFill>
        <p:spPr>
          <a:xfrm>
            <a:off x="900000" y="1484280"/>
            <a:ext cx="35308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магоделательная  маш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70 г. голландцы изобрели ролл-аппарат. Это было крупным достижением в деле механизации процесса изготовления бум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производство бумаги зародилось в 16 веке – при Иване Гроз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 веке по указу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и построены бумажные мельницы около Москвы и Петербурга. Вышла первая газета «Ведомости». А в 1817 была установлена первая бумагоделательная ма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ая бумагоделательная машина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1-1"/>
          <p:cNvPicPr/>
          <p:nvPr/>
        </p:nvPicPr>
        <p:blipFill>
          <a:blip r:embed="rId1"/>
          <a:stretch/>
        </p:blipFill>
        <p:spPr>
          <a:xfrm>
            <a:off x="826920" y="1628640"/>
            <a:ext cx="77058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производство бум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шей стране много предприятий, занимающихся  производством бумаги. Среди крупнейших – заводы в городах: Сыктывкар, Выборг,  Светогор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стоящее время почти вся бумажная продукция вырабатывается мощными бумагоделательными маш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8:34:45Z</dcterms:created>
  <dc:creator>Сергей</dc:creator>
  <dc:description/>
  <dc:language>en-US</dc:language>
  <cp:lastModifiedBy>1</cp:lastModifiedBy>
  <dcterms:modified xsi:type="dcterms:W3CDTF">2012-09-05T06:35:43Z</dcterms:modified>
  <cp:revision>37</cp:revision>
  <dc:subject/>
  <dc:title>БУМАГА:</dc:title>
</cp:coreProperties>
</file>