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BF3-F92F-4DF9-9A4D-D0EBD779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EB9-540E-472B-8385-4A16D3A8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11D-E8EF-4298-BB6A-DF383506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C78-7304-4EC9-BDDF-B500F90C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7FB-52C2-4F10-9AA7-10CE0F89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88D-0279-4936-9448-78B36785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5C1-F3F4-4D79-8754-1867C414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76C-6F22-4D50-A92A-63FFF801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8BB-D8A0-4993-B248-F8A9711E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046-77BC-4DEB-B7A8-94CB1C45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E9E-C18E-48B7-8260-693A8F8C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D89-801F-4A49-89CD-455A4DF8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85B7-5A6B-4621-BF75-B4AEF7CD1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9800" cy="6313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9596000">
            <a:off x="-266400" y="2276640"/>
            <a:ext cx="76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Monotype Corsiva"/>
              </a:rPr>
              <a:t>ПИРАМИ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522936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1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итель: Кузьмин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00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3333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Творческая группов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ирамиды в нашей жизни.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(Хакимзянова О.,Алёхин Д.,Охотин К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еория.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(Лебедев В., Маркелов Ж., Новосёлова Л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менение теории в задачах.         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(Коротких К., Лыткин К., Самсоненко М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3800" y="548280"/>
            <a:ext cx="43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План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наших дней дошли только некоторые пирамиды. Остальные погибли из-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етрясений, пожаров и вражеских нашествий. Большая пирамида Хеоп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а построена в 4-3 тысячелетий до н. э. Потребовалось 100000 человек, что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20 лет водрузить один на другой 2300000 каменных блоков, каждый из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реднем весил 2 тонны. Чтобы поставить на место один блок, нужны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илия 40 человек. Древние египтяне производили измерения с помощью вере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завязанными на ней узелками. Их измерения были очень точными – 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ла не белее 1,27 см. Сравните эту цифру с высотой пирамиды – 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ров! Обычно мы связываем пирамиды с древним Египтом. Удивительно, 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большая пирамида расположена в Мексике. Она повещена богу Кетца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атлю и построена 100 лет н. э. Пирамида построена из высушенных на сол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пичей и земли. Хотя высота ее «всего» 53,9 метра, зато площадь 18,2 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системы очень разнообразны по относительной скорости создания и расцвет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я, как чистой первичной продукции,так и чистой вторичной продукции на кажд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ом уровне.Однако всем без исчисления экосистемой свойственны оп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я  количественные соотношения первичной и вторичной продукции. 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ы продукции  основано на расщеплении энергии в пищевых це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3333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Египетские пирам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4149720"/>
            <a:ext cx="345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ирамиды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ую пирамиду Хефрена стережёт огромное таинственное существо - Сфин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гант 20 м высотой и 57 м длинной. Странная фигура - лев с человеческой го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,улыбаясь, смотрит уже 5 000 лет в даль, будто подтверждает старую араб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овицу:«Все обиться времени, но время бояться пирамид».Через века за сф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ксом тянется шлейф загадок. Что означает это изображение: портрет Осилиса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ивой знак между земной жизнью и вечностью? Откуда явился он на египет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ю - с территории нынешней Сирии, Эфиопии, из загадочных глубин Юж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зии? Почему он оказался столь жизнестойким не только в своей каменной ипо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си, но и как духовное начало? В мифологии Древний Греции устами сфин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рекались удивительные загадки, во времена Возрождения его улыбку увеков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л великий Леонардо да Вин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а биомасс. Если сложить вместе все деревья, кустарники и травы, то 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умме будут весить больше чем все травоядные животные, а те больше чем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отящиеся на них хищники -получается пищевая пирамида. В её основания леж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синтезирующие организмы их больше всего, а на самой вершине хищники 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вс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260280"/>
            <a:ext cx="37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ИРАМИДА ХЕФ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86064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ищевая 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рамид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многогранник, который состоит из плоского мног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нования пирамиды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, не лежащей в плоскости основания,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рш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рами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х отрезков, соединяющих вершину пирамиды с точками осн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ки, соединяющие вершину пирамиды с вершинами основания, назы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ковыми реб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ь пирамиды состоит из основания и боковых граней. Каждая бо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ь — треугольник. Одной из его вершин является вершина пирамиды, а прот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ежащей стороной — сторона основания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сотой пирами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перпендикуляр, опущенный из вершины пирам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лоскость ос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а называе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гольной, если ее основанием являе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гольник. Т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ьная пирамида называется такж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траэдр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ирамиды, основание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1А2...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а пирамиды 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е ребра 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,..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е грани — 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,Δ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ьнейшем мы будем рассматривать только пирамиды с выпуклым многоуго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м в основании. Такие пирамиды являются выпуклыми многогра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0"/>
            <a:ext cx="331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79920" y="4941720"/>
            <a:ext cx="1427040" cy="165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336760" y="3665520"/>
                <a:ext cx="279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Ъ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BC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треугольная пирамида с верши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Допо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м эту пирамиду до треугольной призмы с тем же основанием и высотой .Э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зма составлена из трех пирамид: данной пирамид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BC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еще двух т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ьных пирамид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B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У второй и третьей пирамид равные ос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ния — 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и 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общая высота, проведенная из вершин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Поэ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них равные объемы.У первой и третьей пирамид тоже равные основания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B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совпадающие высоты, проведенные из вершины С. Поэт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них тоже равные объемы. Значит, все три пирамиды имеют один и тот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ъем. Так как сумма этих объемов равна объему призмы, то объемы пирами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в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так, объем любой треугольной пирамиды равен одной трети произ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ощади ее основания на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140360" y="4581360"/>
                <a:ext cx="863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427640" y="3284640"/>
                <a:ext cx="253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1603440" cy="1804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теперь имеем любую,не обязательно треугольную пирамиду. Разобьем 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на треугольники Δ1, Δ2,… 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ирамиды, у которых основаниями явл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тся эти треугольники, а вершинами — вершина данной пирамиды, составля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ую пирамиду. Объем данной пирамиды равен сумме объёмов составля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пирамид. Так как все они имеют ту же высот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 данная пирамида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ём ее рав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ъем любой пирамиды равен одной трети произ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ощади ее основания на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403280" y="3357720"/>
                <a:ext cx="59770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НА ПИРАМИДА, В ОСНОВАНИИ КОТОРОЙ ЛЕЖИТ ПРЯМОУГОЛЬНИК 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ОРОНАМИ 6 и 8 см.БОКОВОЕ РЕБРО ПИРАМИДЫ РАВНО 10 см.РАССЧ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ЙТЕ ОБЬЁМ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ТЕМАТИК, ОТПРАВИЛСЯ В ЕГИПЕТ С ТУРИСТИЧЕСКОЙ ГРУППОЙ НА ЭК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РСИЮ. В ПУТИ ОН УВИДЕЛ ЗНАМЕНИТУЮ ЕГИПЕТСКУЮ ПИРАМИДУ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ТЕМАТИЧЕСКИЙ УМ ЗАИНТЕРЕСОВАЛ ВОПРОС: СКОЛЬКО ЖЕ 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МЕСТИТСЯ В НЕЁ ПОМОГИТЕ ЕМУ РЕШИТЬ ЭТОТ  ВОПРОС, ЕСЛИ Н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ВЕСТНО,ЧТО БОКОВОЕ РЕБРО ПИРАМИДЫ  120м, А СТОРОНЫ ОСНО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Я 100м СООТВЕТСТ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03640" y="692280"/>
            <a:ext cx="32400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ДАЧИ</a:t>
            </a:r>
            <a:endParaRPr b="1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3640" y="4581360"/>
            <a:ext cx="1962000" cy="196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7:03:53Z</dcterms:created>
  <dc:creator>Учитель</dc:creator>
  <dc:description/>
  <dc:language>en-US</dc:language>
  <cp:lastModifiedBy>Учитель</cp:lastModifiedBy>
  <dcterms:modified xsi:type="dcterms:W3CDTF">2007-01-14T04:52:49Z</dcterms:modified>
  <cp:revision>5</cp:revision>
  <dc:subject/>
  <dc:title>Слайд 1</dc:title>
</cp:coreProperties>
</file>