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48C-3C94-4ECD-BA29-7D8977C5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4CE-2763-46F0-87D5-9243BC8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B93-F819-4EDE-B287-8D3EE3AC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C1E-6636-41E3-95A2-4511C5AB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FBF-7B17-4DF3-9FC2-108EDDA0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7A4-375A-4E6C-8EDE-D422D339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11F-4380-4097-8ABA-66EFE475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5E6-AB0B-45F1-A139-08C0820A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BEE-2253-4CE0-82DF-CB809500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9D5-A26C-4AFA-B944-7D869CD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895-4F97-4D1C-A69C-C72D0A4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202-4A95-4042-B5BC-B0DBB8F5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691C-054B-4BCB-9973-7683A167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9800" cy="6313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9596000">
            <a:off x="-266400" y="2276640"/>
            <a:ext cx="76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Monotype Corsiva"/>
              </a:rPr>
              <a:t>ПИРАМИ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522936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1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итель: Кузьм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00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33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Творческая группов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ирамиды в нашей жизни.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(Хакимзянова О.,Алёхин Д.,Охотин К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ория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(Лебедев В., Маркелов Ж., Новосёлова 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менение теории в задачах.       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(Коротких К., Лыткин К., Самсоненко М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3800" y="548280"/>
            <a:ext cx="43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План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наших дней дошли только некоторые пирамиды. Остальные погибли из-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етрясений, пожаров и вражеских нашествий. Большая пирамида Хеоп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а построена в 4-3 тысячелетий до н. э. Потребовалось 100000 человек, что 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0 лет водрузить один на другой 2300000 каменных блоков, каждый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ем весил 2 тонны. Чтобы поставить на место один блок, нужны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ия 40 человек. Древние египтяне производили измерения с помощью вере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завязанными на ней узелками. Их измерения были очень точными – оши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ла не белее 1,27 см. Сравните эту цифру с высотой пирамиды – 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ов! Обычно мы связываем пирамиды с древним Египтом. Удивительно, 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большая пирамида расположена в Мексике. Она повещена богу Кетца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атлю и построена 100 лет н. э. Пирамида построена из высушенных на сол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пичей и земли. Хотя высота ее «всего» 53,9 метра, зато площадь 18,2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системы очень разнообразны по относительной скорости создания и расцве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, как чистой первичной продукции,так и чистой вторичной продукции на каж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ом уровне.Однако всем без исчисления экосистемой свойственны оп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я  количественные соотношения первичной и вторичной продукции. 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 продукции  основано на расщеплении энергии в пищевых ц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333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гипетские пирам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4149720"/>
            <a:ext cx="345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ирамиды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ую пирамиду Хефрена стережёт огромное таинственное существо - Сфин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гант 20 м высотой и 57 м длинной. Странная фигура - лев с человеческой го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й,улыбаясь, смотрит уже 5 000 лет в даль, будто подтверждает старую араб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овицу:«Все обиться времени, но время бояться пирамид».Через века за с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ксом тянется шлейф загадок. Что означает это изображение: портрет Осилис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ивой знак между земной жизнью и вечностью? Откуда явился он на египет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ю - с территории нынешней Сирии, Эфиопии, из загадочных глубин Юж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ии? Почему он оказался столь жизнестойким не только в своей каменной ипо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си, но и как духовное начало? В мифологии Древний Греции устами сфин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рекались удивительные загадки, во времена Возрождения его улыбку увеков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л великий Леонардо да Вин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 биомасс. Если сложить вместе все деревья, кустарники и травы, то 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умме будут весить больше чем все травоядные животные, а те больше ч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ящиеся на них хищники -получается пищевая пирамида. В её основания ле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синтезирующие организмы их больше всего, а на самой вершине хищники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вс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26028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ИРАМИДА ХЕФ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8606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ищевая 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многогранник, который состоит из плоского мног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ания пирам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, не лежащей в плоскости основания,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х отрезков, соединяющих вершину пирамиды с точками осн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ки, соединяющие вершину пирамиды с вершинами основания, 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ковыми реб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пирамиды состоит из основания и боковых граней. Каждая бо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ь — треугольник. Одной из его вершин является вершина пирамиды, а про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жащей стороной — сторона основания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сотой пирам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перпендикуляр, опущенный из вершины 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оскость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 называ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ой, если ее основанием являе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ик. Т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ьная пирамида называется такж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траэдр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ирамиды, основание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1А2...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 пирамиды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е ребра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,..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е грани —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,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ьнейшем мы будем рассматривать только пирамиды с выпуклым многоуг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м в основании. Такие пирамиды являются выпуклыми многогра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0"/>
            <a:ext cx="331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79920" y="4941720"/>
            <a:ext cx="1427040" cy="165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336760" y="3665520"/>
                <a:ext cx="279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треугольная пирамида с верши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Допо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м эту пирамиду до треугольной призмы с тем же основанием и высотой .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зма составлена из трех пирамид: данной пирамид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еще двух т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ьных пирами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B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У второй и третьей пирамид равные о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ния —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и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общая высота, проведенная из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них равные объемы.У первой и третьей пирамид тоже равные основания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B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совпадающие высоты, проведенные из вершины С. Поэт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 них тоже равные объемы. Значит, все три пирамиды имеют один и тот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. Так как сумма этих объемов равна объему призмы, то объемы пирам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так, объем любой треугольной пирамиды равен одной трети произ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ощади ее основания на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40360" y="4581360"/>
                <a:ext cx="863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27640" y="3284640"/>
                <a:ext cx="253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4508640"/>
            <a:ext cx="1603440" cy="1804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теперь имеем любую,не обязательно треугольную пирамиду. Разобьем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на треугольники Δ1, Δ2,… 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ирамиды, у которых основаниями явл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тся эти треугольники, а вершинами — вершина данной пирамиды, состав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ую пирамиду. Объем данной пирамиды равен сумме объёмов составля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ирамид. Так как все они имеют ту же высот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 данная пирамида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ее рав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 любой пирамиды равен одной трети произ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лощади ее основания на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403280" y="3357720"/>
                <a:ext cx="59770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НА ПИРАМИДА, В ОСНОВАНИИ КОТОРОЙ ЛЕЖИТ ПРЯМОУГОЛЬНИК 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РОНАМИ 6 и 8 см.БОКОВОЕ РЕБРО ПИРАМИДЫ РАВНО 10 см.РАССЧ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ЙТЕ ОБЬЁМ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К, ОТПРАВИЛСЯ В ЕГИПЕТ С ТУРИСТИЧЕСКОЙ ГРУППОЙ НА ЭК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РСИЮ. В ПУТИ ОН УВИДЕЛ ЗНАМЕНИТУЮ ЕГИПЕТСКУЮ ПИРАМИДУ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ЧЕСКИЙ УМ ЗАИНТЕРЕСОВАЛ ВОПРОС: СКОЛЬКО ЖЕ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МЕСТИТСЯ В НЕЁ ПОМОГИТЕ ЕМУ РЕШИТЬ ЭТОТ  ВОПРОС, ЕСЛИ 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ВЕСТНО,ЧТО БОКОВОЕ РЕБРО ПИРАМИДЫ  120м, А СТОРОНЫ ОСН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Я 100м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03640" y="692280"/>
            <a:ext cx="32400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ДАЧИ</a:t>
            </a:r>
            <a:endParaRPr b="1" lang="en-US" sz="1800" spc="1" strike="noStrike">
              <a:ln w="3168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3640" y="458136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7:03:53Z</dcterms:created>
  <dc:creator>Учитель</dc:creator>
  <dc:description/>
  <dc:language>en-US</dc:language>
  <cp:lastModifiedBy>Учитель</cp:lastModifiedBy>
  <dcterms:modified xsi:type="dcterms:W3CDTF">2007-01-14T04:52:49Z</dcterms:modified>
  <cp:revision>5</cp:revision>
  <dc:subject/>
  <dc:title>Слайд 1</dc:title>
</cp:coreProperties>
</file>