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451-45B2-46BB-A1E0-5C47F1DF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22A-D6F9-4668-8AB5-A51B653B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C60-C476-4A85-A1BC-0B634001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C69-2DDC-45D0-BD5E-34B03515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AC66-C80D-467A-8725-05921AF4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2273-121B-4084-B94A-051B7A81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B9CD-D062-482C-83FE-062BEA53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C332-DA3D-43EC-8CA7-AAFE6B98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5EDB-BC6B-432B-9D78-B3570757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BEAD-23C4-402E-9B44-83168528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5DDE-3336-4DC4-B60B-044B0F7D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C2C-4A2B-4863-9F89-0CB96DDC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F3D9-06FB-491B-B7F9-F4EABB03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A837-FD97-42B8-832C-79AE6DCD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BEEC-AAC9-4AE9-AF79-72272559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B425-108C-4DC7-AF9B-E6337CA7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6870-6F44-4E7D-BEAC-476A9F46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0F8-EA5D-4E72-9960-00881545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BED-8720-43FF-A717-9E1E2DF0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1EA-50E5-42DE-929D-FFD84F5D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E54-CE8A-4CDF-A15C-88CDDC84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CAA-2F4A-4F09-86A4-2FF56AE7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1EB-B783-49FD-91D7-9E9E5F80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A48-DC2B-45DA-9CE1-58280920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5963-D5C8-4B1A-A571-2F4D0543125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4F70-1259-4CDF-AFA2-1551844B44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4247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Tahoma"/>
              </a:rPr>
              <a:t>Кодирование </a:t>
            </a:r>
            <a:br>
              <a:rPr sz="6600"/>
            </a:br>
            <a:r>
              <a:rPr b="1" lang="ru-RU" sz="6600" spc="-1" strike="noStrike">
                <a:solidFill>
                  <a:srgbClr val="ffffcc"/>
                </a:solidFill>
                <a:latin typeface="Tahoma"/>
              </a:rPr>
              <a:t>и обработка графической информации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Формирование цветов в системе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GB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1268280"/>
          <a:ext cx="6778440" cy="4068720"/>
        </p:xfrm>
        <a:graphic>
          <a:graphicData uri="http://schemas.openxmlformats.org/drawingml/2006/table">
            <a:tbl>
              <a:tblPr/>
              <a:tblGrid>
                <a:gridCol w="1593360"/>
                <a:gridCol w="5185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ирование цв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р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0+0+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max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max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ma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Rmax+0+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Gmax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+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Bmax+0+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луб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0+ Gmax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ma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урпур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Rmax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ma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Rmax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max+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1"/>
          <a:srcRect l="20314" t="0" r="0" b="0"/>
          <a:stretch/>
        </p:blipFill>
        <p:spPr>
          <a:xfrm>
            <a:off x="7236000" y="1413000"/>
            <a:ext cx="1699920" cy="2028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53737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системе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GB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алитра цветов формируется путем сложения красного, зеленого и синего цв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алитра цветов в системе цветопередачи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MY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557360"/>
            <a:ext cx="5689440" cy="59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ри печати изображений на принтер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спользуется палитра цвето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MYK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Основными красками в ней являются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ya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голубая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gent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урпурная и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ellow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желт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стем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MYK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 отличие от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GB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основана на восприятии не излучаемого, а отражаемого с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, нанесенная на бумагу голубая краска поглощает красный цвет и отражает зеленый и синий ц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а палитр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MYK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но определить с помощью формул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вет =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 + M + 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, M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нимают значения от 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%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д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70640" y="1844640"/>
            <a:ext cx="357336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-243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Формирование цветов в системе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MYK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981000"/>
          <a:ext cx="6275520" cy="4495680"/>
        </p:xfrm>
        <a:graphic>
          <a:graphicData uri="http://schemas.openxmlformats.org/drawingml/2006/table">
            <a:tbl>
              <a:tblPr/>
              <a:tblGrid>
                <a:gridCol w="1474920"/>
                <a:gridCol w="480060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ирование цв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р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С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+Y= - G – B - 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=0   M=0   Y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Y+M= - G -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Y+C= - R -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M+C= - R -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луб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- R = G+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урпур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- G = R+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 - B = R+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1"/>
          <a:srcRect l="20685" t="0" r="0" b="0"/>
          <a:stretch/>
        </p:blipFill>
        <p:spPr>
          <a:xfrm>
            <a:off x="6791400" y="1628640"/>
            <a:ext cx="2352600" cy="2820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5445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системе цветопередачи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MYK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алитра цветов формируется путем наложения голубой, пурпурной, желтой и черной кра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алитра цветов в системе цветопередачи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SB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1628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1557360"/>
            <a:ext cx="864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стема цветопередач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SB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спользует в качестве базовых параметров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тенок цвета, Насыщенность, Ярк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2492280"/>
            <a:ext cx="86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истеме цветопередачи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B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палитра цветов формируется путем установки значений оттенка цвета, насыщенности и ярк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609480"/>
            <a:ext cx="8640720" cy="54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Графическая информ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2205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налоговая фор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2205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искретная фор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8178000">
            <a:off x="1647360" y="1414080"/>
            <a:ext cx="1368360" cy="79236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653800">
            <a:off x="6151320" y="1425600"/>
            <a:ext cx="1336680" cy="792000"/>
          </a:xfrm>
          <a:custGeom>
            <a:avLst/>
            <a:gdLst>
              <a:gd name="textAreaLeft" fmla="*/ 167040 w 1336680"/>
              <a:gd name="textAreaRight" fmla="*/ 1169640 w 133668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5445000"/>
            <a:ext cx="5832720" cy="1123920"/>
          </a:xfrm>
          <a:custGeom>
            <a:avLst/>
            <a:gdLst>
              <a:gd name="textAreaLeft" fmla="*/ 729000 w 5832720"/>
              <a:gd name="textAreaRight" fmla="*/ 5103720 w 5832720"/>
              <a:gd name="textAreaTop" fmla="*/ 280800 h 1123920"/>
              <a:gd name="textAreaBottom" fmla="*/ 84312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76560" y="5748480"/>
            <a:ext cx="347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580536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странственная дискрет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5373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549360"/>
            <a:ext cx="84247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ИКСЕЛЬ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это минимальный участок изображения, для которого независимым образом можно задать цв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РЕШАЮЩАЯ СПОСОБНОС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астрового изображения определяется количеством точек как по горизонтали, так и по вертикали на единицу длины изображения. Чем меньше размер точки, тем больше разрешающая способность. Величин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РЕШАЮЩЕЙ СПОСОБ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ыражается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pi (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точек в полоске изображения длиной 2,54 см (дюйм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лубина цве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1268280"/>
            <a:ext cx="529272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тровое изображение представляет собой совокупность точек (пикселей) разных цветов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черно-белого изображения информационный объем одной точки равен одному биту (либо черная, либо белая – либо 1, либо 0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четырех цветного – 2 бит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8 цветов необходимо – 3 бит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16 цветов – 4 бит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256 цветов – 8 бит (1 байт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5634" t="35881" r="51139" b="33685"/>
          <a:stretch/>
        </p:blipFill>
        <p:spPr>
          <a:xfrm>
            <a:off x="250920" y="1268280"/>
            <a:ext cx="3529080" cy="3351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4869000"/>
            <a:ext cx="8424720" cy="17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ичество цветов в палитре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количество информации, необходимое для кодирования каждой точки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связаны между собой и могут быть вычислены по форму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=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оличество информации, которое используется для кодирования цвета одной точки изображения, называется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ГЛУБИНОЙ ЦВЕ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аиболее распространенными глубинами цвета являются 4,8,16, и 24 бита на точку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ная глубину цвета, можно по формуле вычислить количество цветов в палитре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счет объема видеопамя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341360"/>
            <a:ext cx="867564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формационный объем требуемой видеопамяти можно рассчитать по форму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ahoma"/>
              </a:rPr>
              <a:t>памят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I * X *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памяти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формационный объем видеопамяти в бит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* 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количество точек изображения (по горизонтали и по вертикал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глубина цвета в битах на точ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МЕР. Необходимый объем видеопамяти для графического режима с пространственным разрешением 800 х 600 точек и глубиной цвета 24 бита равен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памя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24 * 600 * 800 = 11 520 000 бит =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1 440 000 байт = 1 406, 25 Кбайт = 1, 37 Мбай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Tahoma"/>
              </a:rPr>
              <a:t>Палитры цветов в системах цветопередачи </a:t>
            </a:r>
            <a:r>
              <a:rPr b="1" lang="en-US" sz="7200" spc="-1" strike="noStrike">
                <a:solidFill>
                  <a:srgbClr val="ffffcc"/>
                </a:solidFill>
                <a:latin typeface="Tahoma"/>
              </a:rPr>
              <a:t>RGB, CMYK, HSB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алитра цветов в системе цветопередачи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GB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3602160" cy="3425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1557360"/>
            <a:ext cx="583272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 экрана монито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человек воспринимает цвет как сумму излучения трех базовых цветов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, green, blue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из палитры можно определить с помощью формул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вет 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 + G + B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, G, B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нимают значения от 0 д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 при глубине цвета в 24 бита на кодирование каждого из базовых цветов выделяется по 8 битов, тогда для каждого из цветов возможны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=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256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ровней интенсив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9:50:16Z</dcterms:created>
  <dc:creator>SEC</dc:creator>
  <dc:description/>
  <dc:language>en-US</dc:language>
  <cp:lastModifiedBy>Tyrbo_user</cp:lastModifiedBy>
  <dcterms:modified xsi:type="dcterms:W3CDTF">2011-10-01T15:25:42Z</dcterms:modified>
  <cp:revision>25</cp:revision>
  <dc:subject/>
  <dc:title>Кодирование и обработка графической информации</dc:title>
</cp:coreProperties>
</file>