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2295-1AF9-4010-8308-506A1386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60C8-BA6B-4FD1-B08C-873E684E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330-C646-4928-B727-91498E10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FE4-7B89-4792-A76C-E21634D2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0C3A-3A3A-44C8-B39F-6290437A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880C-03E9-4296-8C3E-ED3EA8E5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1A2C-448C-4DC6-B151-4C0EBFF0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F5CB-6308-4F51-AD95-074FC470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36EE-9A7C-48F6-86DE-23B271B1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A7D0-8CC5-4955-AB7C-D90FA34B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8403-2753-494D-8E34-DA27F4AA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6C6-BEFC-486A-91DF-80C48A42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F4C2-6A68-4B35-B984-88E6E8BF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D74E-DC19-47C3-BE22-B22A6D24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B7FE-12F6-4FEF-80C8-DB5AD2F3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6B83-2139-4DC4-AEB1-29B3920D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A8CD-3C55-440E-A75F-DACEDAEE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068-C2C3-4481-8374-4C2EDCE0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1A1-35EE-4150-AAC1-123CEF4F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111-DEFB-44A0-A6A1-E29707B8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E84-08A0-43EF-8A7A-DE8C4BE9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261-EA1E-423E-B4C1-6A6A55C9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BFB-6061-4185-BBDC-CEF9C877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FB5-0D00-45D9-9B07-88A67D4A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9E36-080E-4C1B-9CAB-2A5CA69E4EA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E7BD-631F-4C21-AA44-9FD9472CAF0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4247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Tahoma"/>
              </a:rPr>
              <a:t>Кодирование </a:t>
            </a:r>
            <a:br>
              <a:rPr sz="6600"/>
            </a:br>
            <a:r>
              <a:rPr b="1" lang="ru-RU" sz="6600" spc="-1" strike="noStrike">
                <a:solidFill>
                  <a:srgbClr val="ffffcc"/>
                </a:solidFill>
                <a:latin typeface="Tahoma"/>
              </a:rPr>
              <a:t>и обработка графической информации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Формирование цветов в системе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RGB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1268280"/>
          <a:ext cx="6778440" cy="4068720"/>
        </p:xfrm>
        <a:graphic>
          <a:graphicData uri="http://schemas.openxmlformats.org/drawingml/2006/table">
            <a:tbl>
              <a:tblPr/>
              <a:tblGrid>
                <a:gridCol w="1593360"/>
                <a:gridCol w="5185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рмирование цв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р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0+0+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max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max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ma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Rmax+0+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Gmax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+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Bmax+0+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луб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0+ Gmax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ma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урпур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Rmax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ma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Rmax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max+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1"/>
          <a:srcRect l="20314" t="0" r="0" b="0"/>
          <a:stretch/>
        </p:blipFill>
        <p:spPr>
          <a:xfrm>
            <a:off x="7236000" y="1413000"/>
            <a:ext cx="1699920" cy="2028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8360" y="53737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системе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GB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палитра цветов формируется путем сложения красного, зеленого и синего цв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алитра цветов в системе цветопередачи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MY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557360"/>
            <a:ext cx="5689440" cy="59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При печати изображений на принтер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спользуется палитра цветов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MYK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Основными красками в ней являются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ya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голубая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agent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урпурная и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ellow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желт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стем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MYK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 отличие от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GB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основана на восприятии не излучаемого, а отражаемого св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, нанесенная на бумагу голубая краска поглощает красный цвет и отражает зеленый и синий цв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а палитр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MYK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но определить с помощью формул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вет =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 + M + 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, M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нимают значения от 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%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д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70640" y="1844640"/>
            <a:ext cx="357336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-243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Формирование цветов в системе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MYK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981000"/>
          <a:ext cx="6275520" cy="4495680"/>
        </p:xfrm>
        <a:graphic>
          <a:graphicData uri="http://schemas.openxmlformats.org/drawingml/2006/table">
            <a:tbl>
              <a:tblPr/>
              <a:tblGrid>
                <a:gridCol w="1474920"/>
                <a:gridCol w="480060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рмирование цв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р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С+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+Y= - G – B - 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=0   M=0   Y=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Y+M= - G -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Y+C= - R -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M+C= - R -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луб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- R = G+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урпур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- G = R+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  - B = R+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" descr=""/>
          <p:cNvPicPr/>
          <p:nvPr/>
        </p:nvPicPr>
        <p:blipFill>
          <a:blip r:embed="rId1"/>
          <a:srcRect l="20685" t="0" r="0" b="0"/>
          <a:stretch/>
        </p:blipFill>
        <p:spPr>
          <a:xfrm>
            <a:off x="6791400" y="1628640"/>
            <a:ext cx="2352600" cy="2820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8360" y="5445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системе цветопередачи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MYK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палитра цветов формируется путем наложения голубой, пурпурной, желтой и черной кра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алитра цветов в системе цветопередачи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SB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1628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1557360"/>
            <a:ext cx="8642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стема цветопередач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SB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спользует в качестве базовых параметров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тенок цвета, Насыщенность, Ярк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2492280"/>
            <a:ext cx="86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истеме цветопередачи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B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палитра цветов формируется путем установки значений оттенка цвета, насыщенности и ярк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4000" y="609480"/>
            <a:ext cx="8640720" cy="54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Графическая информ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2205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налоговая фор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3640" y="2205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искретная фор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8178000">
            <a:off x="1647360" y="1414080"/>
            <a:ext cx="1368360" cy="79236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198000 h 792360"/>
              <a:gd name="textAreaBottom" fmla="*/ 5943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653800">
            <a:off x="6151320" y="1425600"/>
            <a:ext cx="1336680" cy="792000"/>
          </a:xfrm>
          <a:custGeom>
            <a:avLst/>
            <a:gdLst>
              <a:gd name="textAreaLeft" fmla="*/ 167040 w 1336680"/>
              <a:gd name="textAreaRight" fmla="*/ 1169640 w 133668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5445000"/>
            <a:ext cx="5832720" cy="1123920"/>
          </a:xfrm>
          <a:custGeom>
            <a:avLst/>
            <a:gdLst>
              <a:gd name="textAreaLeft" fmla="*/ 729000 w 5832720"/>
              <a:gd name="textAreaRight" fmla="*/ 5103720 w 5832720"/>
              <a:gd name="textAreaTop" fmla="*/ 280800 h 1123920"/>
              <a:gd name="textAreaBottom" fmla="*/ 84312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76560" y="5748480"/>
            <a:ext cx="347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580536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странственная дискрет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5373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к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549360"/>
            <a:ext cx="84247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ИКСЕЛЬ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это минимальный участок изображения, для которого независимым образом можно задать цв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ЗРЕШАЮЩАЯ СПОСОБНОС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астрового изображения определяется количеством точек как по горизонтали, так и по вертикали на единицу длины изображения. Чем меньше размер точки, тем больше разрешающая способность. Величин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ЗРЕШАЮЩЕЙ СПОСОБН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ыражается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pi (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точек в полоске изображения длиной 2,54 см (дюйм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Глубина цве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1268280"/>
            <a:ext cx="529272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тровое изображение представляет собой совокупность точек (пикселей) разных цветов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черно-белого изображения информационный объем одной точки равен одному биту (либо черная, либо белая – либо 1, либо 0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четырех цветного – 2 бит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8 цветов необходимо – 3 бит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16 цветов – 4 бит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256 цветов – 8 бит (1 байт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5634" t="35881" r="51139" b="33685"/>
          <a:stretch/>
        </p:blipFill>
        <p:spPr>
          <a:xfrm>
            <a:off x="250920" y="1268280"/>
            <a:ext cx="3529080" cy="3351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4869000"/>
            <a:ext cx="8424720" cy="17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ичество цветов в палитре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количество информации, необходимое для кодирования каждой точки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связаны между собой и могут быть вычислены по форму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=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оличество информации, которое используется для кодирования цвета одной точки изображения, называется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ГЛУБИНОЙ ЦВЕТ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аиболее распространенными глубинами цвета являются 4,8,16, и 24 бита на точку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ная глубину цвета, можно по формуле вычислить количество цветов в палитре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счет объема видеопамя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341360"/>
            <a:ext cx="867564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формационный объем требуемой видеопамяти можно рассчитать по форму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ahoma"/>
              </a:rPr>
              <a:t>памят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I * X *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памяти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формационный объем видеопамяти в бит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* 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количество точек изображения (по горизонтали и по вертикал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глубина цвета в битах на точ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МЕР. Необходимый объем видеопамяти для графического режима с пространственным разрешением 800 х 600 точек и глубиной цвета 24 бита равен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ahoma"/>
              </a:rPr>
              <a:t>памя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24 * 600 * 800 = 11 520 000 бит =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1 440 000 байт = 1 406, 25 Кбайт = 1, 37 Мбай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Tahoma"/>
              </a:rPr>
              <a:t>Палитры цветов в системах цветопередачи </a:t>
            </a:r>
            <a:r>
              <a:rPr b="1" lang="en-US" sz="7200" spc="-1" strike="noStrike">
                <a:solidFill>
                  <a:srgbClr val="ffffcc"/>
                </a:solidFill>
                <a:latin typeface="Tahoma"/>
              </a:rPr>
              <a:t>RGB, CMYK, HSB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алитра цветов в системе цветопередачи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GB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92720" y="1484280"/>
            <a:ext cx="3602160" cy="3425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1557360"/>
            <a:ext cx="583272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С экрана монитор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человек воспринимает цвет как сумму излучения трех базовых цветов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, green, blue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из палитры можно определить с помощью формул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Цвет =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 + G + B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, G, B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нимают значения от 0 д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 при глубине цвета в 24 бита на кодирование каждого из базовых цветов выделяется по 8 битов, тогда для каждого из цветов возможны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=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256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ровней интенсив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9:50:16Z</dcterms:created>
  <dc:creator>SEC</dc:creator>
  <dc:description/>
  <dc:language>en-US</dc:language>
  <cp:lastModifiedBy>Tyrbo_user</cp:lastModifiedBy>
  <dcterms:modified xsi:type="dcterms:W3CDTF">2011-10-01T15:25:42Z</dcterms:modified>
  <cp:revision>25</cp:revision>
  <dc:subject/>
  <dc:title>Кодирование и обработка графической информации</dc:title>
</cp:coreProperties>
</file>