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728A-3F63-409C-B815-1370F5D466F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D655-3B3A-4325-A8C9-E82D2679E9B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EEA-C695-411C-BB63-8A0AF801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CC1-E04A-445C-BA66-BC8F82E1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822-9419-4E4C-9EA4-4A237262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969-833D-4735-BCAD-10697522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DADD-C62E-4E02-AB7B-DA122A79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D129-8CCC-480C-A07D-BC621746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DDFB-FE79-4338-B8DE-9DE42852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6794-B183-4F5D-81F7-11306A4E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C090-F3AC-4166-B6D6-E288B314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DCC2-CC84-48A8-BBA1-69CEB0EE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3FE0-6D15-417C-8917-44E13EC1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D8FE-ABCB-439B-8EC0-01AFBC59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9F9D-CF65-4018-91D2-6DDF6BEA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845C-2C9C-47FC-B925-3D670360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9ABD-EF48-4250-9633-5F191F3D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081E-647F-4835-81F7-4B17508A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52C1-F373-4AB3-A536-CA7FD396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96E-CDAD-458B-AEF2-34580FA8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AED-703D-498B-93D8-43A52E78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ABC-B18B-4774-887F-A9ACAFAB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9F3-05A0-4304-8E62-97ADFE80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525-43FD-4B82-AD33-2152B3E8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37E-2B10-46F9-B525-F6F2B2CF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176-1779-4C1A-94A2-8D4CBC92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194B-5159-4EC9-85A0-397AD4125790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B508-26B5-471C-899B-1B8828FD5562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68360" y="1413000"/>
            <a:ext cx="489600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Зачёт - кроссвор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321300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 Antiqua"/>
              </a:rPr>
              <a:t>по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03280" y="4508640"/>
            <a:ext cx="62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Основные причины травматизм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0" y="4508640"/>
          <a:ext cx="9144000" cy="2516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549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 Приборы, аппараты и другие устройства, которыми оборудуют места проведения соревнований и тренировочных занятий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  Изделия, изготовленные для занятий спортом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  Воздействие на организм внешних факторов, вызывающее прибавочную функциональную активность (относительно покоя или др. исходного уровня) 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яющее степень преодолеваемых трудностей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  Одежда, предназначенная для спортивных занятий и соревнований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  Нарушение в организме функций сердечно-сосудистой, дыхательной, пищеварительной систем, опорно-двигательного аппарата, в ряде случаев психик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ледствие снижения уровня усилий при двигательной активност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  Обеспечение безопасности при выполнении упражнений, осуществляемое тренером или товарищем по команд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  Беседа о правилах безопасности при проведении соревнований, занятий по разным видам спорта и туристических походо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  Подготовительная часть урока, тренировочного занятия; выполнение специальных упражнений для подготовки организма к предстоящей работ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  Состояние организма, определяющее уровень физической подготовленности спортсмена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Нарушением норм и правил поведения во время урока,  тренировки и соревнований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Нарушение целостности и функционального состояния тканей и органов в ходе выполнения физических упражнений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Периодическое комплексное медицинское обследование с целью определения состояния здоровья и уровня подготовленности спортсмено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0" y="0"/>
          <a:ext cx="5940360" cy="4381560"/>
        </p:xfrm>
        <a:graphic>
          <a:graphicData uri="http://schemas.openxmlformats.org/drawingml/2006/table">
            <a:tbl>
              <a:tblPr/>
              <a:tblGrid>
                <a:gridCol w="325440"/>
                <a:gridCol w="325440"/>
                <a:gridCol w="325440"/>
                <a:gridCol w="325440"/>
                <a:gridCol w="326880"/>
                <a:gridCol w="314640"/>
                <a:gridCol w="345960"/>
                <a:gridCol w="328680"/>
                <a:gridCol w="334800"/>
                <a:gridCol w="360360"/>
                <a:gridCol w="325440"/>
                <a:gridCol w="325440"/>
                <a:gridCol w="336600"/>
                <a:gridCol w="326880"/>
                <a:gridCol w="346320"/>
                <a:gridCol w="336600"/>
                <a:gridCol w="326880"/>
                <a:gridCol w="3031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1517400" cy="165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651640" y="2492280"/>
            <a:ext cx="1498320" cy="1638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164360" y="1484280"/>
            <a:ext cx="1852560" cy="1609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95280" y="333360"/>
          <a:ext cx="8282160" cy="6210360"/>
        </p:xfrm>
        <a:graphic>
          <a:graphicData uri="http://schemas.openxmlformats.org/drawingml/2006/table">
            <a:tbl>
              <a:tblPr/>
              <a:tblGrid>
                <a:gridCol w="453960"/>
                <a:gridCol w="452520"/>
                <a:gridCol w="453960"/>
                <a:gridCol w="453960"/>
                <a:gridCol w="457200"/>
                <a:gridCol w="465120"/>
                <a:gridCol w="503280"/>
                <a:gridCol w="432000"/>
                <a:gridCol w="444240"/>
                <a:gridCol w="503280"/>
                <a:gridCol w="452520"/>
                <a:gridCol w="453960"/>
                <a:gridCol w="470160"/>
                <a:gridCol w="455400"/>
                <a:gridCol w="482760"/>
                <a:gridCol w="468360"/>
                <a:gridCol w="457200"/>
                <a:gridCol w="4222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70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Book Antiqua"/>
              </a:rPr>
              <a:t>это   система   мер  предосторожности, направленная    на    предупреждение травматизма     путем   рациональной организации учебного и тренировоч-ного процесса, качественной размин-ки, использования защитных средств, восстановительных   мероприятий   и повышения поведенческой культуры занимающихся.</a:t>
            </a:r>
            <a:r>
              <a:rPr b="0" lang="ru-RU" sz="3600" spc="-1" strike="noStrike">
                <a:solidFill>
                  <a:srgbClr val="fbbc09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71640" y="476280"/>
            <a:ext cx="720072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зопасность в спорт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0:43:58Z</dcterms:created>
  <dc:creator>Admin</dc:creator>
  <dc:description/>
  <cp:keywords/>
  <dc:language>en-US</dc:language>
  <cp:lastModifiedBy>Admin</cp:lastModifiedBy>
  <dcterms:modified xsi:type="dcterms:W3CDTF">2008-09-13T17:06:08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61049</vt:lpwstr>
  </property>
</Properties>
</file>