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204C-19DC-4B28-B010-79F26FBFF3B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F2FB-6A03-456C-BC1D-7EE898AD538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DAB-DE98-4834-A872-09F1C272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F6C-53F9-4DE0-B2FC-A8B95158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95E-F2DD-4328-85B5-6038AEC3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EB8-569E-4238-87DF-EE17CBFA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A480-9669-4742-84D5-4063442D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88D1-C1A8-429C-B71E-B5BA737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CF2E-F353-41E2-9E15-7D272035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27A7-F575-4414-8884-CE7DE51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2E8-3187-4FB4-AC0E-3EA62618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7F3D-3642-4E6F-9471-F76C45D4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88D-EC9A-49A2-BF1E-67844B5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BF8-163C-4FF9-A85E-2D1CD12C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3468-D365-41D6-9967-90EE6B42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A6FB-06E5-4CE6-AA39-FCFA6D0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1619-CAD7-4BA5-B08D-5A22D1FC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F0D8-53A1-48B0-A9E2-E089FCD9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1E62-2CDB-408E-8CF1-E7676034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640-C75D-423C-AB2D-65507943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BF1-0440-4F4E-B5A6-4250F75C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6D6-82A7-4108-B4AE-E655D15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9AA-EB04-4D70-8EED-97B2CC87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A3C-74CC-4C25-AD8E-A88CD52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72A-F3F1-49B6-AE0F-B6B9A8BB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C0A-E425-4BC7-A736-3FFA07E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734-F903-4BB3-B791-8022E47AAAFA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638-609C-4C62-ADF9-E39A2CC903D7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68360" y="1413000"/>
            <a:ext cx="48960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Зачёт - кроссвор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321300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 Antiqua"/>
              </a:rPr>
              <a:t>по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3280" y="450864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Основные причины травматизм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4508640"/>
          <a:ext cx="9144000" cy="2516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54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 Приборы, аппараты и другие устройства, которыми оборудуют места проведения соревнований и тренировочных занят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  Изделия, изготовленные для занятий спортом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  Воздействие на организм внешних факторов, вызывающее прибавочную функциональную активность (относительно покоя или др. исходного уровня) 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ющее степень преодолеваемых трудносте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  Одежда, предназначенная для спортивных занятий и соревнова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  Нарушение в организме функций сердечно-сосудистой, дыхательной, пищеварительной систем, опорно-двигательного аппарата, в ряде случаев психик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ледствие снижения уровня усилий при двигательной активност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  Обеспечение безопасности при выполнении упражнений, осуществляемое тренером или товарищем по команд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  Беседа о правилах безопасности при проведении соревнований, занятий по разным видам спорта и туристических походо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  Подготовительная часть урока, тренировочного занятия; выполнение специальных упражнений для подготовки организма к предстоящей работе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  Состояние организма, определяющее уровень физической подготовленности спортсмена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Нарушением норм и правил поведения во время урока,  тренировки и соревнова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Нарушение целостности и функционального состояния тканей и органов в ходе выполнения физических упражнений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Периодическое комплексное медицинское обследование с целью определения состояния здоровья и уровня подготовленности спортсменов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0"/>
          <a:ext cx="5940360" cy="4381560"/>
        </p:xfrm>
        <a:graphic>
          <a:graphicData uri="http://schemas.openxmlformats.org/drawingml/2006/table">
            <a:tbl>
              <a:tblPr/>
              <a:tblGrid>
                <a:gridCol w="325440"/>
                <a:gridCol w="325440"/>
                <a:gridCol w="325440"/>
                <a:gridCol w="325440"/>
                <a:gridCol w="326880"/>
                <a:gridCol w="314640"/>
                <a:gridCol w="345960"/>
                <a:gridCol w="328680"/>
                <a:gridCol w="334800"/>
                <a:gridCol w="360360"/>
                <a:gridCol w="325440"/>
                <a:gridCol w="325440"/>
                <a:gridCol w="336600"/>
                <a:gridCol w="326880"/>
                <a:gridCol w="346320"/>
                <a:gridCol w="336600"/>
                <a:gridCol w="326880"/>
                <a:gridCol w="303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1517400" cy="165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651640" y="2492280"/>
            <a:ext cx="1498320" cy="16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164360" y="1484280"/>
            <a:ext cx="185256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333360"/>
          <a:ext cx="8282160" cy="6210360"/>
        </p:xfrm>
        <a:graphic>
          <a:graphicData uri="http://schemas.openxmlformats.org/drawingml/2006/table">
            <a:tbl>
              <a:tblPr/>
              <a:tblGrid>
                <a:gridCol w="453960"/>
                <a:gridCol w="452520"/>
                <a:gridCol w="453960"/>
                <a:gridCol w="453960"/>
                <a:gridCol w="457200"/>
                <a:gridCol w="465120"/>
                <a:gridCol w="503280"/>
                <a:gridCol w="432000"/>
                <a:gridCol w="444240"/>
                <a:gridCol w="503280"/>
                <a:gridCol w="452520"/>
                <a:gridCol w="453960"/>
                <a:gridCol w="470160"/>
                <a:gridCol w="455400"/>
                <a:gridCol w="482760"/>
                <a:gridCol w="468360"/>
                <a:gridCol w="457200"/>
                <a:gridCol w="422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Book Antiqu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70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Book Antiqua"/>
              </a:rPr>
              <a:t>это   система   мер  предосторожности, направленная    на    предупреждение травматизма     путем   рациональной организации учебного и тренировоч-ного процесса, качественной размин-ки, использования защитных средств, восстановительных   мероприятий   и повышения поведенческой культуры занимающихся.</a:t>
            </a:r>
            <a:r>
              <a:rPr b="0" lang="ru-RU" sz="3600" spc="-1" strike="noStrike">
                <a:solidFill>
                  <a:srgbClr val="fbbc09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640" y="476280"/>
            <a:ext cx="7200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пасность в спор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0:43:58Z</dcterms:created>
  <dc:creator>Admin</dc:creator>
  <dc:description/>
  <cp:keywords/>
  <dc:language>en-US</dc:language>
  <cp:lastModifiedBy>Admin</cp:lastModifiedBy>
  <dcterms:modified xsi:type="dcterms:W3CDTF">2008-09-13T17:06:0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