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EE5-663C-4FC8-BE47-928AE2BD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E23-D52E-447E-99A5-6B373D0E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7F7-ED9B-48D0-9504-33998AC3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FB7-B5FD-4757-AE24-B85240D2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34D-CC51-4502-9295-D08A8BA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045-5A15-4651-B101-3EA2EDE5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66D-6683-4302-A9C9-C8C3AC5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A49-6988-4547-BB92-2D6CA26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E73-F11A-40E8-9A5C-3BD3E35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4A3-16AA-42B0-A59A-5F145B2D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F47-A44D-43BE-9F84-3FE51357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E37-2B25-456B-B804-EA39A30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C6CC-B5B3-426D-AD2C-B02261587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58018" t="0" r="0" b="-2192"/>
          <a:stretch/>
        </p:blipFill>
        <p:spPr>
          <a:xfrm>
            <a:off x="0" y="0"/>
            <a:ext cx="4067280" cy="2112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>
            <a:lum contrast="36000"/>
          </a:blip>
          <a:srcRect l="19723" t="66871" r="40529" b="17153"/>
          <a:stretch/>
        </p:blipFill>
        <p:spPr>
          <a:xfrm>
            <a:off x="0" y="5300640"/>
            <a:ext cx="3024360" cy="1295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>
            <a:lum contrast="36000"/>
          </a:blip>
          <a:srcRect l="33138" t="71233" r="39587" b="14238"/>
          <a:stretch/>
        </p:blipFill>
        <p:spPr>
          <a:xfrm>
            <a:off x="6156360" y="5157720"/>
            <a:ext cx="298764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2708280"/>
            <a:ext cx="6659640" cy="20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>
            <a:lum contrast="12000"/>
          </a:blip>
          <a:srcRect l="42696" t="83673" r="35494" b="8916"/>
          <a:stretch/>
        </p:blipFill>
        <p:spPr>
          <a:xfrm>
            <a:off x="2987640" y="5300640"/>
            <a:ext cx="32036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>
            <a:lum contrast="54000"/>
          </a:blip>
          <a:srcRect l="8536" t="14151" r="83628" b="81600"/>
          <a:stretch/>
        </p:blipFill>
        <p:spPr>
          <a:xfrm>
            <a:off x="6624720" y="2708280"/>
            <a:ext cx="2519280" cy="205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060640"/>
            <a:ext cx="19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тча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кроф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2060640"/>
            <a:ext cx="180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ра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ихинел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479736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ченочный сосальщ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4869000"/>
            <a:ext cx="15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ычий цеп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4869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хинок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24280"/>
            <a:ext cx="205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ка  сви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п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9772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лая план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8">
            <a:lum contrast="48000"/>
          </a:blip>
          <a:srcRect l="28815" t="72806" r="19930" b="5761"/>
          <a:stretch/>
        </p:blipFill>
        <p:spPr>
          <a:xfrm>
            <a:off x="4067280" y="0"/>
            <a:ext cx="5076720" cy="20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6360" y="479736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ий лент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20500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ка и самец человеческой аска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плоских и круглых чер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404640"/>
          <a:ext cx="9144000" cy="6912000"/>
        </p:xfrm>
        <a:graphic>
          <a:graphicData uri="http://schemas.openxmlformats.org/drawingml/2006/table">
            <a:tbl>
              <a:tblPr/>
              <a:tblGrid>
                <a:gridCol w="3352680"/>
                <a:gridCol w="3441960"/>
                <a:gridCol w="2349360"/>
              </a:tblGrid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и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иммет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ментированн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 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янутая, уплощена в спинно-брюшном напр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, вода, орг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оживущие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есть у ленто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то-, энто-, мезод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 заполнена паренх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тничного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 светочув. гл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центре брюш. ст).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кан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фродиты, семенники, яи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– личинка-взрослый ор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опол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31840" y="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льная характеристика плоских и круглых чер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404640"/>
          <a:ext cx="9144000" cy="6912000"/>
        </p:xfrm>
        <a:graphic>
          <a:graphicData uri="http://schemas.openxmlformats.org/drawingml/2006/table">
            <a:tbl>
              <a:tblPr/>
              <a:tblGrid>
                <a:gridCol w="3352680"/>
                <a:gridCol w="3441960"/>
                <a:gridCol w="2349360"/>
              </a:tblGrid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чер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и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 об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симмет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ментированн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 мускульный ме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ть т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чув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щевар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литель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веносн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янутая, уплощена в спинно-брюшном направл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, вода, орг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оживущие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есть у ленто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то-, энто-, мезоде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 заполнена паренх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тничного ти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 светочув. гл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центре брюш. ст).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канальц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фродиты, семенники, яи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 – личинка-взрослый ор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ечнопол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етеновидная, 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ер. сеч. – 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н., параз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ик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гл.нерв. кольц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ити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т (в нач.), глот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шка, ан. от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клет. жел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ффузия или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полые,яич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и, сем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о–личин-взросл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>
            <a:lum contrast="6000"/>
          </a:blip>
          <a:srcRect l="16418" t="42731" r="5911" b="1184"/>
          <a:stretch/>
        </p:blipFill>
        <p:spPr>
          <a:xfrm>
            <a:off x="0" y="0"/>
            <a:ext cx="6983280" cy="3024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47640" y="2924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ая полость, заполненная жид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57336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тику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гибкая, эластичная, прочная оболочка, которая образуется за счет кожных клеток (эпителия), имеет защитное значение и поддерживает достаточно высокое давление полостной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одер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живая эпителиаль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ьная мус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жно – мускульный мешок ограничивает первичную полость тела, заполненную первичнополостной жидкостью, в которой располагаются системы внутренних орг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7720"/>
            <a:ext cx="860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68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ение кожно – мускульного м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836640"/>
            <a:ext cx="7559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щая характеристика круглых чер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инное, не разделенное на членики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перечном разрезе тело круг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устороннесимметричны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хслойные 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сть полость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шечник начинается ротовым отверстием и заканчивается а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ин слой продольных мышечных воло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движении могут лишь изгиб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 плотное, упругое, снаружи покрытое плотной оболочкой кутику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грессивные черты развития круглых черв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700280"/>
            <a:ext cx="8353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ение пищеварительной системы на отд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товое отверстие перемещается на передний конец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няя кишка открывается наружу анальным отверс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енние органы «омываются» жидкостью, заполняющей первичную полость тела. Первичнополостная жидкость участвует в процессах обмена веществ и в поддержании формы тела за счет давления на стенки тела изнут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ение полов (половой диморфиз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аю жизни мног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най ты вовсе об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у я ужин и обе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 ты есть в моей судь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аразитиз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549360"/>
            <a:ext cx="82090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льмин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глисты, черви – параз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реч. гельминтос – червь, глист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гельминтиз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удаление или изгнание паразита из тела 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приставка, означающая завершение действ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ую роль в разработке способов борьбы с гельминтами и профилактик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льминто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заболеваний, вызванных гельминтами) сыграл академи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стантин Иванович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антин Иванович Скряби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878 – 1972 г.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Я считаю себя счастливым тогда, когда я способен полноценно, запоем, научно работать, думать, созидать, когда творческая мысль бьет ключом, волнует, рождает новые идеи, касающиеся моей красивой, многогранной гельминтологии,»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понимал счастье академик Константин Иванович Скряб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атель гельминтологической науки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>
            <a:lum contrast="48000"/>
          </a:blip>
          <a:srcRect l="20977" t="55576" r="54819" b="15279"/>
          <a:stretch/>
        </p:blipFill>
        <p:spPr>
          <a:xfrm>
            <a:off x="468360" y="14842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>
            <a:lum contrast="30000"/>
          </a:blip>
          <a:srcRect l="8995" t="40874" r="26650" b="25581"/>
          <a:stretch/>
        </p:blipFill>
        <p:spPr>
          <a:xfrm>
            <a:off x="395280" y="1268280"/>
            <a:ext cx="4896000" cy="358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енный цикл и пути заражения    человеческой аскари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1628640"/>
            <a:ext cx="3529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утки самка откладывает 200-300 тыс.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олжительность жизни аскарид – 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ясните, какие условия необходимы для осуществления жизненного цикла человеческой аскар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олните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4941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ти заражения человеческой аскаридой и борьба с 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5516640"/>
          <a:ext cx="7008840" cy="1117440"/>
        </p:xfrm>
        <a:graphic>
          <a:graphicData uri="http://schemas.openxmlformats.org/drawingml/2006/table">
            <a:tbl>
              <a:tblPr/>
              <a:tblGrid>
                <a:gridCol w="1752480"/>
                <a:gridCol w="1752480"/>
                <a:gridCol w="1751040"/>
                <a:gridCol w="17528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льми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че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549360"/>
            <a:ext cx="842472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скаридо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это заболевание, вызванное аскари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наки заболе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окру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работоспособности и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вы причины такого состоя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00720" y="836640"/>
            <a:ext cx="345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атоды – самая многочисленная и многообразная группа. Само слово «нематода» произошло от греч.слова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ma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 означает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36000"/>
          </a:blip>
          <a:srcRect l="8475" t="66059" r="74629" b="10483"/>
          <a:stretch/>
        </p:blipFill>
        <p:spPr>
          <a:xfrm>
            <a:off x="395280" y="765000"/>
            <a:ext cx="39844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нарушения состояния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ведение в кишечник человека токсичных веществ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бки аскарид могут стать причиной непроходимости и разрыва киш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>
            <a:lum contrast="6000"/>
          </a:blip>
          <a:srcRect l="9083" t="19077" r="19057" b="32269"/>
          <a:stretch/>
        </p:blipFill>
        <p:spPr>
          <a:xfrm>
            <a:off x="250920" y="765000"/>
            <a:ext cx="5473440" cy="3929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26028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04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енный цикл и пути заражения человека остр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1052640"/>
            <a:ext cx="3348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ца паразитирует у детей в нижнем отделе тонкого кишечника. Самки бывают длиной около 10мм,а самцы – 3-5 мм.Заболевани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нтероби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нтеробио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покойн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ып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худшение самочув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ение трудоспособ-ности и даже нервные расстрой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– воспаление червеобразного отростка – аппендиц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508640"/>
            <a:ext cx="54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оплодотворения самки продвигаются к заднему проходу человека, выползают наружу, вызывая при этом сильный зуд, и откладывают яйца в области анального отверстия. Они малы и легко рассеиваются, попадают на одежду, мебель, книги, скапливаются под ног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692280"/>
            <a:ext cx="8893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олните табл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дии развития ос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700280"/>
          <a:ext cx="6985080" cy="1917720"/>
        </p:xfrm>
        <a:graphic>
          <a:graphicData uri="http://schemas.openxmlformats.org/drawingml/2006/table">
            <a:tbl>
              <a:tblPr/>
              <a:tblGrid>
                <a:gridCol w="619200"/>
                <a:gridCol w="2751120"/>
                <a:gridCol w="36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и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происходит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971640" y="3789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заражения острицей и борьба с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50864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4292640"/>
          <a:ext cx="7775280" cy="1649520"/>
        </p:xfrm>
        <a:graphic>
          <a:graphicData uri="http://schemas.openxmlformats.org/drawingml/2006/table">
            <a:tbl>
              <a:tblPr/>
              <a:tblGrid>
                <a:gridCol w="1942920"/>
                <a:gridCol w="2094120"/>
                <a:gridCol w="1795320"/>
                <a:gridCol w="19429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льми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 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3760" y="274320"/>
            <a:ext cx="785988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хинелла спиральна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125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34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24000"/>
          </a:blip>
          <a:srcRect l="52083" t="9574" r="1721" b="27656"/>
          <a:stretch/>
        </p:blipFill>
        <p:spPr>
          <a:xfrm>
            <a:off x="468360" y="476280"/>
            <a:ext cx="459900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94172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ти заражения трихинеллой спиральной и борьба с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5373720"/>
          <a:ext cx="8362800" cy="158580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гельми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аем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и зара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борь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хинелла с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64000" y="549360"/>
            <a:ext cx="3780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карида человеческая и трихинелла спиральная относятся к одному типу – круглых червей, параз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самка аскариды откладывает в сутки 200 –300 тыс. яиц, а самка трихинеллы за весь период жизни (35 – 40, максимум – 80 суток) откладывает не более 2 тыс. яиц. Объясните, почему аскарида и трихинелла столь резко различаются по числу откладываемых яиц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 к зад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557360"/>
            <a:ext cx="8459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хинелла достигла очень высокой специализации. Она ни на одной стадии своего развития не выходит во внешнюю среду, что свидетельствует о хорошо развитой приспособленности к паразит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йца аскариды выводятся во внешнюю среду, где большая часть их погибает, а развиваются и достигают половозрелого состояния лишь немногие, попавшие в благоприят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т выживаемости у трихинеллы выше, так как её цикл развития не связан с внешней сре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844640"/>
            <a:ext cx="87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 122- 125 прочит., стр. 126 – 127 отв.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ть санитарно – просветительные листовки для младших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любому гельминту типа Круглых или Плоских чер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тог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784872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углые черви являются прогрессирующей группой, т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селили все среды об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образ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явление ароморфоз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ичная полость, ротовое отверстие в переднем конце, анальное отвер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овой диморф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пособленность к паразит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Меры профилактики против гельминто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нитарный контроль за качеством воды и пищевы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4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91628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341360"/>
            <a:ext cx="9144000" cy="472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Включить/Выключить фоновую музыку"/>
          <p:cNvPicPr/>
          <p:nvPr/>
        </p:nvPicPr>
        <p:blipFill>
          <a:blip r:embed="rId3"/>
          <a:stretch/>
        </p:blipFill>
        <p:spPr>
          <a:xfrm>
            <a:off x="7956720" y="5229360"/>
            <a:ext cx="257040" cy="257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620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320" y="733320"/>
            <a:ext cx="89913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197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Тип Круглые черви,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особенности их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50855" t="0" r="0" b="-1688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59280" y="836640"/>
            <a:ext cx="38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га больного слоновьей болезнью, вызываемой поселяющейся в лимфатических протоках нитчаткой Банкроф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-1688" r="49249" b="0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43280" y="1557360"/>
            <a:ext cx="4214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елудок свиньи, забитый аскари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олев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скарид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особенностями  организации круглых чер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степени опасности, которую они могут представлять для человека, животных и растений при несоблюде-нии санитарно –гигиенических норм в профилактике гельминто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549360"/>
            <a:ext cx="83516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ный ученый Северцов, исследуя эволюцию животных, установил, что биологический прогресс характеризуется следующими признак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исленным увеличением особей дан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ессирующим расселением, т.е. захватом новых сред об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растающим многообразием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6:37:17Z</dcterms:created>
  <dc:creator>HOME</dc:creator>
  <dc:description/>
  <dc:language>en-US</dc:language>
  <cp:lastModifiedBy>HOME</cp:lastModifiedBy>
  <dcterms:modified xsi:type="dcterms:W3CDTF">2006-12-07T13:37:29Z</dcterms:modified>
  <cp:revision>9</cp:revision>
  <dc:subject/>
  <dc:title>Слайд 1</dc:title>
</cp:coreProperties>
</file>