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731-826D-4304-B525-369590BA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6B1-EED0-4137-B25B-2F335836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CD1-BFAB-4676-8B4A-F37A28AC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423-C937-4B46-81D8-0D81A944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4F8-2C3B-4148-A5C5-47E7BF18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563-6D8E-4F9D-BAF1-B7EFEC5D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9CF-1448-4984-B936-EAE5A578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982-547B-4BD4-882C-02A492F0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D7D-798F-40FB-A0A7-83FE7FDA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AC9-9618-471C-BF59-30685EEB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BC5-6218-40D7-931C-7B3E51D0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CF4-8C09-4813-A166-9CBAB54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90E8-C57F-4016-8918-76048398D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58018" t="0" r="0" b="-2192"/>
          <a:stretch/>
        </p:blipFill>
        <p:spPr>
          <a:xfrm>
            <a:off x="0" y="0"/>
            <a:ext cx="4067280" cy="2112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>
            <a:lum contrast="36000"/>
          </a:blip>
          <a:srcRect l="19723" t="66871" r="40529" b="17153"/>
          <a:stretch/>
        </p:blipFill>
        <p:spPr>
          <a:xfrm>
            <a:off x="0" y="5300640"/>
            <a:ext cx="3024360" cy="1295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>
            <a:lum contrast="36000"/>
          </a:blip>
          <a:srcRect l="33138" t="71233" r="39587" b="14238"/>
          <a:stretch/>
        </p:blipFill>
        <p:spPr>
          <a:xfrm>
            <a:off x="6156360" y="5157720"/>
            <a:ext cx="2987640" cy="1700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2708280"/>
            <a:ext cx="6659640" cy="2066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>
            <a:lum contrast="12000"/>
          </a:blip>
          <a:srcRect l="42696" t="83673" r="35494" b="8916"/>
          <a:stretch/>
        </p:blipFill>
        <p:spPr>
          <a:xfrm>
            <a:off x="2987640" y="5300640"/>
            <a:ext cx="320364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>
            <a:lum contrast="54000"/>
          </a:blip>
          <a:srcRect l="8536" t="14151" r="83628" b="81600"/>
          <a:stretch/>
        </p:blipFill>
        <p:spPr>
          <a:xfrm>
            <a:off x="6624720" y="2708280"/>
            <a:ext cx="2519280" cy="205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060640"/>
            <a:ext cx="19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итча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нкроф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2060640"/>
            <a:ext cx="18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ира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ихинел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479736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ченочный сосальщ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4869000"/>
            <a:ext cx="15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ычий цеп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48690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хиноко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24280"/>
            <a:ext cx="2050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ка  сви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п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9772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лая план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8">
            <a:lum contrast="48000"/>
          </a:blip>
          <a:srcRect l="28815" t="72806" r="19930" b="5761"/>
          <a:stretch/>
        </p:blipFill>
        <p:spPr>
          <a:xfrm>
            <a:off x="4067280" y="0"/>
            <a:ext cx="5076720" cy="206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16360" y="479736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окий лент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20500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ка и самец человеческой аск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авнительная характеристика плоских и круглых чер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404640"/>
          <a:ext cx="9144000" cy="6912000"/>
        </p:xfrm>
        <a:graphic>
          <a:graphicData uri="http://schemas.openxmlformats.org/drawingml/2006/table">
            <a:tbl>
              <a:tblPr/>
              <a:tblGrid>
                <a:gridCol w="3352680"/>
                <a:gridCol w="3441960"/>
                <a:gridCol w="2349360"/>
              </a:tblGrid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ские чер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ые чер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ви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об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иммет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ментированность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но- мускульный ме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ть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 чув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аритель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итель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енос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в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одотв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янутая, уплощена в спинно-брюшном направл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а, вода, орг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ноживущие, параз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есть у ленточ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то-, энто-, мезоде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 заполнена паренхи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тничного ти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итивные светочув. гл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т (в центре брюш. ст)., глот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каналь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ффузия или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фродиты, семенники, яич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о – личинка-взрослый ор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ечнополос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31840" y="0"/>
            <a:ext cx="68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авнительная характеристика плоских и круглых чер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404640"/>
          <a:ext cx="9144000" cy="6912000"/>
        </p:xfrm>
        <a:graphic>
          <a:graphicData uri="http://schemas.openxmlformats.org/drawingml/2006/table">
            <a:tbl>
              <a:tblPr/>
              <a:tblGrid>
                <a:gridCol w="3352680"/>
                <a:gridCol w="3441960"/>
                <a:gridCol w="2349360"/>
              </a:tblGrid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ские чер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ые чер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ви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об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иммет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ментированность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но- мускульный ме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ть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 чув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аритель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итель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енос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в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одотв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янутая, уплощена в спинно-брюшном направл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а, вода, орг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ноживущие, параз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есть у ленточ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то-, энто-, мезоде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 заполнена паренхи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тничного ти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итивные светочув. гл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т (в центре брюш. ст)., глот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каналь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ффузия или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фродиты, семенники, яич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о – личинка-взрослый ор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ечнополос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етеновидная, 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ер. сеч. – кр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н., параз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тик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логл.нерв. кольц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ити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т (в нач.), глот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ка, ан. от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клет. желе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ффузия или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полые,яич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и, семен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о–личин-взросл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>
            <a:lum contrast="6000"/>
          </a:blip>
          <a:srcRect l="16418" t="42731" r="5911" b="1184"/>
          <a:stretch/>
        </p:blipFill>
        <p:spPr>
          <a:xfrm>
            <a:off x="0" y="0"/>
            <a:ext cx="6983280" cy="3024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47640" y="292428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ичная полость, заполненная жидк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57336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тику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гибкая, эластичная, прочная оболочка, которая образуется за счет кожных клеток (эпителия), имеет защитное значение и поддерживает достаточно высокое давление полостной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одер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живая эпителиаль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дольная мускул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жно – мускульный мешок ограничивает первичную полость тела, заполненную первичнополостной жидкостью, в которой располагаются системы внутренних орг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57720"/>
            <a:ext cx="860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68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ение кожно – мускульного ме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836640"/>
            <a:ext cx="7559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бщая характеристика круглых чер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инное, не разделенное на членики 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перечном разрезе тело кругл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устороннесимметричные 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хслойные 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ть полость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шечник начинается ротовым отверстием и заканчивается ан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ин слой продольных мышечных воло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движении могут лишь изгиб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ло плотное, упругое, снаружи покрытое плотной оболочкой кутикул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огрессивные черты развития круглых черв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700280"/>
            <a:ext cx="8353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ение пищеварительной системы на отд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товое отверстие перемещается на передний конец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няя кишка открывается наружу анальным отверст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утренние органы «омываются» жидкостью, заполняющей первичную полость тела. Первичнополостная жидкость участвует в процессах обмена веществ и в поддержании формы тела за счет давления на стенки тела изнут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еление полов (половой диморфиз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аю жизни многих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най ты вовсе об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у я ужин и обе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 ты есть в моей судь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паразитиз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549360"/>
            <a:ext cx="82090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льмин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глисты, черви – параз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реч. гельминтос – червь, глист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гельминтиз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удаление или изгнание паразита из тела хозя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приставка, означающая завершение действ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ую роль в разработке способов борьбы с гельминтами и профилактик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льминто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заболеваний, вызванных гельминтами) сыграл академик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стантин Иванович Скря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нстантин Иванович Скрябин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878 – 1972 г.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Я считаю себя счастливым тогда, когда я способен полноценно, запоем, научно работать, думать, созидать, когда творческая мысль бьет ключом, волнует, рождает новые идеи, касающиеся моей красивой, многогранной гельминтологии,»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понимал счастье академик Константин Иванович Скрябин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атель гельминтологической науки в нашей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>
            <a:lum contrast="48000"/>
          </a:blip>
          <a:srcRect l="20977" t="55576" r="54819" b="15279"/>
          <a:stretch/>
        </p:blipFill>
        <p:spPr>
          <a:xfrm>
            <a:off x="468360" y="148428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>
            <a:lum contrast="30000"/>
          </a:blip>
          <a:srcRect l="8995" t="40874" r="26650" b="25581"/>
          <a:stretch/>
        </p:blipFill>
        <p:spPr>
          <a:xfrm>
            <a:off x="395280" y="1268280"/>
            <a:ext cx="4896000" cy="3583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26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изненный цикл и пути заражения    человеческой аскари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1628640"/>
            <a:ext cx="3529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утки самка откладывает 200-300 тыс.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ельность жизни аскарид – 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сните, какие условия необходимы для осуществления жизненного цикла человеческой аскар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олните табли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4941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ти заражения человеческой аскаридой и борьба с 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11280" y="5516640"/>
          <a:ext cx="7008840" cy="111744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1040"/>
                <a:gridCol w="17528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льми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аж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и зара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борьбы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чес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кар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549360"/>
            <a:ext cx="842472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скаридо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это заболевание, вызванное аскари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знаки заболе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ая слаб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овокр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раж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е работоспособности и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вы причины такого состоя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00720" y="836640"/>
            <a:ext cx="345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атоды – самая многочисленная и многообразная группа. Само слово «нематода» произошло от греч.слова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ma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 означает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lum contrast="36000"/>
          </a:blip>
          <a:srcRect l="8475" t="66059" r="74629" b="10483"/>
          <a:stretch/>
        </p:blipFill>
        <p:spPr>
          <a:xfrm>
            <a:off x="395280" y="765000"/>
            <a:ext cx="39844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нарушения состояния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ведение в кишечник человека токсичных веществ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убки аскарид могут стать причиной непроходимости и разрыва кише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>
            <a:lum contrast="6000"/>
          </a:blip>
          <a:srcRect l="9083" t="19077" r="19057" b="32269"/>
          <a:stretch/>
        </p:blipFill>
        <p:spPr>
          <a:xfrm>
            <a:off x="250920" y="765000"/>
            <a:ext cx="5473440" cy="3929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2602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0464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зненный цикл и пути заражения человека остри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1052640"/>
            <a:ext cx="3348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ица паразитирует у детей в нижнем отделе тонкого кишечника. Самки бывают длиной около 10мм,а самцы – 3-5 мм.Заболевание –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нтероби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знаки энтеробио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покойны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ып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удшение самочув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жение трудоспособ-ности и даже нервные расстрой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– воспаление червеобразного отростка – аппендиц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508640"/>
            <a:ext cx="54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оплодотворения самки продвигаются к заднему проходу человека, выползают наружу, вызывая при этом сильный зуд, и откладывают яйца в области анального отверстия. Они малы и легко рассеиваются, попадают на одежду, мебель, книги, скапливаются под ног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692280"/>
            <a:ext cx="8893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олните табли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дии развития остр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700280"/>
          <a:ext cx="6985080" cy="1917720"/>
        </p:xfrm>
        <a:graphic>
          <a:graphicData uri="http://schemas.openxmlformats.org/drawingml/2006/table">
            <a:tbl>
              <a:tblPr/>
              <a:tblGrid>
                <a:gridCol w="619200"/>
                <a:gridCol w="2751120"/>
                <a:gridCol w="361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и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происходит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971640" y="3789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и заражения острицей и борьба с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50864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4292640"/>
          <a:ext cx="7775280" cy="1649520"/>
        </p:xfrm>
        <a:graphic>
          <a:graphicData uri="http://schemas.openxmlformats.org/drawingml/2006/table">
            <a:tbl>
              <a:tblPr/>
              <a:tblGrid>
                <a:gridCol w="1942920"/>
                <a:gridCol w="2094120"/>
                <a:gridCol w="1795320"/>
                <a:gridCol w="19429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льми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ажае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и зара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борьбы 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83760" y="274320"/>
            <a:ext cx="78598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хинелла спиральна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12536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341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contrast="24000"/>
          </a:blip>
          <a:srcRect l="52083" t="9574" r="1721" b="27656"/>
          <a:stretch/>
        </p:blipFill>
        <p:spPr>
          <a:xfrm>
            <a:off x="468360" y="476280"/>
            <a:ext cx="459900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4941720"/>
            <a:ext cx="83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и заражения трихинеллой спиральной и борьба с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5373720"/>
          <a:ext cx="8362800" cy="158580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гельми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ажае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и зара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борь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рофил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хинелла с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364000" y="549360"/>
            <a:ext cx="37800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карида человеческая и трихинелла спиральная относятся к одному типу – круглых червей, параз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самка аскариды откладывает в сутки 200 –300 тыс. яиц, а самка трихинеллы за весь период жизни (35 – 40, максимум – 80 суток) откладывает не более 2 тыс. яиц. Объясните, почему аскарида и трихинелла столь резко различаются по числу откладываемых яиц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 к зад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557360"/>
            <a:ext cx="8459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хинелла достигла очень высокой специализации. Она ни на одной стадии своего развития не выходит во внешнюю среду, что свидетельствует о хорошо развитой приспособленности к паразит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йца аскариды выводятся во внешнюю среду, где большая часть их погибает, а развиваются и достигают половозрелого состояния лишь немногие, попавшие в благоприятны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нт выживаемости у трихинеллы выше, так как её цикл развития не связан с внешней с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844640"/>
            <a:ext cx="87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. 122- 125 прочит., стр. 126 – 127 отв.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ть санитарно – просветительные листовки для младших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любому гельминту типа Круглых или Плоских чер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тоги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907920"/>
            <a:ext cx="784872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углые черви являются прогрессирующей группой, т.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селили все среды об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огообраз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явление ароморфоз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вичная полость, ротовое отверстие в переднем конце, анальное отвер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овой диморф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пособленность к паразити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Меры профилактики против гельминт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нитарный контроль за качеством воды и пищевых проду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4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91628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341360"/>
            <a:ext cx="9144000" cy="472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Включить/Выключить фоновую музыку"/>
          <p:cNvPicPr/>
          <p:nvPr/>
        </p:nvPicPr>
        <p:blipFill>
          <a:blip r:embed="rId3"/>
          <a:stretch/>
        </p:blipFill>
        <p:spPr>
          <a:xfrm>
            <a:off x="7956720" y="5229360"/>
            <a:ext cx="257040" cy="257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620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п Плоские че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320" y="733320"/>
            <a:ext cx="89913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197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Тип Круглые черви,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особенности их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50855" t="0" r="0" b="-1688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59280" y="836640"/>
            <a:ext cx="388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га больного слоновьей болезнью, вызываемой поселяющейся в лимфатических протоках нитчаткой Банкроф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-1688" r="49249" b="0"/>
          <a:stretch/>
        </p:blipFill>
        <p:spPr>
          <a:xfrm>
            <a:off x="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43280" y="1557360"/>
            <a:ext cx="4214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лудок свиньи, забитый аскари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болев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скарид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особенностями  организации круглых чер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о степени опасности, которую они могут представлять для человека, животных и растений при несоблюде-нии санитарно –гигиенических норм в профилактике гельминто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549360"/>
            <a:ext cx="83516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вестный ученый Северцов, исследуя эволюцию животных, установил, что биологический прогресс характеризуется следующими признак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сленным увеличением особей данного ви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грессирующим расселением, т.е. захватом новых сред об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растающим многообразием 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6:37:17Z</dcterms:created>
  <dc:creator>HOME</dc:creator>
  <dc:description/>
  <dc:language>en-US</dc:language>
  <cp:lastModifiedBy>HOME</cp:lastModifiedBy>
  <dcterms:modified xsi:type="dcterms:W3CDTF">2006-12-07T13:37:29Z</dcterms:modified>
  <cp:revision>9</cp:revision>
  <dc:subject/>
  <dc:title>Слайд 1</dc:title>
</cp:coreProperties>
</file>