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1.jpeg" ContentType="image/jpeg"/>
  <Override PartName="/ppt/media/image9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41.png" ContentType="image/png"/>
  <Override PartName="/ppt/media/image30.jpeg" ContentType="image/jpeg"/>
  <Override PartName="/ppt/media/image31.png" ContentType="image/png"/>
  <Override PartName="/ppt/media/image43.png" ContentType="image/png"/>
  <Override PartName="/ppt/media/image40.jpeg" ContentType="image/jpeg"/>
  <Override PartName="/ppt/media/image44.png" ContentType="image/png"/>
  <Override PartName="/ppt/media/image13.jpeg" ContentType="image/jpeg"/>
  <Override PartName="/ppt/media/image3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7.jpeg" ContentType="image/jpeg"/>
  <Override PartName="/ppt/media/image28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01DB-5896-4D6F-BA7C-9ABEBB86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DCAC-ADDD-4451-8EBF-51CC20D5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028B-C481-4FC6-955A-D2A41D2A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8F17-7C9F-4494-A33D-527325B51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14D7-8A20-4172-8AA9-15AEFCDB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C921-AC01-4C48-8FFD-F0D590FD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2A79-0BF9-4E1E-84EB-1EF30A79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B7C8-A345-42E6-A723-5FEFB971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C6BB-06F4-4C06-A3DD-A8341C23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5EA9-68F5-4838-A3B8-B250AA73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7CC1-074D-4E51-8FF7-27B2DA78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3134-27FE-4EA4-B8B6-57ED4B4E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1774-8CAF-499D-AD13-DC8E7AAFA2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5" descr="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214200" y="571680"/>
            <a:ext cx="8572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Скрытая опасность неформальных объединений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642960" y="2857680"/>
            <a:ext cx="49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Есть ли она и как это определи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3" descr="4673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357120" y="500040"/>
            <a:ext cx="3500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циально-активные: общества защиты истории и окружающей среды, пацифис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5" descr="03d2fd08204b.jpg"/>
          <p:cNvPicPr/>
          <p:nvPr/>
        </p:nvPicPr>
        <p:blipFill>
          <a:blip r:embed="rId2"/>
          <a:stretch/>
        </p:blipFill>
        <p:spPr>
          <a:xfrm>
            <a:off x="4286160" y="3429000"/>
            <a:ext cx="4286520" cy="32148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21855304adc6.jpg"/>
          <p:cNvPicPr/>
          <p:nvPr/>
        </p:nvPicPr>
        <p:blipFill>
          <a:blip r:embed="rId3"/>
          <a:stretch/>
        </p:blipFill>
        <p:spPr>
          <a:xfrm>
            <a:off x="4714920" y="0"/>
            <a:ext cx="4646520" cy="30002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3" descr="f_112882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1143000" y="0"/>
            <a:ext cx="628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начение субкульту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0" y="714240"/>
            <a:ext cx="692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им из самых положительных моментов существования субкультур является то, что благодаря принадлежности к социальному меньшинству участники субкультур могут испытывать гораздо более ощутимый уровень доверия к таким же, как о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3" descr="337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642960" y="14292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Значение субкульту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357120" y="2214720"/>
            <a:ext cx="7000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рицательным моментом существования субкультур является то, что в силу определенных социальных запретов в жизни часто происходят акты недопонимания между представителями различных субкультур или между участниками субкультур и людьми, не причисляющими себя к какой либо групп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одержимое 3" descr="Funky-Frisky-Grafitti-Wallpapers-4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642960" y="0"/>
            <a:ext cx="82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Значение субкульту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357120" y="855720"/>
            <a:ext cx="83581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смотря на присутствие некоей дуалистичности в факте существования такого социального явления как субкультура, все же позволяет присвоить ему главное оценочное значение – сближение людей. Так или иначе, но жизнь наша устроена на аналогиях, упорядочивании и систематизации. Тот факт, что в обществе появилась потребность в объединении, говорит, несомненно, о том, что общество развивается и переживает новый эволюционный этап своего развития. Для того, чтобы социум шел по пути прогресса необходимо осознание каждым его членом значимости субкультур. Только через толерантность и взаимопонимание мы можем получить надежду на то, что перемены, сквозь которые проходит человечество, будут носить положительный характ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6" descr="f_112882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214200" y="1000080"/>
            <a:ext cx="850104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ледует различать группировки экстремистской направленности от неформальных молодёжных объедин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се неформальные подростково-молодёжные объединения, можно отнести к категории досуговых, то есть ориентированных, главным образом, на свободное времяпрепровожд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Экстремистские (радикальные) организации обычно декларируют, против чего они борются, и какие законные или незаконные методы они собираются использов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142920" y="0"/>
            <a:ext cx="87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кстремистские группиров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4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142920" y="785880"/>
            <a:ext cx="8501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ециалисты отмечаю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то наиболее уязвимой средой для проникновения идей экстремизма являются подрос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 ещё несформировавшейся и легко поддающейся влиянию психи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1"/>
          <p:cNvPicPr/>
          <p:nvPr/>
        </p:nvPicPr>
        <p:blipFill>
          <a:blip r:embed="rId2"/>
          <a:stretch/>
        </p:blipFill>
        <p:spPr>
          <a:xfrm>
            <a:off x="4000680" y="3071880"/>
            <a:ext cx="5143320" cy="36669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07" name="TextBox 6"/>
          <p:cNvSpPr/>
          <p:nvPr/>
        </p:nvSpPr>
        <p:spPr>
          <a:xfrm>
            <a:off x="1500120" y="0"/>
            <a:ext cx="635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зрастная опас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8" descr="18_04_6_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"/>
          <p:cNvSpPr/>
          <p:nvPr/>
        </p:nvSpPr>
        <p:spPr>
          <a:xfrm>
            <a:off x="4857840" y="785880"/>
            <a:ext cx="4286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ли «скины» состоят из разных группировок, например: «Бритоголовые неонацисты» — в эту неформальную организацию вовлекают взрослые, преимущественно имеющие криминальный опыт. Объектами их «внимания» являются подрос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основе движения лежит расовая теория фаш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97981"/>
          <p:cNvPicPr/>
          <p:nvPr/>
        </p:nvPicPr>
        <p:blipFill>
          <a:blip r:embed="rId2"/>
          <a:stretch/>
        </p:blipFill>
        <p:spPr>
          <a:xfrm>
            <a:off x="0" y="642960"/>
            <a:ext cx="4753080" cy="40863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7"/>
          <p:cNvSpPr/>
          <p:nvPr/>
        </p:nvSpPr>
        <p:spPr>
          <a:xfrm>
            <a:off x="1714680" y="0"/>
            <a:ext cx="528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кинхе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7" descr="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142920" y="214200"/>
            <a:ext cx="4857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еятельность скинхедов, носит ярко выраженный уголовный характер: хулиганство, вандализм, массовые беспорядки, умышленное причинение вреда здоровью и другие. Говоря о «правых скинхедах» можно отметить, что основными атрибутами их внешнего вида являются: бритая голова; тяжелая камуфляжная обувь, как правило, с белыми шнурка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Прямоугольник 5" descr=""/>
          <p:cNvPicPr/>
          <p:nvPr/>
        </p:nvPicPr>
        <p:blipFill>
          <a:blip r:embed="rId2"/>
          <a:stretch/>
        </p:blipFill>
        <p:spPr>
          <a:xfrm>
            <a:off x="3548160" y="-146160"/>
            <a:ext cx="5400720" cy="9320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6"/>
          <p:cNvSpPr/>
          <p:nvPr/>
        </p:nvSpPr>
        <p:spPr>
          <a:xfrm>
            <a:off x="4643280" y="714240"/>
            <a:ext cx="4357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соко подвернутые джинсы; куртка типа «бомбер», клетчатая рубашка. Среди атрибутов можно так же заметить значки, нашивки, татуировки и другие внешние элементы, содержащие фашистскую символику, кельтские кресты, национальный флаг, государственную символ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деи у них типично нацистские: «Россия – русским!», «Смерть евреям (неграм, китайцам, кавказцам…)!». Идеальным политическим деятелем для них является А. Гитл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8" descr="Скинхеды"/>
          <p:cNvPicPr/>
          <p:nvPr/>
        </p:nvPicPr>
        <p:blipFill>
          <a:blip r:embed="rId3"/>
          <a:stretch/>
        </p:blipFill>
        <p:spPr>
          <a:xfrm>
            <a:off x="0" y="3286080"/>
            <a:ext cx="4572000" cy="3571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7" descr="1211259166_liquidfile12805c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4357800" y="78588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ли «антифа» — ультралевое крыло скинхедов. Основными представителями являются: красные скинхеды (red skins). Возникли как реакция на появление фашистских и националистических неформальных молодежных организаций, как открытое противостояние любым формам фашизма и нац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Прямоугольник 5" descr=""/>
          <p:cNvPicPr/>
          <p:nvPr/>
        </p:nvPicPr>
        <p:blipFill>
          <a:blip r:embed="rId2"/>
          <a:stretch/>
        </p:blipFill>
        <p:spPr>
          <a:xfrm>
            <a:off x="3548160" y="-146160"/>
            <a:ext cx="5400720" cy="93204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0" y="0"/>
            <a:ext cx="4500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которые представители являются членами группировок футбольных хулиганов. Кроме расизма борются против сексизма (угнетения женщин), гомофобии (преследования секс-меньшинств). Внешние признаки схожи с атрибутами правых скинхедов. Основными отличиями являются наличие красных шнурков на ботинках и красных подтяжек на брюках, широко используется символика коммунистической партии СССР. Однако принципиального отличия от «правых скинхедов» при выражении своей принадлежности и «заявлении обществу о себе» это сообщество не име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7" descr="http://uvd73.ru/templates/images/625.jpg"/>
          <p:cNvPicPr/>
          <p:nvPr/>
        </p:nvPicPr>
        <p:blipFill>
          <a:blip r:embed="rId3"/>
          <a:stretch/>
        </p:blipFill>
        <p:spPr>
          <a:xfrm>
            <a:off x="5000760" y="3857760"/>
            <a:ext cx="3981240" cy="27144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8" descr="1212564390_xakep.lv_0377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3"/>
          <p:cNvSpPr/>
          <p:nvPr/>
        </p:nvSpPr>
        <p:spPr>
          <a:xfrm>
            <a:off x="4000680" y="642960"/>
            <a:ext cx="4929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 внешнему виду имеют абсолютное сходство со скинхедами. Им также присущи агрессивные стереотипы поведения, хотя в их действиях нет националистической подоплеки. Группировки фанатов отличаются иной идеологией: она основана на организации массовых драк с оппонентами недруже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0" y="642960"/>
            <a:ext cx="4500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футбольных клубов. На сегодняшний день субкультура футбольных хулиганов включает в себя не только посещение матчей, но и иные специфики: стиль одежды, музыкальные предпочтения, политическая ориентация и т. д. Фанаты активно взаимодействуют с националистическими и расистскими неформальными молодежными организациями. Принципиальным отличительным качеством их поведения является хулиганство, массовые беспорядки, вандализм, насильственные преступления, распространение наркотиков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9" descr="Фанаты"/>
          <p:cNvPicPr/>
          <p:nvPr/>
        </p:nvPicPr>
        <p:blipFill>
          <a:blip r:embed="rId2"/>
          <a:stretch/>
        </p:blipFill>
        <p:spPr>
          <a:xfrm>
            <a:off x="4500720" y="3429000"/>
            <a:ext cx="4429080" cy="32148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7"/>
          <p:cNvSpPr/>
          <p:nvPr/>
        </p:nvSpPr>
        <p:spPr>
          <a:xfrm>
            <a:off x="2214720" y="0"/>
            <a:ext cx="692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утбольные фан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4" descr="14_1803_besplatnye_kartinki_kljaksy_s_glazami_1366x768.jpg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642960" y="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то такие неформалы и почему они объединяютс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214200" y="1214280"/>
            <a:ext cx="8643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ждому из нас случалось идти по улице, ехать в метро или просто смотреть телевизор и видеть людей, которые чем-то непохожи на других. У кого-то на голове ирокез, кто-то весь в металле, а кто-то в черной коже проносится мимо вас на мотоцикле. Чаще всего это и есть неформалы – представители современных субкультур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7" descr="1285146984_graffiti-splatter-red-orange-yellow-green-blu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"/>
          <p:cNvSpPr/>
          <p:nvPr/>
        </p:nvSpPr>
        <p:spPr>
          <a:xfrm>
            <a:off x="4429080" y="785880"/>
            <a:ext cx="4500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Это разрозненные группы хулиганствующей молодежи, формирующиеся по месту жительства. Гопники — дворовые группы хулиганствующих подростков. Формируются, как правило, из числа молодых людей, склонных к противоправному поведению, стремящихся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Прямоугольник 5" descr=""/>
          <p:cNvPicPr/>
          <p:nvPr/>
        </p:nvPicPr>
        <p:blipFill>
          <a:blip r:embed="rId2"/>
          <a:stretch/>
        </p:blipFill>
        <p:spPr>
          <a:xfrm>
            <a:off x="2762280" y="-146160"/>
            <a:ext cx="5400720" cy="9320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142920" y="3643200"/>
            <a:ext cx="8858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амоутверждению и лидерству, используя при этом не интеллектуальные и организаторские способности, а методы угроз и насилия. Единожды вступивший в ряды группировщиков не может без негативных последствий выйти из них, так как в этой среде существует целый ряд правил, диктуемых взрослыми лидерами. В реальности же «защита» интересов подростков — лишь ширма, прикрывающая истинную сторону существования группировок: раздел сфер влияния, криминальный бизнес и использование подростков для силового разрешения своих конфли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7" descr="http://uvd73.ru/templates/images/627.jpg"/>
          <p:cNvPicPr/>
          <p:nvPr/>
        </p:nvPicPr>
        <p:blipFill>
          <a:blip r:embed="rId3"/>
          <a:stretch/>
        </p:blipFill>
        <p:spPr>
          <a:xfrm>
            <a:off x="0" y="714240"/>
            <a:ext cx="4286160" cy="29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Содержимое 3" descr="reWalls.com-26596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9152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4"/>
          <p:cNvSpPr/>
          <p:nvPr/>
        </p:nvSpPr>
        <p:spPr>
          <a:xfrm>
            <a:off x="285840" y="214200"/>
            <a:ext cx="407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ак ли страшен неформал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3571920" y="2643120"/>
            <a:ext cx="3000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ИЛ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4786200" y="56577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 страха глаза вели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53c3b66155ea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92883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TextBox 3" descr=""/>
          <p:cNvPicPr/>
          <p:nvPr/>
        </p:nvPicPr>
        <p:blipFill>
          <a:blip r:embed="rId1"/>
          <a:stretch/>
        </p:blipFill>
        <p:spPr>
          <a:xfrm>
            <a:off x="66600" y="706320"/>
            <a:ext cx="9077400" cy="687708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5" descr=""/>
          <p:cNvPicPr/>
          <p:nvPr/>
        </p:nvPicPr>
        <p:blipFill>
          <a:blip r:embed="rId2"/>
          <a:stretch/>
        </p:blipFill>
        <p:spPr>
          <a:xfrm>
            <a:off x="1835280" y="109440"/>
            <a:ext cx="539424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TextBox 3" descr=""/>
          <p:cNvPicPr/>
          <p:nvPr/>
        </p:nvPicPr>
        <p:blipFill>
          <a:blip r:embed="rId1"/>
          <a:stretch/>
        </p:blipFill>
        <p:spPr>
          <a:xfrm>
            <a:off x="66600" y="706320"/>
            <a:ext cx="9077400" cy="411012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5" descr=""/>
          <p:cNvPicPr/>
          <p:nvPr/>
        </p:nvPicPr>
        <p:blipFill>
          <a:blip r:embed="rId2"/>
          <a:stretch/>
        </p:blipFill>
        <p:spPr>
          <a:xfrm>
            <a:off x="1908000" y="42840"/>
            <a:ext cx="539460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424db7bd1e28.jpg"/>
          <p:cNvPicPr/>
          <p:nvPr/>
        </p:nvPicPr>
        <p:blipFill>
          <a:blip r:embed="rId1"/>
          <a:stretch/>
        </p:blipFill>
        <p:spPr>
          <a:xfrm>
            <a:off x="0" y="0"/>
            <a:ext cx="9123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857160" y="571680"/>
            <a:ext cx="5929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се молодежные объединения можно разделить на следующие группы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20851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285840" y="214200"/>
            <a:ext cx="87152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вязанные с музыкой, музыкальные фанаты, последователи культуры музыкальных стилей: рокеры, металлисты, панки, гот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эперы, транс- культура.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5" descr="57494289_1183156657_07.jpg"/>
          <p:cNvPicPr/>
          <p:nvPr/>
        </p:nvPicPr>
        <p:blipFill>
          <a:blip r:embed="rId2"/>
          <a:stretch/>
        </p:blipFill>
        <p:spPr>
          <a:xfrm>
            <a:off x="0" y="2000160"/>
            <a:ext cx="4429080" cy="3321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b01167350881.jpg"/>
          <p:cNvPicPr/>
          <p:nvPr/>
        </p:nvPicPr>
        <p:blipFill>
          <a:blip r:embed="rId3"/>
          <a:stretch/>
        </p:blipFill>
        <p:spPr>
          <a:xfrm>
            <a:off x="4786200" y="1928880"/>
            <a:ext cx="4357800" cy="47419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10289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4714920" y="2714760"/>
            <a:ext cx="442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тличающиеся определенным мировоззрением и образом жизни: готы, хиппи, индианисты, панки, растама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5" descr="190-1.jpg"/>
          <p:cNvPicPr/>
          <p:nvPr/>
        </p:nvPicPr>
        <p:blipFill>
          <a:blip r:embed="rId2"/>
          <a:stretch/>
        </p:blipFill>
        <p:spPr>
          <a:xfrm>
            <a:off x="1785960" y="3500280"/>
            <a:ext cx="2071800" cy="31384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6" descr="1739.jpg"/>
          <p:cNvPicPr/>
          <p:nvPr/>
        </p:nvPicPr>
        <p:blipFill>
          <a:blip r:embed="rId3"/>
          <a:stretch/>
        </p:blipFill>
        <p:spPr>
          <a:xfrm>
            <a:off x="3214800" y="285840"/>
            <a:ext cx="3396960" cy="24289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7" descr="19120.jpg"/>
          <p:cNvPicPr/>
          <p:nvPr/>
        </p:nvPicPr>
        <p:blipFill>
          <a:blip r:embed="rId4"/>
          <a:stretch/>
        </p:blipFill>
        <p:spPr>
          <a:xfrm>
            <a:off x="0" y="0"/>
            <a:ext cx="3000240" cy="30002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8" descr="Pink Scene Hair Style.jpg"/>
          <p:cNvPicPr/>
          <p:nvPr/>
        </p:nvPicPr>
        <p:blipFill>
          <a:blip r:embed="rId5"/>
          <a:stretch/>
        </p:blipFill>
        <p:spPr>
          <a:xfrm>
            <a:off x="7054920" y="0"/>
            <a:ext cx="2089080" cy="27860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18_04_6_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2500200" y="428760"/>
            <a:ext cx="6143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язанные со спортом: спортивные фанаты, роллеры, скейтеры, стрит – байкеры, байкеры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6" descr="690178c6a5172a320599f0f114df7d16.jpg"/>
          <p:cNvPicPr/>
          <p:nvPr/>
        </p:nvPicPr>
        <p:blipFill>
          <a:blip r:embed="rId2"/>
          <a:stretch/>
        </p:blipFill>
        <p:spPr>
          <a:xfrm>
            <a:off x="0" y="2928960"/>
            <a:ext cx="4000680" cy="26654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picture_37.jpeg"/>
          <p:cNvPicPr/>
          <p:nvPr/>
        </p:nvPicPr>
        <p:blipFill>
          <a:blip r:embed="rId3"/>
          <a:stretch/>
        </p:blipFill>
        <p:spPr>
          <a:xfrm>
            <a:off x="4000680" y="3786120"/>
            <a:ext cx="3082680" cy="26323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9" descr="1st-22-china-costarica-chinese-fan.jpg"/>
          <p:cNvPicPr/>
          <p:nvPr/>
        </p:nvPicPr>
        <p:blipFill>
          <a:blip r:embed="rId4"/>
          <a:stretch/>
        </p:blipFill>
        <p:spPr>
          <a:xfrm>
            <a:off x="6993000" y="2428920"/>
            <a:ext cx="2151000" cy="3214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3d_788-cro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642960" y="642960"/>
            <a:ext cx="7715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вязанные с играми, уходом в другую реальность: ролевики, толкиенисты, гейм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7" descr="r031.jpg"/>
          <p:cNvPicPr/>
          <p:nvPr/>
        </p:nvPicPr>
        <p:blipFill>
          <a:blip r:embed="rId2"/>
          <a:stretch/>
        </p:blipFill>
        <p:spPr>
          <a:xfrm>
            <a:off x="4381560" y="32860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i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500040" y="500040"/>
            <a:ext cx="8429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раждебно или асоциально настроенные группы: панки, скинхэды, РНЕ, гопники, люберы, нацисты, периодически: футбольные фанаты и металлисты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6" descr="gop.jpg"/>
          <p:cNvPicPr/>
          <p:nvPr/>
        </p:nvPicPr>
        <p:blipFill>
          <a:blip r:embed="rId2"/>
          <a:stretch/>
        </p:blipFill>
        <p:spPr>
          <a:xfrm>
            <a:off x="142920" y="3714840"/>
            <a:ext cx="4000320" cy="40003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8" descr="IMG_2005-10-05-001.jpg"/>
          <p:cNvPicPr/>
          <p:nvPr/>
        </p:nvPicPr>
        <p:blipFill>
          <a:blip r:embed="rId3"/>
          <a:stretch/>
        </p:blipFill>
        <p:spPr>
          <a:xfrm>
            <a:off x="4376880" y="3786120"/>
            <a:ext cx="4767120" cy="3071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Содержимое 3" descr="1212564390_xakep.lv_0377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857160" y="428760"/>
            <a:ext cx="771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руппы современного искусства: графиттеры, брейк-дансеры, просовременные художники, скульпторы, музыкальные группы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6" descr="graf_b2.jpg"/>
          <p:cNvPicPr/>
          <p:nvPr/>
        </p:nvPicPr>
        <p:blipFill>
          <a:blip r:embed="rId2"/>
          <a:stretch/>
        </p:blipFill>
        <p:spPr>
          <a:xfrm>
            <a:off x="3459240" y="3929040"/>
            <a:ext cx="5684760" cy="2928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6:25:05Z</dcterms:created>
  <dc:creator>Пользователь</dc:creator>
  <dc:description/>
  <dc:language>en-US</dc:language>
  <cp:lastModifiedBy>Пользователь</cp:lastModifiedBy>
  <dcterms:modified xsi:type="dcterms:W3CDTF">2012-09-14T10:36:22Z</dcterms:modified>
  <cp:revision>30</cp:revision>
  <dc:subject/>
  <dc:title>Слайд 1</dc:title>
</cp:coreProperties>
</file>