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53F-8756-45E1-95D4-92F8EA61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B413-B451-4988-B7FB-0AE62136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184-9C06-4218-8B13-87C74BD9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E65-E8EF-419E-B8D6-311E5958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6664-AF5E-47E1-9859-98F2F22D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AAA9-C247-4A7B-849D-65073E0C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0172-182D-4664-9683-4C73818A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BAA8-33F1-47A0-856F-72AADCEC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8FCD-6373-49B7-A285-DF5A6495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0F60-90A1-40B6-9B9E-8EDB6B36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2BED-9CD3-4FDB-80EF-507A0F58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52D-E3E0-4968-B87B-8AAA23FE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D44F-A7DA-4076-ADFA-BB06EBE9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3298-4DD3-4FCC-BEFF-20B24266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EB1D-517D-4FA4-BD84-FB85DE28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91FE-D0A2-4980-B191-E5D9D79A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D182-85E3-410F-A5B7-F6A55081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823F8-BA69-4EF2-B24E-01EED61B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50C11-3C75-461F-BDB9-C7E536B2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0967B-AB40-4C7D-B5CD-DEA8E0B8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F0F7A-07F9-41BF-8C86-90113B6F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A7C79-77EA-4DA2-862C-AFC60C3E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6E6-FA02-4E82-8114-05623BFA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D6132-03DD-4A87-9122-09D22917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0EE73-3697-4CD6-BAC6-94D743D1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024CE-64DE-4EC6-A9AD-27BB3FF9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95D7E-658D-4330-923A-E153D23F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28679-CEA7-4D34-AAC8-A2498980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59AEC-9A71-4C2F-B4C8-DAE0473E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16191-3E2F-4F15-B87E-51F2B890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C5C09-CEEE-44BF-BADA-F3BD3F5B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2DF15-A9FA-483D-85E7-77E99DDC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E63C3-9681-4D63-BA8A-50550AFB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962-EA8B-4AEC-BE82-1313C015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57394-6D43-4F4C-9493-8D3968F1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0D7E3-A604-42D0-B7F3-984519C8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92AB7-6D62-4643-917B-9D974D00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B9A2B-CC8E-4AED-91E1-D7E0235D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B586E-FF50-4F07-B647-0C041578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3F09C-68B7-4235-B9E4-B8428916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783E3-095F-4AF0-B92A-53333EC9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05E9A-844F-437E-B303-B908B975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52526-76C9-4311-AD13-F6529D41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8A73-C85A-45DC-8257-2D8A48D4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7B4-BB51-46D1-8453-0CFE8EBE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E81-6181-4F21-9C33-A8B906DF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8B45-CB07-496A-B08E-CD577464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AB18-30BE-4708-9BD2-4CEA07BC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CFC5-1AD1-4AC4-AFCB-511BBE2DE9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8459-AFDA-45B3-BC5E-332B222E68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3616-EF4F-49C5-A705-26E9F9BAC9A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E3D8-CFB3-4A90-807C-2C2C7C2488B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9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46040" y="999720"/>
            <a:ext cx="64058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Урок-обобщение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47840" y="4168800"/>
            <a:ext cx="39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2920" y="3933720"/>
            <a:ext cx="7921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«Путешествие в страну Фонетика»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316720" cy="28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ие звуки образуются только с помощью голоса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68421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mic Sans MS"/>
              </a:rPr>
              <a:t>С помощью голоса образуются гласные звуки.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71640" y="3141720"/>
            <a:ext cx="694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omic Sans MS"/>
              </a:rPr>
              <a:t>Когда буквы </a:t>
            </a:r>
            <a:r>
              <a:rPr b="0" i="1" lang="ru-RU" sz="5000" spc="-1" strike="noStrike">
                <a:solidFill>
                  <a:srgbClr val="000000"/>
                </a:solidFill>
                <a:latin typeface="Comic Sans MS"/>
              </a:rPr>
              <a:t>е,ё,ю,я</a:t>
            </a:r>
            <a:r>
              <a:rPr b="0" lang="ru-RU" sz="5000" spc="-1" strike="noStrike">
                <a:solidFill>
                  <a:srgbClr val="000000"/>
                </a:solidFill>
                <a:latin typeface="Comic Sans MS"/>
              </a:rPr>
              <a:t> обозначают сочетание двух звуков?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0000" y="1699920"/>
            <a:ext cx="6870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omic Sans MS"/>
              </a:rPr>
              <a:t>Буквы </a:t>
            </a:r>
            <a:r>
              <a:rPr b="0" i="1" lang="ru-RU" sz="4600" spc="-1" strike="noStrike">
                <a:solidFill>
                  <a:srgbClr val="000000"/>
                </a:solidFill>
                <a:latin typeface="Comic Sans MS"/>
              </a:rPr>
              <a:t>е,ё,ю,я</a:t>
            </a:r>
            <a:r>
              <a:rPr b="0" lang="ru-RU" sz="4600" spc="-1" strike="noStrike">
                <a:solidFill>
                  <a:srgbClr val="000000"/>
                </a:solidFill>
                <a:latin typeface="Comic Sans MS"/>
              </a:rPr>
              <a:t> обозначают сочетание двух звуков: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) в начале слова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б) после гласной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в) после разделительных ъ и ь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2707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Какой звук всегда мягкий и звонкий?</a:t>
            </a:r>
            <a:endParaRPr b="0" lang="en-US" sz="5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68709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pperplate Gothic Light"/>
              </a:rPr>
              <a:t>[J]</a:t>
            </a:r>
            <a:r>
              <a:rPr b="0" lang="ru-RU" sz="7200" spc="-1" strike="noStrike">
                <a:solidFill>
                  <a:srgbClr val="000000"/>
                </a:solidFill>
                <a:latin typeface="Copperplate Gothic Light"/>
              </a:rPr>
              <a:t> – всегда звонкий и мягкий.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7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7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7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42560" y="3284280"/>
            <a:ext cx="6870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mic Sans MS"/>
              </a:rPr>
              <a:t>Что значит сделать фонетический разбор слова?</a:t>
            </a:r>
            <a:endParaRPr b="0" lang="en-US" sz="5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6799320" cy="29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онетический разбор – это звуко – буквенный анализ слова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58560" y="2707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 каких междометиях надо переставить звуки местами, чтобы они перестали жаловаться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2852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 междометиях ах – ох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олучатся слова ха – хо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4101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Систематизировать знания о фонетике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Закрепить навыки звукового значения букв в разных фонетических позициях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Вспомнить предмет изучения графики и каллиграфии, познакомить с историей алфавита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Продолжить знакомство с предметом изучения орфоэпии, с основными произносительными нормами и их отражением в орфоэпических словарях; формировать навык правильного произношения слов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87280" y="2565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я в школе на стене,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Горы, реки есть на мн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-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от вас не утаю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оже в школе я стою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870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en-US" sz="9600" spc="-1" strike="noStrike">
                <a:solidFill>
                  <a:srgbClr val="ffb800"/>
                </a:solidFill>
                <a:latin typeface="Comic Sans MS"/>
              </a:rPr>
              <a:t>арта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0" lang="en-US" sz="9600" spc="-1" strike="noStrike">
                <a:solidFill>
                  <a:srgbClr val="ffb800"/>
                </a:solidFill>
                <a:latin typeface="Comic Sans MS"/>
              </a:rPr>
              <a:t>арта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58560" y="2707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 каком слове достаточно заменить один звук, чтобы животное с длинными ушами превратилось в хищную птицу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2204640"/>
            <a:ext cx="6870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b800"/>
                </a:solidFill>
                <a:latin typeface="Comic Sans MS"/>
              </a:rPr>
              <a:t>О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lang="en-US" sz="9600" spc="-1" strike="noStrike">
                <a:solidFill>
                  <a:srgbClr val="ffb800"/>
                </a:solidFill>
                <a:latin typeface="Comic Sans MS"/>
              </a:rPr>
              <a:t>ЁЛ О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en-US" sz="9600" spc="-1" strike="noStrike">
                <a:solidFill>
                  <a:srgbClr val="ffb800"/>
                </a:solidFill>
                <a:latin typeface="Comic Sans MS"/>
              </a:rPr>
              <a:t>ЁЛ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280" y="4005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 тех пор, как люди изобрели письмо, они старались усовершенствовать его в двух направлениях: научиться писать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о-первых, красивее и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о- вторых, быстре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42560" y="2060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Как называется искусство красивого письма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870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Каллиграфия – искусство красивого письма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674720" y="0"/>
            <a:ext cx="59929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9640" y="1628640"/>
            <a:ext cx="80647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703dff">
                    <a:alpha val="73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Станция </a:t>
            </a:r>
            <a:endParaRPr b="0" i="1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703dff">
                  <a:alpha val="73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703dff">
                    <a:alpha val="73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"Хочу все знать"</a:t>
            </a:r>
            <a:endParaRPr b="0" i="1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703dff">
                  <a:alpha val="73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50920" y="1052640"/>
            <a:ext cx="842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ffb8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Станция </a:t>
            </a:r>
            <a:endParaRPr b="0" lang="en-US" sz="1800" spc="1" strike="noStrike">
              <a:ln w="9360">
                <a:solidFill>
                  <a:srgbClr val="703dff"/>
                </a:solidFill>
                <a:miter/>
              </a:ln>
              <a:solidFill>
                <a:srgbClr val="ffb8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ffb8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"Практическая"</a:t>
            </a:r>
            <a:endParaRPr b="0" lang="en-US" sz="1800" spc="1" strike="noStrike">
              <a:ln w="9360">
                <a:solidFill>
                  <a:srgbClr val="703dff"/>
                </a:solidFill>
                <a:miter/>
              </a:ln>
              <a:solidFill>
                <a:srgbClr val="ffb8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535640" cy="5111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124000" y="57340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.Э. Грабарь «Февральская лазур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24000" y="1015920"/>
            <a:ext cx="78483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755640" y="2708280"/>
            <a:ext cx="741672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2989">
                    <a:alpha val="73000"/>
                  </a:srgbClr>
                </a:solidFill>
                <a:latin typeface="Times New Roman"/>
              </a:rPr>
              <a:t>Проверь себ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e2989">
                  <a:alpha val="73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 вариан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б) яма, точка, дело, тень, чаща, грач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г) 6б., 6зв.,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в) мед-ве-жья, объ-яв-ля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а) кают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ясны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вьюг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) боец;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250"/>
                            </p:stCondLst>
                            <p:childTnLst>
                              <p:par>
                                <p:cTn id="3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575"/>
                            </p:stCondLst>
                            <p:childTnLst>
                              <p:par>
                                <p:cTn id="363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575"/>
                            </p:stCondLst>
                            <p:childTnLst>
                              <p:par>
                                <p:cTn id="3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575"/>
                            </p:stCondLst>
                            <p:childTnLst>
                              <p:par>
                                <p:cTn id="3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вариан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а) лод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) друг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) что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5640" y="378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2. а) б-бэ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б) в-вэ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) г-гэ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) л-лэ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) м-мэ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ж) н-нэ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) п-пэ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) р-р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619280" y="270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б) жир, каша, цирк, ш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в) 6б., 5з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2989"/>
                </a:solidFill>
                <a:latin typeface="Comic Sans MS"/>
              </a:rPr>
              <a:t>Расселите звуки по этажа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68360" y="2003400"/>
            <a:ext cx="79912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68360" y="1484280"/>
            <a:ext cx="806436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703d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Станция </a:t>
            </a:r>
            <a:endParaRPr b="0" i="1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703d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703d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«Орфоэпическая»</a:t>
            </a:r>
            <a:endParaRPr b="0" i="1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703d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амятка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281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амятка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8064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4680000" cy="4824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76720" y="5516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А.А. Пластов «Лето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амятка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63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амятка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777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403280" y="2421000"/>
            <a:ext cx="604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703dff"/>
                  </a:solidFill>
                  <a:miter/>
                </a:ln>
                <a:solidFill>
                  <a:srgbClr val="ffb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Проверь себя!</a:t>
            </a:r>
            <a:endParaRPr b="0" lang="en-US" sz="1800" spc="1" strike="noStrike">
              <a:ln w="19080">
                <a:solidFill>
                  <a:srgbClr val="703dff"/>
                </a:solidFill>
                <a:miter/>
              </a:ln>
              <a:solidFill>
                <a:srgbClr val="ffb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87280" y="249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2268360" y="404640"/>
            <a:ext cx="458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рфоэпиче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00000" y="170028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Алфавит, звонит, агентство, обеспечение, метафора, баловать, километр, свекла, столяр,  хозяева, щавель, ржаветь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торты, красиве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4360" y="206028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лфав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, звон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, аг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тство, обесп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чение, мет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фора, балов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ь, килом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р, св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Ё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ла, стол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Я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, хоз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Я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ва, щав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ль, рж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еть, т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ты, крас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е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539640" y="1268280"/>
            <a:ext cx="8136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703d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Станция </a:t>
            </a:r>
            <a:endParaRPr b="0" i="1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703d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703d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"Орфографическая"</a:t>
            </a:r>
            <a:endParaRPr b="0" i="1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703d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нтерактивный диктан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898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о, то заглядывать (в) сл..варь полез..но, знают все.(В) сл..варях об..ясняют..ся и пр..стые, и очень мудрые сл..ва. Загл..нув (в) сл..варь "Юному книг..любу", ты вряд ли (не) досмотриш.. его до конца. Здесь поч..ти всякое об..яснение превраща..т..ся (в) любопытную историю. Будто чита..ш.. не сл..варь, а ска..ки, и (у) каждой ска..ки свой особый смысл, иногда з..гадоч..ны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900000" y="981000"/>
            <a:ext cx="7559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dff"/>
                  </a:solidFill>
                  <a:miter/>
                </a:ln>
                <a:gradFill rotWithShape="0">
                  <a:gsLst>
                    <a:gs pos="0">
                      <a:srgbClr val="00b200"/>
                    </a:gs>
                    <a:gs pos="100000">
                      <a:srgbClr val="703dff"/>
                    </a:gs>
                  </a:gsLst>
                  <a:lin ang="5400000"/>
                </a:gradFill>
                <a:latin typeface="Comic Sans MS"/>
              </a:rPr>
              <a:t>Домашнее задание:</a:t>
            </a:r>
            <a:endParaRPr b="0" lang="en-US" sz="1800" spc="1" strike="noStrike">
              <a:ln w="9360">
                <a:solidFill>
                  <a:srgbClr val="703dff"/>
                </a:solidFill>
                <a:miter/>
              </a:ln>
              <a:gradFill rotWithShape="0">
                <a:gsLst>
                  <a:gs pos="0">
                    <a:srgbClr val="00b200"/>
                  </a:gs>
                  <a:gs pos="100000">
                    <a:srgbClr val="703dff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dff"/>
                  </a:solidFill>
                  <a:miter/>
                </a:ln>
                <a:gradFill rotWithShape="0">
                  <a:gsLst>
                    <a:gs pos="0">
                      <a:srgbClr val="00b200"/>
                    </a:gs>
                    <a:gs pos="100000">
                      <a:srgbClr val="703dff"/>
                    </a:gs>
                  </a:gsLst>
                  <a:lin ang="5400000"/>
                </a:grad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703dff"/>
                  </a:solidFill>
                  <a:miter/>
                </a:ln>
                <a:gradFill rotWithShape="0">
                  <a:gsLst>
                    <a:gs pos="0">
                      <a:srgbClr val="00b200"/>
                    </a:gs>
                    <a:gs pos="100000">
                      <a:srgbClr val="703dff"/>
                    </a:gs>
                  </a:gsLst>
                  <a:lin ang="5400000"/>
                </a:gradFill>
                <a:latin typeface="Comic Sans MS"/>
              </a:rPr>
              <a:t>составить кросворды по теме.</a:t>
            </a:r>
            <a:endParaRPr b="0" lang="en-US" sz="1800" spc="1" strike="noStrike">
              <a:ln w="9360">
                <a:solidFill>
                  <a:srgbClr val="703dff"/>
                </a:solidFill>
                <a:miter/>
              </a:ln>
              <a:gradFill rotWithShape="0">
                <a:gsLst>
                  <a:gs pos="0">
                    <a:srgbClr val="00b200"/>
                  </a:gs>
                  <a:gs pos="100000">
                    <a:srgbClr val="703d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5476680" cy="4392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700360" y="5300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С.В.Герасимов «Лёд прошё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5853240" cy="41767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916360" y="5157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.И. Шишкин «Рож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50920" y="836640"/>
            <a:ext cx="806436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703dff"/>
                  </a:solidFill>
                  <a:miter/>
                </a:ln>
                <a:solidFill>
                  <a:srgbClr val="ffb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Станция</a:t>
            </a:r>
            <a:endParaRPr b="0" lang="en-US" sz="1800" spc="1" strike="noStrike">
              <a:ln w="19080">
                <a:solidFill>
                  <a:srgbClr val="703dff"/>
                </a:solidFill>
                <a:miter/>
              </a:ln>
              <a:solidFill>
                <a:srgbClr val="ffb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703dff"/>
                  </a:solidFill>
                  <a:miter/>
                </a:ln>
                <a:solidFill>
                  <a:srgbClr val="ffb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«Теоретическая»</a:t>
            </a:r>
            <a:endParaRPr b="0" lang="en-US" sz="1800" spc="1" strike="noStrike">
              <a:ln w="19080">
                <a:solidFill>
                  <a:srgbClr val="703dff"/>
                </a:solidFill>
                <a:miter/>
              </a:ln>
              <a:solidFill>
                <a:srgbClr val="ffb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4920" y="2636640"/>
            <a:ext cx="82789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Что изучает фонетика?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137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онетика- это раздел науки о языке, в котором изучаются звуки реч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2:59:42Z</dcterms:created>
  <dc:creator>Ленусик</dc:creator>
  <dc:description/>
  <dc:language>en-US</dc:language>
  <cp:lastModifiedBy>User</cp:lastModifiedBy>
  <dcterms:modified xsi:type="dcterms:W3CDTF">2011-03-04T18:22:11Z</dcterms:modified>
  <cp:revision>12</cp:revision>
  <dc:subject/>
  <dc:title>Урок-обобщение</dc:title>
</cp:coreProperties>
</file>