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232-8942-453B-A75F-21F40D51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EB6-904D-470F-9C78-E81B7FC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BB9-9DCA-4AF5-A399-A3D3F955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1E8-85DA-4C12-8400-F9D0106D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D5FE-C384-4CE2-AE5C-E53FB5E1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BADC-569C-45F8-8EDF-E7EF4C07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2262-30CF-431A-BAA1-B73B5FE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B88-57BA-42A6-B39C-DAF79F67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BB3E-6A0D-41FE-A859-6B303B9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F71-5BE9-4063-9C95-758ED4B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7A3-2A6F-4CD3-B8E5-847E069D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FA4-432E-46CA-B96F-7D2BC875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107E-E9B8-47AF-A550-E763311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E23-B3C9-4346-A000-BA5D7E8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36A7-F8D0-40AF-8DC7-B0E0C6F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590-3A4A-4C53-AA1B-B3C37D04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DD76-BC34-4A31-BCD4-576B825B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2E1A-44DE-46C5-9020-7A85A589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1710-D1AA-48AF-8AD3-984C0B3B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BF5A-053C-44B3-9F58-8727B708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7404-24F5-479C-A872-DC65A63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01EF-F742-43E5-A66D-FF6AC3D1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ACF-AC1F-441C-9136-A3D9FCA0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972B-BCC7-4C8F-8CC5-0BCEA2A2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E9A0-F412-44F6-A269-210D16B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15DFB-35C3-45FB-B817-13805E3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DC09-2394-4A9B-B2D8-55631A54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A943-7B93-4C10-92E9-51FF746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8526-92BC-4CA4-9545-11744EE0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CFFE-4295-46F6-B84B-2640879D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FB32-07F2-4266-81BD-C5C47AC9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7D0F-96A9-42DA-BA85-19F2879E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FD25-5EC8-48B3-B48C-4313DF58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1A6-AF8B-4BCA-BC9C-1EF7D38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5FC9-C0CD-45D5-963F-71903D6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4807-8FFE-44CD-B245-4E7E16CE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FFDD-0FD4-40BB-827D-AFED869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5019-0F94-460D-AFE3-2E9E44C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18FC-175C-492C-B057-9AD47259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2142-18F4-4134-ADA3-2321915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C15E-0DCF-40BF-9920-2C696183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FAFE-5FC9-4CCC-8C93-16C94843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59EC-F695-4A25-A2C3-0EF13FBA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21C-2CF1-487F-9447-07971F6A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F13-727C-42EF-B287-55F0B90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02E-49C0-4C3E-8193-9C29DC4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448-E5DE-4D03-BE4E-03024141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A6C-85DC-405A-BFD0-2C06C81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0418-F4BC-494B-93FB-C536F1D4F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1B2-E9F7-4086-85D1-C1136AF2C2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7B9-A7E1-4728-B3DE-119CAB22A2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02D4-91C4-4A83-8624-816E80C0AF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040" y="999720"/>
            <a:ext cx="64058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Урок-обобщение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47840" y="41688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3933720"/>
            <a:ext cx="792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«Путешествие в страну Фонетика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31672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ие звуки образуются только с помощью голос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68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mic Sans MS"/>
              </a:rPr>
              <a:t>С помощью голоса образуются гласные звуки.</a:t>
            </a:r>
            <a:endParaRPr b="0" lang="en-US" sz="4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640" y="3141720"/>
            <a:ext cx="694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Когда буквы </a:t>
            </a:r>
            <a:r>
              <a:rPr b="0" i="1" lang="ru-RU" sz="5000" spc="-1" strike="noStrike">
                <a:solidFill>
                  <a:srgbClr val="000000"/>
                </a:solidFill>
                <a:latin typeface="Comic Sans MS"/>
              </a:rPr>
              <a:t>е,ё,ю,я</a:t>
            </a:r>
            <a:r>
              <a:rPr b="0" lang="ru-RU" sz="5000" spc="-1" strike="noStrike">
                <a:solidFill>
                  <a:srgbClr val="000000"/>
                </a:solidFill>
                <a:latin typeface="Comic Sans MS"/>
              </a:rPr>
              <a:t> обозначают сочетание двух звуков?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6870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Буквы </a:t>
            </a:r>
            <a:r>
              <a:rPr b="0" i="1" lang="ru-RU" sz="4600" spc="-1" strike="noStrike">
                <a:solidFill>
                  <a:srgbClr val="000000"/>
                </a:solidFill>
                <a:latin typeface="Comic Sans MS"/>
              </a:rPr>
              <a:t>е,ё,ю,я</a:t>
            </a: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 обозначают сочетание двух звуков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в начале слова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после гласной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в) после разделительных ъ и ь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Какой звук всегда мягкий и звонкий?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68709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pperplate Gothic Light"/>
              </a:rPr>
              <a:t>[J]</a:t>
            </a:r>
            <a:r>
              <a:rPr b="0" lang="ru-RU" sz="7200" spc="-1" strike="noStrike">
                <a:solidFill>
                  <a:srgbClr val="000000"/>
                </a:solidFill>
                <a:latin typeface="Copperplate Gothic Light"/>
              </a:rPr>
              <a:t> – всегда звонкий и мягкий.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7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328428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 Sans MS"/>
              </a:rPr>
              <a:t>Что значит сделать фонетический разбор слова?</a:t>
            </a:r>
            <a:endParaRPr b="0" lang="en-US" sz="5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679932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ческий разбор – это звуко – буквенный анализ слов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каких междометиях надо переставить звуки местами, чтобы они перестали жаловатьс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2852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междометиях ах – ох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лучатся слова ха – хо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4101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Систематизировать знания о фонетике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Закрепить навыки звукового значения букв в разных фонетических позициях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Вспомнить предмет изучения графики и каллиграфии, познакомить с историей алфавита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Продолжить знакомство с предметом изучения орфоэпии, с основными произносительными нормами и их отражением в орфоэпических словарях; формировать навык правильного произношения слов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я в школе на стене,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Горы, реки есть на мн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от вас не утаю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оже в школе я сто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арта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арт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270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каком слове достаточно заменить один звук, чтобы животное с длинными ушами превратилось в хищную птиц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870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О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ЁЛ О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9600" spc="-1" strike="noStrike">
                <a:solidFill>
                  <a:srgbClr val="ffb800"/>
                </a:solidFill>
                <a:latin typeface="Comic Sans MS"/>
              </a:rPr>
              <a:t>Ё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280" y="400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 тех пор, как люди изобрели письмо, они старались усовершенствовать его в двух направлениях: научиться писать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-первых, красивее 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- вторых, быстре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ак называется искусство красивого письм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8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Каллиграфия – искусство красивого письма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74720" y="0"/>
            <a:ext cx="5992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9640" y="1628640"/>
            <a:ext cx="8064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>
                    <a:alpha val="73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>
                  <a:alpha val="73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>
                    <a:alpha val="73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Хочу все знать"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>
                  <a:alpha val="73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920" y="1052640"/>
            <a:ext cx="84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Практическая"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535640" cy="5111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24000" y="5734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.Э. Грабарь «Февральская лазур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7848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55640" y="2708280"/>
            <a:ext cx="741672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e2989">
                    <a:alpha val="73000"/>
                  </a:srgbClr>
                </a:solidFill>
                <a:latin typeface="Times New Roman"/>
              </a:rPr>
              <a:t>Проверь себ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e2989">
                  <a:alpha val="73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б) яма, точка, дело, тень, чаща, грач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г) 6б., 6зв.,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) мед-ве-жья, объ-яв-ля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а) кают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ясны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ьюг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) боец;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5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75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575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75"/>
                            </p:stCondLst>
                            <p:childTnLst>
                              <p:par>
                                <p:cTn id="3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а) лод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друг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) чт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378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. а) б-б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) в-в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г-г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) л-л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) м-м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ж) н-н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) п-пэ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) р-р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619280" y="270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б) жир, каша, цирк, ш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в) 6б., 5з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2989"/>
                </a:solidFill>
                <a:latin typeface="Comic Sans MS"/>
              </a:rPr>
              <a:t>Расселите звуки по этажа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68360" y="2003400"/>
            <a:ext cx="7991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8360" y="1484280"/>
            <a:ext cx="8064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«Орфоэпическая»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281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8064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76720" y="551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А.А. Пластов «Лето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амятка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777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403280" y="2421000"/>
            <a:ext cx="60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роверь себя!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268360" y="404640"/>
            <a:ext cx="458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рфоэп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17002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лфавит, звонит, агентство, обеспечение, метафора, баловать, километр, свекла, столяр,  хозяева, щавель, ржаветь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торты, красиве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лфа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, звон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, аг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тство, обесп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ение, ме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фора, бало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ь, килом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р, с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Ё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ла, стол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, хоз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ва, щав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ль, рж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ть, т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ты, кра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39640" y="1268280"/>
            <a:ext cx="8136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Станция 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703d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"Орфографическая"</a:t>
            </a:r>
            <a:endParaRPr b="0" i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703d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активный дикт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, то заглядывать (в) сл..варь полез..но, знают все.(В) сл..варях об..ясняют..ся и пр..стые, и очень мудрые сл..ва. Загл..нув (в) сл..варь "Юному книг..любу", ты вряд ли (не) досмотриш.. его до конца. Здесь поч..ти всякое об..яснение превраща..т..ся (в) любопытную историю. Будто чита..ш.. не сл..варь, а ска..ки, и (у) каждой ска..ки свой особый смысл, иногда з..гадоч..ны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00000" y="981000"/>
            <a:ext cx="7559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Домашнее задание: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00b200"/>
                  </a:gs>
                  <a:gs pos="100000">
                    <a:srgbClr val="703d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00b200"/>
                    </a:gs>
                    <a:gs pos="100000">
                      <a:srgbClr val="703dff"/>
                    </a:gs>
                  </a:gsLst>
                  <a:lin ang="5400000"/>
                </a:gradFill>
                <a:latin typeface="Comic Sans MS"/>
              </a:rPr>
              <a:t>составить кросворды по теме.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00b200"/>
                  </a:gs>
                  <a:gs pos="100000">
                    <a:srgbClr val="703d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476680" cy="4392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0360" y="5300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С.В.Герасимов «Лёд прошё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5853240" cy="4176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916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.И. Шишкин «Рож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920" y="836640"/>
            <a:ext cx="8064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Станция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b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«Теоретическая»</a:t>
            </a:r>
            <a:endParaRPr b="0" lang="en-US" sz="1800" spc="1" strike="noStrike">
              <a:ln w="19080">
                <a:solidFill>
                  <a:srgbClr val="703dff"/>
                </a:solidFill>
                <a:miter/>
              </a:ln>
              <a:solidFill>
                <a:srgbClr val="ffb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2636640"/>
            <a:ext cx="8278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Что изучает фонетика?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онетика- это раздел науки о языке, в котором изучаются звуки реч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59:42Z</dcterms:created>
  <dc:creator>Ленусик</dc:creator>
  <dc:description/>
  <dc:language>en-US</dc:language>
  <cp:lastModifiedBy>User</cp:lastModifiedBy>
  <dcterms:modified xsi:type="dcterms:W3CDTF">2011-03-04T18:22:11Z</dcterms:modified>
  <cp:revision>12</cp:revision>
  <dc:subject/>
  <dc:title>Урок-обобщение</dc:title>
</cp:coreProperties>
</file>