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E44ED-69C1-4036-AB1A-BD64624B6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384960" cy="22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6072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1F9F4-03DA-4CEE-BC67-8B901F719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384960" cy="22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6320" y="160488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072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6320" y="396072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AA68D-86AB-44EB-A61F-AF7487E54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384960" cy="22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4240" y="160488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11640" y="160488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6072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4240" y="396072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11640" y="396072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62C6F-D22B-43E8-B9F1-ECCAE80FF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2FBB6-9362-4781-B0CB-E2721D1D1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384960" cy="22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BFCA3-234E-46B2-A0FF-8E7342B4C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384960" cy="22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B3CA7-777F-47D0-9051-544712478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384960" cy="22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66320" y="160488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AF838-91E0-4354-B13D-E2F6994A2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384960" cy="22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DA0A8-D326-4C4A-BD2C-ED00CFE76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1371600" y="1510920"/>
            <a:ext cx="6384960" cy="1046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34F77-8946-4E47-96A7-2EE51219A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384960" cy="22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6320" y="160488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6072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A5384-A395-4979-BA55-202752597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384960" cy="22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D6BE7-B70C-4105-9F2F-081F7A001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384960" cy="22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6320" y="160488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66320" y="396072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2DC87-7676-4D50-876F-AD9822504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384960" cy="22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6320" y="160488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072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666BF-B13B-4054-920C-6986738BD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384960" cy="22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96072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7EA39-BCDA-48D4-BA45-10B7FBB47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384960" cy="22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66320" y="160488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072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66320" y="396072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87232-73F2-459A-B376-FB897D678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384960" cy="22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4240" y="160488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11640" y="160488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96072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4240" y="396072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11640" y="396072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4C9FF-2CEE-4246-988B-A59529C5D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384960" cy="22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3EC7D-1959-463B-A1B4-2D7D67D78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384960" cy="22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6320" y="160488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5EA2C-2342-4981-8219-1C84FC67F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384960" cy="22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819F4-5AF0-4FAF-ABC2-FD7D321AF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371600" y="1510920"/>
            <a:ext cx="6384960" cy="1046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2E810-AF92-4C1C-8270-2ABE2F81A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384960" cy="22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6320" y="160488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072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02641-6AEB-4FF0-A6C8-CA5740225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384960" cy="22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6320" y="160488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6320" y="396072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D6C23-8C01-412B-B3B3-5DC893F5A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384960" cy="22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6320" y="160488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072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E6E25-4BD3-4B00-A250-DC48D92F1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0000">
            <a:off x="7776360" y="-13680"/>
            <a:ext cx="116172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-367200"/>
            <a:ext cx="68547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80240" cy="42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88928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796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88928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90C742-2F54-4187-BDC8-4DD8B3FDD987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0000">
            <a:off x="7850880" y="3276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0000">
            <a:off x="7817040" y="192960"/>
            <a:ext cx="1025640" cy="157176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68320" cy="1230120"/>
            <a:chOff x="7920" y="5540400"/>
            <a:chExt cx="1768320" cy="12301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12880" cy="101448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96840" cy="18864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41640" cy="6350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17560" cy="57780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198360" cy="17640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04760" cy="1616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290160" cy="59220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61960" cy="26028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31840" cy="903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68320" cy="1222200"/>
              <a:chOff x="7920" y="5540400"/>
              <a:chExt cx="1768320" cy="12222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54280" cy="1108080"/>
                <a:chOff x="792000" y="5654520"/>
                <a:chExt cx="854280" cy="11080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33640" cy="12204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66680" cy="1951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52560" cy="16992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28800" cy="3808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71160" cy="21924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54080" cy="36180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68320" cy="1060560"/>
                <a:chOff x="7920" y="5540400"/>
                <a:chExt cx="1768320" cy="106056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03320" cy="12204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20840" cy="68292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11240" cy="24912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495360" cy="92700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36440" cy="38448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293760" cy="19872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31520" cy="32040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72960" cy="12096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70080" cy="4292640"/>
            <a:chOff x="8680320" y="2116080"/>
            <a:chExt cx="370080" cy="429264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08160" cy="224964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2240" y="2116080"/>
              <a:ext cx="308160" cy="257652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-1965600" y="-1239480"/>
            <a:ext cx="20682720" cy="19812600"/>
            <a:chOff x="-1965600" y="-1239480"/>
            <a:chExt cx="20682720" cy="19812600"/>
          </a:xfrm>
        </p:grpSpPr>
        <p:grpSp>
          <p:nvGrpSpPr>
            <p:cNvPr id="39" name=""/>
            <p:cNvGrpSpPr/>
            <p:nvPr/>
          </p:nvGrpSpPr>
          <p:grpSpPr>
            <a:xfrm>
              <a:off x="-1965600" y="-1239480"/>
              <a:ext cx="20682720" cy="19812600"/>
              <a:chOff x="-1965600" y="-1239480"/>
              <a:chExt cx="20682720" cy="19812600"/>
            </a:xfrm>
          </p:grpSpPr>
          <p:sp>
            <p:nvSpPr>
              <p:cNvPr id="40" name=""/>
              <p:cNvSpPr/>
              <p:nvPr/>
            </p:nvSpPr>
            <p:spPr>
              <a:xfrm rot="18420000">
                <a:off x="8611560" y="1739880"/>
                <a:ext cx="82800" cy="44136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-1965600" y="-1239480"/>
                <a:ext cx="20682720" cy="19812600"/>
                <a:chOff x="-1965600" y="-1239480"/>
                <a:chExt cx="20682720" cy="19812600"/>
              </a:xfrm>
            </p:grpSpPr>
            <p:sp>
              <p:nvSpPr>
                <p:cNvPr id="42" name=""/>
                <p:cNvSpPr/>
                <p:nvPr/>
              </p:nvSpPr>
              <p:spPr>
                <a:xfrm rot="18420000">
                  <a:off x="4196880" y="-542160"/>
                  <a:ext cx="2412720" cy="149688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0000">
                  <a:off x="4989600" y="4302000"/>
                  <a:ext cx="4303440" cy="53949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0000">
                  <a:off x="2192400" y="2739600"/>
                  <a:ext cx="8136720" cy="1111968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0000">
                  <a:off x="2251800" y="332280"/>
                  <a:ext cx="12247560" cy="16668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0000">
                  <a:off x="8273160" y="12913560"/>
                  <a:ext cx="2666880" cy="144180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0000">
                  <a:off x="7689240" y="11453400"/>
                  <a:ext cx="2877120" cy="171324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0000">
                  <a:off x="4358880" y="1778760"/>
                  <a:ext cx="2877840" cy="17708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0000">
                  <a:off x="3900960" y="639360"/>
                  <a:ext cx="2840040" cy="165204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50760" cy="136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384960" cy="22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88928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8000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88928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61C81558-F65D-42D6-A3D2-C17D242E0484}" type="slidenum">
              <a:rPr b="0" lang="ru-RU" sz="1400" spc="-1" strike="noStrike">
                <a:solidFill>
                  <a:srgbClr val="000000"/>
                </a:solidFill>
                <a:latin typeface="Comic Sans MS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72080" cy="1761840"/>
            <a:chOff x="195120" y="235080"/>
            <a:chExt cx="3772080" cy="17618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55720" cy="159840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46360" cy="15825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46480" cy="144288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72080" cy="1699920"/>
              <a:chOff x="195120" y="235080"/>
              <a:chExt cx="3772080" cy="16999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20760" cy="3236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72080" cy="1699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60400" cy="9586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44160" cy="63504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81080" cy="56196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6036480" y="2360160"/>
            <a:ext cx="4488480" cy="5054040"/>
            <a:chOff x="6036480" y="2360160"/>
            <a:chExt cx="4488480" cy="5054040"/>
          </a:xfrm>
        </p:grpSpPr>
        <p:sp>
          <p:nvSpPr>
            <p:cNvPr id="103" name=""/>
            <p:cNvSpPr/>
            <p:nvPr/>
          </p:nvSpPr>
          <p:spPr>
            <a:xfrm rot="7320000">
              <a:off x="7805520" y="4651200"/>
              <a:ext cx="982440" cy="44928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83560" y="4631400"/>
              <a:ext cx="979560" cy="44460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50240" y="4634280"/>
              <a:ext cx="644760" cy="40500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6036480" y="2360160"/>
              <a:ext cx="4488480" cy="5054040"/>
              <a:chOff x="6036480" y="2360160"/>
              <a:chExt cx="4488480" cy="505404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6407280" y="5545080"/>
                <a:ext cx="346320" cy="46080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6104880" y="3600000"/>
                <a:ext cx="4350960" cy="257400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7402320" y="4115880"/>
                <a:ext cx="3067920" cy="14353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9550440" y="3411360"/>
                <a:ext cx="376200" cy="94824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7756920" y="4223520"/>
                <a:ext cx="1231200" cy="83196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26920" y="2276640"/>
            <a:ext cx="7632720" cy="168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Segoe Script"/>
              </a:rPr>
              <a:t>Сложение чисел с разными знаками</a:t>
            </a:r>
            <a:br>
              <a:rPr sz="3600"/>
            </a:br>
            <a:r>
              <a:rPr b="0" lang="ru-RU" sz="2400" spc="-1" strike="noStrike">
                <a:solidFill>
                  <a:srgbClr val="ff0000"/>
                </a:solidFill>
                <a:latin typeface="Segoe Scrip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2627280" y="3959280"/>
            <a:ext cx="529272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6 КЛАСС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Учитель Сахарова Н.К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150840"/>
            <a:ext cx="6870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Тест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39280" y="2160720"/>
            <a:ext cx="7767720" cy="43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1.  -3 +  8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а) -11;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б) 11;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в)  -5;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г) 5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2.  -15,4 + 8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а)  -23,4;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б)  -7,4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в)  23,4;  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г)  7,4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3. 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а)-4/11;       б) 4/11;        в) -7/11;            г)7/1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4. -2/5 + ½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а) -1/10;      б) -1/7;         в) 1/10;             г) -9/1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1079640" y="4060800"/>
            <a:ext cx="1260360" cy="25884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4800" y="1619280"/>
            <a:ext cx="6865920" cy="12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Segoe Script"/>
              </a:rPr>
              <a:t>Домашнее задание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3060720" y="4680000"/>
          <a:ext cx="3238560" cy="718920"/>
        </p:xfrm>
        <a:graphic>
          <a:graphicData uri="http://schemas.openxmlformats.org/drawingml/2006/table">
            <a:tbl>
              <a:tblPr/>
              <a:tblGrid>
                <a:gridCol w="3238560"/>
              </a:tblGrid>
              <a:tr h="718920">
                <a:tc>
                  <a:txBody>
                    <a:bodyPr lIns="90000" rIns="90000" tIns="418680" bIns="46800" anchor="t">
                      <a:noAutofit/>
                    </a:bodyPr>
                    <a:p>
                      <a:pPr algn="ctr">
                        <a:lnSpc>
                          <a:spcPct val="6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вторить правила!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</a:tr>
            </a:tbl>
          </a:graphicData>
        </a:graphic>
      </p:graphicFrame>
      <p:sp>
        <p:nvSpPr>
          <p:cNvPr id="176" name=""/>
          <p:cNvSpPr/>
          <p:nvPr/>
        </p:nvSpPr>
        <p:spPr>
          <a:xfrm>
            <a:off x="3240000" y="3060720"/>
            <a:ext cx="2984760" cy="16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№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1019 (а) стр. 171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1081 (3 столбик)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1085 стр. 18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99640" y="-360720"/>
            <a:ext cx="755964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                </a:t>
            </a: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Работа завершен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696080" cy="43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Мне мудрость не чужда была земная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Разгадки тайн ища, не ведал сна я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За семьдесят перевалило мне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Что ж я узнал! –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Что ничего не знаю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Ты, молодец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79280" y="1440000"/>
            <a:ext cx="684036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Segoe Script"/>
              </a:rPr>
              <a:t>Правильно ли расположены числа в порядке возрастания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"/>
          <p:cNvSpPr/>
          <p:nvPr/>
        </p:nvSpPr>
        <p:spPr>
          <a:xfrm>
            <a:off x="2519280" y="3600360"/>
            <a:ext cx="612144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22,5; -12; -12,2; -11,5; -8; 4,2; 11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512640" y="1979280"/>
            <a:ext cx="8307360" cy="455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Segoe Script"/>
              </a:rPr>
              <a:t>Определите знак суммы, не вычисляя значения выражений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mic Sans MS"/>
              </a:rPr>
              <a:t>                   </a:t>
            </a:r>
            <a:r>
              <a:rPr b="1" lang="ru-RU" sz="2600" spc="-1" strike="noStrike">
                <a:solidFill>
                  <a:srgbClr val="000000"/>
                </a:solidFill>
                <a:latin typeface="Comic Sans MS"/>
              </a:rPr>
              <a:t>а) -74 + 92;  </a:t>
            </a:r>
            <a:r>
              <a:rPr b="1" lang="ru-RU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ru-RU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mic Sans MS"/>
              </a:rPr>
              <a:t>                   </a:t>
            </a:r>
            <a:r>
              <a:rPr b="1" lang="ru-RU" sz="2600" spc="-1" strike="noStrike">
                <a:solidFill>
                  <a:srgbClr val="000000"/>
                </a:solidFill>
                <a:latin typeface="Comic Sans MS"/>
              </a:rPr>
              <a:t>б) 6,1 + (-5,67)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mic Sans MS"/>
              </a:rPr>
              <a:t>                   </a:t>
            </a:r>
            <a:r>
              <a:rPr b="1" lang="ru-RU" sz="2600" spc="-1" strike="noStrike">
                <a:solidFill>
                  <a:srgbClr val="000000"/>
                </a:solidFill>
                <a:latin typeface="Comic Sans MS"/>
              </a:rPr>
              <a:t>в) -4,55 + 45,5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mic Sans MS"/>
              </a:rPr>
              <a:t>                   </a:t>
            </a:r>
            <a:r>
              <a:rPr b="1" lang="ru-RU" sz="2600" spc="-1" strike="noStrike">
                <a:solidFill>
                  <a:srgbClr val="000000"/>
                </a:solidFill>
                <a:latin typeface="Comic Sans MS"/>
              </a:rPr>
              <a:t>г) -1 + 5/7          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mic Sans MS"/>
              </a:rPr>
              <a:t>                   </a:t>
            </a:r>
            <a:r>
              <a:rPr b="1" lang="ru-RU" sz="2600" spc="-1" strike="noStrike">
                <a:solidFill>
                  <a:srgbClr val="000000"/>
                </a:solidFill>
                <a:latin typeface="Comic Sans MS"/>
              </a:rPr>
              <a:t>д) -1 + 7/5                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mic Sans MS"/>
              </a:rPr>
              <a:t>                   </a:t>
            </a:r>
            <a:r>
              <a:rPr b="1" lang="ru-RU" sz="2600" spc="-1" strike="noStrike">
                <a:solidFill>
                  <a:srgbClr val="000000"/>
                </a:solidFill>
                <a:latin typeface="Comic Sans MS"/>
              </a:rPr>
              <a:t>е) 1/9 + (-4/9)       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0480"/>
            <a:ext cx="687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Segoe Script"/>
              </a:rPr>
              <a:t>Вычислите: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39640" y="1618920"/>
            <a:ext cx="792000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а) (-30) + 70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         в) (-21) + (-39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б)  8 + (-28)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              г) (-103) + 143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                               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д) (-3,4) + 3,4       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е)-100+60             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ж) 3/7 + 1 + (-3/7)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з)-50+50+2,3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                       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-685800"/>
            <a:ext cx="8134200" cy="33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Segoe Script"/>
              </a:rPr>
              <a:t>Определите, какое слово получилось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755640" y="227664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1550880" y="2879640"/>
          <a:ext cx="6119640" cy="1800360"/>
        </p:xfrm>
        <a:graphic>
          <a:graphicData uri="http://schemas.openxmlformats.org/drawingml/2006/table">
            <a:tbl>
              <a:tblPr/>
              <a:tblGrid>
                <a:gridCol w="1334880"/>
                <a:gridCol w="790200"/>
                <a:gridCol w="898560"/>
                <a:gridCol w="914040"/>
                <a:gridCol w="1096560"/>
                <a:gridCol w="1085400"/>
              </a:tblGrid>
              <a:tr h="968400">
                <a:tc>
                  <a:txBody>
                    <a:bodyPr lIns="90000" rIns="90000" tIns="237960" bIns="46800" anchor="t">
                      <a:noAutofit/>
                    </a:bodyPr>
                    <a:p>
                      <a:pPr algn="ctr">
                        <a:lnSpc>
                          <a:spcPct val="6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99cc"/>
                    </a:solidFill>
                  </a:tcPr>
                </a:tc>
                <a:tc>
                  <a:txBody>
                    <a:bodyPr lIns="90000" rIns="90000" tIns="237960" bIns="46800" anchor="t">
                      <a:noAutofit/>
                    </a:bodyPr>
                    <a:p>
                      <a:pPr algn="ctr">
                        <a:lnSpc>
                          <a:spcPct val="6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2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99cc"/>
                    </a:solidFill>
                  </a:tcPr>
                </a:tc>
                <a:tc>
                  <a:txBody>
                    <a:bodyPr lIns="90000" rIns="90000" tIns="237960" bIns="46800" anchor="t">
                      <a:noAutofit/>
                    </a:bodyPr>
                    <a:p>
                      <a:pPr algn="ctr">
                        <a:lnSpc>
                          <a:spcPct val="6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,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99cc"/>
                    </a:solidFill>
                  </a:tcPr>
                </a:tc>
                <a:tc>
                  <a:txBody>
                    <a:bodyPr lIns="90000" rIns="90000" tIns="237960" bIns="46800" anchor="t">
                      <a:noAutofit/>
                    </a:bodyPr>
                    <a:p>
                      <a:pPr algn="ctr">
                        <a:lnSpc>
                          <a:spcPct val="6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99cc"/>
                    </a:solidFill>
                  </a:tcPr>
                </a:tc>
                <a:tc>
                  <a:txBody>
                    <a:bodyPr lIns="90000" rIns="90000" tIns="237960" bIns="46800" anchor="t">
                      <a:noAutofit/>
                    </a:bodyPr>
                    <a:p>
                      <a:pPr algn="ctr">
                        <a:lnSpc>
                          <a:spcPct val="6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99cc"/>
                    </a:solidFill>
                  </a:tcPr>
                </a:tc>
                <a:tc>
                  <a:txBody>
                    <a:bodyPr lIns="90000" rIns="90000" tIns="237960" bIns="46800" anchor="t">
                      <a:noAutofit/>
                    </a:bodyPr>
                    <a:p>
                      <a:pPr algn="ctr">
                        <a:lnSpc>
                          <a:spcPct val="6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6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99cc"/>
                    </a:solidFill>
                  </a:tcPr>
                </a:tc>
              </a:tr>
              <a:tr h="831960">
                <a:tc>
                  <a:txBody>
                    <a:bodyPr lIns="90000" rIns="90000" tIns="237960" bIns="46800" anchor="t">
                      <a:noAutofit/>
                    </a:bodyPr>
                    <a:p>
                      <a:pPr algn="ctr">
                        <a:lnSpc>
                          <a:spcPct val="6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ff"/>
                    </a:solidFill>
                  </a:tcPr>
                </a:tc>
                <a:tc>
                  <a:txBody>
                    <a:bodyPr lIns="90000" rIns="90000" tIns="237960" bIns="46800" anchor="t">
                      <a:noAutofit/>
                    </a:bodyPr>
                    <a:p>
                      <a:pPr algn="ctr">
                        <a:lnSpc>
                          <a:spcPct val="6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ff"/>
                    </a:solidFill>
                  </a:tcPr>
                </a:tc>
                <a:tc>
                  <a:txBody>
                    <a:bodyPr lIns="90000" rIns="90000" tIns="237960" bIns="46800" anchor="t">
                      <a:noAutofit/>
                    </a:bodyPr>
                    <a:p>
                      <a:pPr algn="ctr">
                        <a:lnSpc>
                          <a:spcPct val="6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ш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ff"/>
                    </a:solidFill>
                  </a:tcPr>
                </a:tc>
                <a:tc>
                  <a:txBody>
                    <a:bodyPr lIns="90000" rIns="90000" tIns="237960" bIns="46800" anchor="t">
                      <a:noAutofit/>
                    </a:bodyPr>
                    <a:p>
                      <a:pPr algn="ctr">
                        <a:lnSpc>
                          <a:spcPct val="6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ff"/>
                    </a:solidFill>
                  </a:tcPr>
                </a:tc>
                <a:tc>
                  <a:txBody>
                    <a:bodyPr lIns="90000" rIns="90000" tIns="237960" bIns="46800" anchor="t">
                      <a:noAutofit/>
                    </a:bodyPr>
                    <a:p>
                      <a:pPr algn="ctr">
                        <a:lnSpc>
                          <a:spcPct val="6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ff"/>
                    </a:solidFill>
                  </a:tcPr>
                </a:tc>
                <a:tc>
                  <a:txBody>
                    <a:bodyPr lIns="90000" rIns="90000" tIns="237960" bIns="46800" anchor="t">
                      <a:noAutofit/>
                    </a:bodyPr>
                    <a:p>
                      <a:pPr algn="ctr">
                        <a:lnSpc>
                          <a:spcPct val="6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ff"/>
                    </a:solidFill>
                  </a:tcPr>
                </a:tc>
              </a:tr>
            </a:tbl>
          </a:graphicData>
        </a:graphic>
      </p:graphicFrame>
    </p:spTree>
  </p:cSld>
  <p:transition spd="med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700000" y="150840"/>
            <a:ext cx="4856040" cy="16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Segoe Script"/>
              </a:rPr>
              <a:t>Вычислите: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55640" y="2205000"/>
            <a:ext cx="7696080" cy="31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348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9480"/>
                <a:tab algn="l" pos="628668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8972640"/>
                <a:tab algn="l" pos="9421920"/>
                <a:tab algn="l" pos="9871200"/>
                <a:tab algn="l" pos="10320480"/>
                <a:tab algn="l" pos="10769760"/>
                <a:tab algn="l" pos="10771200"/>
                <a:tab algn="l" pos="10772640"/>
                <a:tab algn="l" pos="10774440"/>
                <a:tab algn="l" pos="1077588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)  -4 + (-5)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1)  -3 + (-8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348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9480"/>
                <a:tab algn="l" pos="628668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8972640"/>
                <a:tab algn="l" pos="9421920"/>
                <a:tab algn="l" pos="9871200"/>
                <a:tab algn="l" pos="10320480"/>
                <a:tab algn="l" pos="10769760"/>
                <a:tab algn="l" pos="10771200"/>
                <a:tab algn="l" pos="10772640"/>
                <a:tab algn="l" pos="10774440"/>
                <a:tab algn="l" pos="1077588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)  -2 + (-9)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2)  -0,6 + 5,2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348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9480"/>
                <a:tab algn="l" pos="628668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8972640"/>
                <a:tab algn="l" pos="9421920"/>
                <a:tab algn="l" pos="9871200"/>
                <a:tab algn="l" pos="10320480"/>
                <a:tab algn="l" pos="10769760"/>
                <a:tab algn="l" pos="10771200"/>
                <a:tab algn="l" pos="10772640"/>
                <a:tab algn="l" pos="10774440"/>
                <a:tab algn="l" pos="1077588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3)  -1,2 + 5,8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3)  -3 + (-6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348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9480"/>
                <a:tab algn="l" pos="628668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8972640"/>
                <a:tab algn="l" pos="9421920"/>
                <a:tab algn="l" pos="9871200"/>
                <a:tab algn="l" pos="10320480"/>
                <a:tab algn="l" pos="10769760"/>
                <a:tab algn="l" pos="10771200"/>
                <a:tab algn="l" pos="10772640"/>
                <a:tab algn="l" pos="10774440"/>
                <a:tab algn="l" pos="1077588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4)  9 + (-9)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4)  -21 + 11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348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9480"/>
                <a:tab algn="l" pos="628668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8972640"/>
                <a:tab algn="l" pos="9421920"/>
                <a:tab algn="l" pos="9871200"/>
                <a:tab algn="l" pos="10320480"/>
                <a:tab algn="l" pos="10769760"/>
                <a:tab algn="l" pos="10771200"/>
                <a:tab algn="l" pos="10772640"/>
                <a:tab algn="l" pos="10774440"/>
                <a:tab algn="l" pos="1077588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5)  -7,2 + (-2,8)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5)  -0,01 + 0,01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348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9480"/>
                <a:tab algn="l" pos="628668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8972640"/>
                <a:tab algn="l" pos="9421920"/>
                <a:tab algn="l" pos="9871200"/>
                <a:tab algn="l" pos="10320480"/>
                <a:tab algn="l" pos="10769760"/>
                <a:tab algn="l" pos="10771200"/>
                <a:tab algn="l" pos="10772640"/>
                <a:tab algn="l" pos="10774440"/>
                <a:tab algn="l" pos="1077588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6)  -23,6 + 3,6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 6)  -3,8 + (-16,2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419640" y="966600"/>
            <a:ext cx="535752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Segoe Script"/>
              </a:rPr>
              <a:t>Определите, какое слово получилось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234936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946080" y="2340000"/>
          <a:ext cx="7151400" cy="2700360"/>
        </p:xfrm>
        <a:graphic>
          <a:graphicData uri="http://schemas.openxmlformats.org/drawingml/2006/table">
            <a:tbl>
              <a:tblPr/>
              <a:tblGrid>
                <a:gridCol w="1615680"/>
                <a:gridCol w="1096560"/>
                <a:gridCol w="1096920"/>
                <a:gridCol w="1096920"/>
                <a:gridCol w="1096560"/>
                <a:gridCol w="1148760"/>
              </a:tblGrid>
              <a:tr h="1452600">
                <a:tc>
                  <a:txBody>
                    <a:bodyPr lIns="90000" rIns="90000" tIns="272880" bIns="46800" anchor="t">
                      <a:noAutofit/>
                    </a:bodyPr>
                    <a:p>
                      <a:pPr algn="ctr">
                        <a:lnSpc>
                          <a:spcPct val="6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,6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272880" bIns="46800" anchor="t">
                      <a:noAutofit/>
                    </a:bodyPr>
                    <a:p>
                      <a:pPr algn="ctr">
                        <a:lnSpc>
                          <a:spcPct val="6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272880" bIns="46800" anchor="t">
                      <a:noAutofit/>
                    </a:bodyPr>
                    <a:p>
                      <a:pPr algn="ctr">
                        <a:lnSpc>
                          <a:spcPct val="6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272880" bIns="46800" anchor="t">
                      <a:noAutofit/>
                    </a:bodyPr>
                    <a:p>
                      <a:pPr algn="ctr">
                        <a:lnSpc>
                          <a:spcPct val="6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2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272880" bIns="46800" anchor="t">
                      <a:noAutofit/>
                    </a:bodyPr>
                    <a:p>
                      <a:pPr algn="ctr">
                        <a:lnSpc>
                          <a:spcPct val="6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9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272880" bIns="46800" anchor="t">
                      <a:noAutofit/>
                    </a:bodyPr>
                    <a:p>
                      <a:pPr algn="ctr">
                        <a:lnSpc>
                          <a:spcPct val="6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99ff"/>
                    </a:solidFill>
                  </a:tcPr>
                </a:tc>
              </a:tr>
              <a:tr h="1247760">
                <a:tc>
                  <a:txBody>
                    <a:bodyPr lIns="90000" rIns="90000" tIns="272880" bIns="46800" anchor="t">
                      <a:noAutofit/>
                    </a:bodyPr>
                    <a:p>
                      <a:pPr algn="ctr">
                        <a:lnSpc>
                          <a:spcPct val="6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272880" bIns="46800" anchor="t">
                      <a:noAutofit/>
                    </a:bodyPr>
                    <a:p>
                      <a:pPr algn="ctr">
                        <a:lnSpc>
                          <a:spcPct val="6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272880" bIns="46800" anchor="t">
                      <a:noAutofit/>
                    </a:bodyPr>
                    <a:p>
                      <a:pPr algn="ctr">
                        <a:lnSpc>
                          <a:spcPct val="6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272880" bIns="46800" anchor="t">
                      <a:noAutofit/>
                    </a:bodyPr>
                    <a:p>
                      <a:pPr algn="ctr">
                        <a:lnSpc>
                          <a:spcPct val="6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272880" bIns="46800" anchor="t">
                      <a:noAutofit/>
                    </a:bodyPr>
                    <a:p>
                      <a:pPr algn="ctr">
                        <a:lnSpc>
                          <a:spcPct val="6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272880" bIns="46800" anchor="t">
                      <a:noAutofit/>
                    </a:bodyPr>
                    <a:p>
                      <a:pPr algn="ctr">
                        <a:lnSpc>
                          <a:spcPct val="6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</a:tr>
            </a:tbl>
          </a:graphicData>
        </a:graphic>
      </p:graphicFrame>
    </p:spTree>
  </p:cSld>
  <p:transition spd="med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-362160"/>
            <a:ext cx="7773840" cy="360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Segoe Script"/>
              </a:rPr>
              <a:t>Выполните задание «Расшифруйте слово»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33280" y="2607840"/>
            <a:ext cx="768636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Работа в группах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9999ff"/>
            </a:gs>
            <a:gs pos="100000">
              <a:srgbClr val="ff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415280" cy="25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Segoe Script"/>
              </a:rPr>
              <a:t>Вычислите</a:t>
            </a: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2205000"/>
            <a:ext cx="769608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"/>
          <p:cNvSpPr/>
          <p:nvPr/>
        </p:nvSpPr>
        <p:spPr>
          <a:xfrm>
            <a:off x="2700360" y="2879640"/>
            <a:ext cx="5040360" cy="149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-1/4 + (-0,75)+ 156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9T08:24:07Z</dcterms:created>
  <dc:creator>Ольга Алексеевна</dc:creator>
  <dc:description/>
  <dc:language>en-US</dc:language>
  <cp:lastModifiedBy>Ольга Алексеевна</cp:lastModifiedBy>
  <dcterms:modified xsi:type="dcterms:W3CDTF">2007-11-04T18:59:46Z</dcterms:modified>
  <cp:revision>7</cp:revision>
  <dc:subject/>
  <dc:title>ФОРМУЛЫ СОКРАЩЁННОГО УМНОЖЕНИЯ </dc:title>
</cp:coreProperties>
</file>