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5E43-9EF3-45CA-A317-355080B2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072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0583-AE55-4BED-807E-A07C4984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632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7741-8B1E-4B9A-A4A0-F27CCFFD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424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164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424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164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9D89-727C-487B-BC66-D927E080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0479-A9F6-4A90-837C-A37BE6F6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6686-1012-471B-B7DE-CFD9DC0C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3C01-58E6-40C3-8419-15821FC5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51C3-D9D9-4101-86CC-A41F8CEA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65FD-B170-4C5A-9631-5EE20F49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384960" cy="10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CAA8-435D-4C69-9662-CBBDC5DC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09C4-1960-460C-9CBF-A653F64C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92C9-9385-4B93-923D-9C4AED26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632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CCD9-3A34-4678-9E92-3A73CF55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F11E-667C-4F08-BD5E-AEB7165E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072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61E9-12A5-4C2E-9AC2-A3FC5E17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632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E547-7378-4886-B6E7-0BB85C05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424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1164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424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1164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933A-10C9-42FD-A1E9-1AF74485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DB00-40E8-4D7F-A7EC-F59073DD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209E-6FB2-4F0C-AB05-2847BC0F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1657-7AAD-4FF1-A2F7-27316007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384960" cy="10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AB94-6AB3-47B7-93DE-D1B2E5E1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891A-3360-4A57-A98A-1944D4D4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632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3BCF-A207-4EC9-B9D5-C22DCC54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6D1C-E26D-4D57-AAB5-F0E2DB5B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0000">
            <a:off x="7776360" y="-13680"/>
            <a:ext cx="116172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-367200"/>
            <a:ext cx="68547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80240" cy="42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796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AD6DE-CA59-44A9-BBFF-584D294922E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0000">
            <a:off x="7850880" y="3276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0000">
            <a:off x="7817040" y="192960"/>
            <a:ext cx="1025640" cy="157176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68320" cy="1230120"/>
            <a:chOff x="7920" y="5540400"/>
            <a:chExt cx="1768320" cy="12301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12880" cy="101448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96840" cy="1886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41640" cy="6350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17560" cy="5778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198360" cy="17640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04760" cy="1616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290160" cy="59220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61960" cy="2602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31840" cy="903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68320" cy="1222200"/>
              <a:chOff x="7920" y="5540400"/>
              <a:chExt cx="1768320" cy="12222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54280" cy="1108080"/>
                <a:chOff x="792000" y="5654520"/>
                <a:chExt cx="854280" cy="11080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33640" cy="1220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66680" cy="1951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52560" cy="16992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28800" cy="380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71160" cy="2192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54080" cy="36180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68320" cy="1060560"/>
                <a:chOff x="7920" y="5540400"/>
                <a:chExt cx="1768320" cy="106056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03320" cy="12204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20840" cy="6829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11240" cy="24912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495360" cy="92700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36440" cy="3844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293760" cy="19872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31520" cy="3204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72960" cy="12096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70080" cy="4292640"/>
            <a:chOff x="8680320" y="2116080"/>
            <a:chExt cx="370080" cy="429264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08160" cy="224964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2240" y="2116080"/>
              <a:ext cx="308160" cy="257652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-1965600" y="-1239480"/>
            <a:ext cx="20682720" cy="19812600"/>
            <a:chOff x="-1965600" y="-1239480"/>
            <a:chExt cx="20682720" cy="19812600"/>
          </a:xfrm>
        </p:grpSpPr>
        <p:grpSp>
          <p:nvGrpSpPr>
            <p:cNvPr id="39" name=""/>
            <p:cNvGrpSpPr/>
            <p:nvPr/>
          </p:nvGrpSpPr>
          <p:grpSpPr>
            <a:xfrm>
              <a:off x="-1965600" y="-1239480"/>
              <a:ext cx="20682720" cy="19812600"/>
              <a:chOff x="-1965600" y="-1239480"/>
              <a:chExt cx="20682720" cy="19812600"/>
            </a:xfrm>
          </p:grpSpPr>
          <p:sp>
            <p:nvSpPr>
              <p:cNvPr id="40" name=""/>
              <p:cNvSpPr/>
              <p:nvPr/>
            </p:nvSpPr>
            <p:spPr>
              <a:xfrm rot="18420000">
                <a:off x="8611560" y="1739880"/>
                <a:ext cx="82800" cy="44136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-1965600" y="-1239480"/>
                <a:ext cx="20682720" cy="19812600"/>
                <a:chOff x="-1965600" y="-1239480"/>
                <a:chExt cx="20682720" cy="19812600"/>
              </a:xfrm>
            </p:grpSpPr>
            <p:sp>
              <p:nvSpPr>
                <p:cNvPr id="42" name=""/>
                <p:cNvSpPr/>
                <p:nvPr/>
              </p:nvSpPr>
              <p:spPr>
                <a:xfrm rot="18420000">
                  <a:off x="4196880" y="-542160"/>
                  <a:ext cx="2412720" cy="149688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0000">
                  <a:off x="4989600" y="4302000"/>
                  <a:ext cx="4303440" cy="53949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0000">
                  <a:off x="2192400" y="2739600"/>
                  <a:ext cx="8136720" cy="1111968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0000">
                  <a:off x="2251800" y="332280"/>
                  <a:ext cx="12247560" cy="16668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0000">
                  <a:off x="8273160" y="12913560"/>
                  <a:ext cx="2666880" cy="144180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0000">
                  <a:off x="7689240" y="11453400"/>
                  <a:ext cx="2877120" cy="1713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0000">
                  <a:off x="4358880" y="1778760"/>
                  <a:ext cx="2877840" cy="17708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0000">
                  <a:off x="3900960" y="639360"/>
                  <a:ext cx="2840040" cy="16520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50760" cy="13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38496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00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D27FBD6-9438-4587-8D29-340E03566394}" type="slidenum">
              <a:rPr b="0" lang="ru-RU" sz="1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72080" cy="1761840"/>
            <a:chOff x="195120" y="235080"/>
            <a:chExt cx="3772080" cy="17618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55720" cy="15984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46360" cy="15825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46480" cy="14428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72080" cy="1699920"/>
              <a:chOff x="195120" y="235080"/>
              <a:chExt cx="3772080" cy="16999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20760" cy="3236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72080" cy="1699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60400" cy="9586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44160" cy="6350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81080" cy="5619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6036480" y="2360160"/>
            <a:ext cx="4488480" cy="5054040"/>
            <a:chOff x="6036480" y="2360160"/>
            <a:chExt cx="4488480" cy="5054040"/>
          </a:xfrm>
        </p:grpSpPr>
        <p:sp>
          <p:nvSpPr>
            <p:cNvPr id="103" name=""/>
            <p:cNvSpPr/>
            <p:nvPr/>
          </p:nvSpPr>
          <p:spPr>
            <a:xfrm rot="7320000">
              <a:off x="7805520" y="4651200"/>
              <a:ext cx="982440" cy="4492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83560" y="4631400"/>
              <a:ext cx="979560" cy="4446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50240" y="4634280"/>
              <a:ext cx="644760" cy="405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6036480" y="2360160"/>
              <a:ext cx="4488480" cy="5054040"/>
              <a:chOff x="6036480" y="2360160"/>
              <a:chExt cx="4488480" cy="505404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6407280" y="5545080"/>
                <a:ext cx="346320" cy="4608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6104880" y="3600000"/>
                <a:ext cx="4350960" cy="25740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7402320" y="4115880"/>
                <a:ext cx="3067920" cy="14353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9550440" y="3411360"/>
                <a:ext cx="376200" cy="9482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7756920" y="4223520"/>
                <a:ext cx="1231200" cy="8319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63272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Script"/>
              </a:rPr>
              <a:t>Сложение чисел с разными знаками</a:t>
            </a:r>
            <a:br>
              <a:rPr sz="3600"/>
            </a:br>
            <a:r>
              <a:rPr b="0" lang="ru-RU" sz="2400" spc="-1" strike="noStrike">
                <a:solidFill>
                  <a:srgbClr val="ff0000"/>
                </a:solidFill>
                <a:latin typeface="Segoe Scrip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627280" y="3959280"/>
            <a:ext cx="529272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 КЛАСС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читель Сахарова Н.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6870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2160720"/>
            <a:ext cx="776772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  -3 +  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 -11;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) 11;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)  -5;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)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  -15,4 + 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  -23,4;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)  -7,4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)  23,4;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)  7,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-4/11;       б) 4/11;        в) -7/11;            г)7/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. -2/5 + 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 -1/10;      б) -1/7;         в) 1/10;             г) -9/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079640" y="4060800"/>
            <a:ext cx="1260360" cy="258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4800" y="1619280"/>
            <a:ext cx="686592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egoe Script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60720" y="4680000"/>
          <a:ext cx="3238560" cy="718920"/>
        </p:xfrm>
        <a:graphic>
          <a:graphicData uri="http://schemas.openxmlformats.org/drawingml/2006/table">
            <a:tbl>
              <a:tblPr/>
              <a:tblGrid>
                <a:gridCol w="3238560"/>
              </a:tblGrid>
              <a:tr h="718920">
                <a:tc>
                  <a:txBody>
                    <a:bodyPr lIns="90000" rIns="90000" tIns="418680" bIns="46800" anchor="t">
                      <a:noAutofit/>
                    </a:bodyPr>
                    <a:p>
                      <a:pPr algn="ctr">
                        <a:lnSpc>
                          <a:spcPct val="6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ить правила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240000" y="3060720"/>
            <a:ext cx="298476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019 (а) стр. 171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081 (3 столбик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085 стр. 18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99640" y="-360720"/>
            <a:ext cx="755964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бота завершен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не мудрость не чужда была земная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гадки тайн ища, не ведал сна 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 семьдесят перевалило мн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то ж я узнал!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то ничего не знаю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ы, молодец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9280" y="1440000"/>
            <a:ext cx="684036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Правильно ли расположены числа в порядке возрастани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2519280" y="3600360"/>
            <a:ext cx="6121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22,5; -12; -12,2; -11,5; -8; 4,2; 1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12640" y="1979280"/>
            <a:ext cx="830736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Script"/>
              </a:rPr>
              <a:t>Определите знак суммы, не вычисляя значения выражений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а) -74 + 92;  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б) 6,1 + (-5,67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в) -4,55 + 45,5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г) -1 + 5/7         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д) -1 + 7/5               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е) 1/9 + (-4/9)      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0480"/>
            <a:ext cx="687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egoe Script"/>
              </a:rPr>
              <a:t>Вычислите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1618920"/>
            <a:ext cx="7920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 (-30) + 70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в) (-21) + (-39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)  8 + (-28)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г) (-103) + 143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) (-3,4) + 3,4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)-100+60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) 3/7 + 1 + (-3/7)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)-50+50+2,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-685800"/>
            <a:ext cx="813420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Segoe Script"/>
              </a:rPr>
              <a:t>Определите, какое слово получилос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550880" y="2879640"/>
          <a:ext cx="6119640" cy="1800360"/>
        </p:xfrm>
        <a:graphic>
          <a:graphicData uri="http://schemas.openxmlformats.org/drawingml/2006/table">
            <a:tbl>
              <a:tblPr/>
              <a:tblGrid>
                <a:gridCol w="1334880"/>
                <a:gridCol w="790200"/>
                <a:gridCol w="898560"/>
                <a:gridCol w="914040"/>
                <a:gridCol w="1096560"/>
                <a:gridCol w="1085400"/>
              </a:tblGrid>
              <a:tr h="968400">
                <a:tc>
                  <a:txBody>
                    <a:bodyPr lIns="90000" rIns="90000" tIns="2379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2379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2379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2379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2379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2379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cc"/>
                    </a:solidFill>
                  </a:tcPr>
                </a:tc>
              </a:tr>
              <a:tr h="831960">
                <a:tc>
                  <a:txBody>
                    <a:bodyPr lIns="90000" rIns="90000" tIns="2379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2379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2379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2379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2379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23796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00000" y="150840"/>
            <a:ext cx="485604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egoe Script"/>
              </a:rPr>
              <a:t>Вычислите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69608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9480"/>
                <a:tab algn="l" pos="628668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 -4 + (-5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1)  -3 + (-8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9480"/>
                <a:tab algn="l" pos="628668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 -2 + (-9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2)  -0,6 + 5,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9480"/>
                <a:tab algn="l" pos="628668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 -1,2 + 5,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3)  -3 + (-6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9480"/>
                <a:tab algn="l" pos="628668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)  9 + (-9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4)  -21 + 1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9480"/>
                <a:tab algn="l" pos="628668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)  -7,2 + (-2,8)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)  -0,01 + 0,0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9480"/>
                <a:tab algn="l" pos="628668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)  -23,6 + 3,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6)  -3,8 + (-16,2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19640" y="966600"/>
            <a:ext cx="53575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egoe Script"/>
              </a:rPr>
              <a:t>Определите, какое слово получилос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46080" y="2340000"/>
          <a:ext cx="7151400" cy="2700360"/>
        </p:xfrm>
        <a:graphic>
          <a:graphicData uri="http://schemas.openxmlformats.org/drawingml/2006/table">
            <a:tbl>
              <a:tblPr/>
              <a:tblGrid>
                <a:gridCol w="1615680"/>
                <a:gridCol w="1096560"/>
                <a:gridCol w="1096920"/>
                <a:gridCol w="1096920"/>
                <a:gridCol w="1096560"/>
                <a:gridCol w="1148760"/>
              </a:tblGrid>
              <a:tr h="1452600">
                <a:tc>
                  <a:txBody>
                    <a:bodyPr lIns="90000" rIns="90000" tIns="27288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27288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27288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27288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27288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27288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ff"/>
                    </a:solidFill>
                  </a:tcPr>
                </a:tc>
              </a:tr>
              <a:tr h="1247760">
                <a:tc>
                  <a:txBody>
                    <a:bodyPr lIns="90000" rIns="90000" tIns="27288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27288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27288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27288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27288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272880" bIns="46800" anchor="t">
                      <a:noAutofit/>
                    </a:bodyPr>
                    <a:p>
                      <a:pPr algn="ctr">
                        <a:lnSpc>
                          <a:spcPct val="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362160"/>
            <a:ext cx="7773840" cy="36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egoe Script"/>
              </a:rPr>
              <a:t>Выполните задание «Расшифруйте слово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33280" y="2607840"/>
            <a:ext cx="768636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бота в группа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4152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egoe Script"/>
              </a:rPr>
              <a:t>Вычислит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696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2700360" y="2879640"/>
            <a:ext cx="504036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1/4 + (-0,75)+ 156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08:24:07Z</dcterms:created>
  <dc:creator>Ольга Алексеевна</dc:creator>
  <dc:description/>
  <dc:language>en-US</dc:language>
  <cp:lastModifiedBy>Ольга Алексеевна</cp:lastModifiedBy>
  <dcterms:modified xsi:type="dcterms:W3CDTF">2007-11-04T18:59:46Z</dcterms:modified>
  <cp:revision>7</cp:revision>
  <dc:subject/>
  <dc:title>ФОРМУЛЫ СОКРАЩЁННОГО УМНОЖЕНИЯ </dc:title>
</cp:coreProperties>
</file>