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4.gif" ContentType="image/gif"/>
  <Override PartName="/ppt/media/image13.png" ContentType="image/png"/>
  <Override PartName="/ppt/media/image1.png" ContentType="image/png"/>
  <Override PartName="/ppt/media/image7.jpeg" ContentType="image/jpeg"/>
  <Override PartName="/ppt/media/image15.gif" ContentType="image/gif"/>
  <Override PartName="/ppt/media/image3.jpeg" ContentType="image/jpeg"/>
  <Override PartName="/ppt/media/image12.gif" ContentType="image/gif"/>
  <Override PartName="/ppt/media/image6.jpeg" ContentType="image/jpeg"/>
  <Override PartName="/ppt/media/applause.wav" ContentType="audio/x-wav"/>
  <Override PartName="/ppt/media/image2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4C09-9B94-4431-B52A-9DB5D79A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182A-3647-47DF-A630-6C07B29F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7D8F-F832-4651-9378-5924E5057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DEE0-C2DB-45ED-AFAF-B7F67E079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7161-076B-4F61-84DB-96706E466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8A0A-8E06-4671-9223-1B403D2B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041A-9BE2-4519-9CF7-85979D8F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6E56-AB3D-4163-8012-338651CD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9F4E-9DB8-4B01-94EA-DF29468B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B1A4-57D2-4B6B-91D8-E4A594DA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4DDB-FCAB-4314-A8B9-343486B6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B629-6A2F-46BD-852C-FA2EE7ED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BD0E-58FD-43C6-93C0-220958A8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BA76-34C5-48AD-AD4F-53B90D3D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DA12-9F97-473E-A9F5-EA7F009F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58DF-8D94-4D50-BF7D-AC69BFFD4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CCD5-8DA1-4C23-BA39-79E521814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D083-71C5-4292-8C05-F413EDEB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A9BE-CADB-4715-A831-F2C2C367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113C-42EF-4ED3-A698-19662C9F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EFEA-AE85-45ED-AB74-191B9548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4491-8E02-4615-995C-BFD86320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6893-A402-4B30-B7FC-AD9C8FBA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7511-5235-4538-91F4-3DEB802B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ccccff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B724-0C95-4EF8-8C16-3275D51906D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ccccff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0059-6CAB-48ED-B244-0EE4FFF03AA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image" Target="../media/image10.jpeg"/><Relationship Id="rId10" Type="http://schemas.openxmlformats.org/officeDocument/2006/relationships/audio" Target="../media/applause.wav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3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3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4.xml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3.xml"/><Relationship Id="rId4" Type="http://schemas.openxmlformats.org/officeDocument/2006/relationships/slide" Target="slide15.xml"/><Relationship Id="rId5" Type="http://schemas.openxmlformats.org/officeDocument/2006/relationships/image" Target="../media/image2.jpeg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image" Target="../media/image3.jpeg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image" Target="../media/image4.png"/><Relationship Id="rId9" Type="http://schemas.openxmlformats.org/officeDocument/2006/relationships/audio" Target="../media/applause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image" Target="../media/image5.jpeg"/><Relationship Id="rId4" Type="http://schemas.openxmlformats.org/officeDocument/2006/relationships/slide" Target="slide14.xml"/><Relationship Id="rId5" Type="http://schemas.openxmlformats.org/officeDocument/2006/relationships/slide" Target="slide14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image" Target="../media/image6.jpeg"/><Relationship Id="rId10" Type="http://schemas.openxmlformats.org/officeDocument/2006/relationships/audio" Target="../media/applause.wav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image" Target="../media/image7.jpe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slide13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image" Target="../media/image8.jpeg"/><Relationship Id="rId12" Type="http://schemas.openxmlformats.org/officeDocument/2006/relationships/audio" Target="../media/applause.wav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ccccff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7200" y="609480"/>
            <a:ext cx="812952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5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Тест 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"Античные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   </a:t>
            </a: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Олимпийские игры"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 spd="med">
    <p:zoom dir="out"/>
    <p:sndAc>
      <p:stSnd>
        <p:snd r:embed="rId1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ccccff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Georgia"/>
              </a:rPr>
              <a:t>9. Какой вид не включал в себя пентатлон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1760" y="2133720"/>
            <a:ext cx="3886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 Antiqua"/>
              </a:rPr>
              <a:t>А) Бег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 Antiqua"/>
              </a:rPr>
              <a:t>Б) Метание копья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 Antiqua"/>
              </a:rPr>
              <a:t>В) Метание диска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 Antiqua"/>
              </a:rPr>
              <a:t>Г) Борьба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 Antiqua"/>
              </a:rPr>
              <a:t>Д) Тройной прыжок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 Antiqua"/>
              </a:rPr>
              <a:t>Е) Панкратион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724280" y="2438280"/>
            <a:ext cx="3524400" cy="2703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applause.wav"/>
      </p:stSnd>
    </p:sndAc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ccccff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7327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Georgia"/>
              </a:rPr>
              <a:t>10. Кто запретил проведение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Georgia"/>
              </a:rPr>
              <a:t>Олимпийских игр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657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1" action="ppaction://hlinksldjump"/>
              </a:rPr>
              <a:t>А) Нерон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2" action="ppaction://hlinksldjump"/>
              </a:rPr>
              <a:t>Б) Феодосий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Book Antiqua"/>
                <a:hlinkClick r:id="rId3" action="ppaction://hlinksldjump"/>
              </a:rPr>
              <a:t>II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4" action="ppaction://hlinksldjump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5" action="ppaction://hlinksldjump"/>
              </a:rPr>
              <a:t>В) Феодосий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Book Antiqua"/>
                <a:hlinkClick r:id="rId6" action="ppaction://hlinksldjump"/>
              </a:rPr>
              <a:t>I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7" action="ppaction://hlinksldjump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8" action="ppaction://hlinksldjump"/>
              </a:rPr>
              <a:t>Г) Авгус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9"/>
          <a:stretch/>
        </p:blipFill>
        <p:spPr>
          <a:xfrm>
            <a:off x="4724280" y="2514600"/>
            <a:ext cx="3310200" cy="3003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10" name="applause.wav"/>
      </p:stSnd>
    </p:sndAc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7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ccccff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0880" y="685800"/>
            <a:ext cx="723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Georgia"/>
              </a:rPr>
              <a:t>Поздравляю Вас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213372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Georgia"/>
              </a:rPr>
              <a:t>Вы эрудиты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200400" y="3657600"/>
            <a:ext cx="3962520" cy="2459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applause.wav"/>
      </p:stSnd>
    </p:sndAc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680"/>
                            </p:stCondLst>
                            <p:childTnLst>
                              <p:par>
                                <p:cTn id="4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200"/>
                            </p:stCondLst>
                            <p:childTnLst>
                              <p:par>
                                <p:cTn id="46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ccccff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895480" y="2286000"/>
            <a:ext cx="52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вы ответили правильно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13716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Молодцы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480060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Book Antiqua"/>
              </a:rPr>
              <a:t>Отвечайте на следующий 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3200400" cy="3429000"/>
          </a:xfrm>
          <a:prstGeom prst="rect">
            <a:avLst/>
          </a:prstGeom>
          <a:ln w="0">
            <a:noFill/>
          </a:ln>
        </p:spPr>
      </p:pic>
      <p:sp>
        <p:nvSpPr>
          <p:cNvPr id="195" name="">
            <a:hlinkClick r:id="" action="ppaction://hlinkshowjump?jump=previousslide"/>
          </p:cNvPr>
          <p:cNvSpPr/>
          <p:nvPr/>
        </p:nvSpPr>
        <p:spPr>
          <a:xfrm>
            <a:off x="5029200" y="59436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3" name="applause.wav"/>
      </p:stSnd>
    </p:sndAc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60"/>
                            </p:stCondLst>
                            <p:childTnLst>
                              <p:par>
                                <p:cTn id="4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200"/>
                            </p:stCondLst>
                            <p:childTnLst>
                              <p:par>
                                <p:cTn id="4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0" dur="39535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ccccff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048120" y="1905120"/>
            <a:ext cx="52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99"/>
                </a:solidFill>
                <a:latin typeface="Georgia"/>
              </a:rPr>
              <a:t>вы ответили    правильно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1066680"/>
            <a:ext cx="419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99"/>
                </a:solidFill>
                <a:latin typeface="Georgia"/>
              </a:rPr>
              <a:t>Молодцы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09680" y="487692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Book Antiqua"/>
              </a:rPr>
              <a:t>Отвечайте на следующий 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2819520" cy="3429000"/>
          </a:xfrm>
          <a:prstGeom prst="rect">
            <a:avLst/>
          </a:prstGeom>
          <a:ln w="0">
            <a:noFill/>
          </a:ln>
        </p:spPr>
      </p:pic>
      <p:sp>
        <p:nvSpPr>
          <p:cNvPr id="201" name="">
            <a:hlinkClick r:id="" action="ppaction://hlinkshowjump?jump=previousslide"/>
          </p:cNvPr>
          <p:cNvSpPr/>
          <p:nvPr/>
        </p:nvSpPr>
        <p:spPr>
          <a:xfrm>
            <a:off x="5029200" y="59436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75438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3" name="applause.wav"/>
      </p:stSnd>
    </p:sndAc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60"/>
                            </p:stCondLst>
                            <p:childTnLst>
                              <p:par>
                                <p:cTn id="5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200"/>
                            </p:stCondLst>
                            <p:childTnLst>
                              <p:par>
                                <p:cTn id="5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4" dur="39535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99ff"/>
            </a:gs>
            <a:gs pos="50000">
              <a:srgbClr val="ccccff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80"/>
                </a:solidFill>
                <a:latin typeface="Georgia"/>
              </a:rPr>
              <a:t>Вы ошиблись?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80"/>
                </a:solidFill>
                <a:latin typeface="Georgia"/>
              </a:rPr>
              <a:t>Подумайте ещё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286000" y="3124080"/>
            <a:ext cx="4410000" cy="2457720"/>
          </a:xfrm>
          <a:prstGeom prst="rect">
            <a:avLst/>
          </a:prstGeom>
          <a:ln w="0">
            <a:noFill/>
          </a:ln>
        </p:spPr>
      </p:pic>
      <p:sp>
        <p:nvSpPr>
          <p:cNvPr id="205" name="">
            <a:hlinkClick r:id="" action="ppaction://hlinkshowjump?jump=previousslide"/>
          </p:cNvPr>
          <p:cNvSpPr/>
          <p:nvPr/>
        </p:nvSpPr>
        <p:spPr>
          <a:xfrm>
            <a:off x="5867280" y="58672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7391520" y="5867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3" name="applause.wav"/>
      </p:stSnd>
    </p:sndAc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8" dur="59030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ccccff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-457200" y="60948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99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Georgia"/>
              </a:rPr>
              <a:t>Какая периодичность провед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Georgia"/>
              </a:rPr>
              <a:t>Олимпийских игр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971800" y="3809880"/>
            <a:ext cx="4419720" cy="2349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2057400"/>
            <a:ext cx="38098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Book Antiqua"/>
              </a:rPr>
              <a:t>А) Один раз в 5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Book Antiqua"/>
                <a:hlinkClick r:id="rId2" action="ppaction://hlinksldjump"/>
              </a:rPr>
              <a:t>Б) Каждый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76920" y="2057400"/>
            <a:ext cx="4419360" cy="14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Book Antiqua"/>
                <a:hlinkClick r:id="rId3" action="ppaction://hlinksldjump"/>
              </a:rPr>
              <a:t>В)  Один раз в 2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Book Antiqua"/>
                <a:hlinkClick r:id="rId4" action="ppaction://hlinksldjump"/>
              </a:rPr>
              <a:t>Г)  Один раз в 4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5" name="applause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ccccff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4920" y="1447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600200"/>
            <a:ext cx="335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2438280"/>
            <a:ext cx="4114800" cy="26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Book Antiqua"/>
                <a:hlinkClick r:id="rId1" action="ppaction://hlinksldjump"/>
              </a:rPr>
              <a:t>А) в 786 году до н. 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Book Antiqua"/>
                <a:hlinkClick r:id="rId2" action="ppaction://hlinksldjump"/>
              </a:rPr>
              <a:t>Б) в 1896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Book Antiqua"/>
                <a:hlinkClick r:id="rId3" action="ppaction://hlinksldjump"/>
              </a:rPr>
              <a:t>В) в 776 году до н. 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Book Antiqua"/>
                <a:hlinkClick r:id="rId4" action="ppaction://hlinksldjump"/>
              </a:rPr>
              <a:t>Г) в 394 год н. 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5562720" y="2286000"/>
            <a:ext cx="2276280" cy="3905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276720" y="15238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685800"/>
            <a:ext cx="8229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Georgia"/>
              </a:rPr>
              <a:t>В  каком году  состоялись первы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Georgia"/>
              </a:rPr>
              <a:t>    </a:t>
            </a:r>
            <a:r>
              <a:rPr b="1" lang="en-US" sz="2800" spc="-1" strike="noStrike">
                <a:solidFill>
                  <a:srgbClr val="000099"/>
                </a:solidFill>
                <a:latin typeface="Georgia"/>
              </a:rPr>
              <a:t>Олимпийские  игр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6" name="applause.wav"/>
      </p:stSnd>
    </p:sndAc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ccccff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-380880" y="68580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Georgia"/>
              </a:rPr>
              <a:t>3. Сколько дней длились первые Олимпийские игр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2438280"/>
            <a:ext cx="3962520" cy="26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1" action="ppaction://hlinksldjump"/>
              </a:rPr>
              <a:t>А) 10 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2" action="ppaction://hlinksldjump"/>
              </a:rPr>
              <a:t>Б)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Book Antiqua"/>
                <a:hlinkClick r:id="rId3" action="ppaction://hlinksldjump"/>
              </a:rPr>
              <a:t> 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4" action="ppaction://hlinksldjump"/>
              </a:rPr>
              <a:t>1 де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5" action="ppaction://hlinksldjump"/>
              </a:rPr>
              <a:t>В)   2 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6" action="ppaction://hlinksldjump"/>
              </a:rPr>
              <a:t>Г)   5 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4572000" y="2286000"/>
            <a:ext cx="298620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8" name="applause.wav"/>
      </p:stSnd>
    </p:sndAc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ccccff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" y="6858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Georgia"/>
              </a:rPr>
              <a:t>4. Кто из знаменитых атлетов смог справиться со льв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3048120"/>
            <a:ext cx="3733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2666880"/>
            <a:ext cx="3048120" cy="33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1" action="ppaction://hlinksldjump"/>
              </a:rPr>
              <a:t>А) Мил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2" action="ppaction://hlinksldjump"/>
              </a:rPr>
              <a:t>Б) 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3" action="ppaction://hlinksldjump"/>
              </a:rPr>
              <a:t>Полид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4" action="ppaction://hlinksldjump"/>
              </a:rPr>
              <a:t>В) Зев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5" action="ppaction://hlinksldjump"/>
              </a:rPr>
              <a:t>Г)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Book Antiqua"/>
                <a:hlinkClick r:id="rId6" action="ppaction://hlinksldjump"/>
              </a:rPr>
              <a:t> 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7" action="ppaction://hlinksldjump"/>
              </a:rPr>
              <a:t>Гера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4419720" y="2514600"/>
            <a:ext cx="3276360" cy="2768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9" name="applause.wav"/>
      </p:stSnd>
    </p:sndAc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ccccff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228600"/>
            <a:ext cx="80773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Georgia"/>
              </a:rPr>
              <a:t>5.Что запрещалось во врем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Georgia"/>
              </a:rPr>
              <a:t>проведения Олимпийских иг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Georgia"/>
              </a:rPr>
              <a:t>городам Греции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1752480"/>
            <a:ext cx="731520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Book Antiqua"/>
                <a:hlinkClick r:id="rId1" action="ppaction://hlinksldjump"/>
              </a:rPr>
              <a:t>А) Устраивать друг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Book Antiqua"/>
                <a:hlinkClick r:id="rId2" action="ppaction://hlinksldjump"/>
              </a:rPr>
              <a:t>      праздники кроме иг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>
            <a:lum contrast="66000"/>
          </a:blip>
          <a:stretch/>
        </p:blipFill>
        <p:spPr>
          <a:xfrm>
            <a:off x="5486400" y="2057400"/>
            <a:ext cx="3122640" cy="35053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04920" y="3124080"/>
            <a:ext cx="731520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Book Antiqua"/>
                <a:hlinkClick r:id="rId4" action="ppaction://hlinksldjump"/>
              </a:rPr>
              <a:t>Б) Воевать меж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Book Antiqua"/>
                <a:hlinkClick r:id="rId5" action="ppaction://hlinksldjump"/>
              </a:rPr>
              <a:t>     враждующими город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4495680"/>
            <a:ext cx="662940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Book Antiqua"/>
                <a:hlinkClick r:id="rId6" action="ppaction://hlinksldjump"/>
              </a:rPr>
              <a:t>В) Враждебно относиться 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Book Antiqua"/>
                <a:hlinkClick r:id="rId7" action="ppaction://hlinksldjump"/>
              </a:rPr>
              <a:t>    участникам иг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8" name="applause.wav"/>
      </p:stSnd>
    </p:sndAc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ccccff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Georgia"/>
              </a:rPr>
              <a:t>6. Как назывались античные спортсмены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2666880"/>
            <a:ext cx="3733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1" action="ppaction://hlinksldjump"/>
              </a:rPr>
              <a:t>А) 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2" action="ppaction://hlinksldjump"/>
              </a:rPr>
              <a:t>Олимпионики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3" action="ppaction://hlinksldjump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4" action="ppaction://hlinksldjump"/>
              </a:rPr>
              <a:t>Б) Гимнасты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5" action="ppaction://hlinksldjump"/>
              </a:rPr>
              <a:t>В) Атлеты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6" action="ppaction://hlinksldjump"/>
              </a:rPr>
              <a:t>Г) 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7" action="ppaction://hlinksldjump"/>
              </a:rPr>
              <a:t>Элланодики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8" action="ppaction://hlinksldjump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9"/>
          <a:stretch/>
        </p:blipFill>
        <p:spPr>
          <a:xfrm>
            <a:off x="4648320" y="2424240"/>
            <a:ext cx="3297240" cy="2977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10" name="applause.wav"/>
      </p:stSnd>
    </p:sndAc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ccccff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Georgia"/>
              </a:rPr>
              <a:t>7. Как назывались античные тренеры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2743200"/>
            <a:ext cx="373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1" action="ppaction://hlinksldjump"/>
              </a:rPr>
              <a:t>А) 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2" action="ppaction://hlinksldjump"/>
              </a:rPr>
              <a:t>Олимпионики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3" action="ppaction://hlinksldjump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Book Antiqua"/>
              </a:rPr>
              <a:t>Б) Гимнасты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Book Antiqua"/>
              </a:rPr>
              <a:t>В) Атлеты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Book Antiqua"/>
              </a:rPr>
              <a:t>Г) Элланоди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4952880" y="2743200"/>
            <a:ext cx="3140280" cy="2095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5" name="applause.wav"/>
      </p:stSnd>
    </p:sndAc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ccccff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Georgia"/>
              </a:rPr>
              <a:t>8. Как назывались античные судь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403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1" action="ppaction://hlinksldjump"/>
              </a:rPr>
              <a:t>А) 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2" action="ppaction://hlinksldjump"/>
              </a:rPr>
              <a:t>Олимпионики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3" action="ppaction://hlinksldjump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4" action="ppaction://hlinksldjump"/>
              </a:rPr>
              <a:t>Б) 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5" action="ppaction://hlinksldjump"/>
              </a:rPr>
              <a:t>Гераклиты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6" action="ppaction://hlinksldjump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7" action="ppaction://hlinksldjump"/>
              </a:rPr>
              <a:t>В) Эллины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8" action="ppaction://hlinksldjump"/>
              </a:rPr>
              <a:t>Г) 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9" action="ppaction://hlinksldjump"/>
              </a:rPr>
              <a:t>Элланодики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10" action="ppaction://hlinksldjump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1"/>
          <a:stretch/>
        </p:blipFill>
        <p:spPr>
          <a:xfrm>
            <a:off x="4876920" y="1905120"/>
            <a:ext cx="312552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12" name="applause.wav"/>
      </p:stSnd>
    </p:sndAc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1-09-17T05:00:27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