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4.gif" ContentType="image/gif"/>
  <Override PartName="/ppt/media/image13.png" ContentType="image/png"/>
  <Override PartName="/ppt/media/image1.png" ContentType="image/png"/>
  <Override PartName="/ppt/media/image7.jpeg" ContentType="image/jpeg"/>
  <Override PartName="/ppt/media/image15.gif" ContentType="image/gif"/>
  <Override PartName="/ppt/media/image3.jpeg" ContentType="image/jpeg"/>
  <Override PartName="/ppt/media/image12.gif" ContentType="image/gif"/>
  <Override PartName="/ppt/media/image6.jpeg" ContentType="image/jpeg"/>
  <Override PartName="/ppt/media/applause.wav" ContentType="audio/x-wav"/>
  <Override PartName="/ppt/media/image2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7685-ABC6-4BD4-8114-135BD6A2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D90C-E2A3-4905-B518-5C38A6F2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5B81-E01D-4A2D-B252-497C77F0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2C72-5400-4E6D-AE82-116F0EE2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4CDD-FC7B-4B1F-BAC5-A73C0B15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5581-D14D-4604-BE91-F69DCDA8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BD99-4EDA-4DF0-9443-C8F594C6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D5E7-49CD-4A5A-8ADB-8C13105A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0691-B32B-4143-AF2C-45DDF674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80AB-CCEF-4162-BCF5-559E7E18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8BAF-26DD-4BD0-B5C2-CDECE8AA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CCD-C47E-482E-A491-81C70AFE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3EDA-9486-4FF9-A030-CFCD3D88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183E-4528-4B9C-A883-419F3A10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2E5F-616D-425D-831C-6740274B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BB92-BAF3-442C-8F5B-0AE1D658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A76C-12CA-4857-B1C1-81CD28E4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E38C-0AAE-4C77-B68F-297362CD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ACD5-AF4A-478F-AC40-333EACBB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C80-53F2-41A8-B992-7FEEA0EB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6F0B-CE9F-40C9-A532-9977CBE9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962C-EE54-4473-9262-0D16DC69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68BF-1E71-4D4E-B54C-03F8ED74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2D6-B0BB-4231-AEA4-8FC592CC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E4C6-EE6A-40CC-81A8-DB59E852FCE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A67E-1042-4567-A692-5D70697D91F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image" Target="../media/image10.jpeg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3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3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image" Target="../media/image2.jpe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image" Target="../media/image3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image" Target="../media/image4.png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image" Target="../media/image5.jpeg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image" Target="../media/image6.jpeg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image" Target="../media/image7.jpe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image" Target="../media/image8.jpeg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609480"/>
            <a:ext cx="81295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Тест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"Античны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  </a:t>
            </a: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Олимпийские игры"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zoom dir="out"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9. Какой вид не включал в себя пентатлон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3886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 Antiqua"/>
              </a:rPr>
              <a:t>А) Бег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 Antiqua"/>
              </a:rPr>
              <a:t>Б) Метание копь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 Antiqua"/>
              </a:rPr>
              <a:t>В) Метание диск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 Antiqua"/>
              </a:rPr>
              <a:t>Г) Борьб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 Antiqua"/>
              </a:rPr>
              <a:t>Д) Тройной прыжок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Book Antiqua"/>
              </a:rPr>
              <a:t>Е) Панкратион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524400" cy="2703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applause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7327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10. Кто запретил проведение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Олимпийских игр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3657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1" action="ppaction://hlinksldjump"/>
              </a:rPr>
              <a:t>А) Нерон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2" action="ppaction://hlinksldjump"/>
              </a:rPr>
              <a:t>Б) Феодосий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3" action="ppaction://hlinksldjump"/>
              </a:rPr>
              <a:t>II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4" action="ppaction://hlinksldjump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5" action="ppaction://hlinksldjump"/>
              </a:rPr>
              <a:t>В) Феодосий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6" action="ppaction://hlinksldjump"/>
              </a:rPr>
              <a:t>I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7" action="ppaction://hlinksldjump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8" action="ppaction://hlinksldjump"/>
              </a:rPr>
              <a:t>Г) Авгус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>
            <a:off x="4724280" y="2514600"/>
            <a:ext cx="3310200" cy="300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10" name="applause.wav"/>
      </p:stSnd>
    </p:sndAc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68580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Georgia"/>
              </a:rPr>
              <a:t>Поздравляю Вас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213372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Georgia"/>
              </a:rPr>
              <a:t>Вы эрудиты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00400" y="3657600"/>
            <a:ext cx="3962520" cy="2459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applause.wav"/>
      </p:stSnd>
    </p:sndAc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68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200"/>
                            </p:stCondLst>
                            <p:childTnLst>
                              <p:par>
                                <p:cTn id="46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95480" y="228600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вы ответили правильн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13716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Georgia"/>
              </a:rPr>
              <a:t>Молодцы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480060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Book Antiqua"/>
              </a:rPr>
              <a:t>Отвечайте на следующий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200400" cy="342900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5029200" y="59436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applause.wav"/>
      </p:stSnd>
    </p:sndAc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60"/>
                            </p:stCondLst>
                            <p:childTnLst>
                              <p:par>
                                <p:cTn id="4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200"/>
                            </p:stCondLst>
                            <p:childTnLst>
                              <p:par>
                                <p:cTn id="4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39535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8120" y="190512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Georgia"/>
              </a:rPr>
              <a:t>вы ответили    правильн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1066680"/>
            <a:ext cx="41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Georgia"/>
              </a:rPr>
              <a:t>Молодцы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48769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Book Antiqua"/>
              </a:rPr>
              <a:t>Отвечайте на следующий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2819520" cy="342900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5029200" y="59436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5438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applause.wav"/>
      </p:stSnd>
    </p:sndAc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6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200"/>
                            </p:stCondLst>
                            <p:childTnLst>
                              <p:par>
                                <p:cTn id="5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39535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80"/>
                </a:solidFill>
                <a:latin typeface="Georgia"/>
              </a:rPr>
              <a:t>Вы ошиблись?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80"/>
                </a:solidFill>
                <a:latin typeface="Georgia"/>
              </a:rPr>
              <a:t>Подумайте ещё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410000" cy="245772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" action="ppaction://hlinkshowjump?jump=previousslide"/>
          </p:cNvPr>
          <p:cNvSpPr/>
          <p:nvPr/>
        </p:nvSpPr>
        <p:spPr>
          <a:xfrm>
            <a:off x="5867280" y="58672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3915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applause.wav"/>
      </p:stSnd>
    </p:sndAc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8" dur="59030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457200" y="6094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Какая периодичность про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Олимпийских игр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971800" y="3809880"/>
            <a:ext cx="4419720" cy="2349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2057400"/>
            <a:ext cx="38098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Book Antiqua"/>
              </a:rPr>
              <a:t>А) Один раз в 5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2" action="ppaction://hlinksldjump"/>
              </a:rPr>
              <a:t>Б) Кажд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2057400"/>
            <a:ext cx="4419360" cy="14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3" action="ppaction://hlinksldjump"/>
              </a:rPr>
              <a:t>В)  Один раз в 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4" action="ppaction://hlinksldjump"/>
              </a:rPr>
              <a:t>Г)  Один раз в 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5" name="applause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60020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2438280"/>
            <a:ext cx="411480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1" action="ppaction://hlinksldjump"/>
              </a:rPr>
              <a:t>А) в 786 году до н. 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2" action="ppaction://hlinksldjump"/>
              </a:rPr>
              <a:t>Б) в 1896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3" action="ppaction://hlinksldjump"/>
              </a:rPr>
              <a:t>В) в 776 году до н. 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4" action="ppaction://hlinksldjump"/>
              </a:rPr>
              <a:t>Г) в 394 год н. 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562720" y="2286000"/>
            <a:ext cx="2276280" cy="3905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276720" y="15238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8580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В  каком году  состоялись первы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Олимпийские  иг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6" name="applause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-380880" y="68580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3. Сколько дней длились первые Олимпийские иг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2438280"/>
            <a:ext cx="396252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1" action="ppaction://hlinksldjump"/>
              </a:rPr>
              <a:t>А) 10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2" action="ppaction://hlinksldjump"/>
              </a:rPr>
              <a:t>Б)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3" action="ppaction://hlinksldjump"/>
              </a:rPr>
              <a:t>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4" action="ppaction://hlinksldjump"/>
              </a:rPr>
              <a:t>1 д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5" action="ppaction://hlinksldjump"/>
              </a:rPr>
              <a:t>В)   2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6" action="ppaction://hlinksldjump"/>
              </a:rPr>
              <a:t>Г)   5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4572000" y="2286000"/>
            <a:ext cx="29862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8" name="applause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6858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4. Кто из знаменитых атлетов смог справиться со льв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3048120"/>
            <a:ext cx="373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2666880"/>
            <a:ext cx="30481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1" action="ppaction://hlinksldjump"/>
              </a:rPr>
              <a:t>А) Ми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2" action="ppaction://hlinksldjump"/>
              </a:rPr>
              <a:t>Б)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3" action="ppaction://hlinksldjump"/>
              </a:rPr>
              <a:t>Полид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4" action="ppaction://hlinksldjump"/>
              </a:rPr>
              <a:t>В) Зе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5" action="ppaction://hlinksldjump"/>
              </a:rPr>
              <a:t>Г)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6" action="ppaction://hlinksldjump"/>
              </a:rPr>
              <a:t>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7" action="ppaction://hlinksldjump"/>
              </a:rPr>
              <a:t>Гера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4419720" y="2514600"/>
            <a:ext cx="3276360" cy="276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9" name="applause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228600"/>
            <a:ext cx="80773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5.Что запрещалось во врем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проведения Олимпийских иг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городам Греции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752480"/>
            <a:ext cx="73152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1" action="ppaction://hlinksldjump"/>
              </a:rPr>
              <a:t>А) Устраивать друг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2" action="ppaction://hlinksldjump"/>
              </a:rPr>
              <a:t>      праздники кроме иг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5486400" y="2057400"/>
            <a:ext cx="3122640" cy="3505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4920" y="3124080"/>
            <a:ext cx="73152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4" action="ppaction://hlinksldjump"/>
              </a:rPr>
              <a:t>Б) Воевать меж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5" action="ppaction://hlinksldjump"/>
              </a:rPr>
              <a:t>     враждующими город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4495680"/>
            <a:ext cx="66294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6" action="ppaction://hlinksldjump"/>
              </a:rPr>
              <a:t>В) Враждебно относиться 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Book Antiqua"/>
                <a:hlinkClick r:id="rId7" action="ppaction://hlinksldjump"/>
              </a:rPr>
              <a:t>    участникам 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8" name="applause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6. Как назывались античные спортсмены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2666880"/>
            <a:ext cx="3733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1" action="ppaction://hlinksldjump"/>
              </a:rPr>
              <a:t>А)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2" action="ppaction://hlinksldjump"/>
              </a:rPr>
              <a:t>Олимпионики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3" action="ppaction://hlinksldjump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4" action="ppaction://hlinksldjump"/>
              </a:rPr>
              <a:t>Б) Гимнаст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5" action="ppaction://hlinksldjump"/>
              </a:rPr>
              <a:t>В) Атлет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6" action="ppaction://hlinksldjump"/>
              </a:rPr>
              <a:t>Г)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7" action="ppaction://hlinksldjump"/>
              </a:rPr>
              <a:t>Элланодики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8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9"/>
          <a:stretch/>
        </p:blipFill>
        <p:spPr>
          <a:xfrm>
            <a:off x="4648320" y="2424240"/>
            <a:ext cx="3297240" cy="2977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10" name="applause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7. Как назывались античные тренеры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373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1" action="ppaction://hlinksldjump"/>
              </a:rPr>
              <a:t>А)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2" action="ppaction://hlinksldjump"/>
              </a:rPr>
              <a:t>Олимпионики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3" action="ppaction://hlinksldjump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Book Antiqua"/>
              </a:rPr>
              <a:t>Б) Гимнаст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Book Antiqua"/>
              </a:rPr>
              <a:t>В) Атлет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Book Antiqua"/>
              </a:rPr>
              <a:t>Г) Элланоди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4952880" y="2743200"/>
            <a:ext cx="314028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5" name="applause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ccff"/>
            </a:gs>
            <a:gs pos="100000">
              <a:srgbClr val="00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8. Как назывались античные судь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03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1" action="ppaction://hlinksldjump"/>
              </a:rPr>
              <a:t>А)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2" action="ppaction://hlinksldjump"/>
              </a:rPr>
              <a:t>Олимпионики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3" action="ppaction://hlinksldjump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4" action="ppaction://hlinksldjump"/>
              </a:rPr>
              <a:t>Б)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5" action="ppaction://hlinksldjump"/>
              </a:rPr>
              <a:t>Гераклиты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6" action="ppaction://hlinksldjump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7" action="ppaction://hlinksldjump"/>
              </a:rPr>
              <a:t>В) Эллин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8" action="ppaction://hlinksldjump"/>
              </a:rPr>
              <a:t>Г)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9" action="ppaction://hlinksldjump"/>
              </a:rPr>
              <a:t>Элланодики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Book Antiqua"/>
                <a:hlinkClick r:id="rId10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4876920" y="1905120"/>
            <a:ext cx="312552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12" name="applause.wav"/>
      </p:stSnd>
    </p:sndAc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09-17T05:00:2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