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9A7-E7D2-449C-8A85-905DF224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714-934B-4CF3-B3E8-BF35E4CA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97B-1B6A-4FB0-B720-94BFDD87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A37-E469-41D8-9CBF-3082D43E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048-336E-490C-8BD8-F66AC0F9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748-CC92-4CD9-AD05-F62157AD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88A-1F1A-4466-B0AA-6D9B866A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770-8F97-4054-8E8B-989D08BD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02D-EA7B-4488-81C8-F6C358C6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0F8-4C48-40AB-9C80-6C02DDC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633-2CA1-4C2D-ACE5-69B0CCD2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6A4-3771-48CA-A60D-6E823ABE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9B7EE-658B-4143-B7F3-E85A6AB58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hola.ostriv.in.ua/publication/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539280"/>
            <a:ext cx="88567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БОУ «Смоленская специальная(коррекционная)общеобразовательная школа 1 и 2 видов»(Центр дистанционного образования)</a:t>
            </a:r>
            <a:br>
              <a:rPr sz="22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урав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0880" y="2013120"/>
            <a:ext cx="8280360" cy="387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81520" y="4567320"/>
            <a:ext cx="503388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химии,8клас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О.С.Габриел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Андреева Наталья Пет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Расставьте коэффициенты в уравнениях химических реакций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KCL+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2) Na+Cl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N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KNО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4) 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+S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5) Al+S→Al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6) 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+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7) Rb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+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→Rb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8) Ba+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Ba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07960"/>
            <a:ext cx="885672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Домашнее задание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граф 27 стр139-145,упражнение1; расставьте коэффициенты в уравнениях реакций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9280" y="143964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     +   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→  P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  +   S      →   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Cl +  Mg   →  Mg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+ 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→  N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  →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+  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899640"/>
            <a:ext cx="88567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исок литературы: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О.С.Габриелян Учебник «Химия 8класс» Дрофа:М;2008г;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О.С.Габриелян,Н.П.Воскобойникова,А.В.Яшукова «Химия 8класс».Настольная книга учителя.Дрофа:М;2008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shola.ostriv.in.ua/publicatio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pedsovet.s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Вспомните на какие две группы делятся все явления, происходящие с телами и веществам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86000" y="1843200"/>
            <a:ext cx="7073640" cy="4816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признаки химических реакций вы знает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05000" y="1979640"/>
            <a:ext cx="365292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ие условия должны выполняться,чтобы произошла химическая реакция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4028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Необходимо,чтобы реагирующие вещества соприкоснулись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4586400"/>
            <a:ext cx="40402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Нагре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3880" y="1979640"/>
            <a:ext cx="40402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eb613d"/>
                </a:solidFill>
                <a:latin typeface="Times New Roman"/>
              </a:rPr>
              <a:t>Электрический ток ил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360" y="720360"/>
            <a:ext cx="885672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се изменения,которые случаются в действительности,находятся в таком состоянии,что сколь от одного тела отнимается,столько прибавляется к другому,так что где убудет немного материи,то умножится в другом месте”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.В.Ломоносов(1756г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79640" y="324000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временная формулировка закона сохранения массы вещест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99640" y="143964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Масса веществ,вступивших в химическую реакцию,равна массе веществ,получившихся в результате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основании закона сохранения массы веществ составляют уравнения химических реакц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00240" y="1619280"/>
            <a:ext cx="455940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88567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Запишите уравнение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железо+сера=сульфид железа(II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99284c"/>
                </a:solidFill>
                <a:latin typeface="Arial"/>
              </a:rPr>
              <a:t>Fe+S=F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Алгоритм расстановки коэффициентов в уравнениях химических реак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считать количество атомов каждого элемента в правой и левой части уравнения химической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пределить, у какого элемента количество атомов меняется, найти 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делить НОК на индексы – получить коэффициенты. Поставить их перед форму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ересчитать количество атомов, при необходимости действие повто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следним проверить количество атомов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07:49Z</dcterms:created>
  <dc:creator/>
  <dc:description>Presentation Layout Template</dc:description>
  <dc:language>en-US</dc:language>
  <cp:lastModifiedBy/>
  <dcterms:modified xsi:type="dcterms:W3CDTF">2012-09-17T14:08:07Z</dcterms:modified>
  <cp:revision>2</cp:revision>
  <dc:subject/>
  <dc:title>Light Blue Shapes</dc:title>
</cp:coreProperties>
</file>