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501A-8A12-4DE7-AFBF-07DB2833F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8278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91640" y="5307120"/>
            <a:ext cx="8278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F7BC-5E07-4183-A85F-003C82A1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91640" y="530712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3880" y="530712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1B33-33D1-48D6-8556-1D5396BAD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26654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0640" y="1979640"/>
            <a:ext cx="26654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0000" y="1979640"/>
            <a:ext cx="26654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91640" y="5307120"/>
            <a:ext cx="26654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0640" y="5307120"/>
            <a:ext cx="26654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0000" y="5307120"/>
            <a:ext cx="26654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8F61-FB0F-46D4-9DC7-EED557FD8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91640" y="1979640"/>
            <a:ext cx="827892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8C5D-6766-42A4-B168-E1E2A6E2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827892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1334-F9DE-493E-85E9-6A7C1DCC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F7B2-7B0E-4A0D-AA5A-D1518A10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57E3-B9A4-439F-B613-E1940EC3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CFD4-CBA2-492F-962A-BDAF5A4A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91640" y="530712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17B9-AF61-4CE5-B2A4-7E5B54B9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3880" y="530712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B7CA-C3C8-4E4C-86EE-5BD3110E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91640" y="5307120"/>
            <a:ext cx="827892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75EB-AEDF-4ADC-810A-891CB9FD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1640" y="1979640"/>
            <a:ext cx="8278920" cy="6370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640" y="641988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41988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3360" y="641988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1A0519-6BA8-4BE5-A797-92A5D4DCA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hola.ostriv.in.ua/publication/" TargetMode="External"/><Relationship Id="rId3" Type="http://schemas.openxmlformats.org/officeDocument/2006/relationships/hyperlink" Target="http://pedsovet.su/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539280"/>
            <a:ext cx="8856720" cy="27003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БОУ «Смоленская специальная(коррекционная)общеобразовательная школа 1 и 2 видов»(Центр дистанционного образования)</a:t>
            </a:r>
            <a:br>
              <a:rPr sz="22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ие уравне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40880" y="2013120"/>
            <a:ext cx="8280360" cy="387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863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863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81520" y="4567320"/>
            <a:ext cx="503388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химии,8клас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К О.С.Габриеля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Андреева Наталья Петров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хим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Расставьте коэффициенты в уравнениях химических реакций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92000" y="1979640"/>
            <a:ext cx="8280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1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CLO</a:t>
            </a:r>
            <a:r>
              <a:rPr b="1" lang="en-US" sz="2400" spc="-1" strike="noStrike" baseline="-24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→KCL+O</a:t>
            </a:r>
            <a:r>
              <a:rPr b="1" lang="en-US" sz="2400" spc="-1" strike="noStrike" baseline="-24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2) Na+Cl</a:t>
            </a:r>
            <a:r>
              <a:rPr b="1" lang="en-US" sz="2400" spc="-1" strike="noStrike" baseline="-24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→NaC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3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1" lang="en-US" sz="2400" spc="-1" strike="noStrike" baseline="-24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→KNО</a:t>
            </a:r>
            <a:r>
              <a:rPr b="1" lang="en-US" sz="2400" spc="-1" strike="noStrike" baseline="-24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O</a:t>
            </a:r>
            <a:r>
              <a:rPr b="1" lang="en-US" sz="2400" spc="-1" strike="noStrike" baseline="-24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4) H</a:t>
            </a:r>
            <a:r>
              <a:rPr b="1" lang="en-US" sz="2400" spc="-1" strike="noStrike" baseline="-24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+SO</a:t>
            </a:r>
            <a:r>
              <a:rPr b="1" lang="en-US" sz="2400" spc="-1" strike="noStrike" baseline="-24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→H</a:t>
            </a:r>
            <a:r>
              <a:rPr b="1" lang="en-US" sz="2400" spc="-1" strike="noStrike" baseline="-24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400" spc="-1" strike="noStrike" baseline="-24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5) Al+S→Al</a:t>
            </a:r>
            <a:r>
              <a:rPr b="1" lang="en-US" sz="2400" spc="-1" strike="noStrike" baseline="-24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 baseline="-24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6) H</a:t>
            </a:r>
            <a:r>
              <a:rPr b="1" lang="en-US" sz="2400" spc="-1" strike="noStrike" baseline="-24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-24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→H</a:t>
            </a:r>
            <a:r>
              <a:rPr b="1" lang="en-US" sz="2400" spc="-1" strike="noStrike" baseline="-24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+O</a:t>
            </a:r>
            <a:r>
              <a:rPr b="1" lang="en-US" sz="2400" spc="-1" strike="noStrike" baseline="-24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7) Rb</a:t>
            </a:r>
            <a:r>
              <a:rPr b="1" lang="en-US" sz="2400" spc="-1" strike="noStrike" baseline="-24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+H</a:t>
            </a:r>
            <a:r>
              <a:rPr b="1" lang="en-US" sz="2400" spc="-1" strike="noStrike" baseline="-24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→RbO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8) Ba+O</a:t>
            </a:r>
            <a:r>
              <a:rPr b="1" lang="en-US" sz="2400" spc="-1" strike="noStrike" baseline="-24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→BaO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507960"/>
            <a:ext cx="8856720" cy="1354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Домашнее задание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араграф 27 стр139-145,упражнение1; расставьте коэффициенты в уравнениях реакций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79280" y="1439640"/>
            <a:ext cx="828036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      +   Cl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→  PCl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   +   S      →   N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Cl +  Mg   →  MgCl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+  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+   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→  N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  →  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+  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0360" y="899640"/>
            <a:ext cx="8856720" cy="270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писок литературы:</a:t>
            </a:r>
            <a:br>
              <a:rPr sz="3200"/>
            </a:b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О.С.Габриелян Учебник «Химия 8класс» Дрофа:М;2008г;</a:t>
            </a:r>
            <a:br>
              <a:rPr sz="3200"/>
            </a:b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О.С.Габриелян,Н.П.Воскобойникова,А.В.Яшукова «Химия 8класс».Настольная книга учителя.Дрофа:М;2008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792000" y="1979640"/>
            <a:ext cx="8280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тернет-ресурсы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shola.ostriv.in.ua/publication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pedsovet.s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Http://ru.wikipedia.org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Times New Roman"/>
              </a:rPr>
              <a:t>Вспомните на какие две группы делятся все явления, происходящие с телами и веществами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386000" y="1843200"/>
            <a:ext cx="7073640" cy="4816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акие признаки химических реакций вы знаете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05000" y="1979640"/>
            <a:ext cx="3652920" cy="4989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акие условия должны выполняться,чтобы произошла химическая реакция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40280" cy="23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863640" indent="-646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Необходимо,чтобы реагирующие вещества соприкоснулись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92000" y="4586400"/>
            <a:ext cx="404028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863640" indent="-646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Нагре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33880" y="1979640"/>
            <a:ext cx="404028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863640" indent="-646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eb613d"/>
                </a:solidFill>
                <a:latin typeface="Times New Roman"/>
              </a:rPr>
              <a:t>Электрический ток или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360" y="720360"/>
            <a:ext cx="8856720" cy="236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се изменения,которые случаются в действительности,находятся в таком состоянии,что сколь от одного тела отнимается,столько прибавляется к другому,так что где убудет немного материи,то умножится в другом месте”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.В.Ломоносов(1756г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879640" y="3240000"/>
            <a:ext cx="287964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овременная формулировка закона сохранения массы веществ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99640" y="1439640"/>
            <a:ext cx="828036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Масса веществ,вступивших в химическую реакцию,равна массе веществ,получившихся в результате её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 основании закона сохранения массы веществ составляют уравнения химических реакци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000240" y="1619280"/>
            <a:ext cx="4559400" cy="5580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8856720" cy="1857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Запишите уравнение: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железо+сера=сульфид железа(II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92000" y="1979640"/>
            <a:ext cx="8280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99284c"/>
                </a:solidFill>
                <a:latin typeface="Arial"/>
              </a:rPr>
              <a:t>Fe+S=F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Алгоритм расстановки коэффициентов в уравнениях химических реакци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792000" y="1979640"/>
            <a:ext cx="8280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одсчитать количество атомов каждого элемента в правой и левой части уравнения химической реак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пределить, у какого элемента количество атомов меняется, найти 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азделить НОК на индексы – получить коэффициенты. Поставить их перед формул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ересчитать количество атомов, при необходимости действие повтор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оследним проверить количество атомов кисло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7T12:07:49Z</dcterms:created>
  <dc:creator/>
  <dc:description>Presentation Layout Template</dc:description>
  <dc:language>en-US</dc:language>
  <cp:lastModifiedBy/>
  <dcterms:modified xsi:type="dcterms:W3CDTF">2012-09-17T14:08:07Z</dcterms:modified>
  <cp:revision>2</cp:revision>
  <dc:subject/>
  <dc:title>Light Blue Shapes</dc:title>
</cp:coreProperties>
</file>