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5C6-896C-4E3C-88C6-93FDA260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7EA-7821-46A6-8089-CEE45F74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BCD-65FA-4125-B035-633FE51D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4E3-4570-473D-AF44-7B7E7EEC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311-92E1-4009-B4C4-ECFADE09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EDB-C358-4602-9B3B-9044ABDF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77D-924B-4BA9-AAAD-A81CC222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6AC-D14B-4476-A15C-0717DB2F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B64-F094-4818-92AA-71BD58D4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F55-D8F2-45FC-BB42-FBA250DF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843-8313-4618-A0E4-064B9A8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430-C324-4CF5-BA64-050BDF9D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1F0C-D2DD-489D-A932-114EFCED2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61;&#1072;&#1081;&#1085;&#1077;&#1082;" TargetMode="External"/><Relationship Id="rId4" Type="http://schemas.openxmlformats.org/officeDocument/2006/relationships/hyperlink" Target="http://ru.wikipedia.org/wiki/&#1060;&#1077;&#1085;&#1086;&#1084;&#1077;&#1085;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%CD%E5%EE%EF%EE%E7%ED%E0%ED%ED%FB%E9_%EB%E5%F2%E0%FE%F9%E8%E9_%EE%E1%FA%E5%EA%F2#cite_note-6" TargetMode="External"/><Relationship Id="rId3" Type="http://schemas.openxmlformats.org/officeDocument/2006/relationships/hyperlink" Target="http://ru.wikipedia.org/wiki/&#1056;&#1086;&#1079;&#1091;&#1101;&#1083;&#1083;&#1100;&#1089;&#1082;&#1080;&#1081;_&#1080;&#1085;&#1094;&#1080;&#1076;&#1077;&#1085;&#1090;" TargetMode="External"/><Relationship Id="rId4" Type="http://schemas.openxmlformats.org/officeDocument/2006/relationships/hyperlink" Target="http://ru.wikipedia.org/wiki/&#1042;&#1072;&#1096;&#1080;&#1085;&#1075;&#1090;&#1086;&#1085;&#1089;&#1082;&#1072;&#1103;_&#1082;&#1072;&#1088;&#1091;&#1089;&#1077;&#1083;&#1100;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&#1056;&#1086;&#1089;&#1089;&#1080;&#1103;" TargetMode="External"/><Relationship Id="rId3" Type="http://schemas.openxmlformats.org/officeDocument/2006/relationships/hyperlink" Target="http://ru.wikipedia.org/wiki/&#1050;&#1086;&#1089;&#1084;&#1086;&#1087;&#1086;&#1080;&#1089;&#1082;" TargetMode="External"/><Relationship Id="rId4" Type="http://schemas.openxmlformats.org/officeDocument/2006/relationships/hyperlink" Target="http://ru.wikipedia.org/wiki/&#1057;&#1064;&#1040;" TargetMode="External"/><Relationship Id="rId5" Type="http://schemas.openxmlformats.org/officeDocument/2006/relationships/hyperlink" Target="http://ru.wikipedia.org/wiki/&#1057;&#1057;&#1057;&#1056;" TargetMode="External"/><Relationship Id="rId6" Type="http://schemas.openxmlformats.org/officeDocument/2006/relationships/hyperlink" Target="http://ru.wikipedia.org/wiki/&#1055;&#1088;&#1086;&#1077;&#1082;&#1090;_&#171;&#1057;&#1080;&#1085;&#1103;&#1103;_&#1082;&#1085;&#1080;&#1075;&#1072;&#187;" TargetMode="External"/><Relationship Id="rId7" Type="http://schemas.openxmlformats.org/officeDocument/2006/relationships/hyperlink" Target="http://ru.wikipedia.org/w/index.php?title=&#1040;&#1040;&#1071;&amp;action=edit&amp;redlink=1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86;&#1073;&#1088;&#1080;&#1090;&#1072;&#1085;&#1080;&#1103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6;&#1080;&#1086;&#1083;&#1086;&#1082;&#1072;&#1090;&#1086;&#1088;" TargetMode="External"/><Relationship Id="rId2" Type="http://schemas.openxmlformats.org/officeDocument/2006/relationships/hyperlink" Target="http://ru.wikipedia.org/wiki/&#1041;&#1083;&#1080;&#1079;&#1082;&#1080;&#1081;_&#1082;&#1086;&#1085;&#1090;&#1072;&#1082;&#1090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7-tub-ru.yandex.net/i?id=366965518-16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ЛО:МИФ ИЛИ  РЕ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DAFT_PUNK_-_Veridis_Quo_Derek_Marin_Mix_(iplayer.f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Object 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" name="НЛО. Наиболее интересное видео.mp4" descr="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75688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0-tub-ru.yandex.net/i?id=471009516-48-72&amp;n=21"/>
          <p:cNvPicPr/>
          <p:nvPr/>
        </p:nvPicPr>
        <p:blipFill>
          <a:blip r:embed="rId1"/>
          <a:stretch/>
        </p:blipFill>
        <p:spPr>
          <a:xfrm>
            <a:off x="250920" y="476280"/>
            <a:ext cx="4386240" cy="3240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56000" y="272520"/>
            <a:ext cx="4330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Л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опо́знанный лета́ющий объе́к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UFO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). Наиболее полное определение НЛО дал исследователь непознанного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Джозеф Аллен Хайне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: «восприятие объекта или света, видимого в небе или космосе либо над земной поверхностью;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феномен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призрак, траектория, общая динамика и характер свечения которого не находит логического, общепринятого объяснения, является тайной не только для очевидцев, но и остаётся необъяснённым даже после пристального изучения всех доступных свидетельств специалистами, способными, если это возможно, идентифицировать явление с точки зрения здравого смысл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f5.ifotki.info/org/4d30f075fbbb4378494917d8d06d59b54e252751952446.jpg"/>
          <p:cNvPicPr/>
          <p:nvPr/>
        </p:nvPicPr>
        <p:blipFill>
          <a:blip r:embed="rId1"/>
          <a:stretch/>
        </p:blipFill>
        <p:spPr>
          <a:xfrm>
            <a:off x="179280" y="1413000"/>
            <a:ext cx="5040360" cy="385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003280" y="272520"/>
            <a:ext cx="3683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4 июня 1947 года американский бизнесмен Кеннет Арнольд заметил девять летящих объектов, похожих на тарелки. Это был первый зарегистрированный случай встречи человека с НЛО</a:t>
            </a:r>
            <a:r>
              <a:rPr b="0" lang="ru-RU" sz="2200" spc="-1" strike="noStrike" u="sng" baseline="30000">
                <a:solidFill>
                  <a:srgbClr val="0000ff"/>
                </a:solidFill>
                <a:uFillTx/>
                <a:latin typeface="Calibri"/>
                <a:hlinkClick r:id="rId2"/>
              </a:rPr>
              <a:t>[7]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ьшую известность в обществе получили (в том числе во множестве книг и фильмов) такие явления НЛО, как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Розуэлльский инциден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1947 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ашингтонская карусель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1952 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1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8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4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3-tub-ru.yandex.net/i?id=388159520-21-72&amp;n=21"/>
          <p:cNvPicPr/>
          <p:nvPr/>
        </p:nvPicPr>
        <p:blipFill>
          <a:blip r:embed="rId1"/>
          <a:stretch/>
        </p:blipFill>
        <p:spPr>
          <a:xfrm>
            <a:off x="179280" y="549360"/>
            <a:ext cx="401328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211280" y="333000"/>
            <a:ext cx="4475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азных странах существует множество общественных инициативных организаций и энтузиастов, занимающихся регистрацией и аналитикой явлений НЛО, в том числе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осс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осмо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многих странах (в том числ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Ш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СС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случаи наблюдения НЛО фиксировались уполномоченными военными и гражданскими государственными структурами, в том числе в рамках действия засекреченных специальных программ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роект «Синяя книга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48320" y="189000"/>
            <a:ext cx="40384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ередине мая 2008 года правительство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еликобритан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крыло доступ к секретным материалам о «контактах с инопланетянами» с 1978 по 1987Документы содержат рассказы очевидцев о «контактах с инопланетянами», но достоверных подтверждений этим свидетельствам нет. Кроме того, самые интересные части этих документов практически всегда заштрихованы, часто под штрихом оказываются целые абзацы и понять, что же спрятано под закрашенным текстом неподготовленному человеку довольно сложно. В дальнейшем были частично рассекречены новые партии документов, в том числе случай боевого конт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im3-tub-ru.yandex.net/i?id=538724413-26-72&amp;n=21"/>
          <p:cNvPicPr/>
          <p:nvPr/>
        </p:nvPicPr>
        <p:blipFill>
          <a:blip r:embed="rId2"/>
          <a:stretch/>
        </p:blipFill>
        <p:spPr>
          <a:xfrm>
            <a:off x="250920" y="333360"/>
            <a:ext cx="4437000" cy="3166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9280" y="333000"/>
            <a:ext cx="4316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на больших расстоян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называются наблюдения, когда очевидца и НЛО разделяют «сотни километров и километры». Среди них различаю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ные огн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о видимые, чётко очерченные огни неизвестной природы, обычно красного, оранжевого или белого цвета. К этой группе относится львиная доля наблюдений НЛО на больших расстояниях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ые диск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блюдаемые в дневное время объекты, как правило, овальные или дискообразные, по виду металлические. Их фиксируют высоко в небе, близко у земли и нередко видят в состоянии неподвижного зависания. Дневные диски могут мгновенно набирать огромную скорость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локационные „всплески“ на экран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радиолокаторов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обенно совпадающие с визуальным слежением за НЛО, считаются весьма ценными свидетельствами реальности наблюдаемых объектов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60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кие контак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Близкими контакт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 контакты с НЛО «не далее двухсот метров». К ним относя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первого 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гл. 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-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ЛО наблюдается в воздухе и по впечатлению, не взаимодействуют с окружающей средой, животными и очевидцами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второго 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гл. CE-2)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случаях регистрируется взаимодействие НЛО с окружающей средой в виде помех в работе радиоэлектронных устройств, выключения систем зажигания у автомобилей, появления отпечатков на земле или опалённых огнём следов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мечено, что часто CE-2 происходят среди крупных автомагистра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третьего 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гл. CE-3)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подгруппе сообщений присутствуют обитатели НЛО — более или менее человекоподобные существа, называемые сейчас гуманоидами, энлонавтами или просто — пришельцами… Обычно они не входят в прямой контакт или в переговоры с очевидцами, но в последние годы необъяснимо участились сообщения о временном задержании энлонавтами зазевавшихся свидетелей с целью „медицинского“ осмотр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 четвёртого р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гл. CE-4)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ищ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3-tub-ru.yandex.net/i?id=542761641-04-72&amp;n=21"/>
          <p:cNvPicPr/>
          <p:nvPr/>
        </p:nvPicPr>
        <p:blipFill>
          <a:blip r:embed="rId1"/>
          <a:stretch/>
        </p:blipFill>
        <p:spPr>
          <a:xfrm>
            <a:off x="542880" y="692280"/>
            <a:ext cx="7993080" cy="5400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новидности НЛ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Твёрдые» объек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искообразные объек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еугольные объек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еретенообразные объект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Яйцевидные объек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Летательные аппара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Шне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ЛО в виде бумеран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Мягкими» объектам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азывают НЛО, не производящие впечатления состоящих из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веществ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в частности, таинственное свечение, туман с необычными свойствами, огоньк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4-tub-ru.yandex.net/i?id=34886366-62-72&amp;n=21"/>
          <p:cNvPicPr/>
          <p:nvPr/>
        </p:nvPicPr>
        <p:blipFill>
          <a:blip r:embed="rId1"/>
          <a:stretch/>
        </p:blipFill>
        <p:spPr>
          <a:xfrm>
            <a:off x="250920" y="260280"/>
            <a:ext cx="3182760" cy="21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im3-tub-ru.yandex.net/i?id=206511404-58-72&amp;n=21"/>
          <p:cNvPicPr/>
          <p:nvPr/>
        </p:nvPicPr>
        <p:blipFill>
          <a:blip r:embed="rId2"/>
          <a:stretch/>
        </p:blipFill>
        <p:spPr>
          <a:xfrm>
            <a:off x="250920" y="2781360"/>
            <a:ext cx="2665440" cy="199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im7-tub-ru.yandex.net/i?id=353170019-11-72&amp;n=21"/>
          <p:cNvPicPr/>
          <p:nvPr/>
        </p:nvPicPr>
        <p:blipFill>
          <a:blip r:embed="rId3"/>
          <a:stretch/>
        </p:blipFill>
        <p:spPr>
          <a:xfrm>
            <a:off x="4140360" y="189000"/>
            <a:ext cx="296064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3-tub-ru.yandex.net/i?id=300517329-57-72&amp;n=21"/>
          <p:cNvPicPr/>
          <p:nvPr/>
        </p:nvPicPr>
        <p:blipFill>
          <a:blip r:embed="rId4"/>
          <a:stretch/>
        </p:blipFill>
        <p:spPr>
          <a:xfrm>
            <a:off x="5364000" y="4853160"/>
            <a:ext cx="3569040" cy="200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im5-tub-ru.yandex.net/i?id=111376719-54-72&amp;n=21"/>
          <p:cNvPicPr/>
          <p:nvPr/>
        </p:nvPicPr>
        <p:blipFill>
          <a:blip r:embed="rId5"/>
          <a:stretch/>
        </p:blipFill>
        <p:spPr>
          <a:xfrm>
            <a:off x="3132000" y="249228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8:53:02Z</dcterms:created>
  <dc:creator>DAY</dc:creator>
  <dc:description/>
  <dc:language>en-US</dc:language>
  <cp:lastModifiedBy>DAY</cp:lastModifiedBy>
  <dcterms:modified xsi:type="dcterms:W3CDTF">2012-09-16T12:06:18Z</dcterms:modified>
  <cp:revision>19</cp:revision>
  <dc:subject/>
  <dc:title>Слайд 1</dc:title>
</cp:coreProperties>
</file>