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942-9CA8-496B-AF19-07D3F2E1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3B9-40E5-4C2D-B467-4046E25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AEB-BEBA-497C-8291-13308AAD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CAF-9E34-4332-8740-B1259F2C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3DD-851B-4426-943E-98A773F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17E-2711-485E-979A-30A0CF5A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CBC-0EFF-4415-9474-844DCB09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D56-7D40-41B0-9AEE-22C6271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FCE-63CC-482C-9561-33A1263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24E-AEA8-49AB-9715-6B6F89B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CC0-8F9B-431D-8CAE-BC6AE07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0CB-EB5B-49CC-B2C1-3218876C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3145-AB86-4216-9FBA-9541A4A17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61;&#1072;&#1081;&#1085;&#1077;&#1082;" TargetMode="External"/><Relationship Id="rId4" Type="http://schemas.openxmlformats.org/officeDocument/2006/relationships/hyperlink" Target="http://ru.wikipedia.org/wiki/&#1060;&#1077;&#1085;&#1086;&#1084;&#1077;&#1085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%CD%E5%EE%EF%EE%E7%ED%E0%ED%ED%FB%E9_%EB%E5%F2%E0%FE%F9%E8%E9_%EE%E1%FA%E5%EA%F2#cite_note-6" TargetMode="External"/><Relationship Id="rId3" Type="http://schemas.openxmlformats.org/officeDocument/2006/relationships/hyperlink" Target="http://ru.wikipedia.org/wiki/&#1056;&#1086;&#1079;&#1091;&#1101;&#1083;&#1083;&#1100;&#1089;&#1082;&#1080;&#1081;_&#1080;&#1085;&#1094;&#1080;&#1076;&#1077;&#1085;&#1090;" TargetMode="External"/><Relationship Id="rId4" Type="http://schemas.openxmlformats.org/officeDocument/2006/relationships/hyperlink" Target="http://ru.wikipedia.org/wiki/&#1042;&#1072;&#1096;&#1080;&#1085;&#1075;&#1090;&#1086;&#1085;&#1089;&#1082;&#1072;&#1103;_&#1082;&#1072;&#1088;&#1091;&#1089;&#1077;&#1083;&#1100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0;&#1086;&#1089;&#1084;&#1086;&#1087;&#1086;&#1080;&#1089;&#1082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57;&#1057;&#1057;&#1056;" TargetMode="External"/><Relationship Id="rId6" Type="http://schemas.openxmlformats.org/officeDocument/2006/relationships/hyperlink" Target="http://ru.wikipedia.org/wiki/&#1055;&#1088;&#1086;&#1077;&#1082;&#1090;_&#171;&#1057;&#1080;&#1085;&#1103;&#1103;_&#1082;&#1085;&#1080;&#1075;&#1072;&#187;" TargetMode="External"/><Relationship Id="rId7" Type="http://schemas.openxmlformats.org/officeDocument/2006/relationships/hyperlink" Target="http://ru.wikipedia.org/w/index.php?title=&#1040;&#1040;&#1071;&amp;action=edit&amp;redlink=1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6;&#1080;&#1086;&#1083;&#1086;&#1082;&#1072;&#1090;&#1086;&#1088;" TargetMode="External"/><Relationship Id="rId2" Type="http://schemas.openxmlformats.org/officeDocument/2006/relationships/hyperlink" Target="http://ru.wikipedia.org/wiki/&#1041;&#1083;&#1080;&#1079;&#1082;&#1080;&#1081;_&#1082;&#1086;&#1085;&#1090;&#1072;&#1082;&#1090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7-tub-ru.yandex.net/i?id=366965518-16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ЛО:МИФ ИЛИ  РЕ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DAFT_PUNK_-_Veridis_Quo_Derek_Marin_Mix_(iplayer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НЛО. Наиболее интересное видео.mp4" descr="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75688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0-tub-ru.yandex.net/i?id=471009516-48-72&amp;n=21"/>
          <p:cNvPicPr/>
          <p:nvPr/>
        </p:nvPicPr>
        <p:blipFill>
          <a:blip r:embed="rId1"/>
          <a:stretch/>
        </p:blipFill>
        <p:spPr>
          <a:xfrm>
            <a:off x="250920" y="476280"/>
            <a:ext cx="4386240" cy="324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272520"/>
            <a:ext cx="433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опо́знанный лета́ющий объе́к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UFO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. Наиболее полное определение НЛО дал исследователь непознанног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жозеф Аллен Хайне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«восприятие объекта или света, видимого в небе или космосе либо над земной поверхностью;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еноме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призрак, траектория, общая динамика и характер свечения которого не находит логического, общепринятого объяснения, является тайной не только для очевидцев, но и остаётся необъяснённым даже после пристального изучения всех доступных свидетельств специалистами, способными, если это возможно, идентифицировать явление с точки зрения здравого смысл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5.ifotki.info/org/4d30f075fbbb4378494917d8d06d59b54e252751952446.jpg"/>
          <p:cNvPicPr/>
          <p:nvPr/>
        </p:nvPicPr>
        <p:blipFill>
          <a:blip r:embed="rId1"/>
          <a:stretch/>
        </p:blipFill>
        <p:spPr>
          <a:xfrm>
            <a:off x="179280" y="1413000"/>
            <a:ext cx="5040360" cy="38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003280" y="272520"/>
            <a:ext cx="3683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4 июня 1947 года американский бизнесмен Кеннет Арнольд заметил девять летящих объектов, похожих на тарелки. Это был первый зарегистрированный случай встречи человека с НЛО</a:t>
            </a:r>
            <a:r>
              <a:rPr b="0" lang="ru-RU" sz="2200" spc="-1" strike="noStrike" u="sng" baseline="30000">
                <a:solidFill>
                  <a:srgbClr val="0000ff"/>
                </a:solidFill>
                <a:uFillTx/>
                <a:latin typeface="Calibri"/>
                <a:hlinkClick r:id="rId2"/>
              </a:rPr>
              <a:t>[7]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ьшую известность в обществе получили (в том числе во множестве книг и фильмов) такие явления НЛО, ка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озуэлльский инциден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1947 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ашингтонская карусел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1952 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1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8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4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3-tub-ru.yandex.net/i?id=388159520-21-72&amp;n=21"/>
          <p:cNvPicPr/>
          <p:nvPr/>
        </p:nvPicPr>
        <p:blipFill>
          <a:blip r:embed="rId1"/>
          <a:stretch/>
        </p:blipFill>
        <p:spPr>
          <a:xfrm>
            <a:off x="179280" y="549360"/>
            <a:ext cx="401328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11280" y="333000"/>
            <a:ext cx="4475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азных странах существует множество общественных инициативных организаций и энтузиастов, занимающихся регистрацией и аналитикой явлений НЛО, в том числе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осс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смо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странах (в том числ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СС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случаи наблюдения НЛО фиксировались уполномоченными военными и гражданскими государственными структурами, в том числе в рамках действия засекреченных специальных программ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оект «Синяя книг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4832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ередине мая 2008 года правительств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еликобритан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крыло доступ к секретным материалам о «контактах с инопланетянами» с 1978 по 1987Документы содержат рассказы очевидцев о «контактах с инопланетянами», но достоверных подтверждений этим свидетельствам нет. Кроме того, самые интересные части этих документов практически всегда заштрихованы, часто под штрихом оказываются целые абзацы и понять, что же спрятано под закрашенным текстом неподготовленному человеку довольно сложно. В дальнейшем были частично рассекречены новые партии документов, в том числе случай боевого конт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im3-tub-ru.yandex.net/i?id=538724413-26-72&amp;n=21"/>
          <p:cNvPicPr/>
          <p:nvPr/>
        </p:nvPicPr>
        <p:blipFill>
          <a:blip r:embed="rId2"/>
          <a:stretch/>
        </p:blipFill>
        <p:spPr>
          <a:xfrm>
            <a:off x="250920" y="333360"/>
            <a:ext cx="4437000" cy="3166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333000"/>
            <a:ext cx="4316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на больших расстоян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ются наблюдения, когда очевидца и НЛО разделяют «сотни километров и километры». Среди них различаю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ые огн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видимые, чётко очерченные огни неизвестной природы, обычно красного, оранжевого или белого цвета. К этой группе относится львиная доля наблюдений НЛО на больших расстояниях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ые ди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блюдаемые в дневное время объекты, как правило, овальные или дискообразные, по виду металлические. Их фиксируют высоко в небе, близко у земли и нередко видят в состоянии неподвижного зависания. Дневные диски могут мгновенно набирать огромную скорость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локационные „всплески“ на экра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радиолокаторов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обенно совпадающие с визуальным слежением за НЛО, считаются весьма ценными свидетельствами реальности наблюдаемых объектов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контак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Близкими контак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контакты с НЛО «не далее двухсот метров». К ним относя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перв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-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ЛО наблюдается в воздухе и по впечатлению, не взаимодействуют с окружающей средой, животными и очевидцами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втор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2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случаях регистрируется взаимодействие НЛО с окружающей средой в виде помех в работе радиоэлектронных устройств, выключения систем зажигания у автомобилей, появления отпечатков на земле или опалённых огнём сле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мечено, что часто CE-2 происходят среди крупных автомагистр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третье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3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одгруппе сообщений присутствуют обитатели НЛО — более или менее человекоподобные существа, называемые сейчас гуманоидами, энлонавтами или просто — пришельцами… Обычно они не входят в прямой контакт или в переговоры с очевидцами, но в последние годы необъяснимо участились сообщения о временном задержании энлонавтами зазевавшихся свидетелей с целью „медицинского“ осмотр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четвёрт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4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ищ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3-tub-ru.yandex.net/i?id=542761641-04-72&amp;n=21"/>
          <p:cNvPicPr/>
          <p:nvPr/>
        </p:nvPicPr>
        <p:blipFill>
          <a:blip r:embed="rId1"/>
          <a:stretch/>
        </p:blipFill>
        <p:spPr>
          <a:xfrm>
            <a:off x="542880" y="69228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новидности НЛ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Твёрдые»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искообраз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еуголь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еретенообразные объек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Яйцевид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етательные аппара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Шне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ЛО в виде бумеран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Мягкими» объекта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зывают НЛО, не производящие впечатления состоящих из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веществ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 частности, таинственное свечение, туман с необычными свойствами, огонь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4-tub-ru.yandex.net/i?id=34886366-62-72&amp;n=21"/>
          <p:cNvPicPr/>
          <p:nvPr/>
        </p:nvPicPr>
        <p:blipFill>
          <a:blip r:embed="rId1"/>
          <a:stretch/>
        </p:blipFill>
        <p:spPr>
          <a:xfrm>
            <a:off x="250920" y="260280"/>
            <a:ext cx="318276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m3-tub-ru.yandex.net/i?id=206511404-58-72&amp;n=21"/>
          <p:cNvPicPr/>
          <p:nvPr/>
        </p:nvPicPr>
        <p:blipFill>
          <a:blip r:embed="rId2"/>
          <a:stretch/>
        </p:blipFill>
        <p:spPr>
          <a:xfrm>
            <a:off x="250920" y="2781360"/>
            <a:ext cx="2665440" cy="19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im7-tub-ru.yandex.net/i?id=353170019-11-72&amp;n=21"/>
          <p:cNvPicPr/>
          <p:nvPr/>
        </p:nvPicPr>
        <p:blipFill>
          <a:blip r:embed="rId3"/>
          <a:stretch/>
        </p:blipFill>
        <p:spPr>
          <a:xfrm>
            <a:off x="4140360" y="189000"/>
            <a:ext cx="2960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3-tub-ru.yandex.net/i?id=300517329-57-72&amp;n=21"/>
          <p:cNvPicPr/>
          <p:nvPr/>
        </p:nvPicPr>
        <p:blipFill>
          <a:blip r:embed="rId4"/>
          <a:stretch/>
        </p:blipFill>
        <p:spPr>
          <a:xfrm>
            <a:off x="5364000" y="4853160"/>
            <a:ext cx="3569040" cy="200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im5-tub-ru.yandex.net/i?id=111376719-54-72&amp;n=21"/>
          <p:cNvPicPr/>
          <p:nvPr/>
        </p:nvPicPr>
        <p:blipFill>
          <a:blip r:embed="rId5"/>
          <a:stretch/>
        </p:blipFill>
        <p:spPr>
          <a:xfrm>
            <a:off x="3132000" y="249228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8:53:02Z</dcterms:created>
  <dc:creator>DAY</dc:creator>
  <dc:description/>
  <dc:language>en-US</dc:language>
  <cp:lastModifiedBy>DAY</cp:lastModifiedBy>
  <dcterms:modified xsi:type="dcterms:W3CDTF">2012-09-16T12:06:18Z</dcterms:modified>
  <cp:revision>19</cp:revision>
  <dc:subject/>
  <dc:title>Слайд 1</dc:title>
</cp:coreProperties>
</file>