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6FA1-E95F-4011-B23F-65C5DD06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C86D-FA7F-4D4B-BB74-2CFC94D1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9617-368D-4734-87C6-B29A3A36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5192-F04B-4983-AD31-A2BEB1D6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D27E-D376-4672-AF2D-24130660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B6F2-98DA-40E8-811D-3008284E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9292-33DA-4052-B16C-7BAB3BA3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1E5F-2BFB-43F0-8C57-B8EC0228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4374-729B-47FB-BFF1-0BE744C2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3D4F-D9A1-41EA-BDFA-A9A65D1B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91AF-74E6-4185-8F5A-756C5B12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1CBC-4375-40C8-8814-5B09A8E8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001B-D39C-4E64-A850-0C0DCBA4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02DD-9632-471D-A7CE-EB14EF67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F1A8-242B-4D78-BAB6-9B0764AE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5A00-CCF6-4A39-8FFC-E0D86873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4283-FD93-4E63-9710-7E774CF8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EEF3-51FA-4B22-8BC4-E4566A15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5911-5B81-4DCD-9FDB-9826B9EC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8CC6-BCFB-46B1-8B84-FA0B512B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C122-7C77-4EAF-8513-60C9B47F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DE8E-0130-458C-B986-227752D8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4142-D840-4796-94B2-B2EE220F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57DC-62CE-4EC9-BF05-2967492F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E326-4320-48BA-853F-8522F1CEAC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DB0B-1192-430C-AD99-06708C43F0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don-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8480" y="738360"/>
            <a:ext cx="5195880" cy="53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You can see the statue of Liberty in Pari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Jordan du Luxembur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4119840" cy="48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great bell in Notre dame in Paris is called Emmanuel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44640" y="1662120"/>
            <a:ext cx="545472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ig Ben is the nickname for the tow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ickname for the bell of the c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2120" y="2924280"/>
            <a:ext cx="76197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edding of Charl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e of Wal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ady Diana Spenc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k pl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uly 19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otre Dame in Pari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St Paul’s Cathed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ond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428840"/>
            <a:ext cx="37083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dding of Prince William with Miss Catherin Middleton took place on 2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ril 2011 at Westminster Abbey in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24000" y="3298680"/>
            <a:ext cx="626436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year in December , the people of France send a Christmas Tree to Britain, which is erected in Trafalgar Square. This is thanks for Britain’s part in their liberation during the second world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the people of Norw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724360" y="4065480"/>
            <a:ext cx="3419640" cy="2792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 are keen on English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ut we are crazy about French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Yes or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11280" y="234936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ondon and Paris are very different cities but both cities were founded by the Roman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348000" y="2000160"/>
            <a:ext cx="5796000" cy="4857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 Residence of the Queen of Great Britain is Buckingham Palace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56000" y="3048120"/>
            <a:ext cx="3975120" cy="3809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Elysee Palace is the official residence of the President of the French Republic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62120" y="2276640"/>
            <a:ext cx="7619760" cy="401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Eiffel Tower is older than Big B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Ben 18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ffel tower 18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4248360" cy="3165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334040" y="1268280"/>
            <a:ext cx="4809960" cy="558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Parisian metro is older than Lond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line in London was built in 18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Parisian line was built in 1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00720" y="3573360"/>
            <a:ext cx="4643280" cy="3284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3573360"/>
            <a:ext cx="4535640" cy="3284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4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t took five years to complete the Eiffel Tow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on the Eiffel Tower began in 1887 and lasted until 188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492360" y="3357720"/>
            <a:ext cx="5651640" cy="3311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uy de Maupassant didn’t like the Eiffel Tow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ate at one of the tower’s restaurants almost every day, because it was the only place in Paris from where the tower was not vi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132000" y="3645000"/>
            <a:ext cx="2857680" cy="3017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6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05:42:44Z</dcterms:created>
  <dc:creator>PC</dc:creator>
  <dc:description/>
  <dc:language>en-US</dc:language>
  <cp:lastModifiedBy>PC</cp:lastModifiedBy>
  <dcterms:modified xsi:type="dcterms:W3CDTF">2012-03-15T06:26:05Z</dcterms:modified>
  <cp:revision>7</cp:revision>
  <dc:subject/>
  <dc:title>Quiz</dc:title>
</cp:coreProperties>
</file>