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A290-ABD2-4256-9268-17319534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80CE-E594-4102-ABAC-DEC2F185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BA2B-3454-4D58-9C38-22F3D54F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E5DD-5C41-46A1-B7BB-F91B2875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FDE5-2C0A-436A-8C92-6A0EB4CE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EAF2-8537-4DDB-A158-6C4F1F28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09D1-4BC1-4E25-B729-23A3EEB4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9F69-B340-43CD-817B-0529965B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FEE4-B69C-45E9-8C9B-9147B6D7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97AE-B615-4C4B-B731-5A62074F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EA50-9633-47DF-8664-32439938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9B76-4E18-4D78-AFC7-B5E70BC1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2752-0520-4740-8BDD-745F1796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906B-4CD7-44B3-A1C4-EBA88E27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1CC9-92AD-4BB3-A770-3BEC9F4A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DB63-F303-49BC-A957-D130D937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D31C-15E6-4227-B8C2-10EE6991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2D48-D18F-4246-B48D-76F62904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AB76-DA20-4B18-833A-22F3BEFD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4032-E151-4844-B3BC-7C66CA4B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BE67-A51C-43CC-A353-FE4F821D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9356-1C4D-47BF-B013-050B2FD6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26AB-EF5A-4FDE-97A6-BA17B21C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D428-1331-4BDC-9D12-8A7039B0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8A0A-B1B1-4C74-B841-CF66380CA3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212C-3136-48D9-B8F3-82102502CF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don-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8480" y="738360"/>
            <a:ext cx="5195880" cy="53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You can see the statue of Liberty in Pari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Jordan du Luxembur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4119840" cy="48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great bell in Notre dame in Paris is called Emmanuel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44640" y="1662120"/>
            <a:ext cx="545472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ig Ben is the nickname for the tow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ickname for the bell of the c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2120" y="2924280"/>
            <a:ext cx="76197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edding of Charl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e of Wal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ady Diana Spenc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k pl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uly 19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otre Dame in Pari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St Paul’s Cathed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ond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428840"/>
            <a:ext cx="37083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dding of Prince William with Miss Catherin Middleton took place on 2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ril 2011 at Westminster Abbey in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24000" y="3298680"/>
            <a:ext cx="626436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year in December , the people of France send a Christmas Tree to Britain, which is erected in Trafalgar Square. This is thanks for Britain’s part in their liberation during the second world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the people of Norw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724360" y="4065480"/>
            <a:ext cx="3419640" cy="2792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 are keen on English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ut we are crazy about French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Yes or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11280" y="234936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ondon and Paris are very different cities but both cities were founded by the Roman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348000" y="2000160"/>
            <a:ext cx="5796000" cy="4857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 Residence of the Queen of Great Britain is Buckingham Palace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56000" y="3048120"/>
            <a:ext cx="3975120" cy="3809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Elysee Palace is the official residence of the President of the French Republic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62120" y="2276640"/>
            <a:ext cx="7619760" cy="401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Eiffel Tower is older than Big B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Ben 18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ffel tower 18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4248360" cy="3165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334040" y="1268280"/>
            <a:ext cx="4809960" cy="558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Parisian metro is older than Lond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line in London was built in 18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Parisian line was built in 1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00720" y="3573360"/>
            <a:ext cx="4643280" cy="3284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3573360"/>
            <a:ext cx="4535640" cy="3284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4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t took five years to complete the Eiffel Tow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on the Eiffel Tower began in 1887 and lasted until 188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492360" y="3357720"/>
            <a:ext cx="5651640" cy="3311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uy de Maupassant didn’t like the Eiffel Tow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ate at one of the tower’s restaurants almost every day, because it was the only place in Paris from where the tower was not vi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132000" y="3645000"/>
            <a:ext cx="2857680" cy="3017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6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05:42:44Z</dcterms:created>
  <dc:creator>PC</dc:creator>
  <dc:description/>
  <dc:language>en-US</dc:language>
  <cp:lastModifiedBy>PC</cp:lastModifiedBy>
  <dcterms:modified xsi:type="dcterms:W3CDTF">2012-03-15T06:26:05Z</dcterms:modified>
  <cp:revision>7</cp:revision>
  <dc:subject/>
  <dc:title>Quiz</dc:title>
</cp:coreProperties>
</file>