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7DB-A79D-4BD1-899B-BDE6F3AC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4CB-8FA6-4B64-B165-985F359A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999-3C77-4B66-9F51-8659041F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F41-48C9-4375-8BF0-960D1495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4945-CF65-430B-8A86-203F5360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C15E-A8B0-48F1-B881-55D2567E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85FB-E555-4DD7-AC6E-A6FF72B7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DEDC-7F24-4EB8-9730-F484EC33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BA3A-6EA3-4AB9-8F8E-651A40A9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C2BA-274C-4BEC-8120-EE1348A9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B15F-C5F7-42BF-83EF-F1C889C4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9DF9-E342-45D2-9E10-7273963A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2669-EC2D-4473-A30D-47C623C3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EFDA-0C80-4E39-AF7B-43E21A12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E765-FB7F-4B4E-966A-8A758A20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E47C-A666-47DF-AC22-86071E8D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400A-A178-4A7D-B62F-2AF1280B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DE7-BAA5-4976-9B94-E6D04633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6E4-05C4-4A26-BD4C-2E4258DA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21C-83A3-46C5-9FF2-1986258E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F8BD-291D-4EBA-910E-796DDFEA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FD58-A736-4693-B29D-FE4FE88E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0A34-D3B0-4A88-9892-03D443E2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880E-445D-44E2-B94A-85E37770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38A3-7E79-4FD0-AB64-DF1924F0E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A629-2730-4B4E-80E2-DAC309C8B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ojabiblioteka23.blog.ru/135482579.html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94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ЖИВИ, УЧЕБНИК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84360" y="1916280"/>
            <a:ext cx="316728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втор рабо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5472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 МБОУ «СОШ№ 14» города Братска Решетникова Анна Пет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83200" y="3068640"/>
            <a:ext cx="30909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КНИГУ ЧИТАЕШЬ, 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КАК НА КРЫЛЬЯХ ЛЕТАЕШЬ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128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6769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КНИГА НЕ САЙКА, А РАСКУСИШЬ-СЛАДКО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Я книги выбираю с наслаждень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а полках, в тишине библиотек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о радость вдруг охватит, то волнень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едь книга каждая, как будто человек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дна стара, мудра, зачитана до дыр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другой все необычно, странно, ново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не книги открывают целый мир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За шагом шаг иду от слова к слову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а Севере могу я побывать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 в тропиках там, где растут бананы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кая радость открывать, читать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ассказы, сказки, повести, романы!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огу узнать, что было век назад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 что когда-нибудь, наверно, будет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 многом книги людям говорят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 многом книги помогают людям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Л. Охотниц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64000" y="3284640"/>
            <a:ext cx="35290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«Твой лучший друг — учебник»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орогие ребята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ют вам учебники в школах бесплат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это, конечно же, очень прият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 в этой приятности что неприят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сною учебник сдается обратн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32000" y="4292640"/>
            <a:ext cx="2736720" cy="2335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877080" y="4076640"/>
            <a:ext cx="210960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Вечных истин немеркнущий свет —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Это — книга. Да здравствует книга!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5761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лавный помощник в учёбе – 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учебни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н молчаливый и добрый волшебни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нания мудрые вечно хранит,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ы сбереги его праздничный вид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азу в обложку его оберни, ручкой 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ачкай, не рви и не мн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авный учебник научит всем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удь благодарен за это ему!    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76720" y="3875040"/>
            <a:ext cx="40672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амятка 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«Как обращаться с учебником» 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594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Оберни  учебник бумагой или вложи его в специальную облож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 Не загибай  страницы учебника, пользуйся заклад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Не перегибай  учебник: от этого вырываются страни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 Не закладывай  ручку в учебник или карандаш: от этого лома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реп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Не пиши  и не рисуй  в учебниках. Помни: учебник – э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щественная собствен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 Не бери  учебник грязными руками и не читай  его во время е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 Клади учебник только на чистый стол или пар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Не читай учебник на солнце: солнечные лучи обесцвечи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ложку и страницы книг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 Перевертывая страницу, держи её за верхний угол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   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Указанье грядущих дорог —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Это — книга. Да здравствует книга!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26920" y="1904760"/>
            <a:ext cx="6218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Жизнь притомила, неч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ыша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 от проблем просто неку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еть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Это в неволе томится душ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нигу возьми—и откро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ердц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2475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6491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Учебник – твой друг, без него как без рук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8521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Неграмотный, как слепой, а книга глаза открыва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Книга в счастье украшает, а в несчастье утеша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Книга подобна воде, дорогу пробьет везд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Прочел хорошую книгу – встретился с друг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2351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Очень важно для человека знать дорогу в библиотеку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6662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 ты, который дружен с книгой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Тебе спасение дан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Чуть что не так - немедля прыгай в е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олшебное окн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 я иду в библиотеку и там сижу д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есяти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орядочному человеку в России есть ку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ой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.Бы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27880" y="0"/>
            <a:ext cx="15494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4:28:13Z</dcterms:created>
  <dc:creator>МАМА</dc:creator>
  <dc:description/>
  <dc:language>en-US</dc:language>
  <cp:lastModifiedBy>МАМА</cp:lastModifiedBy>
  <dcterms:modified xsi:type="dcterms:W3CDTF">2012-09-17T13:46:12Z</dcterms:modified>
  <cp:revision>10</cp:revision>
  <dc:subject/>
  <dc:title>ЖИВИ, УЧЕБНИК!</dc:title>
</cp:coreProperties>
</file>