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0C6-387A-4281-8613-A9AE311C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1DC-8BDF-4096-A818-92AD593D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F190-2E5F-4253-AEEF-7F9702EA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118-54A2-45DB-A5FA-8337537E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2F0C-5E8F-4A26-8CC8-2AC4FBC5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9493-6B17-4E1D-9846-8BBB4350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BBB0-B080-42AF-9DDB-F738A92F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8C42-3A1F-4942-9741-69ED5732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1F64-7807-4FE3-9EDC-3BA63D30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5BF6-BBBD-49B3-95DA-D5E364DF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312A-95E5-4A3F-8B2C-7C3E99F7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A2F-9D0E-474E-9293-F5CC5B4A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6F07-0A47-4D92-9E5A-4A7B849A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946A-2132-46A1-928C-38A7FF0C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5F27-4414-41CE-A64E-81C3958F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3761-3C9F-41B0-996A-616E2538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7CC3-596B-4D54-9327-981F87D7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73B-A010-4F95-A8D3-FC1B05C4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5C7-C434-4362-8D73-1B529979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A6E1-20DA-446A-A7E7-33FEED82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D9E-269A-4B06-A98D-58E852A2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4B5-199F-46C2-B98C-C0F4D14C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D2E2-8A50-4649-9424-ACA542B1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2AD-8A78-4076-87A2-751A0261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B15A-1972-4D50-8A9E-78EB063D9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824E-ED29-4E1E-89F4-2DE87CD9E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ojabiblioteka23.blog.ru/135482579.htm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94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ЖИВИ, УЧЕБНИК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316728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втор раб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5472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 МБОУ «СОШ№ 14» города Братска Решетникова Анна Пет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83200" y="3068640"/>
            <a:ext cx="30909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КНИГУ ЧИТАЕШЬ, 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КАК НА КРЫЛЬЯХ ЛЕТАЕШЬ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128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676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КНИГА НЕ САЙКА, А РАСКУСИШЬ-СЛАДКО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Я книги выбираю с наслаждень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 полках, в тишине библиотек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о радость вдруг охватит, то волнен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дь книга каждая, как будто человек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дна стара, мудра, зачитана до дыр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другой все необычно, странно, ново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не книги открывают целый мир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а шагом шаг иду от слова к слову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 Севере могу я побывать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 в тропиках там, где растут бананы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кая радость открывать, читать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ассказы, сказки, повести, романы!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гу узнать, что было век назад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 что когда-нибудь, наверно, будет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 многом книги людям говорят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 многом книги помогают людям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Л. Охотниц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64000" y="3284640"/>
            <a:ext cx="35290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«Твой лучший друг — учебник»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орогие ребята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ют вам учебники в школах бесплат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это, конечно же, очень прият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в этой приятности что неприят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сною учебник сдается обрат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32000" y="4292640"/>
            <a:ext cx="2736720" cy="2335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877080" y="4076640"/>
            <a:ext cx="210960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Вечных истин немеркнущий свет —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Это — книга. Да здравствует книга!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5761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авный помощник в учёбе – 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учебни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 молчаливый и добрый волшебни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нания мудрые вечно хранит,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ы сбереги его праздничный вид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азу в обложку его оберни, ручкой 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ачкай, не рви и не мн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авный учебник научит всем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удь благодарен за это ему!  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76720" y="3875040"/>
            <a:ext cx="40672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амятка 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«Как обращаться с учебником» 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594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Оберни  учебник бумагой или вложи его в специальную облож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 Не загибай  страницы учебника, пользуйся заклад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Не перегибай  учебник: от этого вырываются стран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Не закладывай  ручку в учебник или карандаш: от этого лом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еп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Не пиши  и не рисуй  в учебниках. Помни: учебник – э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щественная собстве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 Не бери  учебник грязными руками и не читай  его во время е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 Клади учебник только на чистый стол или пар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Не читай учебник на солнце: солнечные лучи обесцвечи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ложку и страницы кни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 Перевертывая страницу, держи её за верхний угол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  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Указанье грядущих дорог —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Это — книга. Да здравствует книга!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26920" y="1904760"/>
            <a:ext cx="6218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Жизнь притомила, неч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ыш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 от проблем просто нек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еть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Это в неволе томится душ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нигу возьми—и откро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ердц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475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6491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Учебник – твой друг, без него как без рук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Неграмотный, как слепой, а книга глаза открыва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Книга в счастье украшает, а в несчастье утеша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Книга подобна воде, дорогу пробьет везд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Прочел хорошую книгу – встретился с друг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2351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чень важно для человека знать дорогу в библиотеку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6662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 ты, который дружен с книгой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Тебе спасение да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Чуть что не так - немедля прыгай в 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олшебное окн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 я иду в библиотеку и там сижу д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есяти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рядочному человеку в России есть к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й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.Бы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27880" y="0"/>
            <a:ext cx="1549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4:28:13Z</dcterms:created>
  <dc:creator>МАМА</dc:creator>
  <dc:description/>
  <dc:language>en-US</dc:language>
  <cp:lastModifiedBy>МАМА</cp:lastModifiedBy>
  <dcterms:modified xsi:type="dcterms:W3CDTF">2012-09-17T13:46:12Z</dcterms:modified>
  <cp:revision>10</cp:revision>
  <dc:subject/>
  <dc:title>ЖИВИ, УЧЕБНИК!</dc:title>
</cp:coreProperties>
</file>