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E46-5BED-48ED-A3CA-69C69E8E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29C-CFD0-4526-8A5C-4F68447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B1C-E3CC-4221-90B0-197E4F86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B8F-C11E-4567-901A-7889292B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1F1-92F8-4AC5-9AC6-14066D85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C64-3EE3-4A30-9398-F4984AA3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AB9-A25B-4DB7-B217-AA613865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5B4-9446-4FC1-959F-C3D1ABAC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387-14C0-4802-B9FE-C6A58E6C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6F9-CD8B-4FE2-8645-C50D4F1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238-9DF5-4DE1-89FF-562E2377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56F-53D6-4618-9C05-6432882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415-1693-470E-973B-5BFA5F50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700280"/>
            <a:ext cx="31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Н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венит звонок, рассыпав смех весе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сковался в летний час по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добрый, школа, дорогая шко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добрый, наш уютный, светлый клас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ять ребят зовешь ты на рассвет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частливых, загорелых, озо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говоришь: "Мы снова вместе, дети!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с встречаешь, как друзей свои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"Очищение головы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 дурных мыслей"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148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Обращения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к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Повелителю Пятёро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920" y="5373720"/>
            <a:ext cx="7067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Икретяп ан ясьтичу учох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346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Отказ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от враждебных намер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48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ЧТО ГОД УЧЕБНЫЙ ВАМ ПРОРОЧ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Хронические недосып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Непредвиденные вызовы родителей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Временную амнезию во время ответов у д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Циклические (в конце каждой четверти) припадки любви к школьным учи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Быть героем школьных ист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Славу победителя в школьном крос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45200" y="3716280"/>
            <a:ext cx="2098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ЧЕГО СТОИТ ОПАСАТЬСЯ В НАСТУПИВШЕМ УЧЕБНОМ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Своего острого язы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Перемен в личной жизни, которые произойдут на большой переме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Овладения навыками пользователя компьютера и его повышенного интереса к дискам с коллекциями ученических сочинений учителем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Потерять учебник по геомет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Приводящего в восторг ощущения свободного полета при своем падении в глазах учителя физ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 Однажды весной прийти в школу в свитере наизнанку и не заметить это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0" y="4160880"/>
            <a:ext cx="255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ЧТО О ВАС ГОВОРЯТ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Вы - яркая незаурядная л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Величайший из лодырей всех лет и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Лучше бы вам этого не зн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Для этого класса вы слишком интеллиген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Мастер разводить мелкую философию на глубоки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Бывают ученики сложнее, но ред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56360" y="2781360"/>
            <a:ext cx="2695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ЧТО О ТЕБЕ ДУМАЮТ ОДНОКЛАСС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Мы за тобой, как за каменной сте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ам не жить друг без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чем, зачем на белом свете есть безответная люб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онечно, ты не Ди Каприо, но тоже ни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Будь чуть-чуть добрее к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С тобой можно идти в развед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00720" y="3267000"/>
            <a:ext cx="2843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0:12:42Z</dcterms:created>
  <dc:creator>*</dc:creator>
  <dc:description/>
  <dc:language>en-US</dc:language>
  <cp:lastModifiedBy>*</cp:lastModifiedBy>
  <dcterms:modified xsi:type="dcterms:W3CDTF">2012-08-31T10:49:47Z</dcterms:modified>
  <cp:revision>11</cp:revision>
  <dc:subject/>
  <dc:title>Слайд 1</dc:title>
</cp:coreProperties>
</file>