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427-80E2-497A-BF12-963E4BCE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908-18EB-4382-8F13-DC601BB7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B16-D4CE-4138-A546-BB583A15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3B6-116F-4751-ABF6-45CEC9EE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7A8-083F-43F3-84C1-E94A0977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DD7-4984-4DDB-AA5E-3A6977E0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633-0802-4A2F-96F3-EA57DF24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E30-E1C4-4456-BAAE-8383828E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8DB-AD3F-45EC-B9BA-511E9D83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499-D05D-47B1-8643-E357F825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AB2-8B36-4866-9517-63AB8567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998-93C1-4F83-95FB-A92175A7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8260-67EA-41ED-AC0F-7F2400FD6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57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1700280"/>
            <a:ext cx="316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НТЯБ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96880"/>
            <a:ext cx="9144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енит звонок, рассыпав смех весел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сковался в летний час по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добрый, школа, дорогая шко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добрый, наш уютный, светлый клас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ять ребят зовешь ты на рассвет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частливых, загорелых, озо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говоришь: "Мы снова вместе, дети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нас встречаешь, как друзей свои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"Очищение головы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т дурных мыслей"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1484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Обращения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к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Повелителю Пятёро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2920" y="5373720"/>
            <a:ext cx="7067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Икретяп ан ясьтичу учох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346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Отказ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от враждебных намер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48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ЧТО ГОД УЧЕБНЫЙ ВАМ ПРОРОЧ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Хронические недосып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Непредвиденные вызовы родителей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Временную амнезию во время ответов у до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Циклические (в конце каждой четверти) припадки любви к школьным учител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Быть героем школьных исто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Славу победителя в школьном крос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45200" y="3716280"/>
            <a:ext cx="2098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ЧЕГО СТОИТ ОПАСАТЬСЯ В НАСТУПИВШЕМ УЧЕБНОМ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Своего острого язы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Перемен в личной жизни, которые произойдут на большой переме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Овладения навыками пользователя компьютера и его повышенного интереса к дискам с коллекциями ученических сочинений учителем литерату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Потерять учебник по геометр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Приводящего в восторг ощущения свободного полета при своем падении в глазах учителя физ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 Однажды весной прийти в школу в свитере наизнанку и не заметить эт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88000" y="4160880"/>
            <a:ext cx="255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ЧТО О ВАС ГОВОРЯТ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Вы - яркая незаурядная л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Величайший из лодырей всех лет и кла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Лучше бы вам этого не зн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Для этого класса вы слишком интеллигент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Мастер разводить мелкую философию на глубоких мес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Бывают ученики сложнее, но ред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56360" y="2781360"/>
            <a:ext cx="26956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ЧТО О ТЕБЕ ДУМАЮТ ОДНОКЛАСС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Мы за тобой, как за каменной сте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Нам не жить друг без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Зачем, зачем на белом свете есть безответная любов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Конечно, ты не Ди Каприо, но тоже нич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Будь чуть-чуть добрее к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С тобой можно идти в развед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00720" y="3267000"/>
            <a:ext cx="2843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0:12:42Z</dcterms:created>
  <dc:creator>*</dc:creator>
  <dc:description/>
  <dc:language>en-US</dc:language>
  <cp:lastModifiedBy>*</cp:lastModifiedBy>
  <dcterms:modified xsi:type="dcterms:W3CDTF">2012-08-31T10:49:47Z</dcterms:modified>
  <cp:revision>11</cp:revision>
  <dc:subject/>
  <dc:title>Слайд 1</dc:title>
</cp:coreProperties>
</file>