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658-BE40-4A99-9053-9AAA0FB2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3D0-EBA3-471F-A10A-D72EC160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978-03A2-4819-919D-18868F0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65F-2D55-4E98-983D-86BB8C33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0D8D-F268-4332-B5E3-3016E08A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E902-F203-40AE-A06C-F6B32C1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B3B-4E4A-46CA-9FF8-5DD38A7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D0A5-23C7-4455-B87D-514857D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21EF-A31D-4D59-9326-3E4FD20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4F8-2D53-4F75-B9BF-9A79F6C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C00B-F419-4235-B51F-ED6B5BAD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953-257D-4BF4-ABAA-D254AEA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15F2-0C43-4229-B71C-99C76B3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938-FABD-4953-BB87-A3137A81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0D1E-51AA-4DDC-97D5-14DFFB23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2B61-DD0A-4270-81FA-5966B20D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633-6F9C-44FD-9447-9B5A16F2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4053-2655-4371-9607-BAD316E9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4B7F-C5CD-404B-8F54-6411A582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00D3-EC70-40EA-850E-3DFA6648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7523-CE92-4C1C-AF86-54C1B9EE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34B2-639F-455A-B8EF-0904C97A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890-9FA6-482C-9F5B-CD64341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5ACD-5029-458E-8D8B-4FF6BA2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671E-92B1-4183-BC50-161A4AC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F524-395F-4E88-B1EB-31B49EB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BF80-5978-487B-9EA7-6FC5218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07A0-4A86-4A41-8819-683E0C0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D52F-91AC-467F-9D77-FC10EEE9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40277-BF08-4355-B294-3359282C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C631-3478-4A0B-890D-7DF3A583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B475-566D-45B8-A314-ACE23AE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A71C3-BB77-4879-B698-6E0FE09D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43F-7976-4220-9E87-C9138D1D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E670-0311-4C68-A8CD-F4EE87B4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9B97-50D4-4C5F-912D-9D383D7A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6341-58D6-4AB7-9926-8547F76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7999-48B4-4533-AEA1-CF80B63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10BB-6932-4581-A3D7-700DFBB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EB30-6751-40EB-883B-6A31B65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1275-E8DD-4A78-B8D6-66D1263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A941-F5B3-4201-95C0-F321B112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963E-98B2-4981-8140-17D1A0EE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CD7-BB77-4513-9560-F35D413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B46-CC6D-4EBC-99CF-2EC848D5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819-3F52-44EE-B2E4-0AE50F3D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8F5-B589-43C2-A8B4-4F4E54F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957-866D-4694-97BD-9B15394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9547-B113-4914-BD08-B51C9A12E3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B25F-7841-4D38-8B2D-5276968A0CE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FE7D-5965-4603-AC58-44343BF26B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435-BF91-4392-A30C-070E96C45E0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hyperlink" Target="http://www.chudopredki.ru/uploads/posts/imena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kota.ru/uploads/posts/thumbs/1299958979_5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3.mzstatic.com/us/r1000/036/Purple/14/99/bf/mzl.msowfwre.320x480-75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002.radikal.ru/i197/1011/00/be2fa54dab2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091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57760" y="5071680"/>
            <a:ext cx="50306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Учащиеся 4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МОУ СОШ № 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Руководитель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Никитенко О.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" descr="Картинка 2 из 791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897280"/>
            <a:ext cx="4356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Имена наших </a:t>
            </a:r>
            <a:r>
              <a:rPr b="1" lang="en-US" sz="5000" spc="-1" strike="noStrike" u="sng">
                <a:solidFill>
                  <a:srgbClr val="04617b"/>
                </a:solidFill>
                <a:uFillTx/>
                <a:latin typeface="Arial"/>
              </a:rPr>
              <a:t>п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85880" y="1643040"/>
          <a:ext cx="7686720" cy="4857840"/>
        </p:xfrm>
        <a:graphic>
          <a:graphicData uri="http://schemas.openxmlformats.org/drawingml/2006/table">
            <a:tbl>
              <a:tblPr/>
              <a:tblGrid>
                <a:gridCol w="5873760"/>
                <a:gridCol w="1812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и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иш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-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авный богу Яхве»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ереж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-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тригущи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Геннади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лагородный, родовиты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е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ны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е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щищать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ан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щитник люде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акси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айши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гор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инство, сила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23" name="" descr="Картинка 284 из 92875"/>
          <p:cNvPicPr/>
          <p:nvPr/>
        </p:nvPicPr>
        <p:blipFill>
          <a:blip r:embed="rId2"/>
          <a:stretch/>
        </p:blipFill>
        <p:spPr>
          <a:xfrm>
            <a:off x="8058240" y="0"/>
            <a:ext cx="1085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Имена наших </a:t>
            </a:r>
            <a:r>
              <a:rPr b="1" lang="en-US" sz="5000" spc="-1" strike="noStrike" u="sng">
                <a:solidFill>
                  <a:srgbClr val="04617b"/>
                </a:solidFill>
                <a:uFillTx/>
                <a:latin typeface="Arial"/>
              </a:rPr>
              <a:t>м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935000"/>
          <a:ext cx="8229600" cy="4373280"/>
        </p:xfrm>
        <a:graphic>
          <a:graphicData uri="http://schemas.openxmlformats.org/drawingml/2006/table">
            <a:tbl>
              <a:tblPr/>
              <a:tblGrid>
                <a:gridCol w="6994440"/>
                <a:gridCol w="123516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н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ный поток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ьг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ят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Елен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л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н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л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тья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станавливать, назначать, определять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таль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одн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арис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айка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6" name="" descr="Картинка 284 из 92875"/>
          <p:cNvPicPr/>
          <p:nvPr/>
        </p:nvPicPr>
        <p:blipFill>
          <a:blip r:embed="rId2"/>
          <a:stretch/>
        </p:blipFill>
        <p:spPr>
          <a:xfrm>
            <a:off x="8012160" y="0"/>
            <a:ext cx="1131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МЕНА БАБУШ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1143000"/>
          <a:ext cx="8191440" cy="4457880"/>
        </p:xfrm>
        <a:graphic>
          <a:graphicData uri="http://schemas.openxmlformats.org/drawingml/2006/table">
            <a:tbl>
              <a:tblPr/>
              <a:tblGrid>
                <a:gridCol w="407664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а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н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и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Зи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Га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то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57120" y="5572080"/>
          <a:ext cx="8242200" cy="365040"/>
        </p:xfrm>
        <a:graphic>
          <a:graphicData uri="http://schemas.openxmlformats.org/drawingml/2006/table">
            <a:tbl>
              <a:tblPr/>
              <a:tblGrid>
                <a:gridCol w="4121280"/>
                <a:gridCol w="412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ю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22200" y="6027840"/>
          <a:ext cx="8282160" cy="365040"/>
        </p:xfrm>
        <a:graphic>
          <a:graphicData uri="http://schemas.openxmlformats.org/drawingml/2006/table">
            <a:tbl>
              <a:tblPr/>
              <a:tblGrid>
                <a:gridCol w="8282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         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Имена дедуш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28760" y="1428840"/>
          <a:ext cx="8229600" cy="445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е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обе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Ю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але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Фили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60360" y="5962680"/>
          <a:ext cx="8280360" cy="3650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ита                                                       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Значение име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8760" y="857160"/>
          <a:ext cx="8229600" cy="5595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обедитель  на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ани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удья, б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ан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Защит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го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оинство,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ой б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тносится к богине плодоро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я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т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ж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гель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Защищ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, определять, назна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Значение име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28760" y="928800"/>
          <a:ext cx="8229600" cy="58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свят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бог плодород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победитель нар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победите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ан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защитник люд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мой бо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ан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судья, бо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устанавливать, определять, назнач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Е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светл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ный поток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та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родн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етл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а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айка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вный богу Яхв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Значение имен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9640" y="1844640"/>
          <a:ext cx="8229600" cy="3876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защищ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Геннад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лагородный, родовит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стригущ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лагородн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го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воинство, си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ни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юбимый сын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й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емледелец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пп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юбитель коне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бер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увядаемая слава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 нашем классе 12 человек: 9 мальчиков, 3 девоч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Девоч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Наташа, Анжела, Ол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альчико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Никита -1, Димы -2, Данилы – 2, Илья – 1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оля – 1, Саша – 1, Игорь -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. Среди имен наших пап самые распространенные 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Алексей (3) и Александр (3), также есть - Михаил (1), Геннадий (1), Максим (1), Олег (1), Игорь (1), Сергей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. Среди имен наших мам самые распространенные 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Елена (5) и Татьяна (2), а также – Лариса (1), Инна (1), Ольга (1), Светлана (1), Наталья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. Среди имен наших  дедушек самые распространенные 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Владимир  (4),  Николай (3), Сергей (2), Валерий (2), Юрий (2), а так же – Роберт (1), Никита (1), Филипп (1), Вена (1), Виктор(1), Михаил (1), Евгений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Среди имен наших  бабушек самые распространенные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Надежда (4), Татьяна (4),  Лида (3), Любовь (3), Ольга (2), Валентина (2), а так же  - Вера (1), Ира (1), Тоня (1), Рая (1), Зина (1), Галя (1), Света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" descr="Картинка 284 из 92875"/>
          <p:cNvPicPr/>
          <p:nvPr/>
        </p:nvPicPr>
        <p:blipFill>
          <a:blip r:embed="rId2"/>
          <a:stretch/>
        </p:blipFill>
        <p:spPr>
          <a:xfrm>
            <a:off x="7710480" y="0"/>
            <a:ext cx="14335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04617b"/>
                </a:solidFill>
                <a:uFillTx/>
                <a:latin typeface="Calibri"/>
              </a:rPr>
              <a:t>Имена в нашем классе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492000" y="1934640"/>
            <a:ext cx="5194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иколай 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нила –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Александр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Игорь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Илья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митрий –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льга 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икита 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аташа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Анжела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Картинка 4 из 791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133720"/>
            <a:ext cx="4537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378900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Цель 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49413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исследовать, какие имена распространены среди людей трёх поколений: детей,  их родителей, бабушек и дедуш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1293840" y="1916280"/>
            <a:ext cx="7850160" cy="2276280"/>
          </a:xfrm>
          <a:prstGeom prst="ellipse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Между живущих людей безымянным никто не бывает вов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минуту рождения каждый, и низкий, и знат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мя своё от родителей в сладостный дар получает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омер «0диссе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Картинка 28 из 79192">
            <a:hlinkClick r:id="rId2"/>
          </p:cNvPr>
          <p:cNvPicPr/>
          <p:nvPr/>
        </p:nvPicPr>
        <p:blipFill>
          <a:blip r:embed="rId3"/>
          <a:srcRect l="0" t="4961" r="0" b="42125"/>
          <a:stretch/>
        </p:blipFill>
        <p:spPr>
          <a:xfrm>
            <a:off x="0" y="0"/>
            <a:ext cx="2533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96720" y="691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6366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Выявить, какие мужские и женские имена распространены среди людей трёх поколений: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учащихся нашего класс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наших роди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бабушек  и дедуш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Выяснить, почему каждому человеку родители дают именно такое имя, а не какое-то друг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Выяснить, нравятся ли людям их имена. Узнать из книг сведения о значениях им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" descr="Картинка 168 из 92906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Гипотез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ы дума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что среди детей нашего класса распространены женские имена: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аташа, Оля, Анже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мужские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лья, Дима, Коля, Данила, Никита, Игор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что  среди поколения родителей, бабушек и дедушек распространены совсем другие имена, чем у детей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мена людей, которые даны им при рожд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анкетные данные, статистические данные имён детей 4 класса и их родителей. Книги об имен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Картинка 284 из 92875"/>
          <p:cNvPicPr/>
          <p:nvPr/>
        </p:nvPicPr>
        <p:blipFill>
          <a:blip r:embed="rId2"/>
          <a:stretch/>
        </p:blipFill>
        <p:spPr>
          <a:xfrm>
            <a:off x="4608360" y="692280"/>
            <a:ext cx="38386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Анкетные данные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Нравилось имя  родственникам 8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Не знают, почему   1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В честь бабушек-дедушек    4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Красиво звучит       5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В честь других родственников 2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В честь друга (подруги)       1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Редкое имя     2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Популярное, модное имя    4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По церковному календарю        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" descr="Картинка 1 из 791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2637000"/>
            <a:ext cx="30589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4617b"/>
                </a:solidFill>
                <a:uFillTx/>
                <a:latin typeface="Arial"/>
              </a:rPr>
              <a:t>Имена, данные при рождении учащимся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 *Нравятся            11          ответов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 *Не нравятся         1          отве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Картинка 234 из 92906"/>
          <p:cNvPicPr/>
          <p:nvPr/>
        </p:nvPicPr>
        <p:blipFill>
          <a:blip r:embed="rId2"/>
          <a:stretch/>
        </p:blipFill>
        <p:spPr>
          <a:xfrm>
            <a:off x="2411280" y="4118040"/>
            <a:ext cx="41054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4617b"/>
                </a:solidFill>
                <a:uFillTx/>
                <a:latin typeface="Arial"/>
              </a:rPr>
              <a:t>Тайна имени, значение имен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икита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«победитель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иколай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победитель народов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Александ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«защитник людей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Дмитрий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посвященный богине плодородия Деметре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ль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сила Божья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Ольг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святая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горь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воинство, сила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аталья 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«родная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Анжел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"ангельская"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Даниил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бог - мой судья"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" descr="Картинка 59 из 92906"/>
          <p:cNvPicPr/>
          <p:nvPr/>
        </p:nvPicPr>
        <p:blipFill>
          <a:blip r:embed="rId2"/>
          <a:stretch/>
        </p:blipFill>
        <p:spPr>
          <a:xfrm>
            <a:off x="5867280" y="3068640"/>
            <a:ext cx="243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2:23:30Z</dcterms:created>
  <dc:creator>User</dc:creator>
  <dc:description/>
  <dc:language>en-US</dc:language>
  <cp:lastModifiedBy>Ольга</cp:lastModifiedBy>
  <dcterms:modified xsi:type="dcterms:W3CDTF">2011-12-06T15:15:45Z</dcterms:modified>
  <cp:revision>50</cp:revision>
  <dc:subject/>
  <dc:title>«Что в имени моём?..»</dc:title>
</cp:coreProperties>
</file>