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23D-B657-4AC8-B6B7-ECC5A6C1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1CD-E597-4F46-9A19-9B985B65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EDE-8CA4-4B24-87C5-BCEE7866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C62-3C65-47E9-99D3-68F7BA4B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052C-4250-44BF-B470-1336B94A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A355-FF95-4FD1-9A89-FC2376F8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A1BE-933E-4F1F-B7C1-66195935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9771-49A9-4A90-A824-88430FA0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3E7B-DE56-46F5-92C9-DFD77E62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5F8D-1FEA-4726-AE61-7F580DBA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AB81-41A5-4F46-A76A-F4631659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FDA-F416-46D5-A19D-605E0DBA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5C6D-980B-4B98-9CEE-AE82CBE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7B5A-8B88-455A-BAE4-893F3C8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2C38-A757-4837-AB0B-7E2EB422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5F5B-C61D-41CE-9E5B-4C43BA4A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0B26-C4B4-4AF7-B7AA-247D30F9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23697-8C10-418F-9192-926A0526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DA0F8-FF6A-4E0A-B6EE-542834E6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44E65-50D5-4D5C-A2D7-1D4F478C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48C0-FA30-45D2-B123-CC2F536C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285D-9BBD-4BD7-9971-9F275EB1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1A6-65F7-4E09-9FCE-F0646624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47AC-AFB8-4A7F-AC5B-5B9C2074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F413-1E1E-4DB3-B20C-FA797BF5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18DC-F67C-40B4-A78D-CD280DCE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1102-F425-45BB-9C18-E62FB342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FA211-1838-4AB1-A229-262A62ED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89FB-0002-420F-8E9F-5AFE9A38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75BE-D9DE-49DA-9ED2-7F0AE02A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98248-BDAE-4E37-B668-3720129B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8EBF5-258C-476F-AAC3-8C78E9EF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7336-53E0-4521-8828-685EE7AC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21A-DEAF-4D00-8303-DABF6312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7C36-D901-4519-A6A2-B5393EA7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AF37-A3E2-445F-90F7-C7607A40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776F-2886-43EE-BBCA-2215624F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7591-E54C-4F2F-A693-0DB9790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DCA1-8542-4474-B98E-E0B07FF8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02D07-E782-4114-A0B3-3A5AF659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6F85B-1279-4B55-9807-1F459184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62013-4694-4A74-9994-21995142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2370-505E-45C7-8134-E7B20B85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39E-8276-47EA-B0CC-5FAC0BE1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7E1-4912-4ABB-B91B-D7B1BF3B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F45-B087-4605-8FD9-CAFF354C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EB9-BAE7-4CED-964D-CE36E65F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1A5-65C0-472D-9EC5-FDB8EC9A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C290-439A-4CA4-9128-B88F15111A4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2812-4495-433C-BF1E-E3F9F87BA9F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EC4A-BC2A-44CE-9F67-D91CC9258A8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3796-FBF1-4EBC-9321-50346674BD4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hyperlink" Target="http://www.chudopredki.ru/uploads/posts/imena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kota.ru/uploads/posts/thumbs/1299958979_5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3.mzstatic.com/us/r1000/036/Purple/14/99/bf/mzl.msowfwre.320x480-75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002.radikal.ru/i197/1011/00/be2fa54dab20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3091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857760" y="5071680"/>
            <a:ext cx="50306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Учащиеся 4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МОУ СОШ № 5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Руководитель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Никитенко О.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" descr="Картинка 2 из 791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897280"/>
            <a:ext cx="4356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Имена наших </a:t>
            </a:r>
            <a:r>
              <a:rPr b="1" lang="en-US" sz="5000" spc="-1" strike="noStrike" u="sng">
                <a:solidFill>
                  <a:srgbClr val="04617b"/>
                </a:solidFill>
                <a:uFillTx/>
                <a:latin typeface="Arial"/>
              </a:rPr>
              <a:t>п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85880" y="1643040"/>
          <a:ext cx="7686720" cy="4857840"/>
        </p:xfrm>
        <a:graphic>
          <a:graphicData uri="http://schemas.openxmlformats.org/drawingml/2006/table">
            <a:tbl>
              <a:tblPr/>
              <a:tblGrid>
                <a:gridCol w="5873760"/>
                <a:gridCol w="1812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ли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Миш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-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авный богу Яхве»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ереж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- 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тригущи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Геннади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лагородный, родовиты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ле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 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щенны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е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щищать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андр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щитник люде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Макси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айши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гор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инство, сила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23" name="" descr="Картинка 284 из 92875"/>
          <p:cNvPicPr/>
          <p:nvPr/>
        </p:nvPicPr>
        <p:blipFill>
          <a:blip r:embed="rId2"/>
          <a:stretch/>
        </p:blipFill>
        <p:spPr>
          <a:xfrm>
            <a:off x="8058240" y="0"/>
            <a:ext cx="1085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Имена наших </a:t>
            </a:r>
            <a:r>
              <a:rPr b="1" lang="en-US" sz="5000" spc="-1" strike="noStrike" u="sng">
                <a:solidFill>
                  <a:srgbClr val="04617b"/>
                </a:solidFill>
                <a:uFillTx/>
                <a:latin typeface="Arial"/>
              </a:rPr>
              <a:t>ма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935000"/>
          <a:ext cx="8229600" cy="4373280"/>
        </p:xfrm>
        <a:graphic>
          <a:graphicData uri="http://schemas.openxmlformats.org/drawingml/2006/table">
            <a:tbl>
              <a:tblPr/>
              <a:tblGrid>
                <a:gridCol w="6994440"/>
                <a:gridCol w="123516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ли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н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урный поток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ьг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ятая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Елен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лая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етлан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ветлая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Татья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станавливать, назначать, определять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аталь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одная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Ларис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айка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26" name="" descr="Картинка 284 из 92875"/>
          <p:cNvPicPr/>
          <p:nvPr/>
        </p:nvPicPr>
        <p:blipFill>
          <a:blip r:embed="rId2"/>
          <a:stretch/>
        </p:blipFill>
        <p:spPr>
          <a:xfrm>
            <a:off x="8012160" y="0"/>
            <a:ext cx="11318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ИМЕНА БАБУШЕ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95280" y="1143000"/>
          <a:ext cx="8191440" cy="4457880"/>
        </p:xfrm>
        <a:graphic>
          <a:graphicData uri="http://schemas.openxmlformats.org/drawingml/2006/table">
            <a:tbl>
              <a:tblPr/>
              <a:tblGrid>
                <a:gridCol w="407664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ЛИЧЕСТВО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а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нт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Ли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а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ж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Зи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Га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Р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тон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57120" y="5572080"/>
          <a:ext cx="8242200" cy="365040"/>
        </p:xfrm>
        <a:graphic>
          <a:graphicData uri="http://schemas.openxmlformats.org/drawingml/2006/table">
            <a:tbl>
              <a:tblPr/>
              <a:tblGrid>
                <a:gridCol w="4121280"/>
                <a:gridCol w="4120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Лю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22200" y="6027840"/>
          <a:ext cx="8282160" cy="365040"/>
        </p:xfrm>
        <a:graphic>
          <a:graphicData uri="http://schemas.openxmlformats.org/drawingml/2006/table">
            <a:tbl>
              <a:tblPr/>
              <a:tblGrid>
                <a:gridCol w="8282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е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                      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Имена дедуше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28760" y="1428840"/>
          <a:ext cx="8229600" cy="445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е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Робе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ади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ха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Ю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але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ко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вг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Фили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60360" y="5962680"/>
          <a:ext cx="8280360" cy="3650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икита                                                       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Значение имен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28760" y="857160"/>
          <a:ext cx="8229600" cy="5595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ико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обедитель  на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Дани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удья, б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ан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Защит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го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Воинство,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Мой б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Дмит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тносится к богине плодоро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ль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я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ик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обе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ата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Род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нж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гель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етл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етл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Защищ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ть, определять, назнач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Значение имен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28760" y="928800"/>
          <a:ext cx="8229600" cy="58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ль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свята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Дмит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бог плодороди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ико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победитель народ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ик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победител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ан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защитник люде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мой бо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Дан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судья, бог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устанавливать, определять, назнача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Ел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светла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урный поток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Ната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родна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ветл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ветла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Лар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айка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Михаи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вный богу Яхв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Значение имен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39640" y="1844640"/>
          <a:ext cx="8229600" cy="3876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лек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защища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Геннад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лагородный, родовит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Серг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 стригущ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Евг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лагородн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Иго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«воинство, сил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ниа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юбимый сын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ий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емледелец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пп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юбитель коней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бер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увядаемая слава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В нашем классе 12 человек: 9 мальчиков, 3 девоч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2. Девоче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Наташа, Анжела, Ол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Мальчиков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Никита -1, Димы -2, Данилы – 2, Илья – 1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Коля – 1, Саша – 1, Игорь -1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3. Среди имен наших пап самые распространенные :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Алексей (3) и Александр (3), также есть - Михаил (1), Геннадий (1), Максим (1), Олег (1), Игорь (1), Сергей (1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. Среди имен наших мам самые распространенные :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Елена (5) и Татьяна (2), а также – Лариса (1), Инна (1), Ольга (1), Светлана (1), Наталья (1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5. Среди имен наших  дедушек самые распространенные :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Владимир  (4),  Николай (3), Сергей (2), Валерий (2), Юрий (2), а так же – Роберт (1), Никита (1), Филипп (1), Вена (1), Виктор(1), Михаил (1), Евгений (1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6. Среди имен наших  бабушек самые распространенные: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Надежда (4), Татьяна (4),  Лида (3), Любовь (3), Ольга (2), Валентина (2), а так же  - Вера (1), Ира (1), Тоня (1), Рая (1), Зина (1), Галя (1), Света (1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" descr="Картинка 284 из 92875"/>
          <p:cNvPicPr/>
          <p:nvPr/>
        </p:nvPicPr>
        <p:blipFill>
          <a:blip r:embed="rId2"/>
          <a:stretch/>
        </p:blipFill>
        <p:spPr>
          <a:xfrm>
            <a:off x="7710480" y="0"/>
            <a:ext cx="14335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04617b"/>
                </a:solidFill>
                <a:uFillTx/>
                <a:latin typeface="Calibri"/>
              </a:rPr>
              <a:t>Имена в нашем классе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492000" y="1934640"/>
            <a:ext cx="5194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иколай 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анила –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Александр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Игорь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Илья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митрий –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льга -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икита -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Наташа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Анжела –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" descr="Картинка 4 из 791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133720"/>
            <a:ext cx="45370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3789000"/>
            <a:ext cx="288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Цель 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4941360"/>
            <a:ext cx="822960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исследовать, какие имена распространены среди людей трёх поколений: детей,  их родителей, бабушек и дедуш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"/>
          <p:cNvSpPr/>
          <p:nvPr/>
        </p:nvSpPr>
        <p:spPr>
          <a:xfrm>
            <a:off x="1293840" y="1916280"/>
            <a:ext cx="7850160" cy="2276280"/>
          </a:xfrm>
          <a:prstGeom prst="ellipse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Между живущих людей безымянным никто не бывает вов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минуту рождения каждый, и низкий, и знат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мя своё от родителей в сладостный дар получает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омер «0диссе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Картинка 28 из 79192">
            <a:hlinkClick r:id="rId2"/>
          </p:cNvPr>
          <p:cNvPicPr/>
          <p:nvPr/>
        </p:nvPicPr>
        <p:blipFill>
          <a:blip r:embed="rId3"/>
          <a:srcRect l="0" t="4961" r="0" b="42125"/>
          <a:stretch/>
        </p:blipFill>
        <p:spPr>
          <a:xfrm>
            <a:off x="0" y="0"/>
            <a:ext cx="2533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96720" y="691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6366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Выявить, какие мужские и женские имена распространены среди людей трёх поколений: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учащихся нашего класс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наших родителе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бабушек  и дедуш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Выяснить, почему каждому человеку родители дают именно такое имя, а не какое-то друг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Выяснить, нравятся ли людям их имена. Узнать из книг сведения о значениях име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" descr="Картинка 168 из 92906"/>
          <p:cNvPicPr/>
          <p:nvPr/>
        </p:nvPicPr>
        <p:blipFill>
          <a:blip r:embed="rId2"/>
          <a:stretch/>
        </p:blipFill>
        <p:spPr>
          <a:xfrm>
            <a:off x="5435640" y="0"/>
            <a:ext cx="37083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Гипотез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ы дума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что среди детей нашего класса распространены женские имена: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Наташа, Оля, Анже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мужские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лья, Дима, Коля, Данила, Никита, Игор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что  среди поколения родителей, бабушек и дедушек распространены совсем другие имена, чем у детей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имена людей, которые даны им при рожд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анкетные данные, статистические данные имён детей 4 класса и их родителей. Книги об имен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" descr="Картинка 284 из 92875"/>
          <p:cNvPicPr/>
          <p:nvPr/>
        </p:nvPicPr>
        <p:blipFill>
          <a:blip r:embed="rId2"/>
          <a:stretch/>
        </p:blipFill>
        <p:spPr>
          <a:xfrm>
            <a:off x="4608360" y="692280"/>
            <a:ext cx="383868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Arial"/>
              </a:rPr>
              <a:t>Анкетные данные</a:t>
            </a: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Нравилось имя  родственникам 8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Не знают, почему   1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В честь бабушек-дедушек    4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Красиво звучит       5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В честь других родственников 2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В честь друга (подруги)       1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Редкое имя     2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Популярное, модное имя    4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По церковному календарю        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" descr="Картинка 1 из 791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2637000"/>
            <a:ext cx="30589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4617b"/>
                </a:solidFill>
                <a:uFillTx/>
                <a:latin typeface="Arial"/>
              </a:rPr>
              <a:t>Имена, данные при рождении учащимся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 *Нравятся            11          ответов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Arial"/>
              </a:rPr>
              <a:t> *Не нравятся         1          ответ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Картинка 234 из 92906"/>
          <p:cNvPicPr/>
          <p:nvPr/>
        </p:nvPicPr>
        <p:blipFill>
          <a:blip r:embed="rId2"/>
          <a:stretch/>
        </p:blipFill>
        <p:spPr>
          <a:xfrm>
            <a:off x="2411280" y="4118040"/>
            <a:ext cx="41054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4617b"/>
                </a:solidFill>
                <a:uFillTx/>
                <a:latin typeface="Arial"/>
              </a:rPr>
              <a:t>Тайна имени, значение имен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Никита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«победитель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Николай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победитель народов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Александ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«защитник людей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Дмитрий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посвященный богине плодородия Деметре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ль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сила Божья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Ольг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святая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горь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воинство, сила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Наталья 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«родная»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Анжел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"ангельская"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Даниил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бог - мой судья"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" descr="Картинка 59 из 92906"/>
          <p:cNvPicPr/>
          <p:nvPr/>
        </p:nvPicPr>
        <p:blipFill>
          <a:blip r:embed="rId2"/>
          <a:stretch/>
        </p:blipFill>
        <p:spPr>
          <a:xfrm>
            <a:off x="5867280" y="3068640"/>
            <a:ext cx="243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2:23:30Z</dcterms:created>
  <dc:creator>User</dc:creator>
  <dc:description/>
  <dc:language>en-US</dc:language>
  <cp:lastModifiedBy>Ольга</cp:lastModifiedBy>
  <dcterms:modified xsi:type="dcterms:W3CDTF">2011-12-06T15:15:45Z</dcterms:modified>
  <cp:revision>50</cp:revision>
  <dc:subject/>
  <dc:title>«Что в имени моём?..»</dc:title>
</cp:coreProperties>
</file>