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D739-CE5A-4577-BCE3-6D674EC503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66E9-EAEE-4BC1-902E-9DC7DB15BF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72A3-371F-46FB-A92F-58AB5B4F7F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D46-21C1-4555-8C20-4BDD1439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B54-264A-444B-8A9C-D08C0743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F86-02EE-4181-9ED2-7099F7F4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78F-EEAB-46A2-B63E-E474E943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095-C627-4381-81F1-E4B41589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2AE-D124-4277-88D9-9DB42DEC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F1A-9381-4D5C-B35D-5518A585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177-FBA7-4F04-A474-4293065E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19A-7C41-4A91-AE96-9C4E4248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B21E-0796-45D0-82E7-75F4E893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80F-75AB-45A8-9635-27755D34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FEC-23F6-4C05-928E-0EDAFF71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0A78-7A3F-488C-8132-C7B709ADC65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3D3F-12F1-457E-9C77-E673A7D2D0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Тема классного час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«Сделаем мир добрее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17648400">
            <a:off x="7842240" y="537480"/>
            <a:ext cx="725400" cy="74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 rot="21297000">
            <a:off x="8194320" y="-28080"/>
            <a:ext cx="1281240" cy="1320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rot="20306400">
            <a:off x="7816320" y="73332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755640" y="333360"/>
            <a:ext cx="7777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  ТАКОЕ   ДОБРОТА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i-119"/>
          <p:cNvPicPr/>
          <p:nvPr/>
        </p:nvPicPr>
        <p:blipFill>
          <a:blip r:embed="rId1"/>
          <a:stretch/>
        </p:blipFill>
        <p:spPr>
          <a:xfrm>
            <a:off x="611280" y="765000"/>
            <a:ext cx="3168720" cy="2594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539640" y="321300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Доброта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зывчивость, душевное расположение к людям, стремление делать добро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ловарь   Ожег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0blne"/>
          <p:cNvPicPr/>
          <p:nvPr/>
        </p:nvPicPr>
        <p:blipFill>
          <a:blip r:embed="rId2"/>
          <a:stretch/>
        </p:blipFill>
        <p:spPr>
          <a:xfrm>
            <a:off x="611280" y="4797360"/>
            <a:ext cx="129996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flowers16"/>
          <p:cNvPicPr/>
          <p:nvPr/>
        </p:nvPicPr>
        <p:blipFill>
          <a:blip r:embed="rId3"/>
          <a:stretch/>
        </p:blipFill>
        <p:spPr>
          <a:xfrm>
            <a:off x="6732720" y="488484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 u="sng">
                <a:solidFill>
                  <a:srgbClr val="ff0000"/>
                </a:solidFill>
                <a:uFillTx/>
                <a:latin typeface="Calibri"/>
              </a:rPr>
              <a:t>Добр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тзывчивый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Хорош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рядоч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ежли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Заботли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Чест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Жизнь дана на </a:t>
            </a: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обрые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дела.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оброму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лову – </a:t>
            </a: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обрый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ответ.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В ком </a:t>
            </a: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обра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нет, в том и правды мало.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Не одежда красит человека, а </a:t>
            </a: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обрые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дела.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оброе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лово и железные ворота открывае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7BF0-6D8C-4311-B151-8AEC6EFF57A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4E4A-85D6-42CC-AD6B-0F5FA2A621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alibri"/>
              </a:rPr>
              <a:t>Около солнышка – тепло,</a:t>
            </a:r>
            <a:br>
              <a:rPr sz="7200"/>
            </a:br>
            <a:r>
              <a:rPr b="0" i="1" lang="ru-RU" sz="7200" spc="-1" strike="noStrike">
                <a:solidFill>
                  <a:srgbClr val="000000"/>
                </a:solidFill>
                <a:latin typeface="Calibri"/>
              </a:rPr>
              <a:t> около матери – </a:t>
            </a:r>
            <a:r>
              <a:rPr b="0" i="1" lang="ru-RU" sz="7200" spc="-1" strike="noStrike">
                <a:solidFill>
                  <a:srgbClr val="ff0000"/>
                </a:solidFill>
                <a:latin typeface="Calibri"/>
              </a:rPr>
              <a:t>добро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7BC0-8324-46E7-9FD0-4624A7E1B49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44D3-BFD9-46C1-B037-8598A85F1E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Спасибо за работу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74" name="Picture 3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17648400">
            <a:off x="7842240" y="537480"/>
            <a:ext cx="725400" cy="7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 rot="21297000">
            <a:off x="8194320" y="-28080"/>
            <a:ext cx="1281240" cy="1320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rot="20306400">
            <a:off x="7816320" y="73332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24:43Z</dcterms:created>
  <dc:creator>123</dc:creator>
  <dc:description>http://aida.ucoz.ru</dc:description>
  <dc:language>en-US</dc:language>
  <cp:lastModifiedBy>123</cp:lastModifiedBy>
  <dcterms:modified xsi:type="dcterms:W3CDTF">2012-02-12T19:03:33Z</dcterms:modified>
  <cp:revision>15</cp:revision>
  <dc:subject/>
  <dc:title>Тема классного часа:</dc:title>
</cp:coreProperties>
</file>