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6.gif" ContentType="image/gif"/>
  <Override PartName="/ppt/media/image7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39E8-3584-4824-A754-BF726BCA49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98AF-4C7E-4590-BC5D-2F98A85137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5C3D-EBC3-44D9-A17E-C48C34E1EC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C306-046E-406C-9D3E-6A097AB9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5691-5FEE-4719-ACA3-CE8E5E80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CE48-B839-46E8-84EF-91490C34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6FA3-8EAB-4932-9FAD-F775647B4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69FB-197D-439D-9F83-E1D33DD3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5212-657B-4BC4-9A54-7E001867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5BAF-AF0D-47E9-9D93-F30A9817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3A6C-53F4-4C38-AD2B-DAE91A9E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36B2-4A1E-4027-B196-CBD2ADB4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25D3-4E21-4FA0-8599-5E578F8A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D0FF-227E-46DB-ABFA-6C5A97EC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CA4E-75A6-41A7-ACB4-E380606A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8A30-07DC-4D19-85CF-234C659A414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69F4-080E-4D47-B707-7A22B1E9FA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Тема классного час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213000"/>
            <a:ext cx="640080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«Сделаем мир добрее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"/>
          <a:stretch/>
        </p:blipFill>
        <p:spPr>
          <a:xfrm rot="17648400">
            <a:off x="7842240" y="537480"/>
            <a:ext cx="725400" cy="747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3"/>
          <a:stretch/>
        </p:blipFill>
        <p:spPr>
          <a:xfrm rot="21297000">
            <a:off x="8194320" y="-28080"/>
            <a:ext cx="1281240" cy="1320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4"/>
          <a:stretch/>
        </p:blipFill>
        <p:spPr>
          <a:xfrm rot="20306400">
            <a:off x="7816320" y="733320"/>
            <a:ext cx="1579680" cy="162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5"/>
          <a:stretch/>
        </p:blipFill>
        <p:spPr>
          <a:xfrm>
            <a:off x="0" y="4362480"/>
            <a:ext cx="2419200" cy="2495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6"/>
          <a:stretch/>
        </p:blipFill>
        <p:spPr>
          <a:xfrm rot="2260800">
            <a:off x="1412640" y="5283000"/>
            <a:ext cx="1280880" cy="132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7"/>
          <a:stretch/>
        </p:blipFill>
        <p:spPr>
          <a:xfrm flipH="1" rot="682200">
            <a:off x="4067280" y="5273280"/>
            <a:ext cx="2216160" cy="1630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56200"/>
          </a:xfrm>
          <a:prstGeom prst="rect">
            <a:avLst/>
          </a:prstGeom>
          <a:ln w="0">
            <a:noFill/>
          </a:ln>
        </p:spPr>
      </p:pic>
      <p:sp>
        <p:nvSpPr>
          <p:cNvPr id="57" name="WordArt 5"/>
          <p:cNvSpPr txBox="1"/>
          <p:nvPr/>
        </p:nvSpPr>
        <p:spPr>
          <a:xfrm>
            <a:off x="755640" y="333360"/>
            <a:ext cx="77770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ТО   ТАКОЕ   ДОБРОТА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i-119"/>
          <p:cNvPicPr/>
          <p:nvPr/>
        </p:nvPicPr>
        <p:blipFill>
          <a:blip r:embed="rId1"/>
          <a:stretch/>
        </p:blipFill>
        <p:spPr>
          <a:xfrm>
            <a:off x="611280" y="765000"/>
            <a:ext cx="3168720" cy="25941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539640" y="321300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Доброта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зывчивость, душевное расположение к людям, стремление делать добро друг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ловарь   Ожег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0blne"/>
          <p:cNvPicPr/>
          <p:nvPr/>
        </p:nvPicPr>
        <p:blipFill>
          <a:blip r:embed="rId2"/>
          <a:stretch/>
        </p:blipFill>
        <p:spPr>
          <a:xfrm>
            <a:off x="611280" y="4797360"/>
            <a:ext cx="1299960" cy="180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flowers16"/>
          <p:cNvPicPr/>
          <p:nvPr/>
        </p:nvPicPr>
        <p:blipFill>
          <a:blip r:embed="rId3"/>
          <a:stretch/>
        </p:blipFill>
        <p:spPr>
          <a:xfrm>
            <a:off x="6732720" y="488484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 u="sng">
                <a:solidFill>
                  <a:srgbClr val="ff0000"/>
                </a:solidFill>
                <a:uFillTx/>
                <a:latin typeface="Calibri"/>
              </a:rPr>
              <a:t>Добры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2204640"/>
            <a:ext cx="6400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Отзывчивый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Хорош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орядоч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ежлив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Заботлив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Честн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Жизнь дана на </a:t>
            </a: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добрые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 дела.</a:t>
            </a:r>
            <a:br>
              <a:rPr sz="4400"/>
            </a:b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Доброму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слову – </a:t>
            </a: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добрый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 ответ.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В ком </a:t>
            </a: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добра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 нет, в том и правды мало.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Не одежда красит человека, а </a:t>
            </a: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добрые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 дела.</a:t>
            </a:r>
            <a:br>
              <a:rPr sz="4400"/>
            </a:b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Доброе 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слово и железные ворота открывае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CEF2-1901-4AE8-ADE7-1F3F2312FB4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997C-5273-4EBC-B5A4-A0FC30DA3F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Calibri"/>
              </a:rPr>
              <a:t>Около солнышка – тепло,</a:t>
            </a:r>
            <a:br>
              <a:rPr sz="7200"/>
            </a:br>
            <a:r>
              <a:rPr b="0" i="1" lang="ru-RU" sz="7200" spc="-1" strike="noStrike">
                <a:solidFill>
                  <a:srgbClr val="000000"/>
                </a:solidFill>
                <a:latin typeface="Calibri"/>
              </a:rPr>
              <a:t> около матери – </a:t>
            </a:r>
            <a:r>
              <a:rPr b="0" i="1" lang="ru-RU" sz="7200" spc="-1" strike="noStrike">
                <a:solidFill>
                  <a:srgbClr val="ff0000"/>
                </a:solidFill>
                <a:latin typeface="Calibri"/>
              </a:rPr>
              <a:t>добро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B687-24F2-4847-9D63-21B013C45E0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A24D-3D4E-4504-BBC2-DB495D0EA8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Спасибо за работу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213000"/>
            <a:ext cx="6400800" cy="24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74" name="Picture 3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"/>
          <a:stretch/>
        </p:blipFill>
        <p:spPr>
          <a:xfrm rot="17648400">
            <a:off x="7842240" y="537480"/>
            <a:ext cx="725400" cy="7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3"/>
          <a:stretch/>
        </p:blipFill>
        <p:spPr>
          <a:xfrm rot="21297000">
            <a:off x="8194320" y="-28080"/>
            <a:ext cx="1281240" cy="1320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4"/>
          <a:stretch/>
        </p:blipFill>
        <p:spPr>
          <a:xfrm rot="20306400">
            <a:off x="7816320" y="733320"/>
            <a:ext cx="1579680" cy="1629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5"/>
          <a:stretch/>
        </p:blipFill>
        <p:spPr>
          <a:xfrm>
            <a:off x="0" y="4362480"/>
            <a:ext cx="2419200" cy="2495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6"/>
          <a:stretch/>
        </p:blipFill>
        <p:spPr>
          <a:xfrm rot="2260800">
            <a:off x="1412640" y="5283000"/>
            <a:ext cx="1280880" cy="1320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7"/>
          <a:stretch/>
        </p:blipFill>
        <p:spPr>
          <a:xfrm flipH="1" rot="682200">
            <a:off x="4067280" y="5273280"/>
            <a:ext cx="2216160" cy="16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24:43Z</dcterms:created>
  <dc:creator>123</dc:creator>
  <dc:description>http://aida.ucoz.ru</dc:description>
  <dc:language>en-US</dc:language>
  <cp:lastModifiedBy>123</cp:lastModifiedBy>
  <dcterms:modified xsi:type="dcterms:W3CDTF">2012-02-12T19:03:33Z</dcterms:modified>
  <cp:revision>15</cp:revision>
  <dc:subject/>
  <dc:title>Тема классного часа:</dc:title>
</cp:coreProperties>
</file>