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applause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257-1212-4A8F-8E66-CF2E284C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8B6-C1A6-41DA-B228-C219751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58F6C-FC86-460C-A0A3-0B5A906A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2546-CC95-4DC6-8209-BEDA303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FBC66-135C-4DEE-8C98-1040C074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C27A8-5F63-4AD8-BCE8-8EFB89D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99E25-1D55-4C69-A00E-93A70BE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5EF3F-130D-4980-8EB6-BFC8FBE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CDA9C-D373-43AA-9B6B-BAB8D9A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99E22-48D2-434B-878A-8A0A3C6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BE0D5-202A-4AD9-9F2E-15F8BF45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AE3C2-9776-4F15-B95E-4A5116E8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FEE-AE5B-4F3C-AC6A-996CD945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2AFFE-423A-40A7-81CB-71CE466F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256D1-B711-43A2-9BFA-FCEFF3C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7FDE-7EDC-4CD4-A6E3-202C1F18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27ED0-CD74-493B-9CC2-52ABBE8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5BD1E-F24C-4841-AA5C-E470BB10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836F9-3958-4D4F-97CD-2C51720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8C24-3C94-4963-88D0-7705047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B127F-A9D5-46C6-B0AB-E738F5C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4539A-9CE0-4FED-BE98-93E2BD1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8489D-3F6B-45B0-A0C3-2BC80065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B23-74C3-4F44-9A4F-0909652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5BFEE-4FC1-4506-BC5D-77B5981C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EBEA-B0BA-48A5-B0BE-F9571830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C108-3467-4C12-90EE-EBF0CC8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EFB8-FB52-4BC0-99F8-DA6899B0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B444C-E8AB-46DB-BA68-640CF9D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76E8-FF48-467C-8646-A01F07A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68CB5-A6C5-46D3-8F84-1A98E9F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FDC0-97DF-46C0-881F-A884123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416AF-BCC7-461A-840B-18B9E3F7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61FBD-01C8-4C83-9A76-2FE9D69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F6B-686C-4BD7-BA44-372F2AA8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812C7-A78D-40A6-833E-BEC8CAA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C8733-D569-4529-97D5-4F81CAF1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79B8E-D6C3-469F-A3F8-236D1CE7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D5D4E-2828-4BBB-B55B-B00FF136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907D-8605-4D4F-9D6F-4F00483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9D417-9E3D-47C7-B1B9-06316B90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A4646-5F3C-4346-8F76-B4F37CF2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C0DCB-2CA4-4F47-A4AD-1DDFDF1D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28F64-01F9-4BEE-B126-8AE4E290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3F609-FB25-4115-A57D-FAE5FB5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17A2-405F-476E-AF08-2BF4B7D0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E382D-F507-41A0-BE43-5B7BB8C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9A3CA-D589-4C05-8A37-9CF58FAA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DD5B6-6583-4DBE-BC77-8D1D706F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BF82A-6E21-4634-BA26-6B8E4093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2FD79-0116-4B86-B50F-FB6A4B40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C21-BB27-4090-BF71-4E7BD98E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719-6B6E-49B7-BC70-D4DDA2ED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E4BA-9597-4434-9130-81247FF3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9DCB-1FD0-4F94-A4F8-0BC75D9F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485C-E847-4210-A66A-E235C78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C3B-BF47-47BD-8296-847ACD9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8A75-E0A7-42BC-A1D0-4C57D20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A8E-7BA7-4515-87C8-F8BB7A6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7F4E-24BB-4E2E-9624-FC838466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9439-2F5A-482E-BD23-2C882E31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30B-89D3-4959-AC41-AA9E0B2F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BB8D-ADFC-4960-81D7-C5539CD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737D-9FCA-4E65-A852-D0411A5A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C759-0BE8-43DD-8382-34FCA76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8924-9FA7-4686-9F36-5EF42D0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D2C8-81D3-4EFC-9092-BE028EA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8CF-4640-4163-9332-A3E990CC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820A-79BF-4F25-B0B8-D3B1959C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9CEC-CC5D-4144-89BB-42F5842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FFC6-D827-4A5A-B99D-518B053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A677-B213-44A5-86F1-D3A78CB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D677-4087-4556-938D-BD6E098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6A4F-F06E-42C1-B567-D0B29DF5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2085-2F28-45F2-93EF-F393E98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30A7-03AF-4A95-A1FE-3D515E1F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09F7-63A8-4C9E-A639-E9BEA12F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8836-CE2F-44E5-B47E-2CF411C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BE2-CEF7-47A2-A6F4-6152F58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46CB-3DAC-4D88-A365-2C07B1CE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49E1-8148-462C-8713-602B212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3AF6-B4A8-427B-AEB6-5738FE5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E284-4234-44F8-9A10-C0E30FF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6912-9880-4775-989E-AD37B8A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6CB9-F079-4B34-9387-7E9ABE4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A23E-D042-4939-A739-5AFA05A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29D2-87CB-49A5-8F92-C773E918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A648-0A58-47BE-8277-F81ECB37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972B-95CE-4808-99B4-57AA8499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743-E41A-44B0-BA6F-EADBF850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8159-D3A5-42A0-BB95-FA0090A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90A9-1B64-4924-9808-FA29008B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39F9-A23E-4673-9DD4-206FC5A0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0A3A-6DEA-4CC9-AFF8-4AFC727C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421E-B852-45CB-AD73-9A450D6E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3AE4-9A95-4F88-839D-B17A96A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CCE3-D752-493A-8E47-8ADA942D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F1B8-F157-42E2-B175-167C954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2CBA-207E-4C21-B82F-F25023C4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C174-0549-48EE-B8BA-8B087381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07F-7497-4039-94E5-296E6CB9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BF7A0-2891-4027-9A03-CA2D0A8F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9A3C-D01B-4C8C-AB9D-18E93A3E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2F02-E076-40B2-8D29-01B76DE2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FDDE-00CC-404C-A0B0-335D299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88C5-53D8-4CD3-829E-270D2F1D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B69B-83F9-4B1B-BE6E-DAD2E0E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6859-4E1E-4D86-85AE-B3607217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D286-81F6-4108-839C-3D37D08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2C48-9687-426C-8D82-18CC1ECD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71BE-85C6-4117-9296-3D6067D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4EA-EBAA-4C64-9DE3-8962DED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1CFE-AF67-4B2A-BB17-DA5B38C9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69F5-9250-42F1-AFB0-D6931377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36F5-796A-4ADF-8BCA-A976B3D7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00EE-40D8-4B8C-A539-D2E07286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866D-B84A-407E-8038-741388F0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4AEC-7662-49F7-9F44-B954026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8638-DEEE-44C9-85F1-506239B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EAAF-36AD-425D-89BC-6698820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371B-2D50-419E-AC66-06B1CC18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413C9-4D43-4AC3-AE94-E4D10E1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669-5436-468B-A040-516F3AA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4C77-36E9-4578-963B-39BDCFC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9D3B3-B383-4353-8C1A-4CD85A27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BCC4-ABEC-4C28-AC86-64D63C3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C706-CA6E-4E39-9FA4-FF1460E0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7D79-4BA1-4620-AECC-10FBD4CC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10331-F156-49C7-BE85-7AB8591C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20C44-096A-4591-8CB5-1799A32D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8A37-81F0-43F5-B163-DF6B1107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D5007-B93F-4BEA-8716-4A80108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3A921-12BC-448B-A49F-3E00D025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8B1-6803-4942-B52F-C165862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16BD-1343-48AC-8EC9-5475BB3D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68B86-7E0D-441D-8862-81438DF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29FC-5C43-4BE5-BB00-49CB4BA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26735-A64F-4CBA-BF18-BD7F20F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FAD1E-1503-4C49-82DF-3438BC65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DD1B9-7BF8-404E-A92E-90A8AECD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E22EF-810A-4408-975E-BD09E65D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D00DB-9477-4F07-96FE-911DCC9C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B3992-97F2-4055-97AC-4057B38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DCC2E-8F3A-4C9A-811A-34C673B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533E-A444-4905-8E89-FCE16581B27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EDD-E13B-47CA-B5F1-881A1F79103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48A-C269-4E7A-9CE6-C4BE732F478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E629-1D5C-4DCA-BB73-EA533A58D05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99FA-9250-4421-A431-65E8ACE25E5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404B-4150-46D5-AE28-F8287D47612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397-50A8-43D3-BDD6-65DE0EA0C50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35D8-5D82-4C9E-B205-D6972A12755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514-7E73-4BB7-AC30-6686084A23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CEC-89EB-4F6D-A1DD-804F3F49A70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4F17-434E-4570-843F-4AED20949F0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11A7-F703-4BD1-BFA1-47610A2F212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Заголовок 1" descr=""/>
          <p:cNvPicPr/>
          <p:nvPr/>
        </p:nvPicPr>
        <p:blipFill>
          <a:blip r:embed="rId1"/>
          <a:stretch/>
        </p:blipFill>
        <p:spPr>
          <a:xfrm>
            <a:off x="633240" y="55440"/>
            <a:ext cx="7882200" cy="27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"/>
          <p:cNvGraphicFramePr/>
          <p:nvPr/>
        </p:nvGraphicFramePr>
        <p:xfrm>
          <a:off x="571680" y="2990880"/>
          <a:ext cx="8286480" cy="2103480"/>
        </p:xfrm>
        <a:graphic>
          <a:graphicData uri="http://schemas.openxmlformats.org/drawingml/2006/table">
            <a:tbl>
              <a:tblPr/>
              <a:tblGrid>
                <a:gridCol w="1742760"/>
                <a:gridCol w="6543720"/>
              </a:tblGrid>
              <a:tr h="2103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ел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мадская Юлия Николаевна, учитель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8920, Республика Саха(Якутия), Алданский райо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Ыллым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ое казенное образовательное учреждение – средняя общеобразовательная школа №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"/>
          <p:cNvSpPr/>
          <p:nvPr/>
        </p:nvSpPr>
        <p:spPr>
          <a:xfrm>
            <a:off x="168840" y="42876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Психологический тест для оценки уровня интелл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523880" y="171468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) 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) 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)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)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)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)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)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)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) 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)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) 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)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)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) 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)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) 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)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1"/>
          <p:cNvSpPr/>
          <p:nvPr/>
        </p:nvSpPr>
        <p:spPr>
          <a:xfrm>
            <a:off x="71280" y="8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Правильные ответы к тесту оценки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3"/>
          <p:cNvSpPr/>
          <p:nvPr/>
        </p:nvSpPr>
        <p:spPr>
          <a:xfrm>
            <a:off x="2192040" y="4287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Характерологическая ан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2286000" y="61488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Шесть типов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2714760" y="142884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Порожистая горная речка — быстрая и шум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2714760" y="333360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Широкая могучая полноводная р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2714760" y="237492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Стремительный, смывающий все на своем пути бурный по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2714760" y="385776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Извилистая речка с крутыми бере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9"/>
          <p:cNvSpPr/>
          <p:nvPr/>
        </p:nvSpPr>
        <p:spPr>
          <a:xfrm>
            <a:off x="2714760" y="4375080"/>
            <a:ext cx="6215040" cy="137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Разветвленная река с большим количеством протоков и остров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2714760" y="532908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Очень глубокая река с медленным течени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1"/>
          <p:cNvSpPr/>
          <p:nvPr/>
        </p:nvSpPr>
        <p:spPr>
          <a:xfrm>
            <a:off x="957240" y="171468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7"/>
          <p:cNvSpPr/>
          <p:nvPr/>
        </p:nvSpPr>
        <p:spPr>
          <a:xfrm>
            <a:off x="966960" y="26193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8"/>
          <p:cNvSpPr/>
          <p:nvPr/>
        </p:nvSpPr>
        <p:spPr>
          <a:xfrm>
            <a:off x="928800" y="454824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9"/>
          <p:cNvSpPr/>
          <p:nvPr/>
        </p:nvSpPr>
        <p:spPr>
          <a:xfrm>
            <a:off x="928800" y="328608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928800" y="38577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1"/>
          <p:cNvSpPr/>
          <p:nvPr/>
        </p:nvSpPr>
        <p:spPr>
          <a:xfrm>
            <a:off x="928800" y="54291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6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3"/>
          <p:cNvSpPr/>
          <p:nvPr/>
        </p:nvSpPr>
        <p:spPr>
          <a:xfrm>
            <a:off x="1357200" y="14292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Тест на определение типа личности по методике Д. Холл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1643040" y="67356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Ключ для обработки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071720" y="1500120"/>
          <a:ext cx="7143480" cy="5051520"/>
        </p:xfrm>
        <a:graphic>
          <a:graphicData uri="http://schemas.openxmlformats.org/drawingml/2006/table">
            <a:tbl>
              <a:tblPr/>
              <a:tblGrid>
                <a:gridCol w="1301760"/>
                <a:gridCol w="1184040"/>
                <a:gridCol w="1095480"/>
                <a:gridCol w="1152360"/>
                <a:gridCol w="1301760"/>
                <a:gridCol w="1108080"/>
              </a:tblGrid>
              <a:tr h="594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стически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венци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риимчив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ически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3"/>
          <p:cNvSpPr/>
          <p:nvPr/>
        </p:nvSpPr>
        <p:spPr>
          <a:xfrm>
            <a:off x="2457360" y="262080"/>
            <a:ext cx="47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НЫ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"/>
          <p:cNvSpPr/>
          <p:nvPr/>
        </p:nvSpPr>
        <p:spPr>
          <a:xfrm>
            <a:off x="642960" y="847800"/>
            <a:ext cx="7929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. Система изучения личности учащихся должна быть согласована с программой воспитания. Формирование различных сторон, качеств личности невозможно проводить единовременно. Процесс воспитания учащихся очень длител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2. Работа по изучению личности учащихся должна быть тщательно спланирована, проводиться систематически и целенаправленно, чтобы она охватила все стороны и качества лич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3. Методики, описанные в данной работе, могут быть использованы не только для диагностики того или иного качества, но и для коррекции, для формирования этого ка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3"/>
          <p:cNvSpPr/>
          <p:nvPr/>
        </p:nvSpPr>
        <p:spPr>
          <a:xfrm>
            <a:off x="928800" y="267012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33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3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Новизна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В данной работе представлен системный подход к профориентации учащихся 10-11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500040" y="174636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Цель работы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– на ранних этапах профориентации подростка определить степень его профпригодности к конкретному виду деятельности посредством всестороннего изучения его личности, т. е. изучения уровня соответствия физических качеств и психофизиологических особенностей профессиональным треб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500040" y="375444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Получить представление об особенностях развития интеллекта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  Определить социальную направленность личности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Помочь школьнику понять ту сферу деятельности, которая подошла бы ему, в которой он мог бы реализовать свои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3"/>
          <p:cNvSpPr/>
          <p:nvPr/>
        </p:nvSpPr>
        <p:spPr>
          <a:xfrm>
            <a:off x="928800" y="4287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ЫБОР ПРОФЕСИИ – ПЕРВЫЕ ША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4"/>
          <p:cNvSpPr/>
          <p:nvPr/>
        </p:nvSpPr>
        <p:spPr>
          <a:xfrm>
            <a:off x="1118520" y="12142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ак выбрать професс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право 5"/>
          <p:cNvSpPr/>
          <p:nvPr/>
        </p:nvSpPr>
        <p:spPr>
          <a:xfrm>
            <a:off x="4786200" y="121428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6"/>
          <p:cNvSpPr/>
          <p:nvPr/>
        </p:nvSpPr>
        <p:spPr>
          <a:xfrm>
            <a:off x="5681160" y="124308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й себ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2143080" y="171468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 влияет на выбор профе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8"/>
          <p:cNvSpPr/>
          <p:nvPr/>
        </p:nvSpPr>
        <p:spPr>
          <a:xfrm>
            <a:off x="1663920" y="2928960"/>
            <a:ext cx="703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старших членов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товарищей, по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учителей, школьных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ые профессиональные пл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овень притязаний на общественное при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нформ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кл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право 10"/>
          <p:cNvSpPr/>
          <p:nvPr/>
        </p:nvSpPr>
        <p:spPr>
          <a:xfrm rot="5400000">
            <a:off x="3928680" y="221436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3"/>
          <p:cNvSpPr/>
          <p:nvPr/>
        </p:nvSpPr>
        <p:spPr>
          <a:xfrm>
            <a:off x="2012400" y="57168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Формула выбор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857160" y="1214280"/>
            <a:ext cx="77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офессия должна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ести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хорошо оплачива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нтер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 хорошими условиям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чтобы ее легко было приобр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оответствовать желанию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ожно было бы учиться и работать с друз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требована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3"/>
          <p:cNvSpPr/>
          <p:nvPr/>
        </p:nvSpPr>
        <p:spPr>
          <a:xfrm>
            <a:off x="1857240" y="2858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Методика поиск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785880" y="9288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Семь этапов принятия решения о выборе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1000080" y="17859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 Составить список подходящих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1000080" y="226044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Составить перечень требований к выбираемой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1000080" y="319104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Определить значимость каждого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1000080" y="364320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. Оценить свое соответствие требованиям каждой из подходящих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1000080" y="4572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. Подсчитать и проанализировать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8"/>
          <p:cNvSpPr/>
          <p:nvPr/>
        </p:nvSpPr>
        <p:spPr>
          <a:xfrm>
            <a:off x="1000080" y="51195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6. Проверить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9"/>
          <p:cNvSpPr/>
          <p:nvPr/>
        </p:nvSpPr>
        <p:spPr>
          <a:xfrm>
            <a:off x="-500400" y="5619600"/>
            <a:ext cx="102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7. Определить основные практические шаги к успе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3"/>
          <p:cNvSpPr/>
          <p:nvPr/>
        </p:nvSpPr>
        <p:spPr>
          <a:xfrm>
            <a:off x="1931760" y="14292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ФЕССИИ И РЫНОК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000080" y="1457280"/>
          <a:ext cx="7215120" cy="480060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320040">
                <a:tc rowSpan="7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Эконом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Форма собственности пред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Реги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рофе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Количеств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Эффективность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3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едагог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Квалиф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пыт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3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Медицин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Состояни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Трудоспосо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Работоспосо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2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сихолог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тношение к тру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Взаимоотношения с работодате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0" name="Rectangle 1"/>
          <p:cNvSpPr/>
          <p:nvPr/>
        </p:nvSpPr>
        <p:spPr>
          <a:xfrm>
            <a:off x="1285920" y="715320"/>
            <a:ext cx="650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  <a:ea typeface="Times New Roman"/>
              </a:rPr>
              <a:t>O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  <a:ea typeface="Times New Roman"/>
              </a:rPr>
              <a:t>т чего зависит 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5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5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3"/>
          <p:cNvSpPr/>
          <p:nvPr/>
        </p:nvSpPr>
        <p:spPr>
          <a:xfrm>
            <a:off x="785880" y="2858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ерспективы развития рынка труда в республике Саха (Яку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4"/>
          <p:cNvSpPr/>
          <p:nvPr/>
        </p:nvSpPr>
        <p:spPr>
          <a:xfrm>
            <a:off x="3571200" y="13572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ега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571680" y="1420920"/>
            <a:ext cx="82152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Комплексное развитие Южной Яку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Комплексное развитие Томпонского горнопромышленного района в Восточной Яку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Развитие Западной Якутии и Севера Иркут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- Освоение Эльгинского угольного месторо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5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5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"/>
          <p:cNvSpPr/>
          <p:nvPr/>
        </p:nvSpPr>
        <p:spPr>
          <a:xfrm>
            <a:off x="2369520" y="285840"/>
            <a:ext cx="49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ЛИЧНОСТЬ И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4"/>
          <p:cNvSpPr/>
          <p:nvPr/>
        </p:nvSpPr>
        <p:spPr>
          <a:xfrm>
            <a:off x="2926800" y="1324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Анкета «Ориент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142920" y="2979360"/>
            <a:ext cx="435780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Я ХО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(мне нравится, меня привлекает, я предпочитаю)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4643280" y="3161880"/>
            <a:ext cx="4357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(способен, уме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бладаю навы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трелка вправо 8"/>
          <p:cNvSpPr/>
          <p:nvPr/>
        </p:nvSpPr>
        <p:spPr>
          <a:xfrm rot="3164400">
            <a:off x="5558400" y="2166120"/>
            <a:ext cx="871560" cy="42840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3038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трелка вправо 9"/>
          <p:cNvSpPr/>
          <p:nvPr/>
        </p:nvSpPr>
        <p:spPr>
          <a:xfrm flipH="1" rot="18435600">
            <a:off x="2999160" y="2166120"/>
            <a:ext cx="871560" cy="4287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3038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75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1785960" y="14292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Типы профессий «Предмет тру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1928880" y="78588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человек</a:t>
            </a:r>
            <a:r>
              <a:rPr b="1" i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знак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 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1714680" y="342900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Классы профессий «Характер тру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2500200" y="407196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А) исполнительские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Б) твор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8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75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7:16:32Z</dcterms:created>
  <dc:creator>Юлечка</dc:creator>
  <dc:description/>
  <dc:language>en-US</dc:language>
  <cp:lastModifiedBy>Юлечка</cp:lastModifiedBy>
  <dcterms:modified xsi:type="dcterms:W3CDTF">2012-07-29T11:20:48Z</dcterms:modified>
  <cp:revision>81</cp:revision>
  <dc:subject/>
  <dc:title>Слайд 1</dc:title>
</cp:coreProperties>
</file>