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applause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85D-0D2D-4AA3-A22E-E6234DE5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1E0-36DD-4D76-BEC9-EEE10996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1C6DE-1EAE-4EF9-8172-8054C776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D5F2A-7373-4A45-8B90-FA5AC9F5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DC592-ABCF-4FFD-8622-7CCAFD3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7EC34-D8B2-47C9-A7E7-8BC3C22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3A00A-42C6-4B1D-BFBC-1E570790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2AD23-7D44-47D0-AC3A-A79DFDD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EEEB9-3D77-48ED-AAE0-CED6D83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95355-2E42-4948-BF76-12EC2625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83E95-5EEF-4554-AF79-C8B22E06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23B5D-2BF3-4C7B-B56D-A3BFBF5D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B96-65E3-4266-A736-D8388414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C7C73-C721-4393-9238-B7666BF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7239B-6994-4218-9A26-13BABC2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588AF-3A85-4521-BA2F-4E5CE51B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27179-B642-4A10-9A5A-A1385CE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BE8D3-FD4B-4DEF-ADEB-A9CCFB36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A11C4-DB21-4283-8DF3-4912B914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07F27-DF39-4E55-B295-4F4C78C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2F22-77A6-4EB5-8526-F7F38F7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8310-CBEA-4ADD-ACD4-9D60AAF4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9E3C2-5703-4AAB-B9E8-884E3A4D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D7F-1FD4-4046-A097-1166DE75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9063C-1DF5-423A-BE29-D2A9CF52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C5761-3A82-4A62-A214-E7F10823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E9A1-8E3B-4182-A6D5-A26EF70E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9744-736C-4D43-A4EF-E81F7F8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29F41-2853-4D5C-AD9E-4DB20AA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12EA7-3CFE-46CB-870D-08E46E83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55CE-950A-4E15-9DBD-4B8632B9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270DC-FEBD-4FE6-BE28-E1078D6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55BC1-05A0-418C-9154-FFFB45E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41BE-9078-4968-94BE-2C85980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6187-5F0F-477F-8C84-BBBE1681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691B0-C458-43FB-8AD3-D4C02DC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2E1F4-D7CD-40A4-8B2F-CE499E3E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AC3D5-3744-4E2D-B89C-65DEC052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3313F-AFCC-400E-BD08-5765446C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98A7-A505-4AE8-A72B-ED909CC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E38C4-97F7-4936-86F0-5C30AA6E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9D895-FBC6-4D56-BFE2-ED6D514E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18C57-9D38-4E1F-B9EE-2688CF1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A78B-720A-4F53-980E-6D81BAB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AD52-5C80-4492-B28E-547C303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394-617A-4718-B04F-9B01BB59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1873-B436-4CC0-870A-15BC2611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C149B-47ED-4D9D-808C-2486C6E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9C392-EF6C-43B6-819A-8FF66DE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2E9F4-9B20-454C-8B38-79BD4204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B7A6B-9BAA-4AD1-9218-DD5405A0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45A-0BFC-45F5-BAEC-7022C2DE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64FE-CA36-492F-BEF4-52967B2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10E8-FE00-4747-A45F-9F524778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89E0-81D7-4A11-8291-28040DA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8504-E4C8-4CC2-BAA2-9123335C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CF6-9CE3-4150-92D5-CB747800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FA5-1624-4B58-9B25-A619ECD8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5E8-54AA-49F4-9FFD-9971980E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9934-9968-46A1-97C2-F689DE30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2699-E5E7-4465-8AED-9F5E1789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DAAB-FD6F-4C37-B736-2D74A5AF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E61E-9D4A-4FCB-AA39-77D5DD50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EAD2-272F-4FFF-A905-B725C6E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0F41-5059-43A8-A6D2-6298B19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9F50-6406-4FA5-B1EB-1310DAE4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3234-F46B-4537-AA08-A805F2FB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BA9-93D7-4375-8F34-1464018E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E0BB-C9D6-4345-A7AB-1B77350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2D11-66C3-4E00-8CDA-E6DCE6F4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E671-94E6-4D2C-A195-3B19DF4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40D1-F4BF-4133-A70E-005FFD0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CAE62-FB28-4A7D-B7EC-8446827A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D740-B2EB-4D0F-970C-13037A36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D1C8-9E18-4E53-87C4-211A9239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A925-0472-462B-AFA2-AFCAA965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CFEA-D016-44A9-A2EE-D12DB30E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E281-4A7B-43F6-9C19-79BFED09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50B-96AA-45AA-AA23-943FAE0D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42E1-8E9A-4AA2-B979-CD491A0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C0953-4932-48B7-9976-44D0C9A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CF47-63D2-45CD-8AFD-6D9D273F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EAE2-79B8-4426-8F7C-B3DB15F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F2EC-62C7-4944-B25C-06F5DD7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7F7A-C3ED-4A95-9AF9-36007F8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6CEC-DBA5-4302-9EF7-E5CD0E3F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5E8E-2F09-4D99-9543-55AFCA2A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0BBD-D6DA-4163-9F65-E6A1590A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702B-ACB8-4AC6-A0E3-D97A9A8E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595-2666-456E-B0E7-4C4BB8FF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2E55-F42D-4E97-9BFB-A8B58B77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AC32-9774-46B8-8DF1-C8695886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741B-0FB3-4E3E-B8D5-D4EBCEA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7A3E-E6E1-46E3-8E80-EC6B583F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7167B-038C-4955-AC9C-06F3C3F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D994-7A32-4A72-99DD-CB4BC3DF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67E8F-53DA-4524-AD1E-634DE7C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0C10-8EFD-4862-B6FA-0677997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3CA7-B997-4EB4-BECC-85E462C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979E-B0FF-470E-82A7-4BC1259D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D42-D640-460C-8B05-2DD05710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D9C0-9A4D-4380-B7A4-A726A56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708D-7106-4A30-89CB-D2913BF2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C51C-DB88-46B1-8870-AB23DFB4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08B6-0A16-4820-8229-EB6F218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5DEF9-890B-40E7-869D-7CF4296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BDD0E-EEC0-4D2C-8A56-5F4FFB2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59CD-3547-4933-9490-AED9680C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1B6B-7F07-40FC-A632-C1881DB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8E8F-3338-4C09-84D1-F816CBF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A2A1-79C9-403D-B39D-1F43522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BD9-E8DA-47CE-A913-0A6BA32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F78C8-8B04-469F-BBB6-C41024D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6010-2BEF-4A4D-B8BB-2C65B5DF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09F61-CD2D-4940-B355-933199A4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09B1-3151-4E38-A18C-04D9B4EC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4805-0293-4137-8FC8-65DB99A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018E-2AB6-4E71-8587-E80FEB8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1C1C8-FB3E-4C5C-B7A0-FB0FBA9C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8B32E-0B01-44D6-899F-C6166D2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5CCF-2900-4270-A7D5-F4A94E0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A36F-2BBF-4489-A4F1-074B98B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CCB-BE52-41EF-B68F-B4A6058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B655-F11E-40CE-8A89-ADC0345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8751-A7B0-4BF8-874B-B803DE5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E5F39-A9C4-413A-A8B2-17D0630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72B3-162A-45F4-BAB1-6A2D3B00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69AB-5B85-4630-9369-63DC2F62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AA8C-B380-4F1E-A79D-65527D3C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F8E4-DFCD-49F0-974D-76F89630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4FEC-4495-46DD-9F62-8C984E7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81B3-BBFB-4372-8ECD-2B86710D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DDA5-EC7D-4B6A-890B-41F5B393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BCC-DFE2-4FA0-A25D-CE13980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AAF9-1B61-4095-A708-3DFDE92F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9870-797C-4D89-ABAA-D614E42C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78D3-318D-44CD-B8B5-0CA3587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EE0F-C2A8-4151-83A6-A715AC7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495AF-4434-4B0A-9295-4D9EFF7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0E294-1E40-4666-909D-E813F2B5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2338-B609-4C75-9BB0-F04A1C3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3F29-E5ED-425A-808F-473CE631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5F3F-72EC-4C9D-860D-1618C2A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2279E-7610-4F3D-85B0-D79CF49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B3F-9EB1-46AF-995B-22480306256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6142-39E8-4B8E-8063-78F068EED18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F69-502F-44C2-BA66-838E1D66457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C066-5C8F-4AA4-B311-509EE0F73C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803-D516-42FA-8149-DA8D00E3CF5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600-BBA8-477D-B53F-E30A21CF166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8526-D9C1-4FD0-B242-32B0A945931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D7C1-5182-40FC-B101-947A4DF1956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AB29-8EC5-4C91-A22A-E26DB5B61F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970-2B35-4576-9793-97D153E1EA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B08-4C46-456B-B1D8-101F403636D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A05-57C1-4CA2-95E8-CA1739B1100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Заголовок 1" descr=""/>
          <p:cNvPicPr/>
          <p:nvPr/>
        </p:nvPicPr>
        <p:blipFill>
          <a:blip r:embed="rId1"/>
          <a:stretch/>
        </p:blipFill>
        <p:spPr>
          <a:xfrm>
            <a:off x="633240" y="55440"/>
            <a:ext cx="7882200" cy="27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"/>
          <p:cNvGraphicFramePr/>
          <p:nvPr/>
        </p:nvGraphicFramePr>
        <p:xfrm>
          <a:off x="571680" y="2990880"/>
          <a:ext cx="8286480" cy="2103480"/>
        </p:xfrm>
        <a:graphic>
          <a:graphicData uri="http://schemas.openxmlformats.org/drawingml/2006/table">
            <a:tbl>
              <a:tblPr/>
              <a:tblGrid>
                <a:gridCol w="1742760"/>
                <a:gridCol w="6543720"/>
              </a:tblGrid>
              <a:tr h="210348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ель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омадская Юлия Николаевна, учитель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8920, Республика Саха(Якутия), Алданский райо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. Ыллым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ое казенное образовательное учреждение – средняя общеобразовательная школа №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"/>
          <p:cNvSpPr/>
          <p:nvPr/>
        </p:nvSpPr>
        <p:spPr>
          <a:xfrm>
            <a:off x="168840" y="42876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Психологический тест для оценки уровня интелл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523880" y="171468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) 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) 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)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)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)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)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)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)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) 1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) 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) 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)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)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)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)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)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) 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)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)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)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) 1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)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1"/>
          <p:cNvSpPr/>
          <p:nvPr/>
        </p:nvSpPr>
        <p:spPr>
          <a:xfrm>
            <a:off x="71280" y="8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Правильные ответы к тесту оценки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3"/>
          <p:cNvSpPr/>
          <p:nvPr/>
        </p:nvSpPr>
        <p:spPr>
          <a:xfrm>
            <a:off x="2192040" y="4287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Характерологическая анк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2286000" y="61488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Шесть типов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2714760" y="142884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Порожистая горная речка — быстрая и шум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2714760" y="333360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Широкая могучая полноводная р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2714760" y="237492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Стремительный, смывающий все на своем пути бурный по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2714760" y="385776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Извилистая речка с крутыми берег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9"/>
          <p:cNvSpPr/>
          <p:nvPr/>
        </p:nvSpPr>
        <p:spPr>
          <a:xfrm>
            <a:off x="2714760" y="4375080"/>
            <a:ext cx="6215040" cy="137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Разветвленная река с большим количеством протоков и остров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2714760" y="5329080"/>
            <a:ext cx="621504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Очень глубокая река с медленным течени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1"/>
          <p:cNvSpPr/>
          <p:nvPr/>
        </p:nvSpPr>
        <p:spPr>
          <a:xfrm>
            <a:off x="957240" y="171468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7"/>
          <p:cNvSpPr/>
          <p:nvPr/>
        </p:nvSpPr>
        <p:spPr>
          <a:xfrm>
            <a:off x="966960" y="26193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8"/>
          <p:cNvSpPr/>
          <p:nvPr/>
        </p:nvSpPr>
        <p:spPr>
          <a:xfrm>
            <a:off x="928800" y="454824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9"/>
          <p:cNvSpPr/>
          <p:nvPr/>
        </p:nvSpPr>
        <p:spPr>
          <a:xfrm>
            <a:off x="928800" y="328608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0"/>
          <p:cNvSpPr/>
          <p:nvPr/>
        </p:nvSpPr>
        <p:spPr>
          <a:xfrm>
            <a:off x="928800" y="38577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1"/>
          <p:cNvSpPr/>
          <p:nvPr/>
        </p:nvSpPr>
        <p:spPr>
          <a:xfrm>
            <a:off x="928800" y="5429160"/>
            <a:ext cx="10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6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3"/>
          <p:cNvSpPr/>
          <p:nvPr/>
        </p:nvSpPr>
        <p:spPr>
          <a:xfrm>
            <a:off x="1357200" y="14292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Тест на определение типа личности по методике Д. Холл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1643040" y="673560"/>
            <a:ext cx="578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  <a:ea typeface="Calibri"/>
              </a:rPr>
              <a:t>Ключ для обработки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071720" y="1500120"/>
          <a:ext cx="7143480" cy="5051520"/>
        </p:xfrm>
        <a:graphic>
          <a:graphicData uri="http://schemas.openxmlformats.org/drawingml/2006/table">
            <a:tbl>
              <a:tblPr/>
              <a:tblGrid>
                <a:gridCol w="1301760"/>
                <a:gridCol w="1184040"/>
                <a:gridCol w="1095480"/>
                <a:gridCol w="1152360"/>
                <a:gridCol w="1301760"/>
                <a:gridCol w="1108080"/>
              </a:tblGrid>
              <a:tr h="594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стически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венциальн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приимчивы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тистический ти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3"/>
          <p:cNvSpPr/>
          <p:nvPr/>
        </p:nvSpPr>
        <p:spPr>
          <a:xfrm>
            <a:off x="2457360" y="262080"/>
            <a:ext cx="47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НЫ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"/>
          <p:cNvSpPr/>
          <p:nvPr/>
        </p:nvSpPr>
        <p:spPr>
          <a:xfrm>
            <a:off x="642960" y="847800"/>
            <a:ext cx="7929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. Система изучения личности учащихся должна быть согласована с программой воспитания. Формирование различных сторон, качеств личности невозможно проводить единовременно. Процесс воспитания учащихся очень длител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2. Работа по изучению личности учащихся должна быть тщательно спланирована, проводиться систематически и целенаправленно, чтобы она охватила все стороны и качества лич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3. Методики, описанные в данной работе, могут быть использованы не только для диагностики того или иного качества, но и для коррекции, для формирования этого кач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3"/>
          <p:cNvSpPr/>
          <p:nvPr/>
        </p:nvSpPr>
        <p:spPr>
          <a:xfrm>
            <a:off x="928800" y="267012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33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3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Новизна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В данной работе представлен системный подход к профориентации учащихся 10-11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500040" y="174636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Цель работы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– на ранних этапах профориентации подростка определить степень его профпригодности к конкретному виду деятельности посредством всестороннего изучения его личности, т. е. изучения уровня соответствия физических качеств и психофизиологических особенностей профессиональным треб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500040" y="3754440"/>
            <a:ext cx="828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Получить представление об особенностях развития интеллекта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  Определить социальную направленность личности подро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Помочь школьнику понять ту сферу деятельности, которая подошла бы ему, в которой он мог бы реализовать свои спосо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3"/>
          <p:cNvSpPr/>
          <p:nvPr/>
        </p:nvSpPr>
        <p:spPr>
          <a:xfrm>
            <a:off x="928800" y="4287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ЫБОР ПРОФЕСИИ – ПЕРВЫЕ ША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4"/>
          <p:cNvSpPr/>
          <p:nvPr/>
        </p:nvSpPr>
        <p:spPr>
          <a:xfrm>
            <a:off x="1118520" y="12142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ак выбрать професс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право 5"/>
          <p:cNvSpPr/>
          <p:nvPr/>
        </p:nvSpPr>
        <p:spPr>
          <a:xfrm>
            <a:off x="4786200" y="121428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6"/>
          <p:cNvSpPr/>
          <p:nvPr/>
        </p:nvSpPr>
        <p:spPr>
          <a:xfrm>
            <a:off x="5681160" y="124308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й себ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7"/>
          <p:cNvSpPr/>
          <p:nvPr/>
        </p:nvSpPr>
        <p:spPr>
          <a:xfrm>
            <a:off x="2143080" y="1714680"/>
            <a:ext cx="45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Что влияет на выбор профе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8"/>
          <p:cNvSpPr/>
          <p:nvPr/>
        </p:nvSpPr>
        <p:spPr>
          <a:xfrm>
            <a:off x="1663920" y="2928960"/>
            <a:ext cx="7034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старших членов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товарищей, по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иция учителей, школьных педаг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ые профессиональные пл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ровень притязаний на общественное при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нформир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Скл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Стрелка вправо 10"/>
          <p:cNvSpPr/>
          <p:nvPr/>
        </p:nvSpPr>
        <p:spPr>
          <a:xfrm rot="5400000">
            <a:off x="3928680" y="221436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3"/>
          <p:cNvSpPr/>
          <p:nvPr/>
        </p:nvSpPr>
        <p:spPr>
          <a:xfrm>
            <a:off x="2012400" y="57168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Формула выбор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857160" y="1214280"/>
            <a:ext cx="77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офессия должна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ести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хорошо оплачива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интер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 хорошими условиям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чтобы ее легко было приобр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соответствовать желанию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можно было бы учиться и работать с друз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требована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3"/>
          <p:cNvSpPr/>
          <p:nvPr/>
        </p:nvSpPr>
        <p:spPr>
          <a:xfrm>
            <a:off x="1857240" y="2858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Методика поиск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785880" y="9288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Семь этапов принятия решения о выборе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1000080" y="17859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 Составить список подходящих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1000080" y="226044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Составить перечень требований к выбираемой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1000080" y="319104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Определить значимость каждого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1000080" y="364320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. Оценить свое соответствие требованиям каждой из подходящих проф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1000080" y="4572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. Подсчитать и проанализировать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8"/>
          <p:cNvSpPr/>
          <p:nvPr/>
        </p:nvSpPr>
        <p:spPr>
          <a:xfrm>
            <a:off x="1000080" y="51195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6. Проверить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9"/>
          <p:cNvSpPr/>
          <p:nvPr/>
        </p:nvSpPr>
        <p:spPr>
          <a:xfrm>
            <a:off x="-500400" y="5619600"/>
            <a:ext cx="102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7. Определить основные практические шаги к успе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3"/>
          <p:cNvSpPr/>
          <p:nvPr/>
        </p:nvSpPr>
        <p:spPr>
          <a:xfrm>
            <a:off x="1931760" y="14292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ФЕССИИ И РЫНОК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000080" y="1457280"/>
          <a:ext cx="7215120" cy="480060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320040">
                <a:tc rowSpan="7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Эконом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Форма собственности пред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Реги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рофе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Количество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Эффективность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3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едагог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Квалиф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пыт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3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Медицин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Состояни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Трудоспосо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Работоспосо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rowSpan="2">
                  <a:txBody>
                    <a:bodyPr lIns="0" rIns="0" tIns="0" bIns="0" anchor="t">
                      <a:noAutofit/>
                    </a:bodyPr>
                    <a:p>
                      <a:pPr marL="12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Психологические фак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Отношение к тру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Print"/>
                          <a:ea typeface="Times New Roman"/>
                        </a:rPr>
                        <a:t>Взаимоотношения с работодател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0" name="Rectangle 1"/>
          <p:cNvSpPr/>
          <p:nvPr/>
        </p:nvSpPr>
        <p:spPr>
          <a:xfrm>
            <a:off x="1285920" y="715320"/>
            <a:ext cx="650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  <a:ea typeface="Times New Roman"/>
              </a:rPr>
              <a:t>O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  <a:ea typeface="Times New Roman"/>
              </a:rPr>
              <a:t>т чего зависит 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5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5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3"/>
          <p:cNvSpPr/>
          <p:nvPr/>
        </p:nvSpPr>
        <p:spPr>
          <a:xfrm>
            <a:off x="785880" y="2858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ерспективы развития рынка труда в республике Саха (Яку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4"/>
          <p:cNvSpPr/>
          <p:nvPr/>
        </p:nvSpPr>
        <p:spPr>
          <a:xfrm>
            <a:off x="3571200" y="13572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ега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571680" y="1420920"/>
            <a:ext cx="82152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Комплексное развитие Южной Яку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Комплексное развитие Томпонского горнопромышленного района в Восточной Якут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d1014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Развитие Западной Якутии и Севера Иркутск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d1014"/>
                </a:solidFill>
                <a:latin typeface="Monotype Corsiva"/>
                <a:ea typeface="Calibri"/>
              </a:rPr>
              <a:t>- Освоение Эльгинского угольного месторо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5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5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"/>
          <p:cNvSpPr/>
          <p:nvPr/>
        </p:nvSpPr>
        <p:spPr>
          <a:xfrm>
            <a:off x="2369520" y="285840"/>
            <a:ext cx="49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ЛИЧНОСТЬ И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4"/>
          <p:cNvSpPr/>
          <p:nvPr/>
        </p:nvSpPr>
        <p:spPr>
          <a:xfrm>
            <a:off x="2926800" y="1324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Анкета «Ориент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142920" y="2979360"/>
            <a:ext cx="435780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Я ХО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(мне нравится, меня привлекает, я предпочитаю)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4643280" y="3161880"/>
            <a:ext cx="4357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(способен, уме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бладаю навы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трелка вправо 8"/>
          <p:cNvSpPr/>
          <p:nvPr/>
        </p:nvSpPr>
        <p:spPr>
          <a:xfrm rot="3164400">
            <a:off x="5558400" y="2166120"/>
            <a:ext cx="871560" cy="42840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3038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трелка вправо 9"/>
          <p:cNvSpPr/>
          <p:nvPr/>
        </p:nvSpPr>
        <p:spPr>
          <a:xfrm flipH="1" rot="18435600">
            <a:off x="2999160" y="2166120"/>
            <a:ext cx="871560" cy="4287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7d0000"/>
              </a:gs>
              <a:gs pos="100000">
                <a:srgbClr val="ff1a21"/>
              </a:gs>
            </a:gsLst>
            <a:lin ang="13038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75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1785960" y="14292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Типы профессий «Предмет тру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1928880" y="78588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человек</a:t>
            </a:r>
            <a:r>
              <a:rPr b="1" i="1" lang="ru-RU" sz="2400" spc="-1" strike="noStrike">
                <a:solidFill>
                  <a:srgbClr val="000000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знак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 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egoe Prin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человек-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1714680" y="342900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Классы профессий «Характер тру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2500200" y="4071960"/>
            <a:ext cx="47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А) исполнительские</a:t>
            </a: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Print"/>
              </a:rPr>
              <a:t>Б) твор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"/>
                            </p:stCondLst>
                            <p:childTnLst>
                              <p:par>
                                <p:cTn id="2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8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75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7:16:32Z</dcterms:created>
  <dc:creator>Юлечка</dc:creator>
  <dc:description/>
  <dc:language>en-US</dc:language>
  <cp:lastModifiedBy>Юлечка</cp:lastModifiedBy>
  <dcterms:modified xsi:type="dcterms:W3CDTF">2012-07-29T11:20:48Z</dcterms:modified>
  <cp:revision>81</cp:revision>
  <dc:subject/>
  <dc:title>Слайд 1</dc:title>
</cp:coreProperties>
</file>