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48D-FF83-497C-8A2B-B9A2975E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390-C8E4-4A86-9BD5-5876A73C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668-55F4-4575-A83A-D5263E44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302-2889-4CF4-B94C-CBD9E000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CBF7-641F-444B-A89D-8C6CB4FD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E024-3123-4805-9302-538BDD4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1DA2-29FE-4D09-9DE4-C6BF071E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6FAB-8A33-472E-8CE2-1C6AF0B0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08D4-D278-4505-A40F-A6694697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0033-4120-4BF8-B093-3CAB9D06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5394-0F16-442E-B349-8E82A9E0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757-3E1D-4030-AEEB-3558BF36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32E-2827-4567-89C2-D952A93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6211-612D-4502-83F0-E941C8FF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CDC9-F39C-421D-BABD-F3B7EC5B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194B-3D92-401B-844E-7226EF18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A821-B6D5-4E78-86A9-7791B6C6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5E57-13E0-4DEB-AE82-99F9BB38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D8210-4FCA-4332-9C17-0002276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DEE4-46C3-4884-BCD5-DAE54252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8093-4A4C-48F7-B4DC-9CB2C112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1AA2-2A1E-44C0-8B65-76C5396D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831-1C40-4564-9632-2C7217E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2E79-B370-436A-9EE2-5F2E3640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F6A5-76DA-4CA3-AC72-5C64800E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EEE2-C237-4ADD-BB21-C29A9178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BBF9C-3AD1-4195-9242-E708B9B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A5653-6CD5-46EF-B3EE-9E16F2D4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8819-410A-4530-B08A-E49246E5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3AA0-F2D2-41D1-A400-105FC7B6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C80E-BEFD-4F0B-99C4-C1A2A023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786E-9C95-4DCB-B505-D2CF60E1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76E32-BDD1-422D-B8C1-2264F5F5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C7E-8C5A-47A6-87F5-0C7EF4FA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83223-74E3-4C8F-9C95-4F2C8BEB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66AD-6E2C-434A-983B-FD14140F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C42F-54F2-4BA6-BC43-B14C05BC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6803-6B3B-4983-ACCC-BFFB7957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8A6E-73C6-496E-986C-690FE73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FAA0-6DFF-4F90-9869-8EB66B10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4350-C462-48C2-8920-7C93829B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F2EAE-46DC-43CE-81C5-679359C9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79601-78C3-4BD6-8DBA-934AFB60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AB3E-0A7D-43A4-B50E-78FFC5F7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E2D-FDE6-4485-8074-5CB2697A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1A0A7-999A-42E6-A44B-DE8DE9A8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F100E-4971-4D14-97A2-AC67EC95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7D3CF-948F-46F6-8C37-D3BD91E7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666D-3E93-439D-90CD-F16B6E01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8C3D-1BD2-4D2C-81E4-6D1E9013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B4F14-2C81-4B83-A37D-DB0AD578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7659F-52D8-448C-895D-F4BC464D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C1A2-BFDC-4FAD-A866-6D0E88AA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CCECE-7199-426D-A114-1E3A6CF4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CE154-E8BA-4E43-A97E-E1809C64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DA3-7D47-4ECF-92C4-76EC4A85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5BF5-FE2E-474B-BE98-5E3C6418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19A4F-816D-403D-9A59-A68C973F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186B-B98E-4588-9140-CC79E72E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00881-545F-470D-A56F-D88B6274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0A8D3-7954-4840-9AA3-1335E6C3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DE50D-A2FA-44C0-B9C1-490ED70B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3B23B-52C1-46B2-BDE4-724CF6D5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C5D4B-0186-4DA2-901A-0309A904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098D1-8D23-4777-8727-4A56460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99DC7-5DB6-4F93-A8F9-D218814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D55-95D8-4B5C-955E-D369386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85455-2744-4893-83EB-2DA54AD0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7874-244F-497F-A338-27B335D5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4180A-25DC-45E8-A089-25E31750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AD0A8-E5AF-4B4A-88AE-4385849F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882FB-4BFF-4554-9046-992B1743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ADDB9-9F34-48B1-8E35-51573D9D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FBA48-D74D-41E1-A88A-D4CD0FD0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A6976-09DD-4541-93AF-BACD9549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1985D-DB13-41F7-9EC1-C871781A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EEFE9-FDDF-4227-9A0E-B40B8FCA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383-D35B-4A13-9C6D-00297DD1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52484-5639-41C6-8094-C864CCC4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B762-F85E-4E6E-B106-6BE09178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B42BD-446C-4854-AB26-F54B4880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DA179-CA8A-4182-89AF-0DFEBE45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887CB-7C95-4235-9558-0179B023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386C5-4244-448E-A965-20F49D52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E7C5E-DE17-4803-8978-ED9EA4F6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6B278-AA7E-443C-8143-5EE3C875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27534-B5AB-409F-96FF-178D90D1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E341B-E9C2-4340-B8CB-E6DD8CA5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FB2-B820-44FD-9108-AF6E409E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3F364-55E0-4C81-B517-38C0A53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99FBD-B36F-499D-A542-224E9768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4C596-08CC-4FC9-86CA-1E94271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5AE23-6215-48A8-A81B-71A07B61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99D7E-E180-46EF-9C37-9D0C898F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E023-8721-44EC-AA85-C443228D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3C2A-2AC9-49AD-82F4-2BA1ACC3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8405-3734-4F5C-9367-4748955BD0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477C-D622-44F5-A5B6-6232E90749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5279-3BBC-4695-BB46-6962CB097C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CCAE-25B0-4760-AD18-0E07669617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6F1E-EF92-4817-92D6-5121ED175F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7276-00F7-45CA-9CE0-34E0B65043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CFF7-7AFB-47B7-A6C4-15C8CB1ED1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BF39-CCD1-43D4-B6B4-A409DF6D3C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Содержимое 2" descr=""/>
          <p:cNvPicPr/>
          <p:nvPr/>
        </p:nvPicPr>
        <p:blipFill>
          <a:blip r:embed="rId1"/>
          <a:stretch/>
        </p:blipFill>
        <p:spPr>
          <a:xfrm>
            <a:off x="450720" y="1390680"/>
            <a:ext cx="4121280" cy="4619520"/>
          </a:xfrm>
          <a:prstGeom prst="rect">
            <a:avLst/>
          </a:prstGeom>
          <a:ln w="0">
            <a:noFill/>
          </a:ln>
        </p:spPr>
      </p:pic>
      <p:pic>
        <p:nvPicPr>
          <p:cNvPr id="371" name="Содержимое 5" descr="49_bf68b7225e (1).jpg"/>
          <p:cNvPicPr/>
          <p:nvPr/>
        </p:nvPicPr>
        <p:blipFill>
          <a:blip r:embed="rId2"/>
          <a:stretch/>
        </p:blipFill>
        <p:spPr>
          <a:xfrm>
            <a:off x="4648320" y="1676520"/>
            <a:ext cx="4038480" cy="3700440"/>
          </a:xfrm>
          <a:prstGeom prst="rect">
            <a:avLst/>
          </a:prstGeom>
          <a:ln w="0">
            <a:noFill/>
          </a:ln>
        </p:spPr>
      </p:pic>
      <p:pic>
        <p:nvPicPr>
          <p:cNvPr id="372" name="Заголовок 1" descr=""/>
          <p:cNvPicPr/>
          <p:nvPr/>
        </p:nvPicPr>
        <p:blipFill>
          <a:blip r:embed="rId3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1-09-28T17:31:02Z</dcterms:modified>
  <cp:revision>3</cp:revision>
  <dc:subject/>
  <dc:title>Who is it ?</dc:title>
</cp:coreProperties>
</file>