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5B7-7B4C-4EEC-BB55-D27907A6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113-CAB2-4901-BC6E-A08CC58B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98C-FAF2-4AD0-B3DF-BCA96294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48C-E26E-42E6-99F2-4F81EA93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C199-1F9B-4F51-8530-8FD98D55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8AC-6F9A-4374-9B46-2AA9D95B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4DAC-C58E-4805-8B2D-60EFAEB5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B357-CD50-49E6-A405-B32F558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03FE-A308-4DA4-8CCB-AAC21D0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C34B-F873-49E4-9139-E2C1D36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508A-E6D7-4030-AD8A-2B8D6D27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C30-A048-4345-A121-5E9A1ED7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2731-825D-4DD0-AF38-F715AB23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CF88-4D7D-456B-981C-ADCA485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257B-A684-42AA-8A52-2FFAF1E0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9FC0-7840-45DE-912B-591426C8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4055-CE9C-41DA-8083-DF48C87C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8955-EC48-4E8A-AE67-0C42A3AA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5129-9E6C-4EB8-8D78-9760566B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A777-9143-4CD5-B2A8-08E7296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7D95-D53A-4525-9A2A-277F855C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AEA7-5428-4396-A0BB-584837CE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A0C-D8A1-49E0-B7FA-7D33DEAD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7D46-56FF-4416-841A-9DDFB3A1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F59B-9156-4E2A-B6C4-5D55AB7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82BC-39CC-4C51-817F-A3B7B62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3B90-E4BA-49C8-9B62-88E8F98A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6F8A-486D-42D8-997B-498D3024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89D4-F246-46B8-9715-18DF02B8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FE39-B4B6-4B63-9E35-3CED7DAB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A26B-9F61-48C9-81FA-B6316D13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9BFC-FF70-4647-9AB9-E444DA9D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1531-B75C-4002-A299-C24EC39B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CF0-6D11-4977-A969-467C98C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5EC3-5AA4-480B-8334-845D585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39E5-1604-4D18-BEB2-4275A38B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58CEE-308B-4EB4-A3D8-450414F4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0368-DF34-404B-9969-1A8076A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58F83-AE75-42CA-8E7E-BDD266DC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BD7C-6767-48D2-BC07-C10A8FA1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E7F6-8058-40EE-874E-9DF9EFF0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318B-B15B-4708-B0D8-0457DF3B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FFA1-C768-46C0-90C5-11E497DD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641DD-C58F-4ED1-AF78-B4C162C0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40D-CADC-4C9C-BA12-F4DFD002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15F5-F6D7-4AAB-98A1-2363F346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3B14-01D5-47FF-B671-4F7342E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2811-930D-4D47-B0E0-DF1DA3F8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32C3-9C71-4C3B-B41B-091433E5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490D6-F2BC-4B36-9BD6-1D1672C4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C85F-99B5-475A-B871-34172AB9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EE369-D45E-43DD-85C4-9EDB416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034B-6709-4F30-A997-CAC13B00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F60B3-C982-47FD-BB24-B7F13B9A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178E3-FADE-4908-8EE9-DF35C600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583-5B66-49B4-949B-3E9E5AF6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003CC-BA40-4E7A-8183-22F1C36C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CC18-E1C5-4536-AE10-9A3497D7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603F0-0D27-4BD2-B525-5C85E408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DA8BC-1E5A-49F6-93C0-5C8C3C99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C9DF-56BC-49C0-A820-3B475E2E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05218-DDA7-49A8-81F3-E74A9EAD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5268E-DEE4-40DC-8079-AB362A95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D5D3-686A-4250-B1A5-D67BED2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EC1AA-89CE-4F18-8576-8ACBDE9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0C925-512E-4D41-BA23-A5656B89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399-A05B-48E7-890C-C26ABE6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C61EB-D816-4981-9A2C-ED5583D5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143B-C5DC-48F2-9A43-3E4D0813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A4967-79D0-4970-BC6A-0F2A2BE4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40C48-E1F4-40C5-8DA0-7A8FB843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8CF4-1660-433D-9B0A-C3AE7C43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9A521-D42C-4092-B803-EA15AA15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1476-D00C-459D-A84C-39BFDC11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1FAD3-E579-42C9-B191-37A26212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C08D-62EC-4ADC-8B5A-F2C6CDA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95AE-606E-4EE5-8787-DFEFBC3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B18-F47A-4DEC-9529-5F05FF5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8D30-ED1E-4A3C-A3D0-77199BE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D54D7-F1AE-4467-99E5-ABE9D07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440AF-1BC9-4242-9B0B-C29DC289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F180-1BBD-413E-9588-77D32DBF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2AEE8-E0D0-41D1-B002-ECEC4BC0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CFC3-5BB6-4A67-9224-7344D56A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CC5FF-0F05-4B1F-A906-8A7271A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5AED4-071E-4C38-B718-C471105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ECE7-7125-4ED5-ABAF-C730C168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DCB24-43C7-403A-9565-F227FEBC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F8A-E5C5-4430-BD8C-14D4D484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2990D-3995-4A23-9797-1395C5E1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5B35-6E3A-4BF9-9D17-2C873B0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CB4F5-DB49-45C0-AEC3-9406DC8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AEFC4-E6C3-49CF-8BF8-86959E3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69E3E-5557-4FA0-9AA2-09942524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CA344-40D6-438C-A83D-56770ADE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0D977-AE22-4C22-B9A0-74D1120A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2848-E240-415E-B195-2FEE203C21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2139-B21C-4676-993F-ED3220ADDB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9575-EA1C-4A66-9FE3-C3BB12A353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43B8-5618-4BEC-AC40-E50AC0E48B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C2C1-AC66-4C80-9F72-65EC7300BA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EF3F-D7EB-407B-89A7-D513E3AF29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052D-72A4-441D-A7F8-C2AE03BC74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71A8-F1F9-4E19-8882-B1E0A56C30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390680"/>
            <a:ext cx="4121280" cy="4619520"/>
          </a:xfrm>
          <a:prstGeom prst="rect">
            <a:avLst/>
          </a:prstGeom>
          <a:ln w="0">
            <a:noFill/>
          </a:ln>
        </p:spPr>
      </p:pic>
      <p:pic>
        <p:nvPicPr>
          <p:cNvPr id="371" name="Содержимое 5" descr="49_bf68b7225e (1).jpg"/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3700440"/>
          </a:xfrm>
          <a:prstGeom prst="rect">
            <a:avLst/>
          </a:prstGeom>
          <a:ln w="0">
            <a:noFill/>
          </a:ln>
        </p:spPr>
      </p:pic>
      <p:pic>
        <p:nvPicPr>
          <p:cNvPr id="372" name="Заголовок 1" descr=""/>
          <p:cNvPicPr/>
          <p:nvPr/>
        </p:nvPicPr>
        <p:blipFill>
          <a:blip r:embed="rId3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1-09-28T17:31:02Z</dcterms:modified>
  <cp:revision>3</cp:revision>
  <dc:subject/>
  <dc:title>Who is it ?</dc:title>
</cp:coreProperties>
</file>