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6986-9ABB-4D85-9B99-B7FB83287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212F-3056-4114-A458-C97CDE00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33A3-1141-4817-8041-C9EE0639A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55C7-7837-493E-9185-D1A61E5AE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4335-7114-41C2-80EC-56FFEF146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263D-4E2A-45D8-B2E6-7E3A7D25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C198-9A9B-4988-AD76-D43E8D02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DAB12-10A3-42CF-9AB4-07CA8A32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5C0E-E1B9-4B79-81B6-EEE5CC9F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D5CEF-6F57-4FEB-B3B0-2B1EF612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054C-D82F-4D2A-9862-FF7394A9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4F2C-AE34-406C-9E91-D15FCC99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1166-19F9-4757-BEE9-B519EC12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BE264-8C31-427D-9BDC-2752DC7A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27DA-E2CD-456F-9084-0C8CD139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4254-0516-48F9-AE8F-B9D728D56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6C1D-476D-4C18-B042-3D08E7D65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90E0-C0E5-471B-8684-CA61D052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5ADF-D63D-496A-99CC-53143365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0403-59AB-4231-B889-AFEB6AA2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EE38-7CA0-4B19-B03C-87908C12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CA57-8077-462F-9BE7-48279690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22F9-4B8C-494D-88B2-94C126C7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1ACA-B0C1-46BA-9EA6-4EDDA86A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CF64-D430-40D6-B10B-2C4738646F4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411A-91CE-4946-BF36-4D531B579DB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920" y="23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Угадай запах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69228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ЧТО ЭТО МОЖЕТ БЫТЬ?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50920" y="-1440"/>
            <a:ext cx="8893080" cy="6918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116000" y="134136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КОФ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39640" y="47628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МЯ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256000" y="5805360"/>
            <a:ext cx="3887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ШОКОЛАД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42916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788000" y="260280"/>
            <a:ext cx="4356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ФРУКТОВЫ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149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411280" y="6156360"/>
            <a:ext cx="57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ЛИМО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-19080"/>
            <a:ext cx="6877080" cy="68770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9920" y="4653000"/>
            <a:ext cx="3394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МУЖСКО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284720" y="549360"/>
            <a:ext cx="51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ЦВЕТОЧНЫ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292720" y="-720"/>
            <a:ext cx="3357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ЗЕМЛЯНИ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933480"/>
            <a:ext cx="759636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11:48:50Z</dcterms:created>
  <dc:creator>Sony</dc:creator>
  <dc:description/>
  <dc:language>en-US</dc:language>
  <cp:lastModifiedBy>Sony</cp:lastModifiedBy>
  <dcterms:modified xsi:type="dcterms:W3CDTF">2012-09-19T12:13:22Z</dcterms:modified>
  <cp:revision>2</cp:revision>
  <dc:subject/>
  <dc:title>Слайд 1</dc:title>
</cp:coreProperties>
</file>