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242-FBA2-4522-AECB-EB580819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907-1272-43EB-B541-523A7D2C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18A-4363-4BFA-A52B-EC1B22B7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DB7-8C3D-4F83-8950-6AAF15E4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0089-51A2-48E0-8F27-57519111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1F1-BA8E-4247-8E5C-A6A8C052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A535-11EC-47CB-801C-B190FD6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B4D9-54D2-4770-9FF3-0F599B4B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DCDC-5A02-40FA-8D7D-7C1AE95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D65-E1FB-4714-A565-34D52995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2CC5-1716-4A0F-BA83-277D002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0C6-D242-4643-AA25-DCBEAD09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5C6-C95F-4FC5-ACD2-D3467AB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DDF-D3A1-4985-A026-3FD837F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B8AA-4281-4E9F-9153-07F5383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BA0-6A70-4326-9934-3EBF4BB8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1579-527F-417F-93B1-25E01E09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D34-1AF5-48ED-A003-162B23D2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AB8-6C0E-43AC-BD50-E5D4EC1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0DCC-30B9-4DD0-9488-7B4DD196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E0E-3C67-401B-8CC0-CB8CA786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4DA-FCF5-4B3F-A6C9-CF2672D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CC0-549B-4479-89C8-3898B34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7E2-E305-4694-AA57-8B63415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932-0B03-4D24-A774-5E06D57021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D976-1597-4829-8E03-A06E82AF3D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гадай зап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ЭТО МОЖЕТ БЫТЬ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-1440"/>
            <a:ext cx="8893080" cy="691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341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Ф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476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0" y="5805360"/>
            <a:ext cx="3887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ОКОЛА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788000" y="260280"/>
            <a:ext cx="435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РУКТОВЫ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49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11280" y="615636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М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9920" y="465300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УЖСКО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84720" y="549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ВЕТОЧ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92720" y="-720"/>
            <a:ext cx="335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ЕМЛЯ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3480"/>
            <a:ext cx="759636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1:48:50Z</dcterms:created>
  <dc:creator>Sony</dc:creator>
  <dc:description/>
  <dc:language>en-US</dc:language>
  <cp:lastModifiedBy>Sony</cp:lastModifiedBy>
  <dcterms:modified xsi:type="dcterms:W3CDTF">2012-09-19T12:13:22Z</dcterms:modified>
  <cp:revision>2</cp:revision>
  <dc:subject/>
  <dc:title>Слайд 1</dc:title>
</cp:coreProperties>
</file>