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4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F71B-4370-42C4-8715-215215F04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659A-F2EE-411D-909D-A55B4D2CB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B3AD-F514-4C38-86E1-45F33B4D0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3AEF-7F64-40C4-B8A7-97C1271C0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77366-3882-44EE-80EC-E1E2012E7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D6024-CC4D-4238-B09A-70106C64C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62552-496E-43FF-88EA-A583CB4BB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008D6-811F-43FB-99C5-70B916AEE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6BFF0-7D5C-4D94-8EBB-8D05599B9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CD9E2-3015-4DE6-89C1-290A606A5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E9207-7EED-4113-AD2F-1FD04E80A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F708-5E19-40BB-9BC6-102D5B7C2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229A3-AA37-4EEE-BAE6-D07EF9BFD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41B78-9C5D-482F-8206-2901A6864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FB561-D811-4838-9973-7F2D36B6E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2059D-0F45-4435-953A-009BC4AA0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850CC-9D67-4267-BFEE-4BC6C02B3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9157-4929-459D-8DD5-76E35636F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C9FF-A3A7-48DE-ABB2-8D6E470E9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8B80-D02C-43D9-9D9B-845594343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BA8A-F392-42E4-916F-FA0D89FCF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F8A9-8638-48D6-A91B-F39DC6C29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C95C-4E75-4961-97CA-2B6702D57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C1BA-2B08-478B-B662-FC4F219C5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50F20-7A1A-42BF-9949-9FCD2DA7D8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87AB3-A4E7-4FCF-A2AE-8C9001ADF6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www.museum-online.ru/Avant-garde/Kazimir_Severinovich_Malevich/Canvas/3634" TargetMode="External"/><Relationship Id="rId4" Type="http://schemas.openxmlformats.org/officeDocument/2006/relationships/image" Target="../media/image9.jpeg"/><Relationship Id="rId5" Type="http://schemas.openxmlformats.org/officeDocument/2006/relationships/hyperlink" Target="http://www.museum-online.ru/Avant-garde/Kazimir_Severinovich_Malevich/Canvas/3589" TargetMode="External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187280" y="1557360"/>
            <a:ext cx="7201080" cy="28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скусство ХХ века.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БСТРАКЦИОНИЗ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Красная конниц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84360" y="1916280"/>
            <a:ext cx="734508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Малевич, Казимир Северинович. Черный супрематический квадрат"/>
          <p:cNvPicPr/>
          <p:nvPr/>
        </p:nvPicPr>
        <p:blipFill>
          <a:blip r:embed="rId2"/>
          <a:stretch/>
        </p:blipFill>
        <p:spPr>
          <a:xfrm>
            <a:off x="1835280" y="260280"/>
            <a:ext cx="5708520" cy="57610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908000" y="609300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ерный супрематический квадра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2050920" y="1773360"/>
            <a:ext cx="5185080" cy="27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3a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абло</a:t>
            </a:r>
            <a:endParaRPr b="1" lang="en-US" sz="1800" spc="1" strike="noStrike">
              <a:ln w="0">
                <a:noFill/>
              </a:ln>
              <a:solidFill>
                <a:srgbClr val="00003a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3a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икассо</a:t>
            </a:r>
            <a:endParaRPr b="1" lang="en-US" sz="1800" spc="1" strike="noStrike">
              <a:ln w="0">
                <a:noFill/>
              </a:ln>
              <a:solidFill>
                <a:srgbClr val="00003a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55640" y="404640"/>
            <a:ext cx="0" cy="6048720"/>
          </a:xfrm>
          <a:prstGeom prst="line">
            <a:avLst/>
          </a:prstGeom>
          <a:ln w="57240">
            <a:solidFill>
              <a:srgbClr val="00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8360" y="404640"/>
            <a:ext cx="0" cy="5977080"/>
          </a:xfrm>
          <a:prstGeom prst="line">
            <a:avLst/>
          </a:prstGeom>
          <a:ln w="57240">
            <a:solidFill>
              <a:srgbClr val="00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63640" y="5486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Три музыкант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610320" cy="59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940000" y="260280"/>
            <a:ext cx="2879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Фермерша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467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4000" y="549360"/>
            <a:ext cx="4259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Арлекин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086440" y="0"/>
            <a:ext cx="405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Абстракциони́зм -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аправление искусства, отказавшегося от приближённого к действительности изображения форм в живописи и скульптуре. Одна из целей абстракционизма — достижение «гармонизации», создание определённых цветовых сочетаний и геометрических форм, чтобы вызвать у созерцателя разнообразные ассоциаци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0" y="0"/>
            <a:ext cx="9325080" cy="6991200"/>
            <a:chOff x="0" y="0"/>
            <a:chExt cx="9325080" cy="699120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325080" cy="699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 txBox="1"/>
            <p:nvPr/>
          </p:nvSpPr>
          <p:spPr>
            <a:xfrm>
              <a:off x="0" y="0"/>
              <a:ext cx="9325080" cy="699120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/>
            </a:bodyPr>
            <a:p>
              <a:pPr marL="343080" indent="-343080">
                <a:spcBef>
                  <a:spcPts val="799"/>
                </a:spcBef>
                <a:buClr>
                  <a:srgbClr val="00ccff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250920" y="2133720"/>
            <a:ext cx="2592360" cy="35701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76200" y="5734080"/>
            <a:ext cx="246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Васили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Кандинс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6443640" y="2060640"/>
            <a:ext cx="2490840" cy="36003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640560" y="5753160"/>
            <a:ext cx="203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Казими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Малеви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419640" y="227664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Пабл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Пикасс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332000" y="333360"/>
            <a:ext cx="698508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СНОВОПОЛОЖНИКИ </a:t>
            </a:r>
            <a:endParaRPr b="1" lang="en-US" sz="1800" spc="1" strike="noStrike">
              <a:ln w="0">
                <a:noFill/>
              </a:ln>
              <a:solidFill>
                <a:srgbClr val="00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БСТРАКЦИОНИЗМА</a:t>
            </a:r>
            <a:endParaRPr b="1" lang="en-US" sz="1800" spc="1" strike="noStrike">
              <a:ln w="0">
                <a:noFill/>
              </a:ln>
              <a:solidFill>
                <a:srgbClr val="00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3276720" y="3213000"/>
            <a:ext cx="2816280" cy="34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1258920" y="1773360"/>
            <a:ext cx="6626160" cy="27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3a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асилий</a:t>
            </a:r>
            <a:endParaRPr b="1" lang="en-US" sz="1800" spc="1" strike="noStrike">
              <a:ln w="0">
                <a:noFill/>
              </a:ln>
              <a:solidFill>
                <a:srgbClr val="00003a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3a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андинский</a:t>
            </a:r>
            <a:endParaRPr b="1" lang="en-US" sz="1800" spc="1" strike="noStrike">
              <a:ln w="0">
                <a:noFill/>
              </a:ln>
              <a:solidFill>
                <a:srgbClr val="00003a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9640" y="476280"/>
            <a:ext cx="0" cy="5977080"/>
          </a:xfrm>
          <a:prstGeom prst="line">
            <a:avLst/>
          </a:prstGeom>
          <a:ln w="57240">
            <a:solidFill>
              <a:srgbClr val="00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532720" y="476280"/>
            <a:ext cx="73080" cy="5977080"/>
          </a:xfrm>
          <a:prstGeom prst="line">
            <a:avLst/>
          </a:prstGeom>
          <a:ln w="57240">
            <a:solidFill>
              <a:srgbClr val="00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332000" y="260280"/>
            <a:ext cx="6553080" cy="56548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547640" y="595008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Белый ов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Избушка на курьих ножках (Баба-Яга)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755640" y="1341360"/>
            <a:ext cx="7956720" cy="52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560" y="5013360"/>
            <a:ext cx="2819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Морской бой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665520" y="0"/>
            <a:ext cx="5478480" cy="64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2050920" y="1773360"/>
            <a:ext cx="5185080" cy="27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3a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азимир</a:t>
            </a:r>
            <a:endParaRPr b="1" lang="en-US" sz="1800" spc="1" strike="noStrike">
              <a:ln w="0">
                <a:noFill/>
              </a:ln>
              <a:solidFill>
                <a:srgbClr val="00003a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3a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алевич</a:t>
            </a:r>
            <a:endParaRPr b="1" lang="en-US" sz="1800" spc="1" strike="noStrike">
              <a:ln w="0">
                <a:noFill/>
              </a:ln>
              <a:solidFill>
                <a:srgbClr val="00003a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55640" y="404640"/>
            <a:ext cx="0" cy="6048720"/>
          </a:xfrm>
          <a:prstGeom prst="line">
            <a:avLst/>
          </a:prstGeom>
          <a:ln w="57240">
            <a:solidFill>
              <a:srgbClr val="00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388360" y="404640"/>
            <a:ext cx="0" cy="5977080"/>
          </a:xfrm>
          <a:prstGeom prst="line">
            <a:avLst/>
          </a:prstGeom>
          <a:ln w="57240">
            <a:solidFill>
              <a:srgbClr val="00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Малевич, Казимир Северинович. Три девушки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4000" y="2060640"/>
            <a:ext cx="3978000" cy="4535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Малевич, Казимир Северинович. Спотрсмены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427640" y="549360"/>
            <a:ext cx="4429080" cy="36939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11280" y="1484280"/>
            <a:ext cx="37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Три девуш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716360" y="4292640"/>
            <a:ext cx="35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Спортсме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0T14:06:21Z</dcterms:created>
  <dc:creator>Sony</dc:creator>
  <dc:description/>
  <dc:language>en-US</dc:language>
  <cp:lastModifiedBy>Sony</cp:lastModifiedBy>
  <dcterms:modified xsi:type="dcterms:W3CDTF">2012-09-19T11:53:46Z</dcterms:modified>
  <cp:revision>9</cp:revision>
  <dc:subject/>
  <dc:title>Слайд 1</dc:title>
</cp:coreProperties>
</file>