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B83-34B1-4A28-AEF8-1F74DC7B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AAE-45E6-4C2E-979A-B2582F7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A42-78B5-40A6-A4B3-B550C368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62F-6E14-43CA-8298-48896F9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D47-3D6E-4058-869E-80C3744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53E4-B091-44F3-BF1E-55B9BA9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AC1F-8F3C-430F-8910-27DEA575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80F-1EE7-4C16-81B3-1339A541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828-3500-4FE6-B9C6-4307F05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07D-6511-4E88-98B4-68D5640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9ABA-EA6B-42CE-87A4-8B6CA151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6368-37AE-430C-B870-0F91945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115-7004-4020-B0B5-EBA8A77C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F91F-BB2E-4D82-B8C2-06809AA0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F814-EC09-4F85-97DE-5F12E434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245B-B9A5-4AED-87C1-C9E4C8C5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D2AD-3952-42DC-AD4A-4B993174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EC7-F681-4FFC-BA7B-C531B18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C7B-7A08-47B2-B7D4-12BE34B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A31-27F8-4FBB-B53F-7555BCD3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247-3858-4827-831D-B63E015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395-9C83-495E-AB29-2961FD36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969-78CF-4F3C-BBFF-92359855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461-71D0-48AA-AD74-CCEFFDE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1DAB-79EB-4057-9877-109B37487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E7F3-4F75-45D0-B8C3-6E47168B8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useum-online.ru/Avant-garde/Kazimir_Severinovich_Malevich/Canvas/3634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museum-online.ru/Avant-garde/Kazimir_Severinovich_Malevich/Canvas/3589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87280" y="1557360"/>
            <a:ext cx="7201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скусство ХХ ве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БСТРАКЦИОНИЗ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асная конн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345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Малевич, Казимир Северинович. Черный супрематический квадрат"/>
          <p:cNvPicPr/>
          <p:nvPr/>
        </p:nvPicPr>
        <p:blipFill>
          <a:blip r:embed="rId2"/>
          <a:stretch/>
        </p:blipFill>
        <p:spPr>
          <a:xfrm>
            <a:off x="1835280" y="260280"/>
            <a:ext cx="5708520" cy="576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8000" y="609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рный супрематический 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050920" y="1773360"/>
            <a:ext cx="518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бло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кассо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404640"/>
            <a:ext cx="0" cy="604872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8360" y="40464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Три музыкан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103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40000" y="260280"/>
            <a:ext cx="2879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Фермерш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6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425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лек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бстракциони́зм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правление искусства, отказавшегося от приближённого к действительности изображения форм в живописи и скульптуре. Одна из целей абстракционизма — достижение «гармонизации», создание определённых цветовых сочетаний и геометрических форм, чтобы вызвать у созерцателя разнообразные ассоциа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325080" cy="6991200"/>
            <a:chOff x="0" y="0"/>
            <a:chExt cx="9325080" cy="69912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325080" cy="69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0" y="0"/>
              <a:ext cx="9325080" cy="6991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c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2592360" cy="3570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76200" y="5734080"/>
            <a:ext cx="24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асил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нд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49084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40560" y="5753160"/>
            <a:ext cx="20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Кази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е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276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аб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икас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2000" y="333360"/>
            <a:ext cx="6985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ОПОЛОЖНИКИ 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БСТРАКЦИОНИЗМА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276720" y="3213000"/>
            <a:ext cx="28162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58920" y="1773360"/>
            <a:ext cx="66261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силий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ндинский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628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32720" y="476280"/>
            <a:ext cx="7308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32000" y="260280"/>
            <a:ext cx="6553080" cy="565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47640" y="5950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лый ов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Избушка на курьих ножках (Баба-Яга)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956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501336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орской бо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65520" y="0"/>
            <a:ext cx="54784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050920" y="1773360"/>
            <a:ext cx="5185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зимир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3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евич</a:t>
            </a:r>
            <a:endParaRPr b="1" lang="en-US" sz="1800" spc="1" strike="noStrike">
              <a:ln w="0">
                <a:noFill/>
              </a:ln>
              <a:solidFill>
                <a:srgbClr val="00003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04640"/>
            <a:ext cx="0" cy="604872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404640"/>
            <a:ext cx="0" cy="5977080"/>
          </a:xfrm>
          <a:prstGeom prst="line">
            <a:avLst/>
          </a:prstGeom>
          <a:ln w="5724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Малевич, Казимир Северинович. Три девуш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060640"/>
            <a:ext cx="3978000" cy="45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Малевич, Казимир Северинович. Спотрсмены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549360"/>
            <a:ext cx="4429080" cy="3693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1484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ри деву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4292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портсм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4:06:21Z</dcterms:created>
  <dc:creator>Sony</dc:creator>
  <dc:description/>
  <dc:language>en-US</dc:language>
  <cp:lastModifiedBy>Sony</cp:lastModifiedBy>
  <dcterms:modified xsi:type="dcterms:W3CDTF">2012-09-19T11:53:46Z</dcterms:modified>
  <cp:revision>9</cp:revision>
  <dc:subject/>
  <dc:title>Слайд 1</dc:title>
</cp:coreProperties>
</file>