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D5C-C10A-414A-9528-9650B84A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AD4-3FA4-4C33-9273-66C4F1B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000-60D4-4730-A768-B7C3F995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FE4-7DF6-4E65-8CF4-46514E21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5B4-F8E5-41DD-B610-D9C7D92C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832-B08F-430C-BA4F-CF56D73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B97-3785-447E-8160-BE3CB2F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4AE-B6E9-4FCC-85E9-78F31894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53F-27D2-454C-9F70-0C9C083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DC1-3F1F-4FE5-B0FB-37830EB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30D-49A0-481B-9207-EEB60DD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D0C-940B-4550-A525-B6E3B08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FD2A-A641-41E0-A2E5-F62429B2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ы учеников НОУ 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ем зап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28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омат ва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 молочного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5840"/>
            <a:ext cx="7925040" cy="684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9810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линовый аро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89154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552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омат мя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6491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ах маминой чашки коф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х росы на лугу ранним 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6324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онный ар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11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6172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ах леде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6248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омат фруктового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1:07:54Z</dcterms:created>
  <dc:creator>Sony</dc:creator>
  <dc:description/>
  <dc:language>en-US</dc:language>
  <cp:lastModifiedBy>Sony</cp:lastModifiedBy>
  <dcterms:modified xsi:type="dcterms:W3CDTF">2012-09-19T11:28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