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9C8-5749-44F4-A732-4A43AF57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A92-4A38-4EFF-9098-603D269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904-FD3C-4A28-AB3F-3AA7134F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01B-B626-440D-AE23-FB2BD5F7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1E8-74B5-4FBE-A7D7-4A4F18B9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637-F000-438D-B1A1-BA06C35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42C-42C9-4056-8F08-F002C48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0D8-4F69-4473-A681-20D1D79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B8C-5617-480E-8187-7F4183D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CE1-937E-42B7-81E1-0F36158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E4F-71C9-45AE-8670-1F01CFA4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561-35B4-4F53-8D51-B79C2F4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7AF-C029-48B2-A781-506E3A95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ы учеников НОУ 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ем зап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омат ва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 молочного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5840"/>
            <a:ext cx="7925040" cy="684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9810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линовый аро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89154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омат мя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6491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 маминой чашки коф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х росы на лугу ранним 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6324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онный ар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11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6172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ах леде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6248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омат фруктового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1:07:54Z</dcterms:created>
  <dc:creator>Sony</dc:creator>
  <dc:description/>
  <dc:language>en-US</dc:language>
  <cp:lastModifiedBy>Sony</cp:lastModifiedBy>
  <dcterms:modified xsi:type="dcterms:W3CDTF">2012-09-19T11:28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