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1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9.png" ContentType="image/png"/>
  <Override PartName="/ppt/media/image3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9C5-F088-4026-820A-B5D05C02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7D3-984C-4F3A-82A1-CEE166E4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8AD-FCAA-4524-B221-B578DFD0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E00-0882-40DF-99D8-070A300F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B60-DD14-4BAC-9920-411D37AE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F71-DCA9-401D-A60A-A43665CD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289-54D8-4296-A8DE-3CEA383C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0D1-EDA2-4FF5-996B-88981226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591-46F6-461D-AB84-D68E0FD3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43FA-0BB4-457E-8ABB-45344B7A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A89-BA95-4D0B-9B63-DC0747C8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A3A9-EEC5-478D-88F8-1BCE44F8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942F-1AFB-41FB-961D-564F181F5E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7e4bd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17680" y="749160"/>
            <a:ext cx="8261280" cy="292752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1352520" y="3760920"/>
            <a:ext cx="7132680" cy="1896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Oфициально запрещены только 5 добаво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-121 </a:t>
            </a:r>
            <a:r>
              <a:rPr b="1" i="1" lang="ru-RU" sz="3200" spc="-1" strike="noStrike">
                <a:solidFill>
                  <a:srgbClr val="cc0099"/>
                </a:solidFill>
                <a:latin typeface="Calibri"/>
              </a:rPr>
              <a:t> –  (цитрусовый красный краситель, которым любят обрабатывать корки апельсинов); запрещен в России и большинстве стран мира!        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-12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cc0099"/>
                </a:solidFill>
                <a:latin typeface="Calibri"/>
              </a:rPr>
              <a:t>– специфический краситель.                                                  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-240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cc0099"/>
                </a:solidFill>
                <a:latin typeface="Calibri"/>
              </a:rPr>
              <a:t>-  очень ядовитое вещество – то самое, в котором «спиртуют» лягушек и прочие органические вещ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-924а </a:t>
            </a:r>
            <a:r>
              <a:rPr b="1" i="1" lang="ru-RU" sz="3200" spc="-1" strike="noStrike">
                <a:solidFill>
                  <a:srgbClr val="cc0099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Е-924b </a:t>
            </a:r>
            <a:r>
              <a:rPr b="1" i="1" lang="ru-RU" sz="3200" spc="-1" strike="noStrike">
                <a:solidFill>
                  <a:srgbClr val="cc0099"/>
                </a:solidFill>
                <a:latin typeface="Calibri"/>
              </a:rPr>
              <a:t>– раньше их использовали для улучшения м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7168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прещенны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Е103, Е105, Е111, Е121, Е123, Е125, Е126, Е130, Е15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пасны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Е102, Е110, Е120, Е124, Е12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дозрительны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Е104, Е122, Е141, Е150, Е171, Е173, Е180, Е241, Е47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Прямоугольник 3" descr=""/>
          <p:cNvPicPr/>
          <p:nvPr/>
        </p:nvPicPr>
        <p:blipFill>
          <a:blip r:embed="rId6"/>
          <a:stretch/>
        </p:blipFill>
        <p:spPr>
          <a:xfrm>
            <a:off x="1639800" y="237960"/>
            <a:ext cx="58644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Практическая работа</a:t>
            </a:r>
            <a:br>
              <a:rPr sz="3600"/>
            </a:b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 по изучению состава проду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1320" y="2214360"/>
            <a:ext cx="3328920" cy="2114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Давайте изучи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этикетки различных  проду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00040" y="5429160"/>
            <a:ext cx="5500800" cy="121464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fffcc"/>
              </a:gs>
            </a:gsLst>
            <a:lin ang="5400000"/>
          </a:gra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бота в группах под девизом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Читайте - здоровее будет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4857840" y="1714680"/>
            <a:ext cx="4071960" cy="35067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alibri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определить состав  и выяснить наличие вредных, опасных и сомнительных ингредиентов в составе каждого проду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1305000" y="133200"/>
            <a:ext cx="6534000" cy="1860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знакомство  учащихся с кондитерскими изделиями, которые  следует избегать при употреблении, с такими понятиями, как «красители» и «консерванты»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развитие знаний о воздействии вредных продуктов питания на  организм челове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создание  условий для формирования правильного отношения к своему   здоровью через понятие  здорового 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Текст 2" descr=""/>
          <p:cNvPicPr/>
          <p:nvPr/>
        </p:nvPicPr>
        <p:blipFill>
          <a:blip r:embed="rId1"/>
          <a:stretch/>
        </p:blipFill>
        <p:spPr>
          <a:xfrm>
            <a:off x="646200" y="1103400"/>
            <a:ext cx="8059680" cy="5565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695160" y="3693960"/>
            <a:ext cx="3895920" cy="2109960"/>
          </a:xfrm>
          <a:prstGeom prst="rect">
            <a:avLst/>
          </a:prstGeom>
          <a:ln w="0">
            <a:noFill/>
          </a:ln>
        </p:spPr>
      </p:pic>
      <p:pic>
        <p:nvPicPr>
          <p:cNvPr id="48" name="Скругленный прямоугольник 5" descr=""/>
          <p:cNvPicPr/>
          <p:nvPr/>
        </p:nvPicPr>
        <p:blipFill>
          <a:blip r:embed="rId2"/>
          <a:stretch/>
        </p:blipFill>
        <p:spPr>
          <a:xfrm>
            <a:off x="6016680" y="3693960"/>
            <a:ext cx="2395440" cy="2109960"/>
          </a:xfrm>
          <a:prstGeom prst="rect">
            <a:avLst/>
          </a:prstGeom>
          <a:ln w="0">
            <a:noFill/>
          </a:ln>
        </p:spPr>
      </p:pic>
      <p:pic>
        <p:nvPicPr>
          <p:cNvPr id="49" name="Блок-схема: перфолента 9" descr=""/>
          <p:cNvPicPr/>
          <p:nvPr/>
        </p:nvPicPr>
        <p:blipFill>
          <a:blip r:embed="rId3"/>
          <a:stretch/>
        </p:blipFill>
        <p:spPr>
          <a:xfrm>
            <a:off x="1122480" y="341280"/>
            <a:ext cx="6680160" cy="2176560"/>
          </a:xfrm>
          <a:prstGeom prst="rect">
            <a:avLst/>
          </a:prstGeom>
          <a:ln w="0">
            <a:noFill/>
          </a:ln>
        </p:spPr>
      </p:pic>
      <p:sp>
        <p:nvSpPr>
          <p:cNvPr id="50" name="Стрелка вниз 10"/>
          <p:cNvSpPr/>
          <p:nvPr/>
        </p:nvSpPr>
        <p:spPr>
          <a:xfrm>
            <a:off x="2286000" y="2643120"/>
            <a:ext cx="357120" cy="928800"/>
          </a:xfrm>
          <a:prstGeom prst="downArrow">
            <a:avLst>
              <a:gd name="adj1" fmla="val 50000"/>
              <a:gd name="adj2" fmla="val 5001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низ 11"/>
          <p:cNvSpPr/>
          <p:nvPr/>
        </p:nvSpPr>
        <p:spPr>
          <a:xfrm>
            <a:off x="6929280" y="2357280"/>
            <a:ext cx="357480" cy="1285920"/>
          </a:xfrm>
          <a:prstGeom prst="downArrow">
            <a:avLst>
              <a:gd name="adj1" fmla="val 50000"/>
              <a:gd name="adj2" fmla="val 49961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1500120" y="31431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8a54"/>
                </a:solidFill>
                <a:latin typeface="Calibri"/>
              </a:rPr>
              <a:t>карамель, конфеты, шоколад, мармелад, пастила, восточные слад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\Рабочий стол\зож на район\картинки зож\25.jpeg"/>
          <p:cNvPicPr/>
          <p:nvPr/>
        </p:nvPicPr>
        <p:blipFill>
          <a:blip r:embed="rId1"/>
          <a:stretch/>
        </p:blipFill>
        <p:spPr>
          <a:xfrm>
            <a:off x="571680" y="5643720"/>
            <a:ext cx="1643040" cy="109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ADMIN\Рабочий стол\зож на район\картинки зож\28.jpeg"/>
          <p:cNvPicPr/>
          <p:nvPr/>
        </p:nvPicPr>
        <p:blipFill>
          <a:blip r:embed="rId2"/>
          <a:stretch/>
        </p:blipFill>
        <p:spPr>
          <a:xfrm>
            <a:off x="6264360" y="2643120"/>
            <a:ext cx="2311200" cy="1571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ADMIN\Рабочий стол\зож на район\картинки зож\30.jpeg"/>
          <p:cNvPicPr/>
          <p:nvPr/>
        </p:nvPicPr>
        <p:blipFill>
          <a:blip r:embed="rId3"/>
          <a:stretch/>
        </p:blipFill>
        <p:spPr>
          <a:xfrm>
            <a:off x="4143240" y="5692680"/>
            <a:ext cx="1643040" cy="93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ADMIN\Рабочий стол\зож на район\картинки зож\31.jpeg"/>
          <p:cNvPicPr/>
          <p:nvPr/>
        </p:nvPicPr>
        <p:blipFill>
          <a:blip r:embed="rId4"/>
          <a:stretch/>
        </p:blipFill>
        <p:spPr>
          <a:xfrm>
            <a:off x="214200" y="3500280"/>
            <a:ext cx="102888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Documents and Settings\ADMIN\Рабочий стол\зож на район\картинки зож\32.jpeg"/>
          <p:cNvPicPr/>
          <p:nvPr/>
        </p:nvPicPr>
        <p:blipFill>
          <a:blip r:embed="rId5"/>
          <a:stretch/>
        </p:blipFill>
        <p:spPr>
          <a:xfrm>
            <a:off x="6572160" y="4500720"/>
            <a:ext cx="2133720" cy="1531800"/>
          </a:xfrm>
          <a:prstGeom prst="rect">
            <a:avLst/>
          </a:prstGeom>
          <a:ln w="0">
            <a:noFill/>
          </a:ln>
        </p:spPr>
      </p:pic>
      <p:sp>
        <p:nvSpPr>
          <p:cNvPr id="58" name="Пятно 2 8"/>
          <p:cNvSpPr/>
          <p:nvPr/>
        </p:nvSpPr>
        <p:spPr>
          <a:xfrm>
            <a:off x="142920" y="214200"/>
            <a:ext cx="8643960" cy="2914920"/>
          </a:xfrm>
          <a:prstGeom prst="irregularSeal2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сахарист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2571840" y="27860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яники, торты, пирожные, кекс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ятно 2 3"/>
          <p:cNvSpPr/>
          <p:nvPr/>
        </p:nvSpPr>
        <p:spPr>
          <a:xfrm>
            <a:off x="1000080" y="358920"/>
            <a:ext cx="6715080" cy="2500200"/>
          </a:xfrm>
          <a:prstGeom prst="irregularSeal2">
            <a:avLst/>
          </a:prstGeom>
          <a:solidFill>
            <a:srgbClr val="ff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муч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Documents and Settings\ADMIN\Рабочий стол\зож на район\картинки зож\10.jpeg"/>
          <p:cNvPicPr/>
          <p:nvPr/>
        </p:nvPicPr>
        <p:blipFill>
          <a:blip r:embed="rId1"/>
          <a:stretch/>
        </p:blipFill>
        <p:spPr>
          <a:xfrm>
            <a:off x="7072200" y="4857840"/>
            <a:ext cx="1635120" cy="14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ADMIN\Рабочий стол\зож на район\картинки зож\11.jpeg"/>
          <p:cNvPicPr/>
          <p:nvPr/>
        </p:nvPicPr>
        <p:blipFill>
          <a:blip r:embed="rId2"/>
          <a:stretch/>
        </p:blipFill>
        <p:spPr>
          <a:xfrm>
            <a:off x="2928960" y="5013360"/>
            <a:ext cx="169848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ADMIN\Рабочий стол\зож на район\картинки зож\12.jpeg"/>
          <p:cNvPicPr/>
          <p:nvPr/>
        </p:nvPicPr>
        <p:blipFill>
          <a:blip r:embed="rId3"/>
          <a:stretch/>
        </p:blipFill>
        <p:spPr>
          <a:xfrm>
            <a:off x="500040" y="3071880"/>
            <a:ext cx="2249640" cy="1500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Documents and Settings\ADMIN\Рабочий стол\зож на район\картинки зож\14.jpeg"/>
          <p:cNvPicPr/>
          <p:nvPr/>
        </p:nvPicPr>
        <p:blipFill>
          <a:blip r:embed="rId4"/>
          <a:stretch/>
        </p:blipFill>
        <p:spPr>
          <a:xfrm>
            <a:off x="7072200" y="2643120"/>
            <a:ext cx="1514520" cy="157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Documents and Settings\ADMIN\Рабочий стол\зож на район\картинки зож\17.jpeg"/>
          <p:cNvPicPr/>
          <p:nvPr/>
        </p:nvPicPr>
        <p:blipFill>
          <a:blip r:embed="rId5"/>
          <a:stretch/>
        </p:blipFill>
        <p:spPr>
          <a:xfrm>
            <a:off x="5072040" y="4106880"/>
            <a:ext cx="1357200" cy="204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Documents and Settings\ADMIN\Рабочий стол\зож на район\картинки зож\21.jpeg"/>
          <p:cNvPicPr/>
          <p:nvPr/>
        </p:nvPicPr>
        <p:blipFill>
          <a:blip r:embed="rId6"/>
          <a:stretch/>
        </p:blipFill>
        <p:spPr>
          <a:xfrm>
            <a:off x="428760" y="5035680"/>
            <a:ext cx="1857240" cy="1398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785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Не все кондитерские изделия предполагают конфеты.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Неконфетные» </a:t>
            </a: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кондитерские изделия</a:t>
            </a:r>
            <a:br>
              <a:rPr sz="2400"/>
            </a:b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 включают: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2428920" y="229356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зеф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мороже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жевательная рез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хал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     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др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ADMIN\Рабочий стол\зож на район\картинки зож\33.jpeg"/>
          <p:cNvPicPr/>
          <p:nvPr/>
        </p:nvPicPr>
        <p:blipFill>
          <a:blip r:embed="rId7"/>
          <a:stretch/>
        </p:blipFill>
        <p:spPr>
          <a:xfrm>
            <a:off x="2214720" y="5000760"/>
            <a:ext cx="1841400" cy="1320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ADMIN\Рабочий стол\зож на район\картинки зож\150px-Ice_Cream_dessert_02.jpg"/>
          <p:cNvPicPr/>
          <p:nvPr/>
        </p:nvPicPr>
        <p:blipFill>
          <a:blip r:embed="rId8"/>
          <a:stretch/>
        </p:blipFill>
        <p:spPr>
          <a:xfrm>
            <a:off x="571680" y="20718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Documents and Settings\ADMIN\Рабочий стол\зож на район\картинки зож\34.jpeg"/>
          <p:cNvPicPr/>
          <p:nvPr/>
        </p:nvPicPr>
        <p:blipFill>
          <a:blip r:embed="rId9"/>
          <a:stretch/>
        </p:blipFill>
        <p:spPr>
          <a:xfrm>
            <a:off x="6572160" y="2286000"/>
            <a:ext cx="2214720" cy="16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Documents and Settings\ADMIN\Рабочий стол\зож на район\картинки зож\35.jpeg"/>
          <p:cNvPicPr/>
          <p:nvPr/>
        </p:nvPicPr>
        <p:blipFill>
          <a:blip r:embed="rId10"/>
          <a:stretch/>
        </p:blipFill>
        <p:spPr>
          <a:xfrm>
            <a:off x="428760" y="4680000"/>
            <a:ext cx="1071360" cy="1222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C:\Documents and Settings\ADMIN\Рабочий стол\зож на район\картинки зож\36.jpeg"/>
          <p:cNvPicPr/>
          <p:nvPr/>
        </p:nvPicPr>
        <p:blipFill>
          <a:blip r:embed="rId11"/>
          <a:stretch/>
        </p:blipFill>
        <p:spPr>
          <a:xfrm>
            <a:off x="6858000" y="4214880"/>
            <a:ext cx="1857240" cy="1360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C:\Documents and Settings\ADMIN\Рабочий стол\зож на район\картинки зож\37.jpeg"/>
          <p:cNvPicPr/>
          <p:nvPr/>
        </p:nvPicPr>
        <p:blipFill>
          <a:blip r:embed="rId12"/>
          <a:stretch/>
        </p:blipFill>
        <p:spPr>
          <a:xfrm>
            <a:off x="4857840" y="4500720"/>
            <a:ext cx="1500120" cy="19126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a50021"/>
                </a:solidFill>
                <a:latin typeface="Calibri"/>
              </a:rPr>
              <a:t>Пищевые добавки</a:t>
            </a:r>
            <a:br>
              <a:rPr sz="4900"/>
            </a:br>
            <a:br>
              <a:rPr sz="4900"/>
            </a:br>
            <a:br>
              <a:rPr sz="4900"/>
            </a:br>
            <a:r>
              <a:rPr b="1" i="1" lang="ru-RU" sz="4900" spc="-1" strike="noStrike">
                <a:solidFill>
                  <a:srgbClr val="a50021"/>
                </a:solidFill>
                <a:latin typeface="Calibri"/>
              </a:rPr>
              <a:t>красители и консерванты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3429000" y="2349360"/>
            <a:ext cx="1928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7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Выгнутая влево стрелка 4"/>
          <p:cNvSpPr/>
          <p:nvPr/>
        </p:nvSpPr>
        <p:spPr>
          <a:xfrm rot="5400000">
            <a:off x="2143080" y="928800"/>
            <a:ext cx="1000080" cy="100008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156240 h 1000080"/>
              <a:gd name="textAreaBottom" fmla="*/ 71892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026114"/>
                <a:lnTo>
                  <a:pt x="16200" y="21386"/>
                </a:lnTo>
                <a:lnTo>
                  <a:pt x="21600" y="16200"/>
                </a:lnTo>
                <a:lnTo>
                  <a:pt x="16200" y="10586"/>
                </a:lnTo>
                <a:lnTo>
                  <a:pt x="16200" y="13286"/>
                </a:lnTo>
                <a:arcTo wR="21600" hR="6750" stAng="7773886" swAng="2560128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Выгнутая вправо стрелка 5"/>
          <p:cNvSpPr/>
          <p:nvPr/>
        </p:nvSpPr>
        <p:spPr>
          <a:xfrm rot="16200000">
            <a:off x="5500440" y="928440"/>
            <a:ext cx="928800" cy="1071720"/>
          </a:xfrm>
          <a:custGeom>
            <a:avLst/>
            <a:gdLst>
              <a:gd name="textAreaLeft" fmla="*/ 124200 w 928800"/>
              <a:gd name="textAreaRight" fmla="*/ 804600 w 928800"/>
              <a:gd name="textAreaTop" fmla="*/ 180720 h 1071720"/>
              <a:gd name="textAreaBottom" fmla="*/ 77472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290" stAng="-5400000" swAng="5400000"/>
                <a:lnTo>
                  <a:pt x="21600" y="11970"/>
                </a:lnTo>
                <a:arcTo wR="21600" hR="7290" stAng="0" swAng="3154967"/>
                <a:lnTo>
                  <a:pt x="5400" y="21369"/>
                </a:lnTo>
                <a:lnTo>
                  <a:pt x="0" y="16920"/>
                </a:lnTo>
                <a:lnTo>
                  <a:pt x="5400" y="12009"/>
                </a:lnTo>
                <a:lnTo>
                  <a:pt x="5400" y="14349"/>
                </a:lnTo>
                <a:arcTo wR="21600" hR="7290" stAng="3154967" swAng="-2763438"/>
                <a:lnTo>
                  <a:pt x="20457" y="9630"/>
                </a:lnTo>
                <a:arcTo wR="21600" hR="7290" stAng="-391529" swAng="-5008471"/>
                <a:close/>
              </a:path>
              <a:path fill="darkenLess" w="21600" h="21600">
                <a:moveTo>
                  <a:pt x="0" y="0"/>
                </a:moveTo>
                <a:arcTo wR="21600" hR="7290" stAng="-5400000" swAng="5400000"/>
                <a:lnTo>
                  <a:pt x="21600" y="11970"/>
                </a:lnTo>
                <a:arcTo wR="21600" hR="7290" stAng="0" swAng="-391529"/>
                <a:lnTo>
                  <a:pt x="20457" y="9630"/>
                </a:lnTo>
                <a:arcTo wR="21600" hR="7290" stAng="-391529" swAng="-500847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714240" y="1999800"/>
            <a:ext cx="4572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58ed5"/>
                </a:solidFill>
                <a:latin typeface="Arial Black"/>
              </a:rPr>
              <a:t>сырьём для натуральных пищевых красителей могут быть ягоды, цветы, листья, корнепл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3929040" y="52862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58ed5"/>
                </a:solidFill>
                <a:latin typeface="Arial Black"/>
              </a:rPr>
              <a:t>это органические соединения, не встречающиеся в приро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58ed5"/>
                </a:solidFill>
                <a:latin typeface="Arial Black"/>
              </a:rPr>
              <a:t>то есть, искус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4286160" y="3643200"/>
            <a:ext cx="37371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Синтетические пищевые крас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1285920" y="500040"/>
            <a:ext cx="3643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Натуральные пищевые краси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низ 8"/>
          <p:cNvSpPr/>
          <p:nvPr/>
        </p:nvSpPr>
        <p:spPr>
          <a:xfrm>
            <a:off x="2643120" y="1071720"/>
            <a:ext cx="571680" cy="8571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низ 9"/>
          <p:cNvSpPr/>
          <p:nvPr/>
        </p:nvSpPr>
        <p:spPr>
          <a:xfrm>
            <a:off x="5857920" y="4214880"/>
            <a:ext cx="500040" cy="92880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8:49:04Z</dcterms:created>
  <dc:creator>Admin</dc:creator>
  <dc:description/>
  <dc:language>en-US</dc:language>
  <cp:lastModifiedBy>user</cp:lastModifiedBy>
  <dcterms:modified xsi:type="dcterms:W3CDTF">2012-09-09T11:52:40Z</dcterms:modified>
  <cp:revision>19</cp:revision>
  <dc:subject/>
  <dc:title>современные кондитерские изделия, содержащие красители и консерванты</dc:title>
</cp:coreProperties>
</file>