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9.png" ContentType="image/pn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654-2E18-4CAB-806E-B2596C8D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916-3F37-42C2-946C-E44D59D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5CA-4559-4496-B9D7-80511ED9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CF5-4676-4FB4-9D6E-9DC295C9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306-631F-4393-9F06-5B12378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896-FCBD-495F-8B85-939207C5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235-7EFC-4AC3-BBA0-C5640352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FB5-DD03-4BAF-BF61-8EC61534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30B-2269-4437-9A14-52D8978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2AD-0833-43F6-90B8-F189E1A0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22F-E776-4478-83DA-A9A59F3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A51-E9ED-4DD8-BC9F-8580E97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E81-44CA-47C9-A238-68D63FF14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e4bd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17680" y="749160"/>
            <a:ext cx="8261280" cy="292752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52520" y="3760920"/>
            <a:ext cx="7132680" cy="189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Oфициально запрещены только 5 добаво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121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 –  (цитрусовый красный краситель, которым любят обрабатывать корки апельсинов); запрещен в России и большинстве стран мира!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12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– специфический краситель.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24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-  очень ядовитое вещество – то самое, в котором «спиртуют» лягушек и прочие органические вещ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924а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Е-924b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– раньше их использовали для улучшения м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реще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3, Е105, Е111, Е121, Е123, Е125, Е126, Е130, Е15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пас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2, Е110, Е120, Е124, Е12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озритель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4, Е122, Е141, Е150, Е171, Е173, Е180, Е241, Е4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6"/>
          <a:stretch/>
        </p:blipFill>
        <p:spPr>
          <a:xfrm>
            <a:off x="1639800" y="237960"/>
            <a:ext cx="58644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Практическая работа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по изучению состава проду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2214360"/>
            <a:ext cx="3328920" cy="2114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Давайте изуч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этикетки различных  прод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5429160"/>
            <a:ext cx="5500800" cy="121464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бота в группах под девизом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Читайте - здоровее будет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4857840" y="1714680"/>
            <a:ext cx="4071960" cy="3506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определить состав  и выяснить наличие вредных, опасных и сомнительных ингредиентов в составе каждого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1305000" y="133200"/>
            <a:ext cx="6534000" cy="186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знакомство  учащихся с кондитерскими изделиями, которые  следует избегать при употреблении, с такими понятиями, как «красители» и «консерванты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развитие знаний о воздействии вредных продуктов питания на  организм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создание  условий для формирования правильного отношения к своему   здоровью через понятие  здорового 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Текст 2" descr=""/>
          <p:cNvPicPr/>
          <p:nvPr/>
        </p:nvPicPr>
        <p:blipFill>
          <a:blip r:embed="rId1"/>
          <a:stretch/>
        </p:blipFill>
        <p:spPr>
          <a:xfrm>
            <a:off x="646200" y="1103400"/>
            <a:ext cx="8059680" cy="5565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695160" y="3693960"/>
            <a:ext cx="3895920" cy="2109960"/>
          </a:xfrm>
          <a:prstGeom prst="rect">
            <a:avLst/>
          </a:prstGeom>
          <a:ln w="0">
            <a:noFill/>
          </a:ln>
        </p:spPr>
      </p:pic>
      <p:pic>
        <p:nvPicPr>
          <p:cNvPr id="4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6016680" y="3693960"/>
            <a:ext cx="2395440" cy="2109960"/>
          </a:xfrm>
          <a:prstGeom prst="rect">
            <a:avLst/>
          </a:prstGeom>
          <a:ln w="0">
            <a:noFill/>
          </a:ln>
        </p:spPr>
      </p:pic>
      <p:pic>
        <p:nvPicPr>
          <p:cNvPr id="49" name="Блок-схема: перфолента 9" descr=""/>
          <p:cNvPicPr/>
          <p:nvPr/>
        </p:nvPicPr>
        <p:blipFill>
          <a:blip r:embed="rId3"/>
          <a:stretch/>
        </p:blipFill>
        <p:spPr>
          <a:xfrm>
            <a:off x="1122480" y="341280"/>
            <a:ext cx="668016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низ 10"/>
          <p:cNvSpPr/>
          <p:nvPr/>
        </p:nvSpPr>
        <p:spPr>
          <a:xfrm>
            <a:off x="2286000" y="2643120"/>
            <a:ext cx="357120" cy="92880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11"/>
          <p:cNvSpPr/>
          <p:nvPr/>
        </p:nvSpPr>
        <p:spPr>
          <a:xfrm>
            <a:off x="6929280" y="2357280"/>
            <a:ext cx="357480" cy="1285920"/>
          </a:xfrm>
          <a:prstGeom prst="down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500120" y="3143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карамель, конфеты, шоколад, мармелад, пастила, восточные слад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\Рабочий стол\зож на район\картинки зож\25.jpeg"/>
          <p:cNvPicPr/>
          <p:nvPr/>
        </p:nvPicPr>
        <p:blipFill>
          <a:blip r:embed="rId1"/>
          <a:stretch/>
        </p:blipFill>
        <p:spPr>
          <a:xfrm>
            <a:off x="571680" y="5643720"/>
            <a:ext cx="1643040" cy="109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ADMIN\Рабочий стол\зож на район\картинки зож\28.jpeg"/>
          <p:cNvPicPr/>
          <p:nvPr/>
        </p:nvPicPr>
        <p:blipFill>
          <a:blip r:embed="rId2"/>
          <a:stretch/>
        </p:blipFill>
        <p:spPr>
          <a:xfrm>
            <a:off x="6264360" y="2643120"/>
            <a:ext cx="231120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ADMIN\Рабочий стол\зож на район\картинки зож\30.jpeg"/>
          <p:cNvPicPr/>
          <p:nvPr/>
        </p:nvPicPr>
        <p:blipFill>
          <a:blip r:embed="rId3"/>
          <a:stretch/>
        </p:blipFill>
        <p:spPr>
          <a:xfrm>
            <a:off x="4143240" y="5692680"/>
            <a:ext cx="1643040" cy="93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ADMIN\Рабочий стол\зож на район\картинки зож\31.jpeg"/>
          <p:cNvPicPr/>
          <p:nvPr/>
        </p:nvPicPr>
        <p:blipFill>
          <a:blip r:embed="rId4"/>
          <a:stretch/>
        </p:blipFill>
        <p:spPr>
          <a:xfrm>
            <a:off x="214200" y="3500280"/>
            <a:ext cx="102888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ADMIN\Рабочий стол\зож на район\картинки зож\32.jpeg"/>
          <p:cNvPicPr/>
          <p:nvPr/>
        </p:nvPicPr>
        <p:blipFill>
          <a:blip r:embed="rId5"/>
          <a:stretch/>
        </p:blipFill>
        <p:spPr>
          <a:xfrm>
            <a:off x="6572160" y="4500720"/>
            <a:ext cx="2133720" cy="1531800"/>
          </a:xfrm>
          <a:prstGeom prst="rect">
            <a:avLst/>
          </a:prstGeom>
          <a:ln w="0">
            <a:noFill/>
          </a:ln>
        </p:spPr>
      </p:pic>
      <p:sp>
        <p:nvSpPr>
          <p:cNvPr id="58" name="Пятно 2 8"/>
          <p:cNvSpPr/>
          <p:nvPr/>
        </p:nvSpPr>
        <p:spPr>
          <a:xfrm>
            <a:off x="142920" y="214200"/>
            <a:ext cx="8643960" cy="2914920"/>
          </a:xfrm>
          <a:prstGeom prst="irregularSeal2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сахарист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571840" y="27860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яники, торты, пирожные, кекс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но 2 3"/>
          <p:cNvSpPr/>
          <p:nvPr/>
        </p:nvSpPr>
        <p:spPr>
          <a:xfrm>
            <a:off x="1000080" y="358920"/>
            <a:ext cx="6715080" cy="2500200"/>
          </a:xfrm>
          <a:prstGeom prst="irregularSeal2">
            <a:avLst/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у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зож на район\картинки зож\10.jpeg"/>
          <p:cNvPicPr/>
          <p:nvPr/>
        </p:nvPicPr>
        <p:blipFill>
          <a:blip r:embed="rId1"/>
          <a:stretch/>
        </p:blipFill>
        <p:spPr>
          <a:xfrm>
            <a:off x="7072200" y="4857840"/>
            <a:ext cx="1635120" cy="14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зож на район\картинки зож\11.jpeg"/>
          <p:cNvPicPr/>
          <p:nvPr/>
        </p:nvPicPr>
        <p:blipFill>
          <a:blip r:embed="rId2"/>
          <a:stretch/>
        </p:blipFill>
        <p:spPr>
          <a:xfrm>
            <a:off x="2928960" y="5013360"/>
            <a:ext cx="16984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Рабочий стол\зож на район\картинки зож\12.jpeg"/>
          <p:cNvPicPr/>
          <p:nvPr/>
        </p:nvPicPr>
        <p:blipFill>
          <a:blip r:embed="rId3"/>
          <a:stretch/>
        </p:blipFill>
        <p:spPr>
          <a:xfrm>
            <a:off x="500040" y="3071880"/>
            <a:ext cx="224964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ADMIN\Рабочий стол\зож на район\картинки зож\14.jpeg"/>
          <p:cNvPicPr/>
          <p:nvPr/>
        </p:nvPicPr>
        <p:blipFill>
          <a:blip r:embed="rId4"/>
          <a:stretch/>
        </p:blipFill>
        <p:spPr>
          <a:xfrm>
            <a:off x="7072200" y="2643120"/>
            <a:ext cx="151452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ADMIN\Рабочий стол\зож на район\картинки зож\17.jpeg"/>
          <p:cNvPicPr/>
          <p:nvPr/>
        </p:nvPicPr>
        <p:blipFill>
          <a:blip r:embed="rId5"/>
          <a:stretch/>
        </p:blipFill>
        <p:spPr>
          <a:xfrm>
            <a:off x="5072040" y="4106880"/>
            <a:ext cx="1357200" cy="204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ADMIN\Рабочий стол\зож на район\картинки зож\21.jpeg"/>
          <p:cNvPicPr/>
          <p:nvPr/>
        </p:nvPicPr>
        <p:blipFill>
          <a:blip r:embed="rId6"/>
          <a:stretch/>
        </p:blipFill>
        <p:spPr>
          <a:xfrm>
            <a:off x="428760" y="5035680"/>
            <a:ext cx="1857240" cy="1398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78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Не все кондитерские изделия предполагают конфеты.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Неконфетные» </a:t>
            </a: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кондитерские изделия</a:t>
            </a:r>
            <a:br>
              <a:rPr sz="2400"/>
            </a:b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 включают: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28920" y="22935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зеф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жевательная рез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хал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др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зож на район\картинки зож\33.jpeg"/>
          <p:cNvPicPr/>
          <p:nvPr/>
        </p:nvPicPr>
        <p:blipFill>
          <a:blip r:embed="rId7"/>
          <a:stretch/>
        </p:blipFill>
        <p:spPr>
          <a:xfrm>
            <a:off x="2214720" y="5000760"/>
            <a:ext cx="184140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ADMIN\Рабочий стол\зож на район\картинки зож\150px-Ice_Cream_dessert_02.jpg"/>
          <p:cNvPicPr/>
          <p:nvPr/>
        </p:nvPicPr>
        <p:blipFill>
          <a:blip r:embed="rId8"/>
          <a:stretch/>
        </p:blipFill>
        <p:spPr>
          <a:xfrm>
            <a:off x="571680" y="2071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ADMIN\Рабочий стол\зож на район\картинки зож\34.jpeg"/>
          <p:cNvPicPr/>
          <p:nvPr/>
        </p:nvPicPr>
        <p:blipFill>
          <a:blip r:embed="rId9"/>
          <a:stretch/>
        </p:blipFill>
        <p:spPr>
          <a:xfrm>
            <a:off x="6572160" y="2286000"/>
            <a:ext cx="2214720" cy="16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Documents and Settings\ADMIN\Рабочий стол\зож на район\картинки зож\35.jpeg"/>
          <p:cNvPicPr/>
          <p:nvPr/>
        </p:nvPicPr>
        <p:blipFill>
          <a:blip r:embed="rId10"/>
          <a:stretch/>
        </p:blipFill>
        <p:spPr>
          <a:xfrm>
            <a:off x="428760" y="4680000"/>
            <a:ext cx="1071360" cy="122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ADMIN\Рабочий стол\зож на район\картинки зож\36.jpeg"/>
          <p:cNvPicPr/>
          <p:nvPr/>
        </p:nvPicPr>
        <p:blipFill>
          <a:blip r:embed="rId11"/>
          <a:stretch/>
        </p:blipFill>
        <p:spPr>
          <a:xfrm>
            <a:off x="6858000" y="4214880"/>
            <a:ext cx="185724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ADMIN\Рабочий стол\зож на район\картинки зож\37.jpeg"/>
          <p:cNvPicPr/>
          <p:nvPr/>
        </p:nvPicPr>
        <p:blipFill>
          <a:blip r:embed="rId12"/>
          <a:stretch/>
        </p:blipFill>
        <p:spPr>
          <a:xfrm>
            <a:off x="4857840" y="4500720"/>
            <a:ext cx="1500120" cy="191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a50021"/>
                </a:solidFill>
                <a:latin typeface="Calibri"/>
              </a:rPr>
              <a:t>Пищевые добавки</a:t>
            </a: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a50021"/>
                </a:solidFill>
                <a:latin typeface="Calibri"/>
              </a:rPr>
              <a:t>красители и консерванты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429000" y="2349360"/>
            <a:ext cx="1928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7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гнутая влево стрелка 4"/>
          <p:cNvSpPr/>
          <p:nvPr/>
        </p:nvSpPr>
        <p:spPr>
          <a:xfrm rot="5400000">
            <a:off x="2143080" y="928800"/>
            <a:ext cx="1000080" cy="10000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право стрелка 5"/>
          <p:cNvSpPr/>
          <p:nvPr/>
        </p:nvSpPr>
        <p:spPr>
          <a:xfrm rot="16200000">
            <a:off x="5500440" y="928440"/>
            <a:ext cx="928800" cy="1071720"/>
          </a:xfrm>
          <a:custGeom>
            <a:avLst/>
            <a:gdLst>
              <a:gd name="textAreaLeft" fmla="*/ 124200 w 928800"/>
              <a:gd name="textAreaRight" fmla="*/ 804600 w 928800"/>
              <a:gd name="textAreaTop" fmla="*/ 180720 h 1071720"/>
              <a:gd name="textAreaBottom" fmla="*/ 77472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90" stAng="-5400000" swAng="5400000"/>
                <a:lnTo>
                  <a:pt x="21600" y="11970"/>
                </a:lnTo>
                <a:arcTo wR="21600" hR="7290" stAng="0" swAng="3154967"/>
                <a:lnTo>
                  <a:pt x="5400" y="21369"/>
                </a:lnTo>
                <a:lnTo>
                  <a:pt x="0" y="16920"/>
                </a:lnTo>
                <a:lnTo>
                  <a:pt x="5400" y="12009"/>
                </a:lnTo>
                <a:lnTo>
                  <a:pt x="5400" y="14349"/>
                </a:lnTo>
                <a:arcTo wR="21600" hR="7290" stAng="3154967" swAng="-2763438"/>
                <a:lnTo>
                  <a:pt x="20457" y="9630"/>
                </a:lnTo>
                <a:arcTo wR="21600" hR="7290" stAng="-391529" swAng="-5008471"/>
                <a:close/>
              </a:path>
              <a:path fill="darkenLess" w="21600" h="21600">
                <a:moveTo>
                  <a:pt x="0" y="0"/>
                </a:moveTo>
                <a:arcTo wR="21600" hR="7290" stAng="-5400000" swAng="5400000"/>
                <a:lnTo>
                  <a:pt x="21600" y="11970"/>
                </a:lnTo>
                <a:arcTo wR="21600" hR="7290" stAng="0" swAng="-391529"/>
                <a:lnTo>
                  <a:pt x="20457" y="9630"/>
                </a:lnTo>
                <a:arcTo wR="21600" hR="7290" stAng="-391529" swAng="-50084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14240" y="1999800"/>
            <a:ext cx="4572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 Black"/>
              </a:rPr>
              <a:t>сырьём для натуральных пищевых красителей могут быть ягоды, цветы, листья, корнепл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929040" y="5286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 Black"/>
              </a:rPr>
              <a:t>это органические соединения, не встречающиеся в прир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 Black"/>
              </a:rPr>
              <a:t>то есть, 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286160" y="3643200"/>
            <a:ext cx="3737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интетические пищевые кра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285920" y="500040"/>
            <a:ext cx="3643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туральные пищевые крас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8"/>
          <p:cNvSpPr/>
          <p:nvPr/>
        </p:nvSpPr>
        <p:spPr>
          <a:xfrm>
            <a:off x="2643120" y="1071720"/>
            <a:ext cx="57168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9"/>
          <p:cNvSpPr/>
          <p:nvPr/>
        </p:nvSpPr>
        <p:spPr>
          <a:xfrm>
            <a:off x="5857920" y="421488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49:04Z</dcterms:created>
  <dc:creator>Admin</dc:creator>
  <dc:description/>
  <dc:language>en-US</dc:language>
  <cp:lastModifiedBy>user</cp:lastModifiedBy>
  <dcterms:modified xsi:type="dcterms:W3CDTF">2012-09-09T11:52:40Z</dcterms:modified>
  <cp:revision>19</cp:revision>
  <dc:subject/>
  <dc:title>современные кондитерские изделия, содержащие красители и консерванты</dc:title>
</cp:coreProperties>
</file>