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990-EB09-4B31-9BEA-6E3134B4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56F-32CC-489F-A767-E7C0C2E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0CE-4A74-4A6B-A72B-E2A99B00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85C-FBC8-4E27-8D33-8009BB6E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152-B30D-4BAE-AB5B-B1A24911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768-D039-4241-9BE5-FB2FD3C2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5BD-14B0-44AE-8F8A-EDF5ABD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516-3167-4343-9F44-51BE8F2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A4E-9ED2-43FC-BF07-E1BE1C0C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F6C-5032-4BDF-B687-E9556725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3C1-2C89-4F30-8FBB-5A96A6F2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8A9-E97B-4F52-B121-0CC184DC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5BAD-B5A6-417C-BBEE-5DE41782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2492280"/>
            <a:ext cx="489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а умножения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альс цветов"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04640"/>
            <a:ext cx="8747640" cy="6001560"/>
            <a:chOff x="0" y="404640"/>
            <a:chExt cx="8747640" cy="60015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521520" y="404640"/>
              <a:ext cx="1564920" cy="129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0" y="585000"/>
              <a:ext cx="8747640" cy="5821200"/>
              <a:chOff x="0" y="585000"/>
              <a:chExt cx="8747640" cy="5821200"/>
            </a:xfrm>
          </p:grpSpPr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2559240" y="4701600"/>
                <a:ext cx="1610640" cy="133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601160" y="4703400"/>
                <a:ext cx="1356480" cy="156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2480" y="585000"/>
                <a:ext cx="151164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39160" y="3369240"/>
                <a:ext cx="1608480" cy="132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6120" y="1842480"/>
                <a:ext cx="1293480" cy="125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662120"/>
                <a:ext cx="1565640" cy="129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6280" y="4715640"/>
                <a:ext cx="1511280" cy="12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1159200" y="4370760"/>
                <a:ext cx="1388160" cy="136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6560" y="3099960"/>
                <a:ext cx="139032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379840" y="585000"/>
                <a:ext cx="1369080" cy="113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476360" y="1341360"/>
            <a:ext cx="6440040" cy="4774320"/>
            <a:chOff x="1476360" y="1341360"/>
            <a:chExt cx="6440040" cy="47743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4068720" y="1341360"/>
              <a:ext cx="115200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1476360" y="1486080"/>
              <a:ext cx="6440040" cy="4629600"/>
              <a:chOff x="1476360" y="1486080"/>
              <a:chExt cx="6440040" cy="4629600"/>
            </a:xfrm>
          </p:grpSpPr>
          <p:pic>
            <p:nvPicPr>
              <p:cNvPr id="266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360600" y="4786200"/>
                <a:ext cx="118548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18960" y="4838400"/>
                <a:ext cx="108756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00" y="1486080"/>
                <a:ext cx="111276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2360" y="3718080"/>
                <a:ext cx="118404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6360" y="2494080"/>
                <a:ext cx="95220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76360" y="2349720"/>
                <a:ext cx="115236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8720" y="4797360"/>
                <a:ext cx="111240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283840" y="4565160"/>
                <a:ext cx="111276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20720" y="3502080"/>
                <a:ext cx="102348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437080" y="1486080"/>
                <a:ext cx="100764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х 3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2107 L 0.51962 0.18912 E">
                                      <p:cBhvr>
                                        <p:cTn id="550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1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2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х 9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42 L -0.29132 -0.09468 E">
                                      <p:cBhvr>
                                        <p:cTn id="648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5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318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8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х 8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2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2107 L 0.37795 0.38842 E">
                                      <p:cBhvr>
                                        <p:cTn id="746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4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785600" y="1168920"/>
            <a:ext cx="5654880" cy="5314320"/>
            <a:chOff x="1785600" y="1168920"/>
            <a:chExt cx="5654880" cy="531432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 rot="201000">
              <a:off x="4168440" y="1197360"/>
              <a:ext cx="1017360" cy="114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1785600" y="1258200"/>
              <a:ext cx="5654880" cy="5225040"/>
              <a:chOff x="1785600" y="1258200"/>
              <a:chExt cx="5654880" cy="5225040"/>
            </a:xfrm>
          </p:grpSpPr>
          <p:pic>
            <p:nvPicPr>
              <p:cNvPr id="344" name="" descr=""/>
              <p:cNvPicPr/>
              <p:nvPr/>
            </p:nvPicPr>
            <p:blipFill>
              <a:blip r:embed="rId2"/>
              <a:stretch/>
            </p:blipFill>
            <p:spPr>
              <a:xfrm rot="2860200">
                <a:off x="3320280" y="4970160"/>
                <a:ext cx="1046880" cy="11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" descr=""/>
              <p:cNvPicPr/>
              <p:nvPr/>
            </p:nvPicPr>
            <p:blipFill>
              <a:blip r:embed="rId3"/>
              <a:stretch/>
            </p:blipFill>
            <p:spPr>
              <a:xfrm rot="17467200">
                <a:off x="4477680" y="5230440"/>
                <a:ext cx="1204200" cy="10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4"/>
              <a:stretch/>
            </p:blipFill>
            <p:spPr>
              <a:xfrm rot="201000">
                <a:off x="2953440" y="1285920"/>
                <a:ext cx="982440" cy="11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5"/>
              <a:stretch/>
            </p:blipFill>
            <p:spPr>
              <a:xfrm rot="201000">
                <a:off x="6361200" y="3963240"/>
                <a:ext cx="1045440" cy="11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6"/>
              <a:stretch/>
            </p:blipFill>
            <p:spPr>
              <a:xfrm rot="201000">
                <a:off x="6252120" y="2593080"/>
                <a:ext cx="840960" cy="11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7"/>
              <a:stretch/>
            </p:blipFill>
            <p:spPr>
              <a:xfrm rot="201000">
                <a:off x="1818000" y="2178000"/>
                <a:ext cx="1017720" cy="114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8"/>
              <a:stretch/>
            </p:blipFill>
            <p:spPr>
              <a:xfrm rot="201000">
                <a:off x="5532480" y="5110560"/>
                <a:ext cx="982440" cy="11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9"/>
              <a:stretch/>
            </p:blipFill>
            <p:spPr>
              <a:xfrm rot="14027400">
                <a:off x="2262960" y="4780800"/>
                <a:ext cx="1232280" cy="8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0"/>
              <a:stretch/>
            </p:blipFill>
            <p:spPr>
              <a:xfrm rot="201000">
                <a:off x="1874160" y="3456720"/>
                <a:ext cx="903600" cy="102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 rot="201000">
                <a:off x="5369400" y="1424160"/>
                <a:ext cx="889920" cy="100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4" name=""/>
          <p:cNvSpPr txBox="1"/>
          <p:nvPr/>
        </p:nvSpPr>
        <p:spPr>
          <a:xfrm>
            <a:off x="3059280" y="2997360"/>
            <a:ext cx="32414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 !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5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476360" y="1197000"/>
            <a:ext cx="6440040" cy="4773240"/>
            <a:chOff x="1476360" y="1197000"/>
            <a:chExt cx="6440040" cy="47732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068720" y="1197000"/>
              <a:ext cx="1152000" cy="103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476360" y="1341360"/>
              <a:ext cx="6440040" cy="4628880"/>
              <a:chOff x="1476360" y="1341360"/>
              <a:chExt cx="6440040" cy="4628880"/>
            </a:xfrm>
          </p:grpSpPr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360240" y="4640760"/>
                <a:ext cx="118548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18960" y="4693320"/>
                <a:ext cx="108720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00" y="1341360"/>
                <a:ext cx="1112760" cy="10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2360" y="3573000"/>
                <a:ext cx="1184040" cy="10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6360" y="2349000"/>
                <a:ext cx="952200" cy="10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76360" y="2204640"/>
                <a:ext cx="1152360" cy="103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8720" y="4652280"/>
                <a:ext cx="111240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284200" y="4420080"/>
                <a:ext cx="111240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20720" y="3357000"/>
                <a:ext cx="1023480" cy="92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437080" y="1341360"/>
                <a:ext cx="1007640" cy="906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L 0.51962 -0.02106 E">
                                      <p:cBhvr>
                                        <p:cTn id="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4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х 9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-0.17327 -0.27315 E">
                                      <p:cBhvr>
                                        <p:cTn id="11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4 0.027 0.08 0.06 0.08 C 0.099 0.08 0.113 0.04 0.119 0.016 L 0.125 -0.016 C 0.131 -0.04 0.146 -0.08 0.19 -0.08 C 0.218 -0.08 0.25 -0.044 0.25 0 C 0.25 0.044 0.218 0.08 0.19 0.08 C 0.146 0.08 0.131 0.04 0.125 0.016 L 0.119 -0.016 C 0.113 -0.04 0.099 -0.08 0.06 -0.08 C 0.027 -0.08 0 -0.044 0 0 Z">
                                      <p:cBhvr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х 7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14815E-006 L 0.10226 0.46204 E">
                                      <p:cBhvr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66667E-006 L -0.25208 0.15741 E">
                                      <p:cBhvr>
                                        <p:cTn id="234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3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0023 L 0.00782 -0.3257 E">
                                      <p:cBhvr>
                                        <p:cTn id="320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2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8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0.17327 -0.32546 E">
                                      <p:cBhvr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6 0.06 0.08 C 0.06 0.132 0.03 0.15067 0.012 0.15867 L -0.012 0.16667 C -0.03 0.17467 -0.06 0.19467 -0.06 0.25333 C -0.06 0.29067 -0.033 0.33333 0 0.33333 C 0.033 0.33333 0.06 0.29067 0.06 0.25333 C 0.06 0.19467 0.03 0.17467 0.012 0.16667 L -0.012 0.15867 C -0.03 0.15067 -0.06 0.132 -0.06 0.08 C -0.06 0.036 -0.033 0 0 0 Z">
                                      <p:cBhvr>
                                        <p:cTn id="39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х 7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7037E-007 L -0.13385 0.39884 E">
                                      <p:cBhvr>
                                        <p:cTn id="432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43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0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х 9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0.40156 -0.2625 E">
                                      <p:cBhvr>
                                        <p:cTn id="536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4 0.027 0.08 0.06 0.08 C 0.099 0.08 0.113 0.04 0.119 0.016 L 0.125 -0.016 C 0.131 -0.04 0.146 -0.08 0.19 -0.08 C 0.218 -0.08 0.25 -0.044 0.25 0 C 0.25 0.044 0.218 0.08 0.19 0.08 C 0.146 0.08 0.131 0.04 0.125 0.016 L 0.119 -0.016 C 0.113 -0.04 0.099 -0.08 0.06 -0.08 C 0.027 -0.08 0 -0.044 0 0 Z">
                                      <p:cBhvr>
                                        <p:cTn id="53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3:31:20Z</dcterms:created>
  <dc:creator>1</dc:creator>
  <dc:description/>
  <dc:language>en-US</dc:language>
  <cp:lastModifiedBy>1</cp:lastModifiedBy>
  <dcterms:modified xsi:type="dcterms:W3CDTF">2011-07-05T12:42:08Z</dcterms:modified>
  <cp:revision>11</cp:revision>
  <dc:subject/>
  <dc:title>Слайд 1</dc:title>
</cp:coreProperties>
</file>