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1A76-27FB-4377-AA16-809059BCD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278E-0FD6-4962-918E-E94232B8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5DFC-DA33-41B0-8A24-AB5BDC95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EB44-A692-47F7-A80F-8D525701F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8C61-028A-47E9-A4B1-F51E51E2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ABFD-FD6A-4E9F-9E9A-01C273ED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7620-31F2-4331-9F2D-B011E844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F81E-036F-45D3-8FE1-440A91F0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D414-E4DD-4208-ADDD-60499549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9FC1-D507-47C6-ABCB-6491FF7D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E3E8-92E4-4261-B9B2-C3064F81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5B97-DF15-4B8F-9CA5-AB8BB7B9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86D2-FA16-43AA-85FA-0ABD4615D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63640" y="2492280"/>
            <a:ext cx="4896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блица умножения</a:t>
            </a:r>
            <a:endParaRPr b="0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Вальс цветов"</a:t>
            </a:r>
            <a:endParaRPr b="0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404640"/>
            <a:ext cx="8747640" cy="6001560"/>
            <a:chOff x="0" y="404640"/>
            <a:chExt cx="8747640" cy="600156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3521520" y="404640"/>
              <a:ext cx="1564920" cy="1293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0" y="585000"/>
              <a:ext cx="8747640" cy="5821200"/>
              <a:chOff x="0" y="585000"/>
              <a:chExt cx="8747640" cy="5821200"/>
            </a:xfrm>
          </p:grpSpPr>
          <p:pic>
            <p:nvPicPr>
              <p:cNvPr id="45" name="" descr=""/>
              <p:cNvPicPr/>
              <p:nvPr/>
            </p:nvPicPr>
            <p:blipFill>
              <a:blip r:embed="rId2"/>
              <a:stretch/>
            </p:blipFill>
            <p:spPr>
              <a:xfrm rot="2659200">
                <a:off x="2559240" y="4701600"/>
                <a:ext cx="1610640" cy="133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" descr=""/>
              <p:cNvPicPr/>
              <p:nvPr/>
            </p:nvPicPr>
            <p:blipFill>
              <a:blip r:embed="rId3"/>
              <a:stretch/>
            </p:blipFill>
            <p:spPr>
              <a:xfrm rot="17266200">
                <a:off x="4601160" y="4703400"/>
                <a:ext cx="1356480" cy="156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662480" y="585000"/>
                <a:ext cx="1511640" cy="12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139160" y="3369240"/>
                <a:ext cx="1608480" cy="132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846120" y="1842480"/>
                <a:ext cx="1293480" cy="125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662120"/>
                <a:ext cx="1565640" cy="129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966280" y="4715640"/>
                <a:ext cx="1511280" cy="124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9"/>
              <a:stretch/>
            </p:blipFill>
            <p:spPr>
              <a:xfrm rot="13826400">
                <a:off x="1159200" y="4370760"/>
                <a:ext cx="1388160" cy="136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96560" y="3099960"/>
                <a:ext cx="1390320" cy="115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11"/>
              <a:srcRect l="0" t="0" r="20778" b="32743"/>
              <a:stretch/>
            </p:blipFill>
            <p:spPr>
              <a:xfrm>
                <a:off x="5379840" y="585000"/>
                <a:ext cx="1369080" cy="1130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1476360" y="1341360"/>
            <a:ext cx="6440040" cy="4774320"/>
            <a:chOff x="1476360" y="1341360"/>
            <a:chExt cx="6440040" cy="4774320"/>
          </a:xfrm>
        </p:grpSpPr>
        <p:pic>
          <p:nvPicPr>
            <p:cNvPr id="264" name="" descr=""/>
            <p:cNvPicPr/>
            <p:nvPr/>
          </p:nvPicPr>
          <p:blipFill>
            <a:blip r:embed="rId1"/>
            <a:stretch/>
          </p:blipFill>
          <p:spPr>
            <a:xfrm>
              <a:off x="4068720" y="1341360"/>
              <a:ext cx="1152000" cy="1036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5" name=""/>
            <p:cNvGrpSpPr/>
            <p:nvPr/>
          </p:nvGrpSpPr>
          <p:grpSpPr>
            <a:xfrm>
              <a:off x="1476360" y="1486080"/>
              <a:ext cx="6440040" cy="4629600"/>
              <a:chOff x="1476360" y="1486080"/>
              <a:chExt cx="6440040" cy="4629600"/>
            </a:xfrm>
          </p:grpSpPr>
          <p:pic>
            <p:nvPicPr>
              <p:cNvPr id="266" name="" descr=""/>
              <p:cNvPicPr/>
              <p:nvPr/>
            </p:nvPicPr>
            <p:blipFill>
              <a:blip r:embed="rId2"/>
              <a:stretch/>
            </p:blipFill>
            <p:spPr>
              <a:xfrm rot="2659200">
                <a:off x="3360600" y="4786200"/>
                <a:ext cx="1185480" cy="10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" descr=""/>
              <p:cNvPicPr/>
              <p:nvPr/>
            </p:nvPicPr>
            <p:blipFill>
              <a:blip r:embed="rId3"/>
              <a:stretch/>
            </p:blipFill>
            <p:spPr>
              <a:xfrm rot="17266200">
                <a:off x="4818960" y="4838400"/>
                <a:ext cx="1087560" cy="115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00000" y="1486080"/>
                <a:ext cx="1112760" cy="100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732360" y="3718080"/>
                <a:ext cx="1184040" cy="10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516360" y="2494080"/>
                <a:ext cx="952200" cy="100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476360" y="2349720"/>
                <a:ext cx="1152360" cy="10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868720" y="4797360"/>
                <a:ext cx="1112400" cy="10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" name="" descr=""/>
              <p:cNvPicPr/>
              <p:nvPr/>
            </p:nvPicPr>
            <p:blipFill>
              <a:blip r:embed="rId9"/>
              <a:stretch/>
            </p:blipFill>
            <p:spPr>
              <a:xfrm rot="13826400">
                <a:off x="2283840" y="4565160"/>
                <a:ext cx="1112760" cy="100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20720" y="3502080"/>
                <a:ext cx="1023480" cy="92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" descr=""/>
              <p:cNvPicPr/>
              <p:nvPr/>
            </p:nvPicPr>
            <p:blipFill>
              <a:blip r:embed="rId11"/>
              <a:srcRect l="0" t="0" r="20778" b="32743"/>
              <a:stretch/>
            </p:blipFill>
            <p:spPr>
              <a:xfrm>
                <a:off x="5437080" y="1486080"/>
                <a:ext cx="1007640" cy="906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6" name=""/>
          <p:cNvSpPr/>
          <p:nvPr/>
        </p:nvSpPr>
        <p:spPr>
          <a:xfrm>
            <a:off x="3635280" y="587700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763640" y="5300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55640" y="37162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9640" y="2276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08000" y="836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284720" y="40464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43640" y="765000"/>
            <a:ext cx="865080" cy="721080"/>
          </a:xfrm>
          <a:prstGeom prst="hexagon">
            <a:avLst>
              <a:gd name="adj" fmla="val 29993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667640" y="24922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148360" y="57340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48360" y="537372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956720" y="414972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987640" y="2492280"/>
            <a:ext cx="360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ери ответ:</a:t>
            </a:r>
            <a:endParaRPr b="0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59280" y="3500280"/>
            <a:ext cx="201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 х 3 =</a:t>
            </a:r>
            <a:endParaRPr b="1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2107 L 0.51962 0.18912 E">
                                      <p:cBhvr>
                                        <p:cTn id="550" dur="1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2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3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554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5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566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1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572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3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584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9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590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5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596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1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602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7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608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1547640" y="1268280"/>
            <a:ext cx="6440760" cy="4774320"/>
            <a:chOff x="1547640" y="1268280"/>
            <a:chExt cx="6440760" cy="4774320"/>
          </a:xfrm>
        </p:grpSpPr>
        <p:pic>
          <p:nvPicPr>
            <p:cNvPr id="290" name="" descr=""/>
            <p:cNvPicPr/>
            <p:nvPr/>
          </p:nvPicPr>
          <p:blipFill>
            <a:blip r:embed="rId1"/>
            <a:stretch/>
          </p:blipFill>
          <p:spPr>
            <a:xfrm>
              <a:off x="4140360" y="1268280"/>
              <a:ext cx="1152360" cy="1036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1" name=""/>
            <p:cNvGrpSpPr/>
            <p:nvPr/>
          </p:nvGrpSpPr>
          <p:grpSpPr>
            <a:xfrm>
              <a:off x="1547640" y="1413000"/>
              <a:ext cx="6440760" cy="4629600"/>
              <a:chOff x="1547640" y="1413000"/>
              <a:chExt cx="6440760" cy="4629600"/>
            </a:xfrm>
          </p:grpSpPr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 rot="2659200">
                <a:off x="3431880" y="4712760"/>
                <a:ext cx="1185840" cy="10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3" name="" descr=""/>
              <p:cNvPicPr/>
              <p:nvPr/>
            </p:nvPicPr>
            <p:blipFill>
              <a:blip r:embed="rId3"/>
              <a:stretch/>
            </p:blipFill>
            <p:spPr>
              <a:xfrm rot="17266200">
                <a:off x="4890600" y="4764960"/>
                <a:ext cx="1087560" cy="115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71640" y="1413000"/>
                <a:ext cx="1113120" cy="100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4000" y="3645000"/>
                <a:ext cx="1184400" cy="10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588000" y="2421000"/>
                <a:ext cx="952560" cy="100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547640" y="2276640"/>
                <a:ext cx="1152720" cy="10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940360" y="4724280"/>
                <a:ext cx="1112760" cy="10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9" name="" descr=""/>
              <p:cNvPicPr/>
              <p:nvPr/>
            </p:nvPicPr>
            <p:blipFill>
              <a:blip r:embed="rId9"/>
              <a:stretch/>
            </p:blipFill>
            <p:spPr>
              <a:xfrm rot="13826400">
                <a:off x="2355480" y="4491720"/>
                <a:ext cx="1112760" cy="10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2360" y="3429000"/>
                <a:ext cx="1023840" cy="92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" name="" descr=""/>
              <p:cNvPicPr/>
              <p:nvPr/>
            </p:nvPicPr>
            <p:blipFill>
              <a:blip r:embed="rId11"/>
              <a:srcRect l="0" t="0" r="20778" b="32743"/>
              <a:stretch/>
            </p:blipFill>
            <p:spPr>
              <a:xfrm>
                <a:off x="5508720" y="1413000"/>
                <a:ext cx="1008000" cy="906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02" name=""/>
          <p:cNvSpPr/>
          <p:nvPr/>
        </p:nvSpPr>
        <p:spPr>
          <a:xfrm>
            <a:off x="3635280" y="587700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763640" y="5300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55640" y="37162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9640" y="2276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908000" y="836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284720" y="40464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443640" y="765000"/>
            <a:ext cx="865080" cy="721080"/>
          </a:xfrm>
          <a:prstGeom prst="hexagon">
            <a:avLst>
              <a:gd name="adj" fmla="val 29993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67640" y="24922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148360" y="57340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948360" y="537372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956720" y="414972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987640" y="2492280"/>
            <a:ext cx="360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ери ответ:</a:t>
            </a:r>
            <a:endParaRPr b="0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59280" y="3500280"/>
            <a:ext cx="201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 х 9 =</a:t>
            </a:r>
            <a:endParaRPr b="1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0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621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6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627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633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639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4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645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0.01042 L -0.29132 -0.09468 E">
                                      <p:cBhvr>
                                        <p:cTn id="648" dur="1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50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1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652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7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658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664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670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5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676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1547640" y="1268280"/>
            <a:ext cx="6440760" cy="4774320"/>
            <a:chOff x="1547640" y="1268280"/>
            <a:chExt cx="6440760" cy="4774320"/>
          </a:xfrm>
        </p:grpSpPr>
        <p:pic>
          <p:nvPicPr>
            <p:cNvPr id="316" name="" descr=""/>
            <p:cNvPicPr/>
            <p:nvPr/>
          </p:nvPicPr>
          <p:blipFill>
            <a:blip r:embed="rId1"/>
            <a:stretch/>
          </p:blipFill>
          <p:spPr>
            <a:xfrm>
              <a:off x="4140360" y="1268280"/>
              <a:ext cx="1152360" cy="1036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7" name=""/>
            <p:cNvGrpSpPr/>
            <p:nvPr/>
          </p:nvGrpSpPr>
          <p:grpSpPr>
            <a:xfrm>
              <a:off x="1547640" y="1413000"/>
              <a:ext cx="6440760" cy="4629600"/>
              <a:chOff x="1547640" y="1413000"/>
              <a:chExt cx="6440760" cy="4629600"/>
            </a:xfrm>
          </p:grpSpPr>
          <p:pic>
            <p:nvPicPr>
              <p:cNvPr id="318" name="" descr=""/>
              <p:cNvPicPr/>
              <p:nvPr/>
            </p:nvPicPr>
            <p:blipFill>
              <a:blip r:embed="rId2"/>
              <a:stretch/>
            </p:blipFill>
            <p:spPr>
              <a:xfrm rot="2659200">
                <a:off x="3431880" y="4712760"/>
                <a:ext cx="1185840" cy="10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9" name="" descr=""/>
              <p:cNvPicPr/>
              <p:nvPr/>
            </p:nvPicPr>
            <p:blipFill>
              <a:blip r:embed="rId3"/>
              <a:stretch/>
            </p:blipFill>
            <p:spPr>
              <a:xfrm rot="17266200">
                <a:off x="4890600" y="4764960"/>
                <a:ext cx="1087560" cy="115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71640" y="1413000"/>
                <a:ext cx="1113120" cy="100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4000" y="3645000"/>
                <a:ext cx="1184400" cy="10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588000" y="2421000"/>
                <a:ext cx="952560" cy="100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547640" y="2276640"/>
                <a:ext cx="1152720" cy="10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940360" y="4724280"/>
                <a:ext cx="1112760" cy="10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5" name="" descr=""/>
              <p:cNvPicPr/>
              <p:nvPr/>
            </p:nvPicPr>
            <p:blipFill>
              <a:blip r:embed="rId9"/>
              <a:stretch/>
            </p:blipFill>
            <p:spPr>
              <a:xfrm rot="13826400">
                <a:off x="2355480" y="4491720"/>
                <a:ext cx="1112760" cy="10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2360" y="3429000"/>
                <a:ext cx="1023840" cy="92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11"/>
              <a:srcRect l="0" t="0" r="20778" b="32743"/>
              <a:stretch/>
            </p:blipFill>
            <p:spPr>
              <a:xfrm>
                <a:off x="5508720" y="1413000"/>
                <a:ext cx="1008000" cy="906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28" name=""/>
          <p:cNvSpPr/>
          <p:nvPr/>
        </p:nvSpPr>
        <p:spPr>
          <a:xfrm>
            <a:off x="3635280" y="587700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63640" y="5300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55640" y="37162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9640" y="2276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908000" y="836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84720" y="40464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443640" y="765000"/>
            <a:ext cx="865080" cy="721080"/>
          </a:xfrm>
          <a:prstGeom prst="hexagon">
            <a:avLst>
              <a:gd name="adj" fmla="val 29993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667640" y="24922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48360" y="57340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948360" y="537372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956720" y="414972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2987640" y="2492280"/>
            <a:ext cx="360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ери ответ:</a:t>
            </a:r>
            <a:endParaRPr b="0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59280" y="3500280"/>
            <a:ext cx="201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 х 8 =</a:t>
            </a:r>
            <a:endParaRPr b="1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681" dur="indefinite" restart="never" nodeType="tmRoot">
          <p:childTnLst>
            <p:seq>
              <p:cTn id="682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683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8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689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4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695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0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701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707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2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713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8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719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4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725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731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737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2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743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0.02107 L 0.37795 0.38842 E">
                                      <p:cBhvr>
                                        <p:cTn id="746" dur="1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748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1785600" y="1168920"/>
            <a:ext cx="5654880" cy="5314320"/>
            <a:chOff x="1785600" y="1168920"/>
            <a:chExt cx="5654880" cy="5314320"/>
          </a:xfrm>
        </p:grpSpPr>
        <p:pic>
          <p:nvPicPr>
            <p:cNvPr id="342" name="" descr=""/>
            <p:cNvPicPr/>
            <p:nvPr/>
          </p:nvPicPr>
          <p:blipFill>
            <a:blip r:embed="rId1"/>
            <a:stretch/>
          </p:blipFill>
          <p:spPr>
            <a:xfrm rot="201000">
              <a:off x="4168440" y="1197360"/>
              <a:ext cx="1017360" cy="1148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3" name=""/>
            <p:cNvGrpSpPr/>
            <p:nvPr/>
          </p:nvGrpSpPr>
          <p:grpSpPr>
            <a:xfrm>
              <a:off x="1785600" y="1258200"/>
              <a:ext cx="5654880" cy="5225040"/>
              <a:chOff x="1785600" y="1258200"/>
              <a:chExt cx="5654880" cy="5225040"/>
            </a:xfrm>
          </p:grpSpPr>
          <p:pic>
            <p:nvPicPr>
              <p:cNvPr id="344" name="" descr=""/>
              <p:cNvPicPr/>
              <p:nvPr/>
            </p:nvPicPr>
            <p:blipFill>
              <a:blip r:embed="rId2"/>
              <a:stretch/>
            </p:blipFill>
            <p:spPr>
              <a:xfrm rot="2860200">
                <a:off x="3320280" y="4970160"/>
                <a:ext cx="1046880" cy="118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5" name="" descr=""/>
              <p:cNvPicPr/>
              <p:nvPr/>
            </p:nvPicPr>
            <p:blipFill>
              <a:blip r:embed="rId3"/>
              <a:stretch/>
            </p:blipFill>
            <p:spPr>
              <a:xfrm rot="17467200">
                <a:off x="4477680" y="5230440"/>
                <a:ext cx="1204200" cy="101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6" name="" descr=""/>
              <p:cNvPicPr/>
              <p:nvPr/>
            </p:nvPicPr>
            <p:blipFill>
              <a:blip r:embed="rId4"/>
              <a:stretch/>
            </p:blipFill>
            <p:spPr>
              <a:xfrm rot="201000">
                <a:off x="2953440" y="1285920"/>
                <a:ext cx="982440" cy="11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5"/>
              <a:stretch/>
            </p:blipFill>
            <p:spPr>
              <a:xfrm rot="201000">
                <a:off x="6361200" y="3963240"/>
                <a:ext cx="1045440" cy="11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8" name="" descr=""/>
              <p:cNvPicPr/>
              <p:nvPr/>
            </p:nvPicPr>
            <p:blipFill>
              <a:blip r:embed="rId6"/>
              <a:stretch/>
            </p:blipFill>
            <p:spPr>
              <a:xfrm rot="201000">
                <a:off x="6252120" y="2593080"/>
                <a:ext cx="840960" cy="111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9" name="" descr=""/>
              <p:cNvPicPr/>
              <p:nvPr/>
            </p:nvPicPr>
            <p:blipFill>
              <a:blip r:embed="rId7"/>
              <a:stretch/>
            </p:blipFill>
            <p:spPr>
              <a:xfrm rot="201000">
                <a:off x="1818000" y="2178000"/>
                <a:ext cx="1017720" cy="1147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0" name="" descr=""/>
              <p:cNvPicPr/>
              <p:nvPr/>
            </p:nvPicPr>
            <p:blipFill>
              <a:blip r:embed="rId8"/>
              <a:stretch/>
            </p:blipFill>
            <p:spPr>
              <a:xfrm rot="201000">
                <a:off x="5532480" y="5110560"/>
                <a:ext cx="982440" cy="11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9"/>
              <a:stretch/>
            </p:blipFill>
            <p:spPr>
              <a:xfrm rot="14027400">
                <a:off x="2262960" y="4780800"/>
                <a:ext cx="1232280" cy="884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0"/>
              <a:stretch/>
            </p:blipFill>
            <p:spPr>
              <a:xfrm rot="201000">
                <a:off x="1874160" y="3456720"/>
                <a:ext cx="903600" cy="102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1"/>
              <a:srcRect l="0" t="0" r="20778" b="32743"/>
              <a:stretch/>
            </p:blipFill>
            <p:spPr>
              <a:xfrm rot="201000">
                <a:off x="5369400" y="1424160"/>
                <a:ext cx="889920" cy="1003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54" name=""/>
          <p:cNvSpPr txBox="1"/>
          <p:nvPr/>
        </p:nvSpPr>
        <p:spPr>
          <a:xfrm>
            <a:off x="3059280" y="2997360"/>
            <a:ext cx="324144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ЦЫ !</a:t>
            </a:r>
            <a:endParaRPr b="0" lang="en-US" sz="1800" spc="1" strike="noStrike">
              <a:ln w="9360">
                <a:solidFill>
                  <a:srgbClr val="0099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0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754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476360" y="1197000"/>
            <a:ext cx="6440040" cy="4773240"/>
            <a:chOff x="1476360" y="1197000"/>
            <a:chExt cx="6440040" cy="477324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4068720" y="1197000"/>
              <a:ext cx="1152000" cy="103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" name=""/>
            <p:cNvGrpSpPr/>
            <p:nvPr/>
          </p:nvGrpSpPr>
          <p:grpSpPr>
            <a:xfrm>
              <a:off x="1476360" y="1341360"/>
              <a:ext cx="6440040" cy="4628880"/>
              <a:chOff x="1476360" y="1341360"/>
              <a:chExt cx="6440040" cy="4628880"/>
            </a:xfrm>
          </p:grpSpPr>
          <p:pic>
            <p:nvPicPr>
              <p:cNvPr id="58" name="" descr=""/>
              <p:cNvPicPr/>
              <p:nvPr/>
            </p:nvPicPr>
            <p:blipFill>
              <a:blip r:embed="rId2"/>
              <a:stretch/>
            </p:blipFill>
            <p:spPr>
              <a:xfrm rot="2659200">
                <a:off x="3360240" y="4640760"/>
                <a:ext cx="1185480" cy="106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" descr=""/>
              <p:cNvPicPr/>
              <p:nvPr/>
            </p:nvPicPr>
            <p:blipFill>
              <a:blip r:embed="rId3"/>
              <a:stretch/>
            </p:blipFill>
            <p:spPr>
              <a:xfrm rot="17266200">
                <a:off x="4818960" y="4693320"/>
                <a:ext cx="1087200" cy="115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00000" y="1341360"/>
                <a:ext cx="1112760" cy="100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732360" y="3573000"/>
                <a:ext cx="1184040" cy="106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516360" y="2349000"/>
                <a:ext cx="952200" cy="10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476360" y="2204640"/>
                <a:ext cx="1152360" cy="103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868720" y="4652280"/>
                <a:ext cx="1112400" cy="100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9"/>
              <a:stretch/>
            </p:blipFill>
            <p:spPr>
              <a:xfrm rot="13826400">
                <a:off x="2284200" y="4420080"/>
                <a:ext cx="1112400" cy="100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20720" y="3357000"/>
                <a:ext cx="1023480" cy="92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1"/>
              <a:srcRect l="0" t="0" r="20778" b="32743"/>
              <a:stretch/>
            </p:blipFill>
            <p:spPr>
              <a:xfrm>
                <a:off x="5437080" y="1341360"/>
                <a:ext cx="1007640" cy="906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8" name=""/>
          <p:cNvSpPr/>
          <p:nvPr/>
        </p:nvSpPr>
        <p:spPr>
          <a:xfrm>
            <a:off x="3635280" y="587700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5300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37162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2276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08000" y="836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84720" y="40464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43640" y="765000"/>
            <a:ext cx="865080" cy="721080"/>
          </a:xfrm>
          <a:prstGeom prst="hexagon">
            <a:avLst>
              <a:gd name="adj" fmla="val 29993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67640" y="24922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48360" y="57340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48360" y="537372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56720" y="414972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987640" y="2492280"/>
            <a:ext cx="360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ери ответ:</a:t>
            </a:r>
            <a:endParaRPr b="0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059280" y="3500280"/>
            <a:ext cx="201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 х 6 =</a:t>
            </a:r>
            <a:endParaRPr b="1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6.66667E-006 L 0.51962 -0.02106 E">
                                      <p:cBhvr>
                                        <p:cTn id="6" dur="1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 -0.004 0.012 -0.04533 0.037 -0.04267 C 0.075 -0.03867 0.09 -0.00933 0.125 -0.03867 C 0.147 -0.056 0.173 -0.1 0.192 -0.09867 C 0.235 -0.09733 0.244 -0.052 0.244 -0.01067 C 0.245 0.048 0.189 0.09733 0.121 0.10267 C 0.052 0.10667 -0.005 0.044 0 0 Z">
                                      <p:cBhvr>
                                        <p:cTn id="8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547640" y="1268280"/>
            <a:ext cx="6440760" cy="4774320"/>
            <a:chOff x="1547640" y="1268280"/>
            <a:chExt cx="6440760" cy="477432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4140360" y="1268280"/>
              <a:ext cx="1152360" cy="1036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" name=""/>
            <p:cNvGrpSpPr/>
            <p:nvPr/>
          </p:nvGrpSpPr>
          <p:grpSpPr>
            <a:xfrm>
              <a:off x="1547640" y="1413000"/>
              <a:ext cx="6440760" cy="4629600"/>
              <a:chOff x="1547640" y="1413000"/>
              <a:chExt cx="6440760" cy="4629600"/>
            </a:xfrm>
          </p:grpSpPr>
          <p:pic>
            <p:nvPicPr>
              <p:cNvPr id="84" name="" descr=""/>
              <p:cNvPicPr/>
              <p:nvPr/>
            </p:nvPicPr>
            <p:blipFill>
              <a:blip r:embed="rId2"/>
              <a:stretch/>
            </p:blipFill>
            <p:spPr>
              <a:xfrm rot="2659200">
                <a:off x="3431880" y="4712760"/>
                <a:ext cx="1185840" cy="10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" descr=""/>
              <p:cNvPicPr/>
              <p:nvPr/>
            </p:nvPicPr>
            <p:blipFill>
              <a:blip r:embed="rId3"/>
              <a:stretch/>
            </p:blipFill>
            <p:spPr>
              <a:xfrm rot="17266200">
                <a:off x="4890600" y="4764960"/>
                <a:ext cx="1087560" cy="115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71640" y="1413000"/>
                <a:ext cx="1113120" cy="100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4000" y="3645000"/>
                <a:ext cx="1184400" cy="10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588000" y="2421000"/>
                <a:ext cx="952560" cy="100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547640" y="2276640"/>
                <a:ext cx="1152720" cy="10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940360" y="4724280"/>
                <a:ext cx="1112760" cy="10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" descr=""/>
              <p:cNvPicPr/>
              <p:nvPr/>
            </p:nvPicPr>
            <p:blipFill>
              <a:blip r:embed="rId9"/>
              <a:stretch/>
            </p:blipFill>
            <p:spPr>
              <a:xfrm rot="13826400">
                <a:off x="2355480" y="4491720"/>
                <a:ext cx="1112760" cy="10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2360" y="3429000"/>
                <a:ext cx="1023840" cy="92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" descr=""/>
              <p:cNvPicPr/>
              <p:nvPr/>
            </p:nvPicPr>
            <p:blipFill>
              <a:blip r:embed="rId11"/>
              <a:srcRect l="0" t="0" r="20778" b="32743"/>
              <a:stretch/>
            </p:blipFill>
            <p:spPr>
              <a:xfrm>
                <a:off x="5508720" y="1413000"/>
                <a:ext cx="1008000" cy="906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4" name=""/>
          <p:cNvSpPr/>
          <p:nvPr/>
        </p:nvSpPr>
        <p:spPr>
          <a:xfrm>
            <a:off x="3635280" y="587700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63640" y="5300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37162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2276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836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84720" y="40464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43640" y="765000"/>
            <a:ext cx="865080" cy="721080"/>
          </a:xfrm>
          <a:prstGeom prst="hexagon">
            <a:avLst>
              <a:gd name="adj" fmla="val 29993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67640" y="24922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48360" y="57340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48360" y="537372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956720" y="414972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987640" y="2492280"/>
            <a:ext cx="360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ери ответ:</a:t>
            </a:r>
            <a:endParaRPr b="0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59280" y="3500280"/>
            <a:ext cx="201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 х 9 =</a:t>
            </a:r>
            <a:endParaRPr b="1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11111E-006 L -0.17327 -0.27315 E">
                                      <p:cBhvr>
                                        <p:cTn id="110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.044 0.027 0.08 0.06 0.08 C 0.099 0.08 0.113 0.04 0.119 0.016 L 0.125 -0.016 C 0.131 -0.04 0.146 -0.08 0.19 -0.08 C 0.218 -0.08 0.25 -0.044 0.25 0 C 0.25 0.044 0.218 0.08 0.19 0.08 C 0.146 0.08 0.131 0.04 0.125 0.016 L 0.119 -0.016 C 0.113 -0.04 0.099 -0.08 0.06 -0.08 C 0.027 -0.08 0 -0.044 0 0 Z">
                                      <p:cBhvr>
                                        <p:cTn id="112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1547640" y="1268280"/>
            <a:ext cx="6440760" cy="4774320"/>
            <a:chOff x="1547640" y="1268280"/>
            <a:chExt cx="6440760" cy="477432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4140360" y="1268280"/>
              <a:ext cx="1152360" cy="1036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" name=""/>
            <p:cNvGrpSpPr/>
            <p:nvPr/>
          </p:nvGrpSpPr>
          <p:grpSpPr>
            <a:xfrm>
              <a:off x="1547640" y="1413000"/>
              <a:ext cx="6440760" cy="4629600"/>
              <a:chOff x="1547640" y="1413000"/>
              <a:chExt cx="6440760" cy="4629600"/>
            </a:xfrm>
          </p:grpSpPr>
          <p:pic>
            <p:nvPicPr>
              <p:cNvPr id="110" name="" descr=""/>
              <p:cNvPicPr/>
              <p:nvPr/>
            </p:nvPicPr>
            <p:blipFill>
              <a:blip r:embed="rId2"/>
              <a:stretch/>
            </p:blipFill>
            <p:spPr>
              <a:xfrm rot="2659200">
                <a:off x="3431880" y="4712760"/>
                <a:ext cx="1185840" cy="10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" descr=""/>
              <p:cNvPicPr/>
              <p:nvPr/>
            </p:nvPicPr>
            <p:blipFill>
              <a:blip r:embed="rId3"/>
              <a:stretch/>
            </p:blipFill>
            <p:spPr>
              <a:xfrm rot="17266200">
                <a:off x="4890600" y="4764960"/>
                <a:ext cx="1087560" cy="115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71640" y="1413000"/>
                <a:ext cx="1113120" cy="100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4000" y="3645000"/>
                <a:ext cx="1184400" cy="10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588000" y="2421000"/>
                <a:ext cx="952560" cy="100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547640" y="2276640"/>
                <a:ext cx="1152720" cy="10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940360" y="4724280"/>
                <a:ext cx="1112760" cy="10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9"/>
              <a:stretch/>
            </p:blipFill>
            <p:spPr>
              <a:xfrm rot="13826400">
                <a:off x="2355480" y="4491720"/>
                <a:ext cx="1112760" cy="10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2360" y="3429000"/>
                <a:ext cx="1023840" cy="92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" descr=""/>
              <p:cNvPicPr/>
              <p:nvPr/>
            </p:nvPicPr>
            <p:blipFill>
              <a:blip r:embed="rId11"/>
              <a:srcRect l="0" t="0" r="20778" b="32743"/>
              <a:stretch/>
            </p:blipFill>
            <p:spPr>
              <a:xfrm>
                <a:off x="5508720" y="1413000"/>
                <a:ext cx="1008000" cy="906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0" name=""/>
          <p:cNvSpPr/>
          <p:nvPr/>
        </p:nvSpPr>
        <p:spPr>
          <a:xfrm>
            <a:off x="3635280" y="587700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63640" y="5300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37162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2276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8000" y="836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84720" y="40464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43640" y="765000"/>
            <a:ext cx="865080" cy="721080"/>
          </a:xfrm>
          <a:prstGeom prst="hexagon">
            <a:avLst>
              <a:gd name="adj" fmla="val 29993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67640" y="24922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48360" y="57340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48360" y="537372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56720" y="414972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987640" y="2492280"/>
            <a:ext cx="360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ери ответ:</a:t>
            </a:r>
            <a:endParaRPr b="0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59280" y="3500280"/>
            <a:ext cx="201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 х 7 =</a:t>
            </a:r>
            <a:endParaRPr b="1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8.14815E-006 L 0.10226 0.46204 E">
                                      <p:cBhvr>
                                        <p:cTn id="154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3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 -0.004 0.012 -0.04533 0.037 -0.04267 C 0.075 -0.03867 0.09 -0.00933 0.125 -0.03867 C 0.147 -0.056 0.173 -0.1 0.192 -0.09867 C 0.235 -0.09733 0.244 -0.052 0.244 -0.01067 C 0.245 0.048 0.189 0.09733 0.121 0.10267 C 0.052 0.10667 -0.005 0.044 0 0 Z">
                                      <p:cBhvr>
                                        <p:cTn id="15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1547640" y="1268280"/>
            <a:ext cx="6440760" cy="4774320"/>
            <a:chOff x="1547640" y="1268280"/>
            <a:chExt cx="6440760" cy="477432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4140360" y="1268280"/>
              <a:ext cx="1152360" cy="1036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5" name=""/>
            <p:cNvGrpSpPr/>
            <p:nvPr/>
          </p:nvGrpSpPr>
          <p:grpSpPr>
            <a:xfrm>
              <a:off x="1547640" y="1413000"/>
              <a:ext cx="6440760" cy="4629600"/>
              <a:chOff x="1547640" y="1413000"/>
              <a:chExt cx="6440760" cy="4629600"/>
            </a:xfrm>
          </p:grpSpPr>
          <p:pic>
            <p:nvPicPr>
              <p:cNvPr id="136" name="" descr=""/>
              <p:cNvPicPr/>
              <p:nvPr/>
            </p:nvPicPr>
            <p:blipFill>
              <a:blip r:embed="rId2"/>
              <a:stretch/>
            </p:blipFill>
            <p:spPr>
              <a:xfrm rot="2659200">
                <a:off x="3431880" y="4712760"/>
                <a:ext cx="1185840" cy="10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" name="" descr=""/>
              <p:cNvPicPr/>
              <p:nvPr/>
            </p:nvPicPr>
            <p:blipFill>
              <a:blip r:embed="rId3"/>
              <a:stretch/>
            </p:blipFill>
            <p:spPr>
              <a:xfrm rot="17266200">
                <a:off x="4890600" y="4764960"/>
                <a:ext cx="1087560" cy="115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71640" y="1413000"/>
                <a:ext cx="1113120" cy="100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4000" y="3645000"/>
                <a:ext cx="1184400" cy="10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588000" y="2421000"/>
                <a:ext cx="952560" cy="100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547640" y="2276640"/>
                <a:ext cx="1152720" cy="10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940360" y="4724280"/>
                <a:ext cx="1112760" cy="10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" descr=""/>
              <p:cNvPicPr/>
              <p:nvPr/>
            </p:nvPicPr>
            <p:blipFill>
              <a:blip r:embed="rId9"/>
              <a:stretch/>
            </p:blipFill>
            <p:spPr>
              <a:xfrm rot="13826400">
                <a:off x="2355480" y="4491720"/>
                <a:ext cx="1112760" cy="10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2360" y="3429000"/>
                <a:ext cx="1023840" cy="92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" descr=""/>
              <p:cNvPicPr/>
              <p:nvPr/>
            </p:nvPicPr>
            <p:blipFill>
              <a:blip r:embed="rId11"/>
              <a:srcRect l="0" t="0" r="20778" b="32743"/>
              <a:stretch/>
            </p:blipFill>
            <p:spPr>
              <a:xfrm>
                <a:off x="5508720" y="1413000"/>
                <a:ext cx="1008000" cy="906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6" name=""/>
          <p:cNvSpPr/>
          <p:nvPr/>
        </p:nvSpPr>
        <p:spPr>
          <a:xfrm>
            <a:off x="3635280" y="587700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5300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37162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2276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08000" y="836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84720" y="40464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43640" y="765000"/>
            <a:ext cx="865080" cy="721080"/>
          </a:xfrm>
          <a:prstGeom prst="hexagon">
            <a:avLst>
              <a:gd name="adj" fmla="val 29993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67640" y="24922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48360" y="57340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948360" y="537372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56720" y="414972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987640" y="2492280"/>
            <a:ext cx="360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ери ответ:</a:t>
            </a:r>
            <a:endParaRPr b="0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59280" y="3500280"/>
            <a:ext cx="201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 х 6 =</a:t>
            </a:r>
            <a:endParaRPr b="1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6.66667E-006 L -0.25208 0.15741 E">
                                      <p:cBhvr>
                                        <p:cTn id="234" dur="1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3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 -0.004 0.012 -0.04533 0.037 -0.04267 C 0.075 -0.03867 0.09 -0.00933 0.125 -0.03867 C 0.147 -0.056 0.173 -0.1 0.192 -0.09867 C 0.235 -0.09733 0.244 -0.052 0.244 -0.01067 C 0.245 0.048 0.189 0.09733 0.121 0.10267 C 0.052 0.10667 -0.005 0.044 0 0 Z">
                                      <p:cBhvr>
                                        <p:cTn id="236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1547640" y="1268280"/>
            <a:ext cx="6440760" cy="4774320"/>
            <a:chOff x="1547640" y="1268280"/>
            <a:chExt cx="6440760" cy="477432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4140360" y="1268280"/>
              <a:ext cx="1152360" cy="1036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1" name=""/>
            <p:cNvGrpSpPr/>
            <p:nvPr/>
          </p:nvGrpSpPr>
          <p:grpSpPr>
            <a:xfrm>
              <a:off x="1547640" y="1413000"/>
              <a:ext cx="6440760" cy="4629600"/>
              <a:chOff x="1547640" y="1413000"/>
              <a:chExt cx="6440760" cy="4629600"/>
            </a:xfrm>
          </p:grpSpPr>
          <p:pic>
            <p:nvPicPr>
              <p:cNvPr id="162" name="" descr=""/>
              <p:cNvPicPr/>
              <p:nvPr/>
            </p:nvPicPr>
            <p:blipFill>
              <a:blip r:embed="rId2"/>
              <a:stretch/>
            </p:blipFill>
            <p:spPr>
              <a:xfrm rot="2659200">
                <a:off x="3431880" y="4712760"/>
                <a:ext cx="1185840" cy="10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" descr=""/>
              <p:cNvPicPr/>
              <p:nvPr/>
            </p:nvPicPr>
            <p:blipFill>
              <a:blip r:embed="rId3"/>
              <a:stretch/>
            </p:blipFill>
            <p:spPr>
              <a:xfrm rot="17266200">
                <a:off x="4890600" y="4764960"/>
                <a:ext cx="1087560" cy="115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71640" y="1413000"/>
                <a:ext cx="1113120" cy="100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4000" y="3645000"/>
                <a:ext cx="1184400" cy="10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588000" y="2421000"/>
                <a:ext cx="952560" cy="100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547640" y="2276640"/>
                <a:ext cx="1152720" cy="10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940360" y="4724280"/>
                <a:ext cx="1112760" cy="10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" descr=""/>
              <p:cNvPicPr/>
              <p:nvPr/>
            </p:nvPicPr>
            <p:blipFill>
              <a:blip r:embed="rId9"/>
              <a:stretch/>
            </p:blipFill>
            <p:spPr>
              <a:xfrm rot="13826400">
                <a:off x="2355480" y="4491720"/>
                <a:ext cx="1112760" cy="10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2360" y="3429000"/>
                <a:ext cx="1023840" cy="92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11"/>
              <a:srcRect l="0" t="0" r="20778" b="32743"/>
              <a:stretch/>
            </p:blipFill>
            <p:spPr>
              <a:xfrm>
                <a:off x="5508720" y="1413000"/>
                <a:ext cx="1008000" cy="906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2" name=""/>
          <p:cNvSpPr/>
          <p:nvPr/>
        </p:nvSpPr>
        <p:spPr>
          <a:xfrm>
            <a:off x="3635280" y="587700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63640" y="5300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37162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2276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08000" y="836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84720" y="40464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3640" y="765000"/>
            <a:ext cx="865080" cy="721080"/>
          </a:xfrm>
          <a:prstGeom prst="hexagon">
            <a:avLst>
              <a:gd name="adj" fmla="val 29993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7640" y="24922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48360" y="57340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48360" y="537372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56720" y="414972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987640" y="2492280"/>
            <a:ext cx="360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ери ответ:</a:t>
            </a:r>
            <a:endParaRPr b="0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59280" y="3500280"/>
            <a:ext cx="201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 х 6 =</a:t>
            </a:r>
            <a:endParaRPr b="1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2 -0.00023 L 0.00782 -0.3257 E">
                                      <p:cBhvr>
                                        <p:cTn id="320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33 0.069 0.092 C 0.069 0.12533 0.056 0.15467 0.037 0.172 L 0.036 0.172 C 0.029 0.17867 0.025 0.18933 0.025 0.20133 C 0.025 0.212 0.029 0.22133 0.034 0.228 C 0.042 0.23867 0.047 0.25467 0.047 0.27067 C 0.047 0.30533 0.026 0.33333 0 0.33333 C -0.026 0.33333 -0.047 0.30533 -0.047 0.27067 C -0.047 0.25467 -0.042 0.23867 -0.034 0.228 C -0.029 0.22133 -0.026 0.212 -0.026 0.20133 C -0.026 0.18933 -0.03 0.17867 -0.036 0.172 L -0.037 0.172 C -0.057 0.15467 -0.07 0.12533 -0.07 0.092 C -0.07 0.04133 -0.039 0 0 0 Z">
                                      <p:cBhvr>
                                        <p:cTn id="322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1547640" y="1268280"/>
            <a:ext cx="6440760" cy="4774320"/>
            <a:chOff x="1547640" y="1268280"/>
            <a:chExt cx="6440760" cy="477432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4140360" y="1268280"/>
              <a:ext cx="1152360" cy="1036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7" name=""/>
            <p:cNvGrpSpPr/>
            <p:nvPr/>
          </p:nvGrpSpPr>
          <p:grpSpPr>
            <a:xfrm>
              <a:off x="1547640" y="1413000"/>
              <a:ext cx="6440760" cy="4629600"/>
              <a:chOff x="1547640" y="1413000"/>
              <a:chExt cx="6440760" cy="4629600"/>
            </a:xfrm>
          </p:grpSpPr>
          <p:pic>
            <p:nvPicPr>
              <p:cNvPr id="188" name="" descr=""/>
              <p:cNvPicPr/>
              <p:nvPr/>
            </p:nvPicPr>
            <p:blipFill>
              <a:blip r:embed="rId2"/>
              <a:stretch/>
            </p:blipFill>
            <p:spPr>
              <a:xfrm rot="2659200">
                <a:off x="3431880" y="4712760"/>
                <a:ext cx="1185840" cy="10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" descr=""/>
              <p:cNvPicPr/>
              <p:nvPr/>
            </p:nvPicPr>
            <p:blipFill>
              <a:blip r:embed="rId3"/>
              <a:stretch/>
            </p:blipFill>
            <p:spPr>
              <a:xfrm rot="17266200">
                <a:off x="4890600" y="4764960"/>
                <a:ext cx="1087560" cy="115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71640" y="1413000"/>
                <a:ext cx="1113120" cy="100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4000" y="3645000"/>
                <a:ext cx="1184400" cy="10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588000" y="2421000"/>
                <a:ext cx="952560" cy="100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547640" y="2276640"/>
                <a:ext cx="1152720" cy="10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940360" y="4724280"/>
                <a:ext cx="1112760" cy="10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5" name="" descr=""/>
              <p:cNvPicPr/>
              <p:nvPr/>
            </p:nvPicPr>
            <p:blipFill>
              <a:blip r:embed="rId9"/>
              <a:stretch/>
            </p:blipFill>
            <p:spPr>
              <a:xfrm rot="13826400">
                <a:off x="2355480" y="4491720"/>
                <a:ext cx="1112760" cy="10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2360" y="3429000"/>
                <a:ext cx="1023840" cy="92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" descr=""/>
              <p:cNvPicPr/>
              <p:nvPr/>
            </p:nvPicPr>
            <p:blipFill>
              <a:blip r:embed="rId11"/>
              <a:srcRect l="0" t="0" r="20778" b="32743"/>
              <a:stretch/>
            </p:blipFill>
            <p:spPr>
              <a:xfrm>
                <a:off x="5508720" y="1413000"/>
                <a:ext cx="1008000" cy="906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8" name=""/>
          <p:cNvSpPr/>
          <p:nvPr/>
        </p:nvSpPr>
        <p:spPr>
          <a:xfrm>
            <a:off x="3635280" y="587700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640" y="5300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5640" y="37162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9640" y="2276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08000" y="836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84720" y="40464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765000"/>
            <a:ext cx="865080" cy="721080"/>
          </a:xfrm>
          <a:prstGeom prst="hexagon">
            <a:avLst>
              <a:gd name="adj" fmla="val 29993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67640" y="24922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148360" y="57340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948360" y="537372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956720" y="414972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987640" y="2492280"/>
            <a:ext cx="360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ери ответ:</a:t>
            </a:r>
            <a:endParaRPr b="0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59280" y="3500280"/>
            <a:ext cx="201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 х 6 =</a:t>
            </a:r>
            <a:endParaRPr b="1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7.40741E-007 L 0.17327 -0.32546 E">
                                      <p:cBhvr>
                                        <p:cTn id="394" dur="1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5" nodeType="with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3 0 0.06 0.036 0.06 0.08 C 0.06 0.132 0.03 0.15067 0.012 0.15867 L -0.012 0.16667 C -0.03 0.17467 -0.06 0.19467 -0.06 0.25333 C -0.06 0.29067 -0.033 0.33333 0 0.33333 C 0.033 0.33333 0.06 0.29067 0.06 0.25333 C 0.06 0.19467 0.03 0.17467 0.012 0.16667 L -0.012 0.15867 C -0.03 0.15067 -0.06 0.132 -0.06 0.08 C -0.06 0.036 -0.033 0 0 0 Z">
                                      <p:cBhvr>
                                        <p:cTn id="396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1547640" y="1268280"/>
            <a:ext cx="6440760" cy="4774320"/>
            <a:chOff x="1547640" y="1268280"/>
            <a:chExt cx="6440760" cy="4774320"/>
          </a:xfrm>
        </p:grpSpPr>
        <p:pic>
          <p:nvPicPr>
            <p:cNvPr id="212" name="" descr=""/>
            <p:cNvPicPr/>
            <p:nvPr/>
          </p:nvPicPr>
          <p:blipFill>
            <a:blip r:embed="rId1"/>
            <a:stretch/>
          </p:blipFill>
          <p:spPr>
            <a:xfrm>
              <a:off x="4140360" y="1268280"/>
              <a:ext cx="1152360" cy="1036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3" name=""/>
            <p:cNvGrpSpPr/>
            <p:nvPr/>
          </p:nvGrpSpPr>
          <p:grpSpPr>
            <a:xfrm>
              <a:off x="1547640" y="1413000"/>
              <a:ext cx="6440760" cy="4629600"/>
              <a:chOff x="1547640" y="1413000"/>
              <a:chExt cx="6440760" cy="4629600"/>
            </a:xfrm>
          </p:grpSpPr>
          <p:pic>
            <p:nvPicPr>
              <p:cNvPr id="214" name="" descr=""/>
              <p:cNvPicPr/>
              <p:nvPr/>
            </p:nvPicPr>
            <p:blipFill>
              <a:blip r:embed="rId2"/>
              <a:stretch/>
            </p:blipFill>
            <p:spPr>
              <a:xfrm rot="2659200">
                <a:off x="3431880" y="4712760"/>
                <a:ext cx="1185840" cy="10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5" name="" descr=""/>
              <p:cNvPicPr/>
              <p:nvPr/>
            </p:nvPicPr>
            <p:blipFill>
              <a:blip r:embed="rId3"/>
              <a:stretch/>
            </p:blipFill>
            <p:spPr>
              <a:xfrm rot="17266200">
                <a:off x="4890600" y="4764960"/>
                <a:ext cx="1087560" cy="115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71640" y="1413000"/>
                <a:ext cx="1113120" cy="100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4000" y="3645000"/>
                <a:ext cx="1184400" cy="10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588000" y="2421000"/>
                <a:ext cx="952560" cy="100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547640" y="2276640"/>
                <a:ext cx="1152720" cy="10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940360" y="4724280"/>
                <a:ext cx="1112760" cy="10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9"/>
              <a:stretch/>
            </p:blipFill>
            <p:spPr>
              <a:xfrm rot="13826400">
                <a:off x="2355480" y="4491720"/>
                <a:ext cx="1112760" cy="10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2360" y="3429000"/>
                <a:ext cx="1023840" cy="92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" descr=""/>
              <p:cNvPicPr/>
              <p:nvPr/>
            </p:nvPicPr>
            <p:blipFill>
              <a:blip r:embed="rId11"/>
              <a:srcRect l="0" t="0" r="20778" b="32743"/>
              <a:stretch/>
            </p:blipFill>
            <p:spPr>
              <a:xfrm>
                <a:off x="5508720" y="1413000"/>
                <a:ext cx="1008000" cy="906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24" name=""/>
          <p:cNvSpPr/>
          <p:nvPr/>
        </p:nvSpPr>
        <p:spPr>
          <a:xfrm>
            <a:off x="3635280" y="587700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3640" y="5300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5640" y="37162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9640" y="2276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08000" y="836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284720" y="40464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43640" y="765000"/>
            <a:ext cx="865080" cy="721080"/>
          </a:xfrm>
          <a:prstGeom prst="hexagon">
            <a:avLst>
              <a:gd name="adj" fmla="val 29993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67640" y="24922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48360" y="57340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48360" y="537372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956720" y="414972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987640" y="2492280"/>
            <a:ext cx="360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ери ответ:</a:t>
            </a:r>
            <a:endParaRPr b="0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59280" y="3500280"/>
            <a:ext cx="201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 х 7 =</a:t>
            </a:r>
            <a:endParaRPr b="1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3.7037E-007 L -0.13385 0.39884 E">
                                      <p:cBhvr>
                                        <p:cTn id="432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3" nodeType="withEffect" fill="hold" presetClass="path" presetID="3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 -0.004 0.012 -0.04533 0.037 -0.04267 C 0.075 -0.03867 0.09 -0.00933 0.125 -0.03867 C 0.147 -0.056 0.173 -0.1 0.192 -0.09867 C 0.235 -0.09733 0.244 -0.052 0.244 -0.01067 C 0.245 0.048 0.189 0.09733 0.121 0.10267 C 0.052 0.10667 -0.005 0.044 0 0 Z">
                                      <p:cBhvr>
                                        <p:cTn id="434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436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1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442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7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448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1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472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1547640" y="1268280"/>
            <a:ext cx="6440760" cy="4774320"/>
            <a:chOff x="1547640" y="1268280"/>
            <a:chExt cx="6440760" cy="4774320"/>
          </a:xfrm>
        </p:grpSpPr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4140360" y="1268280"/>
              <a:ext cx="1152360" cy="1036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9" name=""/>
            <p:cNvGrpSpPr/>
            <p:nvPr/>
          </p:nvGrpSpPr>
          <p:grpSpPr>
            <a:xfrm>
              <a:off x="1547640" y="1413000"/>
              <a:ext cx="6440760" cy="4629600"/>
              <a:chOff x="1547640" y="1413000"/>
              <a:chExt cx="6440760" cy="4629600"/>
            </a:xfrm>
          </p:grpSpPr>
          <p:pic>
            <p:nvPicPr>
              <p:cNvPr id="240" name="" descr=""/>
              <p:cNvPicPr/>
              <p:nvPr/>
            </p:nvPicPr>
            <p:blipFill>
              <a:blip r:embed="rId2"/>
              <a:stretch/>
            </p:blipFill>
            <p:spPr>
              <a:xfrm rot="2659200">
                <a:off x="3431880" y="4712760"/>
                <a:ext cx="1185840" cy="10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" descr=""/>
              <p:cNvPicPr/>
              <p:nvPr/>
            </p:nvPicPr>
            <p:blipFill>
              <a:blip r:embed="rId3"/>
              <a:stretch/>
            </p:blipFill>
            <p:spPr>
              <a:xfrm rot="17266200">
                <a:off x="4890600" y="4764960"/>
                <a:ext cx="1087560" cy="115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71640" y="1413000"/>
                <a:ext cx="1113120" cy="100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4000" y="3645000"/>
                <a:ext cx="1184400" cy="10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588000" y="2421000"/>
                <a:ext cx="952560" cy="100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547640" y="2276640"/>
                <a:ext cx="1152720" cy="10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940360" y="4724280"/>
                <a:ext cx="1112760" cy="10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" descr=""/>
              <p:cNvPicPr/>
              <p:nvPr/>
            </p:nvPicPr>
            <p:blipFill>
              <a:blip r:embed="rId9"/>
              <a:stretch/>
            </p:blipFill>
            <p:spPr>
              <a:xfrm rot="13826400">
                <a:off x="2355480" y="4491720"/>
                <a:ext cx="1112760" cy="10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2360" y="3429000"/>
                <a:ext cx="1023840" cy="92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" descr=""/>
              <p:cNvPicPr/>
              <p:nvPr/>
            </p:nvPicPr>
            <p:blipFill>
              <a:blip r:embed="rId11"/>
              <a:srcRect l="0" t="0" r="20778" b="32743"/>
              <a:stretch/>
            </p:blipFill>
            <p:spPr>
              <a:xfrm>
                <a:off x="5508720" y="1413000"/>
                <a:ext cx="1008000" cy="906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0" name=""/>
          <p:cNvSpPr/>
          <p:nvPr/>
        </p:nvSpPr>
        <p:spPr>
          <a:xfrm>
            <a:off x="3635280" y="587700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63640" y="5300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55640" y="37162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2276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908000" y="83664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84720" y="40464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43640" y="765000"/>
            <a:ext cx="865080" cy="721080"/>
          </a:xfrm>
          <a:prstGeom prst="hexagon">
            <a:avLst>
              <a:gd name="adj" fmla="val 29993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667640" y="24922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48360" y="573408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48360" y="5373720"/>
            <a:ext cx="865440" cy="720720"/>
          </a:xfrm>
          <a:prstGeom prst="hexagon">
            <a:avLst>
              <a:gd name="adj" fmla="val 30020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956720" y="4149720"/>
            <a:ext cx="865080" cy="720720"/>
          </a:xfrm>
          <a:prstGeom prst="hexagon">
            <a:avLst>
              <a:gd name="adj" fmla="val 30007"/>
              <a:gd name="vf" fmla="val 115470"/>
            </a:avLst>
          </a:prstGeom>
          <a:solidFill>
            <a:srgbClr val="66ff99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987640" y="2492280"/>
            <a:ext cx="360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ери ответ:</a:t>
            </a:r>
            <a:endParaRPr b="0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59280" y="3500280"/>
            <a:ext cx="201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 х 9 =</a:t>
            </a:r>
            <a:endParaRPr b="1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479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4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485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515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96296E-006 L 0.40156 -0.2625 E">
                                      <p:cBhvr>
                                        <p:cTn id="536" dur="1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7" nodeType="with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.044 0.027 0.08 0.06 0.08 C 0.099 0.08 0.113 0.04 0.119 0.016 L 0.125 -0.016 C 0.131 -0.04 0.146 -0.08 0.19 -0.08 C 0.218 -0.08 0.25 -0.044 0.25 0 C 0.25 0.044 0.218 0.08 0.19 0.08 C 0.146 0.08 0.131 0.04 0.125 0.016 L 0.119 -0.016 C 0.113 -0.04 0.099 -0.08 0.06 -0.08 C 0.027 -0.08 0 -0.044 0 0 Z">
                                      <p:cBhvr>
                                        <p:cTn id="538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540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2T13:31:20Z</dcterms:created>
  <dc:creator>1</dc:creator>
  <dc:description/>
  <dc:language>en-US</dc:language>
  <cp:lastModifiedBy>1</cp:lastModifiedBy>
  <dcterms:modified xsi:type="dcterms:W3CDTF">2011-07-05T12:42:08Z</dcterms:modified>
  <cp:revision>11</cp:revision>
  <dc:subject/>
  <dc:title>Слайд 1</dc:title>
</cp:coreProperties>
</file>