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6.jpeg" ContentType="image/jpeg"/>
  <Override PartName="/ppt/media/chimes.wav" ContentType="audio/x-wav"/>
  <Override PartName="/ppt/media/image16.png" ContentType="image/png"/>
  <Override PartName="/ppt/media/image15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9D3-DCF4-4B98-8ECB-A099324D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2FCD-2BCD-4172-B1BC-3AC77213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7CB-066D-458A-8AE7-E8825216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EE3-CB93-45A7-95FD-88AE8653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3A5-F480-4F44-A7AC-E16FDDD4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9A3-CAFC-4C17-A562-A1960B47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317-3B27-4263-8AF5-8EAB6E15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F45-B5E7-406E-B093-65B68A73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464-4205-4AF4-B9CE-7F1ED6D9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166-841A-4099-949C-472246CA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00F8-568C-4570-AD09-02E41945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F0D-5BED-4FB6-881D-8F828C8E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F678-C245-4121-8AA3-974ABED34C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3.pn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3.pn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3.pn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3.pn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3.pn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2.jpe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" Target="slide25.xml"/><Relationship Id="rId5" Type="http://schemas.openxmlformats.org/officeDocument/2006/relationships/image" Target="../media/image3.png"/><Relationship Id="rId6" Type="http://schemas.openxmlformats.org/officeDocument/2006/relationships/slide" Target="slide25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webmama.dp.ua/pesni/frame.html" TargetMode="External"/><Relationship Id="rId5" Type="http://schemas.openxmlformats.org/officeDocument/2006/relationships/hyperlink" Target="http://webmama.dp.ua/pesni/frame.html" TargetMode="External"/><Relationship Id="rId6" Type="http://schemas.openxmlformats.org/officeDocument/2006/relationships/hyperlink" Target="http://webmama.dp.ua/pesni/frame.html" TargetMode="External"/><Relationship Id="rId7" Type="http://schemas.openxmlformats.org/officeDocument/2006/relationships/hyperlink" Target="http://webmama.dp.ua/pesni/frame.html" TargetMode="External"/><Relationship Id="rId8" Type="http://schemas.openxmlformats.org/officeDocument/2006/relationships/hyperlink" Target="http://webmama.dp.ua/pesni/frame.html" TargetMode="External"/><Relationship Id="rId9" Type="http://schemas.openxmlformats.org/officeDocument/2006/relationships/hyperlink" Target="http://webmama.dp.ua/pesni/frame.html" TargetMode="External"/><Relationship Id="rId10" Type="http://schemas.openxmlformats.org/officeDocument/2006/relationships/hyperlink" Target="http://webmama.dp.ua/pesni/frame.html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3.pn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3.pn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Таблица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умножения и деления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числа 6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Закреп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Comic Sans MS"/>
              </a:rPr>
              <a:t>Урок-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Comic Sans MS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втор: Плахотник Лариса Ю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итель начальных классов СОШ № 9 г.Со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440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441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475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478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481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484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6381720" y="5638680"/>
            <a:ext cx="1658880" cy="1050840"/>
            <a:chOff x="6381720" y="5638680"/>
            <a:chExt cx="1658880" cy="1050840"/>
          </a:xfrm>
        </p:grpSpPr>
        <p:sp>
          <p:nvSpPr>
            <p:cNvPr id="487" name=""/>
            <p:cNvSpPr/>
            <p:nvPr/>
          </p:nvSpPr>
          <p:spPr>
            <a:xfrm flipH="1" rot="20803800">
              <a:off x="6443640" y="580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6875640" y="594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070080" y="5062680"/>
            <a:ext cx="1658880" cy="1050840"/>
            <a:chOff x="3070080" y="5062680"/>
            <a:chExt cx="1658880" cy="1050840"/>
          </a:xfrm>
        </p:grpSpPr>
        <p:sp>
          <p:nvSpPr>
            <p:cNvPr id="490" name=""/>
            <p:cNvSpPr/>
            <p:nvPr/>
          </p:nvSpPr>
          <p:spPr>
            <a:xfrm flipH="1" rot="20803800">
              <a:off x="313200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356400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493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496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499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502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505" name="" descr=""/>
            <p:cNvPicPr/>
            <p:nvPr/>
          </p:nvPicPr>
          <p:blipFill>
            <a:blip r:embed="rId14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509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512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515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518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521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524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527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530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348000" y="2492280"/>
            <a:ext cx="2305080" cy="1800360"/>
          </a:xfrm>
          <a:prstGeom prst="wedgeEllipseCallout">
            <a:avLst>
              <a:gd name="adj1" fmla="val -46902"/>
              <a:gd name="adj2" fmla="val 70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535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0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073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1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7" dur="1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8" dur="1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085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02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3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3" dur="1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14" dur="1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15" dur="1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5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26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27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1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8" dur="1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39" dur="1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9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50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51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1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62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3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9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170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74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75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182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6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7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1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98" dur="1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9" dur="1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5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206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9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10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11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218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2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23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230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3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34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5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1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242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46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47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547640" y="1844640"/>
            <a:ext cx="2305080" cy="1800360"/>
          </a:xfrm>
          <a:prstGeom prst="wedgeEllipseCallout">
            <a:avLst>
              <a:gd name="adj1" fmla="val -43731"/>
              <a:gd name="adj2" fmla="val 69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8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540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541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3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575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578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581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584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381720" y="5638680"/>
            <a:ext cx="1658880" cy="1050840"/>
            <a:chOff x="6381720" y="5638680"/>
            <a:chExt cx="1658880" cy="1050840"/>
          </a:xfrm>
        </p:grpSpPr>
        <p:sp>
          <p:nvSpPr>
            <p:cNvPr id="587" name=""/>
            <p:cNvSpPr/>
            <p:nvPr/>
          </p:nvSpPr>
          <p:spPr>
            <a:xfrm flipH="1" rot="20803800">
              <a:off x="6443640" y="580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 txBox="1"/>
            <p:nvPr/>
          </p:nvSpPr>
          <p:spPr>
            <a:xfrm>
              <a:off x="6875640" y="594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590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593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596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599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602" name="" descr=""/>
            <p:cNvPicPr/>
            <p:nvPr/>
          </p:nvPicPr>
          <p:blipFill>
            <a:blip r:embed="rId13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606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609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1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612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615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618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621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624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26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628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631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634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0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261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8" dur="1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79" dur="1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0" dur="1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6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287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1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91" dur="1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2" dur="1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299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2" dur="1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03" dur="1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4" dur="1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4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15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6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323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6" dur="1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27" dur="1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28" dur="1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335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8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39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4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347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0" dur="1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51" dur="1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52" dur="1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8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359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2" dur="1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63" dur="1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4" dur="1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0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371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4" dur="1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75" dur="1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6" dur="1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6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8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4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395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8" dur="1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99" dur="1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00" dur="1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407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0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1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12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8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419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2" dur="1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23" dur="1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24" dur="1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638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639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1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673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676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679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682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685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688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691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694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697" name="" descr=""/>
            <p:cNvPicPr/>
            <p:nvPr/>
          </p:nvPicPr>
          <p:blipFill>
            <a:blip r:embed="rId12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701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704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6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707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710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713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716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719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723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726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381720" y="3046320"/>
            <a:ext cx="1658880" cy="1050840"/>
            <a:chOff x="6381720" y="3046320"/>
            <a:chExt cx="1658880" cy="1050840"/>
          </a:xfrm>
        </p:grpSpPr>
        <p:sp>
          <p:nvSpPr>
            <p:cNvPr id="729" name=""/>
            <p:cNvSpPr/>
            <p:nvPr/>
          </p:nvSpPr>
          <p:spPr>
            <a:xfrm flipH="1" rot="20803800">
              <a:off x="6443640" y="3212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 txBox="1"/>
            <p:nvPr/>
          </p:nvSpPr>
          <p:spPr>
            <a:xfrm>
              <a:off x="6875640" y="3357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3348000" y="2492280"/>
            <a:ext cx="2305080" cy="1800360"/>
          </a:xfrm>
          <a:prstGeom prst="wedgeEllipseCallout">
            <a:avLst>
              <a:gd name="adj1" fmla="val -46902"/>
              <a:gd name="adj2" fmla="val 70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733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0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7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1438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1" dur="1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2" dur="1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43" dur="1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9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450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3" dur="1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4" dur="1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55" dur="1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462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5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1476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9" dur="1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80" dur="1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81" dur="1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7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1488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92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3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9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500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3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04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05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1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1512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6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17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3" restart="whenNotActive" nodeType="interactiveSeq" fill="hold">
                <p:stCondLst>
                  <p:cond evt="onClick">
                    <p:tgtEl>
                      <p:spTgt spid="709"/>
                    </p:tgtEl>
                  </p:cond>
                </p:stCondLst>
                <p:childTnLst>
                  <p:par>
                    <p:cTn id="1524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7" dur="1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28" dur="1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29" dur="1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5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1536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1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0" dur="1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1" dur="1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7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548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1" dur="1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2" dur="1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3" dur="1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9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560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3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4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5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1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572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5" dur="1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76" dur="1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7" dur="1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3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1584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7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88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9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547640" y="1844640"/>
            <a:ext cx="2305080" cy="1800360"/>
          </a:xfrm>
          <a:prstGeom prst="wedgeEllipseCallout">
            <a:avLst>
              <a:gd name="adj1" fmla="val -43731"/>
              <a:gd name="adj2" fmla="val 69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738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739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1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773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776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779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782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785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788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791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794" name="" descr=""/>
            <p:cNvPicPr/>
            <p:nvPr/>
          </p:nvPicPr>
          <p:blipFill>
            <a:blip r:embed="rId11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798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801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804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807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810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813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816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820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823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6381720" y="3046320"/>
            <a:ext cx="1658880" cy="1050840"/>
            <a:chOff x="6381720" y="3046320"/>
            <a:chExt cx="1658880" cy="1050840"/>
          </a:xfrm>
        </p:grpSpPr>
        <p:sp>
          <p:nvSpPr>
            <p:cNvPr id="826" name=""/>
            <p:cNvSpPr/>
            <p:nvPr/>
          </p:nvSpPr>
          <p:spPr>
            <a:xfrm flipH="1" rot="20803800">
              <a:off x="6443640" y="3212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 txBox="1"/>
            <p:nvPr/>
          </p:nvSpPr>
          <p:spPr>
            <a:xfrm>
              <a:off x="6875640" y="3357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6597720" y="2398680"/>
            <a:ext cx="1658880" cy="1050840"/>
            <a:chOff x="6597720" y="2398680"/>
            <a:chExt cx="1658880" cy="1050840"/>
          </a:xfrm>
        </p:grpSpPr>
        <p:sp>
          <p:nvSpPr>
            <p:cNvPr id="829" name=""/>
            <p:cNvSpPr/>
            <p:nvPr/>
          </p:nvSpPr>
          <p:spPr>
            <a:xfrm flipH="1" rot="20803800">
              <a:off x="6659640" y="256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 txBox="1"/>
            <p:nvPr/>
          </p:nvSpPr>
          <p:spPr>
            <a:xfrm>
              <a:off x="7091640" y="270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832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0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07" dur="1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8" dur="1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4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615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8" dur="1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9" dur="1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20" dur="1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1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31" dur="1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32" dur="1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8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1639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00"/>
                            </p:stCondLst>
                            <p:childTnLst>
                              <p:par>
                                <p:cTn id="1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2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1653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6" dur="1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57" dur="1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58" dur="1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1665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8" dur="1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69" dur="1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0" dur="1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6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1677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0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1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82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8" restart="whenNotActive" nodeType="interactiveSeq" fill="hold">
                <p:stCondLst>
                  <p:cond evt="onClick">
                    <p:tgtEl>
                      <p:spTgt spid="809"/>
                    </p:tgtEl>
                  </p:cond>
                </p:stCondLst>
                <p:childTnLst>
                  <p:par>
                    <p:cTn id="1689" fill="hold">
                      <p:stCondLst>
                        <p:cond evt="onClick">
                          <p:tgtEl>
                            <p:spTgt spid="809"/>
                          </p:tgtEl>
                        </p:cond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2" dur="1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93" dur="1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94" dur="1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0" restart="whenNotActive" nodeType="interactiveSeq" fill="hold">
                <p:stCondLst>
                  <p:cond evt="onClick">
                    <p:tgtEl>
                      <p:spTgt spid="812"/>
                    </p:tgtEl>
                  </p:cond>
                </p:stCondLst>
                <p:childTnLst>
                  <p:par>
                    <p:cTn id="1701" fill="hold">
                      <p:stCondLst>
                        <p:cond evt="onClick">
                          <p:tgtEl>
                            <p:spTgt spid="812"/>
                          </p:tgtEl>
                        </p:cond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4" dur="1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5" dur="1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6" dur="1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713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6" dur="1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17" dur="1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8" dur="1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4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1725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8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29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30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6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0" dur="1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41" dur="1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42" dur="1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836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837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9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871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874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877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880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883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886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889" name="" descr=""/>
            <p:cNvPicPr/>
            <p:nvPr/>
          </p:nvPicPr>
          <p:blipFill>
            <a:blip r:embed="rId10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893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896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8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899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902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905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908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911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13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915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918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381720" y="3046320"/>
            <a:ext cx="1658880" cy="1050840"/>
            <a:chOff x="6381720" y="3046320"/>
            <a:chExt cx="1658880" cy="1050840"/>
          </a:xfrm>
        </p:grpSpPr>
        <p:sp>
          <p:nvSpPr>
            <p:cNvPr id="921" name=""/>
            <p:cNvSpPr/>
            <p:nvPr/>
          </p:nvSpPr>
          <p:spPr>
            <a:xfrm flipH="1" rot="20803800">
              <a:off x="6443640" y="3212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6875640" y="3357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348000" y="2492280"/>
            <a:ext cx="2305080" cy="1800360"/>
          </a:xfrm>
          <a:prstGeom prst="wedgeEllipseCallout">
            <a:avLst>
              <a:gd name="adj1" fmla="val -46902"/>
              <a:gd name="adj2" fmla="val 70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6597720" y="2398680"/>
            <a:ext cx="1658880" cy="1050840"/>
            <a:chOff x="6597720" y="2398680"/>
            <a:chExt cx="1658880" cy="1050840"/>
          </a:xfrm>
        </p:grpSpPr>
        <p:sp>
          <p:nvSpPr>
            <p:cNvPr id="925" name=""/>
            <p:cNvSpPr/>
            <p:nvPr/>
          </p:nvSpPr>
          <p:spPr>
            <a:xfrm flipH="1" rot="20803800">
              <a:off x="6659640" y="256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 txBox="1"/>
            <p:nvPr/>
          </p:nvSpPr>
          <p:spPr>
            <a:xfrm>
              <a:off x="7091640" y="270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310440" y="1822320"/>
            <a:ext cx="1658880" cy="1050840"/>
            <a:chOff x="6310440" y="1822320"/>
            <a:chExt cx="1658880" cy="1050840"/>
          </a:xfrm>
        </p:grpSpPr>
        <p:sp>
          <p:nvSpPr>
            <p:cNvPr id="928" name=""/>
            <p:cNvSpPr/>
            <p:nvPr/>
          </p:nvSpPr>
          <p:spPr>
            <a:xfrm flipH="1" rot="20803800">
              <a:off x="6372360" y="19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 txBox="1"/>
            <p:nvPr/>
          </p:nvSpPr>
          <p:spPr>
            <a:xfrm>
              <a:off x="6804360" y="21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931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fill="hold">
                      <p:stCondLst>
                        <p:cond delay="0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1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59" dur="1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60" dur="1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6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1767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0" dur="1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71" dur="1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2" dur="1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1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83" dur="1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4" dur="1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0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1791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4" dur="1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5" dur="1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6" dur="1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885"/>
                    </p:tgtEl>
                  </p:cond>
                </p:stCondLst>
                <p:childTnLst>
                  <p:par>
                    <p:cTn id="1803" fill="hold">
                      <p:stCondLst>
                        <p:cond evt="onClick">
                          <p:tgtEl>
                            <p:spTgt spid="885"/>
                          </p:tgtEl>
                        </p:cond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1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07" dur="1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8" dur="1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901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901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8" dur="1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9" dur="1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0" dur="1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6" restart="whenNotActive" nodeType="interactiveSeq" fill="hold">
                <p:stCondLst>
                  <p:cond evt="onClick">
                    <p:tgtEl>
                      <p:spTgt spid="904"/>
                    </p:tgtEl>
                  </p:cond>
                </p:stCondLst>
                <p:childTnLst>
                  <p:par>
                    <p:cTn id="1827" fill="hold">
                      <p:stCondLst>
                        <p:cond evt="onClick">
                          <p:tgtEl>
                            <p:spTgt spid="904"/>
                          </p:tgtEl>
                        </p:cond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31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32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8" restart="whenNotActive" nodeType="interactiveSeq" fill="hold">
                <p:stCondLst>
                  <p:cond evt="onClick">
                    <p:tgtEl>
                      <p:spTgt spid="907"/>
                    </p:tgtEl>
                  </p:cond>
                </p:stCondLst>
                <p:childTnLst>
                  <p:par>
                    <p:cTn id="1839" fill="hold">
                      <p:stCondLst>
                        <p:cond evt="onClick">
                          <p:tgtEl>
                            <p:spTgt spid="907"/>
                          </p:tgtEl>
                        </p:cond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2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43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44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0" restart="whenNotActive" nodeType="interactiveSeq" fill="hold">
                <p:stCondLst>
                  <p:cond evt="onClick">
                    <p:tgtEl>
                      <p:spTgt spid="910"/>
                    </p:tgtEl>
                  </p:cond>
                </p:stCondLst>
                <p:childTnLst>
                  <p:par>
                    <p:cTn id="1851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4" dur="1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55" dur="1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56" dur="1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2" restart="whenNotActive" nodeType="interactiveSeq" fill="hold">
                <p:stCondLst>
                  <p:cond evt="onClick">
                    <p:tgtEl>
                      <p:spTgt spid="876"/>
                    </p:tgtEl>
                  </p:cond>
                </p:stCondLst>
                <p:childTnLst>
                  <p:par>
                    <p:cTn id="1863" fill="hold">
                      <p:stCondLst>
                        <p:cond evt="onClick">
                          <p:tgtEl>
                            <p:spTgt spid="876"/>
                          </p:tgtEl>
                        </p:cond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6" restart="whenNotActive" nodeType="interactiveSeq" fill="hold">
                <p:stCondLst>
                  <p:cond evt="onClick">
                    <p:tgtEl>
                      <p:spTgt spid="930"/>
                    </p:tgtEl>
                  </p:cond>
                </p:stCondLst>
                <p:childTnLst>
                  <p:par>
                    <p:cTn id="1877" fill="hold">
                      <p:stCondLst>
                        <p:cond evt="onClick">
                          <p:tgtEl>
                            <p:spTgt spid="930"/>
                          </p:tgtEl>
                        </p:cond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0" dur="1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81" dur="1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2" dur="1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935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938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941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944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947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950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953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956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959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61" name="">
            <a:hlinkClick r:id="" action="ppaction://hlinkshowjump?jump=nextslide"/>
          </p:cNvPr>
          <p:cNvSpPr/>
          <p:nvPr/>
        </p:nvSpPr>
        <p:spPr>
          <a:xfrm>
            <a:off x="5940360" y="0"/>
            <a:ext cx="2881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6381720" y="3046320"/>
            <a:ext cx="1658880" cy="1050840"/>
            <a:chOff x="6381720" y="3046320"/>
            <a:chExt cx="1658880" cy="1050840"/>
          </a:xfrm>
        </p:grpSpPr>
        <p:sp>
          <p:nvSpPr>
            <p:cNvPr id="963" name=""/>
            <p:cNvSpPr/>
            <p:nvPr/>
          </p:nvSpPr>
          <p:spPr>
            <a:xfrm flipH="1" rot="20803800">
              <a:off x="6443640" y="3212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6875640" y="3357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597720" y="2398680"/>
            <a:ext cx="1658880" cy="1050840"/>
            <a:chOff x="6597720" y="2398680"/>
            <a:chExt cx="1658880" cy="1050840"/>
          </a:xfrm>
        </p:grpSpPr>
        <p:sp>
          <p:nvSpPr>
            <p:cNvPr id="966" name=""/>
            <p:cNvSpPr/>
            <p:nvPr/>
          </p:nvSpPr>
          <p:spPr>
            <a:xfrm flipH="1" rot="20803800">
              <a:off x="6659640" y="256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7091640" y="270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310440" y="1822320"/>
            <a:ext cx="1658880" cy="1050840"/>
            <a:chOff x="6310440" y="1822320"/>
            <a:chExt cx="1658880" cy="1050840"/>
          </a:xfrm>
        </p:grpSpPr>
        <p:sp>
          <p:nvSpPr>
            <p:cNvPr id="969" name=""/>
            <p:cNvSpPr/>
            <p:nvPr/>
          </p:nvSpPr>
          <p:spPr>
            <a:xfrm flipH="1" rot="20803800">
              <a:off x="6372360" y="19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6804360" y="21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972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1547640" y="1844640"/>
            <a:ext cx="2305080" cy="1800360"/>
          </a:xfrm>
          <a:prstGeom prst="wedgeEllipseCallout">
            <a:avLst>
              <a:gd name="adj1" fmla="val -43731"/>
              <a:gd name="adj2" fmla="val 69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пасиб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976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979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982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985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986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8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1020" name="" descr=""/>
            <p:cNvPicPr/>
            <p:nvPr/>
          </p:nvPicPr>
          <p:blipFill>
            <a:blip r:embed="rId20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1024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1027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88" dur="indefinite" restart="never" nodeType="tmRoot">
          <p:childTnLst>
            <p:seq>
              <p:cTn id="1889" dur="indefinite" nodeType="mainSeq">
                <p:childTnLst>
                  <p:par>
                    <p:cTn id="1890" fill="hold">
                      <p:stCondLst>
                        <p:cond delay="0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18913 C -0.00087 0.17781 0.00365 0.17064 0.00781 0.16231 C 0.01007 0.15723 0.01406 0.14728 0.01406 0.14752 C 0.01597 0.13781 0.01927 0.12717 0.02361 0.12023 C 0.02639 0.10728 0.03472 0.09896 0.03785 0.08601 C 0.0408 0.07399 0.03906 0.08139 0.04271 0.06428 C 0.04427 0.05642 0.04931 0.05226 0.05226 0.04694 C 0.05903 0.03422 0.06285 0.03052 0.07292 0.02243 C 0.08646 0.000459999999999999 0.06458 0.03468 0.08073 0.0148 C 0.0849 0.01018 0.09097 -0.00601 0.0934 -0.01179 C 0.09636 -0.01873 0.09827 -0.01665 0.10295 -0.02173 C 0.10747 -0.02613 0.11077 -0.03006 0.11563 -0.03376 C 0.1224 -0.03907 0.1283 -0.04462 0.13472 -0.0511 C 0.13629 -0.05272 0.13958 -0.05595 0.13958 -0.05572 C 0.14636 -0.07191 0.15035 -0.0763 0.16007 -0.08763 C 0.16389 -0.09225 0.16302 -0.09387 0.16806 -0.09734 C 0.17118 -0.09965 0.17448 -0.10081 0.17743 -0.10243 C 0.17917 -0.10335 0.18229 -0.10497 0.18229 -0.10451 C 0.18663 -0.11121 0.1908 -0.11191 0.1967 -0.11445 C 0.20104 -0.12139 0.20486 -0.12208 0.21024 -0.12439 C 0.23073 -0.14566 0.25677 -0.14936 0.28073 -0.15144 C 0.33559 -0.16185 0.38577 -0.16439 0.44271 -0.16601 C 0.44965 -0.16925 0.45764 -0.17017 0.46476 -0.17341 C 0.48611 -0.18312 0.50695 -0.19399 0.5283 -0.203 C 0.53542 -0.2104 0.5408 -0.21156 0.55 -0.21503 C 0.56094 -0.21896 0.57049 -0.22705 0.58056 -0.23214 C 0.58681 -0.23861 0.59445 -0.24277 0.60139 -0.24693 C 0.60556 -0.24925 0.61406 -0.25433 0.61406 -0.2541 C 0.6184 -0.26081 0.62292 -0.26127 0.62847 -0.26404 C 0.63004 -0.26566 0.63142 -0.26751 0.63316 -0.26867 C 0.63472 -0.26982 0.63646 -0.27006 0.63785 -0.27144 C 0.6408 -0.27422 0.64306 -0.27815 0.64583 -0.28115 C 0.64948 -0.28971 0.65382 -0.29826 0.65851 -0.30566 C 0.6599 -0.31214 0.66077 -0.31722 0.66337 -0.32277 C 0.66771 -0.33225 0.66823 -0.32717 0.67118 -0.33734 C 0.67726 -0.35792 0.67118 -0.34659 0.67761 -0.35722 C 0.68021 -0.38104 0.67934 -0.40462 0.67604 -0.42798 C 0.67344 -0.44647 0.67708 -0.43884 0.67118 -0.44763 C 0.66858 -0.46011 0.66302 -0.46682 0.65851 -0.47722 C 0.65799 -0.47954 0.65764 -0.48208 0.65695 -0.48439 C 0.65608 -0.48717 0.65452 -0.48878 0.65382 -0.49156 C 0.64948 -0.50728 0.65556 -0.49688 0.64896 -0.50636 C 0.6434 -0.53272 0.63125 -0.55052 0.61892 -0.56994 C 0.61632 -0.57387 0.61146 -0.57179 0.60781 -0.57248 C 0.5974 -0.57734 0.60469 -0.57503 0.58559 -0.57503 E">
                                      <p:cBhvr>
                                        <p:cTn id="1901" dur="2000" fill="hold"/>
                                        <p:tgtEl>
                                          <p:spTgt spid="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3" dur="2000" fill="hold"/>
                                        <p:tgtEl>
                                          <p:spTgt spid="9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9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2 0.12138 C 0.03299 0.11422 0.03455 0.10751 0.03524 0.09965 C 0.03698 0.08023 0.03559 0.06381 0.04323 0.04716 C 0.04757 0.02774 0.04149 0.04994 0.04809 0.03537 C 0.04896 0.03352 0.04878 0.03052 0.04965 0.02797 C 0.05417 0.01664 0.06042 0.00763 0.06545 -0.00463 C 0.06944 -0.01295 0.07101 -0.02289 0.075 -0.03214 C 0.07812 -0.05018 0.08889 -0.05619 0.09566 -0.07122 C 0.09896 -0.08602 0.10417 -0.09064 0.11302 -0.0992 C 0.11458 -0.10058 0.11788 -0.10382 0.11788 -0.10336 C 0.12031 -0.11515 0.12396 -0.12301 0.13056 -0.12925 C 0.13264 -0.1385 0.13542 -0.14035 0.14167 -0.14336 C 0.14705 -0.15122 0.15017 -0.15191 0.15746 -0.15492 C 0.20017 -0.21411 0.27483 -0.16347 0.33368 -0.16417 C 0.3474 -0.16671 0.36181 -0.1718 0.375 -0.17804 C 0.38142 -0.18104 0.38559 -0.18521 0.39253 -0.18752 C 0.40104 -0.19584 0.4033 -0.19769 0.41285 -0.20116 C 0.42014 -0.21157 0.43212 -0.21735 0.44167 -0.22243 C 0.4434 -0.22359 0.44444 -0.22567 0.44635 -0.22683 C 0.45521 -0.2333 0.46545 -0.23746 0.475 -0.24116 C 0.48368 -0.2481 0.49392 -0.25503 0.50365 -0.25943 C 0.51007 -0.2659 0.51753 -0.26937 0.52413 -0.27561 C 0.53038 -0.28162 0.53681 -0.2881 0.54323 -0.29411 C 0.54549 -0.29619 0.54757 -0.29896 0.54965 -0.30151 C 0.55295 -0.30567 0.5592 -0.31515 0.5592 -0.31469 C 0.5625 -0.32486 0.5625 -0.33526 0.56545 -0.34521 C 0.59028 -0.43099 0.57344 -0.39746 0.57344 -0.58197 E">
                                      <p:cBhvr>
                                        <p:cTn id="1905" dur="2000" fill="hold"/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7" dur="2000" fill="hold"/>
                                        <p:tgtEl>
                                          <p:spTgt spid="101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755640" y="1916280"/>
            <a:ext cx="431640" cy="431640"/>
          </a:xfrm>
          <a:prstGeom prst="ellipse">
            <a:avLst/>
          </a:prstGeom>
          <a:solidFill>
            <a:srgbClr val="bbe0e3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411280" y="2924280"/>
            <a:ext cx="4334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0" y="1171440"/>
            <a:ext cx="5219640" cy="5686560"/>
            <a:chOff x="0" y="1171440"/>
            <a:chExt cx="5219640" cy="5686560"/>
          </a:xfrm>
        </p:grpSpPr>
        <p:grpSp>
          <p:nvGrpSpPr>
            <p:cNvPr id="1032" name=""/>
            <p:cNvGrpSpPr/>
            <p:nvPr/>
          </p:nvGrpSpPr>
          <p:grpSpPr>
            <a:xfrm>
              <a:off x="0" y="1171440"/>
              <a:ext cx="5219640" cy="5686560"/>
              <a:chOff x="0" y="1171440"/>
              <a:chExt cx="5219640" cy="5686560"/>
            </a:xfrm>
          </p:grpSpPr>
          <p:grpSp>
            <p:nvGrpSpPr>
              <p:cNvPr id="1033" name=""/>
              <p:cNvGrpSpPr/>
              <p:nvPr/>
            </p:nvGrpSpPr>
            <p:grpSpPr>
              <a:xfrm>
                <a:off x="0" y="1171440"/>
                <a:ext cx="5219640" cy="5686560"/>
                <a:chOff x="0" y="1171440"/>
                <a:chExt cx="5219640" cy="5686560"/>
              </a:xfrm>
            </p:grpSpPr>
            <p:grpSp>
              <p:nvGrpSpPr>
                <p:cNvPr id="1034" name=""/>
                <p:cNvGrpSpPr/>
                <p:nvPr/>
              </p:nvGrpSpPr>
              <p:grpSpPr>
                <a:xfrm>
                  <a:off x="0" y="1171440"/>
                  <a:ext cx="5219640" cy="5686560"/>
                  <a:chOff x="0" y="1171440"/>
                  <a:chExt cx="5219640" cy="5686560"/>
                </a:xfrm>
              </p:grpSpPr>
              <p:pic>
                <p:nvPicPr>
                  <p:cNvPr id="1035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0" y="1171440"/>
                    <a:ext cx="512460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6" name=""/>
                  <p:cNvSpPr/>
                  <p:nvPr/>
                </p:nvSpPr>
                <p:spPr>
                  <a:xfrm>
                    <a:off x="2916360" y="1700280"/>
                    <a:ext cx="2303280" cy="1873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990033"/>
                        </a:solidFill>
                        <a:latin typeface="Comic Sans MS"/>
                      </a:rPr>
                      <a:t>Помогите!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7" name=""/>
                <p:cNvSpPr/>
                <p:nvPr/>
              </p:nvSpPr>
              <p:spPr>
                <a:xfrm>
                  <a:off x="1979640" y="3500280"/>
                  <a:ext cx="142920" cy="21600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"/>
              <p:cNvSpPr/>
              <p:nvPr/>
            </p:nvSpPr>
            <p:spPr>
              <a:xfrm>
                <a:off x="1908000" y="3500280"/>
                <a:ext cx="142920" cy="21600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>
              <a:off x="2124000" y="3213000"/>
              <a:ext cx="360360" cy="21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4787640" y="3500280"/>
            <a:ext cx="3230640" cy="2954160"/>
            <a:chOff x="4787640" y="3500280"/>
            <a:chExt cx="3230640" cy="2954160"/>
          </a:xfrm>
        </p:grpSpPr>
        <p:grpSp>
          <p:nvGrpSpPr>
            <p:cNvPr id="1041" name=""/>
            <p:cNvGrpSpPr/>
            <p:nvPr/>
          </p:nvGrpSpPr>
          <p:grpSpPr>
            <a:xfrm>
              <a:off x="4787640" y="3500280"/>
              <a:ext cx="1786320" cy="2890080"/>
              <a:chOff x="4787640" y="3500280"/>
              <a:chExt cx="1786320" cy="289008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4787640" y="3500280"/>
                <a:ext cx="1786320" cy="2890080"/>
                <a:chOff x="4787640" y="3500280"/>
                <a:chExt cx="1786320" cy="289008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5683320" y="5603400"/>
                  <a:ext cx="360" cy="66276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5058360" y="5198040"/>
                  <a:ext cx="1248840" cy="109872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5655240" y="5217480"/>
                  <a:ext cx="126000" cy="37440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895360" y="5207040"/>
                  <a:ext cx="340920" cy="37368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5157360" y="5198040"/>
                  <a:ext cx="276120" cy="39384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5252400" y="4667040"/>
                  <a:ext cx="836640" cy="55908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910480" y="4662000"/>
                  <a:ext cx="525600" cy="82836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181200" y="5198040"/>
                  <a:ext cx="267480" cy="29772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876920" y="4672440"/>
                  <a:ext cx="593280" cy="83700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914000" y="5217480"/>
                  <a:ext cx="298440" cy="26964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5430960" y="4595760"/>
                  <a:ext cx="224280" cy="247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H="1">
                  <a:off x="5655240" y="4595760"/>
                  <a:ext cx="221040" cy="247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5673600" y="5217480"/>
                  <a:ext cx="18720" cy="103500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661720" y="4771800"/>
                  <a:ext cx="2520" cy="41256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5184720" y="6142680"/>
                  <a:ext cx="1048680" cy="24768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8" name=""/>
                <p:cNvGrpSpPr/>
                <p:nvPr/>
              </p:nvGrpSpPr>
              <p:grpSpPr>
                <a:xfrm>
                  <a:off x="4787640" y="3500280"/>
                  <a:ext cx="1786320" cy="2171160"/>
                  <a:chOff x="4787640" y="3500280"/>
                  <a:chExt cx="1786320" cy="2171160"/>
                </a:xfrm>
              </p:grpSpPr>
              <p:sp>
                <p:nvSpPr>
                  <p:cNvPr id="1059" name=""/>
                  <p:cNvSpPr/>
                  <p:nvPr/>
                </p:nvSpPr>
                <p:spPr>
                  <a:xfrm>
                    <a:off x="5068080" y="3500280"/>
                    <a:ext cx="1189440" cy="789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6261120" y="5365800"/>
                    <a:ext cx="312840" cy="30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flipH="1">
                    <a:off x="4787280" y="5360760"/>
                    <a:ext cx="3135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169240" y="3780360"/>
                    <a:ext cx="1024200" cy="9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5535360" y="4421880"/>
                    <a:ext cx="3380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5646240" y="4455000"/>
                    <a:ext cx="140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5482800" y="4113720"/>
                    <a:ext cx="1872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5544360" y="4193640"/>
                    <a:ext cx="799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5480280" y="4135680"/>
                    <a:ext cx="1900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flipH="1">
                    <a:off x="5787000" y="4102560"/>
                    <a:ext cx="1872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flipH="1">
                    <a:off x="5833800" y="4182480"/>
                    <a:ext cx="792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flipH="1">
                    <a:off x="5787000" y="4127400"/>
                    <a:ext cx="190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5729040" y="4031280"/>
                    <a:ext cx="30384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5412600" y="4047480"/>
                    <a:ext cx="30996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5867280" y="4265280"/>
                    <a:ext cx="20628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5360400" y="4344480"/>
                    <a:ext cx="21816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5654880" y="4317480"/>
                <a:ext cx="128880" cy="468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588000" y="4180680"/>
              <a:ext cx="1430280" cy="2273760"/>
              <a:chOff x="6588000" y="4180680"/>
              <a:chExt cx="1430280" cy="2273760"/>
            </a:xfrm>
          </p:grpSpPr>
          <p:pic>
            <p:nvPicPr>
              <p:cNvPr id="10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88000" y="4221000"/>
                <a:ext cx="143028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>
                <a:off x="6818400" y="5575680"/>
                <a:ext cx="997560" cy="47412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70400" y="5515560"/>
                <a:ext cx="511200" cy="6732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7322040" y="4180680"/>
                <a:ext cx="491040" cy="441360"/>
                <a:chOff x="7322040" y="4180680"/>
                <a:chExt cx="491040" cy="441360"/>
              </a:xfrm>
            </p:grpSpPr>
            <p:sp>
              <p:nvSpPr>
                <p:cNvPr id="1081" name=""/>
                <p:cNvSpPr/>
                <p:nvPr/>
              </p:nvSpPr>
              <p:spPr>
                <a:xfrm rot="720600">
                  <a:off x="7354440" y="4221000"/>
                  <a:ext cx="425520" cy="3607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rot="720600">
                  <a:off x="7531560" y="4355640"/>
                  <a:ext cx="70560" cy="9000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6794640" y="4186800"/>
                <a:ext cx="438840" cy="519840"/>
                <a:chOff x="6794640" y="4186800"/>
                <a:chExt cx="438840" cy="519840"/>
              </a:xfrm>
            </p:grpSpPr>
            <p:sp>
              <p:nvSpPr>
                <p:cNvPr id="1084" name=""/>
                <p:cNvSpPr/>
                <p:nvPr/>
              </p:nvSpPr>
              <p:spPr>
                <a:xfrm rot="17028000">
                  <a:off x="6788160" y="4276080"/>
                  <a:ext cx="451440" cy="3409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rot="17028000">
                  <a:off x="6976080" y="4404600"/>
                  <a:ext cx="74880" cy="849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990033"/>
                </a:solidFill>
                <a:latin typeface="Comic Sans MS"/>
              </a:rPr>
              <a:t>Поможем Бабе-Я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0" y="2276640"/>
          <a:ext cx="8784720" cy="2376360"/>
        </p:xfrm>
        <a:graphic>
          <a:graphicData uri="http://schemas.openxmlformats.org/drawingml/2006/table">
            <a:tbl>
              <a:tblPr/>
              <a:tblGrid>
                <a:gridCol w="2927520"/>
                <a:gridCol w="2929320"/>
                <a:gridCol w="2927880"/>
              </a:tblGrid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ряд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9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 : 5 +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12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 ряд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6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8 + 4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25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)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 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0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 : 2 +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 : (11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88" name=""/>
          <p:cNvGrpSpPr/>
          <p:nvPr/>
        </p:nvGrpSpPr>
        <p:grpSpPr>
          <a:xfrm>
            <a:off x="2123640" y="4005360"/>
            <a:ext cx="2592360" cy="2377440"/>
            <a:chOff x="2123640" y="4005360"/>
            <a:chExt cx="2592360" cy="2377440"/>
          </a:xfrm>
        </p:grpSpPr>
        <p:grpSp>
          <p:nvGrpSpPr>
            <p:cNvPr id="1089" name=""/>
            <p:cNvGrpSpPr/>
            <p:nvPr/>
          </p:nvGrpSpPr>
          <p:grpSpPr>
            <a:xfrm>
              <a:off x="2123640" y="4005360"/>
              <a:ext cx="1433160" cy="2325960"/>
              <a:chOff x="2123640" y="4005360"/>
              <a:chExt cx="1433160" cy="2325960"/>
            </a:xfrm>
          </p:grpSpPr>
          <p:grpSp>
            <p:nvGrpSpPr>
              <p:cNvPr id="1090" name=""/>
              <p:cNvGrpSpPr/>
              <p:nvPr/>
            </p:nvGrpSpPr>
            <p:grpSpPr>
              <a:xfrm>
                <a:off x="2123640" y="4005360"/>
                <a:ext cx="1433160" cy="2325960"/>
                <a:chOff x="2123640" y="4005360"/>
                <a:chExt cx="1433160" cy="232596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2842200" y="5697720"/>
                  <a:ext cx="360" cy="53352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2341080" y="5371920"/>
                  <a:ext cx="1001880" cy="88416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819880" y="5387400"/>
                  <a:ext cx="101160" cy="30132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012480" y="5378760"/>
                  <a:ext cx="273600" cy="30060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2420280" y="5371920"/>
                  <a:ext cx="221400" cy="31680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2496600" y="4944240"/>
                  <a:ext cx="671400" cy="45000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024720" y="4940280"/>
                  <a:ext cx="421920" cy="66636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241800" y="5371920"/>
                  <a:ext cx="214560" cy="23940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195280" y="4948560"/>
                  <a:ext cx="475920" cy="67356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2225160" y="5387400"/>
                  <a:ext cx="239400" cy="21672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2639880" y="4887000"/>
                  <a:ext cx="180000" cy="19944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H="1">
                  <a:off x="2819880" y="4887000"/>
                  <a:ext cx="177120" cy="19944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2834640" y="5387400"/>
                  <a:ext cx="14760" cy="83268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2824920" y="5028480"/>
                  <a:ext cx="2160" cy="33192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2442240" y="6131880"/>
                  <a:ext cx="841320" cy="19944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6" name=""/>
                <p:cNvGrpSpPr/>
                <p:nvPr/>
              </p:nvGrpSpPr>
              <p:grpSpPr>
                <a:xfrm>
                  <a:off x="2123640" y="4005360"/>
                  <a:ext cx="1433160" cy="1747080"/>
                  <a:chOff x="2123640" y="4005360"/>
                  <a:chExt cx="1433160" cy="174708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2348640" y="4005360"/>
                    <a:ext cx="954360" cy="63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305880" y="5506560"/>
                    <a:ext cx="25092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2123280" y="5502600"/>
                    <a:ext cx="25164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430000" y="4230720"/>
                    <a:ext cx="821520" cy="76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2723400" y="4747320"/>
                    <a:ext cx="271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2812680" y="4773600"/>
                    <a:ext cx="11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2681640" y="4498920"/>
                    <a:ext cx="1504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2730960" y="4563360"/>
                    <a:ext cx="640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2679480" y="4516560"/>
                    <a:ext cx="1526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 flipH="1">
                    <a:off x="2925360" y="4489920"/>
                    <a:ext cx="1504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 flipH="1">
                    <a:off x="2962440" y="4554360"/>
                    <a:ext cx="637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H="1">
                    <a:off x="2924640" y="4510080"/>
                    <a:ext cx="1530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878920" y="4432680"/>
                    <a:ext cx="243720" cy="22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625120" y="4445640"/>
                    <a:ext cx="24876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989800" y="4620960"/>
                    <a:ext cx="1652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583000" y="4684680"/>
                    <a:ext cx="17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23" name=""/>
              <p:cNvSpPr/>
              <p:nvPr/>
            </p:nvSpPr>
            <p:spPr>
              <a:xfrm>
                <a:off x="2819520" y="4663080"/>
                <a:ext cx="103320" cy="3744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3568320" y="4552920"/>
              <a:ext cx="1147680" cy="1829880"/>
              <a:chOff x="3568320" y="4552920"/>
              <a:chExt cx="1147680" cy="1829880"/>
            </a:xfrm>
          </p:grpSpPr>
          <p:pic>
            <p:nvPicPr>
              <p:cNvPr id="112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68320" y="4585320"/>
                <a:ext cx="1147680" cy="179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6" name=""/>
              <p:cNvSpPr/>
              <p:nvPr/>
            </p:nvSpPr>
            <p:spPr>
              <a:xfrm>
                <a:off x="3753360" y="5675400"/>
                <a:ext cx="800280" cy="38124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955320" y="5627160"/>
                <a:ext cx="410040" cy="5400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8" name=""/>
              <p:cNvGrpSpPr/>
              <p:nvPr/>
            </p:nvGrpSpPr>
            <p:grpSpPr>
              <a:xfrm>
                <a:off x="4156560" y="4552920"/>
                <a:ext cx="394560" cy="355320"/>
                <a:chOff x="4156560" y="4552920"/>
                <a:chExt cx="394560" cy="355320"/>
              </a:xfrm>
            </p:grpSpPr>
            <p:sp>
              <p:nvSpPr>
                <p:cNvPr id="1129" name=""/>
                <p:cNvSpPr/>
                <p:nvPr/>
              </p:nvSpPr>
              <p:spPr>
                <a:xfrm rot="720600">
                  <a:off x="4182840" y="4584960"/>
                  <a:ext cx="341640" cy="2905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720600">
                  <a:off x="4325400" y="4694040"/>
                  <a:ext cx="56880" cy="723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3733920" y="4557600"/>
                <a:ext cx="352080" cy="417960"/>
                <a:chOff x="3733920" y="4557600"/>
                <a:chExt cx="352080" cy="417960"/>
              </a:xfrm>
            </p:grpSpPr>
            <p:sp>
              <p:nvSpPr>
                <p:cNvPr id="1132" name=""/>
                <p:cNvSpPr/>
                <p:nvPr/>
              </p:nvSpPr>
              <p:spPr>
                <a:xfrm rot="17028000">
                  <a:off x="3728160" y="4629960"/>
                  <a:ext cx="363240" cy="27324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17028000">
                  <a:off x="3879000" y="4732560"/>
                  <a:ext cx="604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34" name=""/>
          <p:cNvSpPr txBox="1"/>
          <p:nvPr/>
        </p:nvSpPr>
        <p:spPr>
          <a:xfrm>
            <a:off x="2556000" y="2924280"/>
            <a:ext cx="50328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1763640" y="3429000"/>
            <a:ext cx="6494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5219640" y="3429000"/>
            <a:ext cx="57636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5364000" y="2924280"/>
            <a:ext cx="64800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8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8028000" y="3429000"/>
            <a:ext cx="5047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8640720" y="2924280"/>
            <a:ext cx="50328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84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990033"/>
                </a:solidFill>
                <a:latin typeface="Comic Sans MS"/>
              </a:rPr>
              <a:t>Провер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3"/>
          <a:stretch/>
        </p:blipFill>
        <p:spPr>
          <a:xfrm>
            <a:off x="5940360" y="4292640"/>
            <a:ext cx="1754280" cy="2179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3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8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3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8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3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94920" y="47592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Литр  топлива для ступы стоит 6 рублей. Сколько денег надо уплатить ребятам за 7 литров топли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7093080" y="3645000"/>
            <a:ext cx="1737720" cy="2900160"/>
            <a:chOff x="7093080" y="3645000"/>
            <a:chExt cx="1737720" cy="2900160"/>
          </a:xfrm>
        </p:grpSpPr>
        <p:pic>
          <p:nvPicPr>
            <p:cNvPr id="1145" name="" descr=""/>
            <p:cNvPicPr/>
            <p:nvPr/>
          </p:nvPicPr>
          <p:blipFill>
            <a:blip r:embed="rId1"/>
            <a:stretch/>
          </p:blipFill>
          <p:spPr>
            <a:xfrm>
              <a:off x="7093080" y="4653000"/>
              <a:ext cx="1737720" cy="189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6" name=""/>
            <p:cNvGrpSpPr/>
            <p:nvPr/>
          </p:nvGrpSpPr>
          <p:grpSpPr>
            <a:xfrm>
              <a:off x="7420680" y="3645000"/>
              <a:ext cx="1397160" cy="1511280"/>
              <a:chOff x="7420680" y="3645000"/>
              <a:chExt cx="1397160" cy="1511280"/>
            </a:xfrm>
          </p:grpSpPr>
          <p:grpSp>
            <p:nvGrpSpPr>
              <p:cNvPr id="1147" name=""/>
              <p:cNvGrpSpPr/>
              <p:nvPr/>
            </p:nvGrpSpPr>
            <p:grpSpPr>
              <a:xfrm>
                <a:off x="7420680" y="3645000"/>
                <a:ext cx="772920" cy="1478520"/>
                <a:chOff x="7420680" y="3645000"/>
                <a:chExt cx="772920" cy="1478520"/>
              </a:xfrm>
            </p:grpSpPr>
            <p:grpSp>
              <p:nvGrpSpPr>
                <p:cNvPr id="1148" name=""/>
                <p:cNvGrpSpPr/>
                <p:nvPr/>
              </p:nvGrpSpPr>
              <p:grpSpPr>
                <a:xfrm>
                  <a:off x="7420680" y="3645000"/>
                  <a:ext cx="772920" cy="1478520"/>
                  <a:chOff x="7420680" y="3645000"/>
                  <a:chExt cx="772920" cy="147852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7808400" y="4721040"/>
                    <a:ext cx="360" cy="33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6">
                        <a:moveTo>
                          <a:pt x="0" y="0"/>
                        </a:moveTo>
                        <a:lnTo>
                          <a:pt x="0" y="25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7538040" y="4513680"/>
                    <a:ext cx="540360" cy="56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68" h="423">
                        <a:moveTo>
                          <a:pt x="79" y="8"/>
                        </a:moveTo>
                        <a:cubicBezTo>
                          <a:pt x="118" y="0"/>
                          <a:pt x="265" y="8"/>
                          <a:pt x="313" y="8"/>
                        </a:cubicBezTo>
                        <a:cubicBezTo>
                          <a:pt x="361" y="8"/>
                          <a:pt x="355" y="5"/>
                          <a:pt x="367" y="8"/>
                        </a:cubicBezTo>
                        <a:cubicBezTo>
                          <a:pt x="379" y="11"/>
                          <a:pt x="377" y="15"/>
                          <a:pt x="385" y="28"/>
                        </a:cubicBezTo>
                        <a:cubicBezTo>
                          <a:pt x="393" y="41"/>
                          <a:pt x="409" y="67"/>
                          <a:pt x="417" y="84"/>
                        </a:cubicBezTo>
                        <a:cubicBezTo>
                          <a:pt x="425" y="101"/>
                          <a:pt x="425" y="113"/>
                          <a:pt x="433" y="132"/>
                        </a:cubicBezTo>
                        <a:cubicBezTo>
                          <a:pt x="441" y="151"/>
                          <a:pt x="458" y="173"/>
                          <a:pt x="463" y="200"/>
                        </a:cubicBezTo>
                        <a:cubicBezTo>
                          <a:pt x="468" y="227"/>
                          <a:pt x="467" y="271"/>
                          <a:pt x="463" y="296"/>
                        </a:cubicBezTo>
                        <a:cubicBezTo>
                          <a:pt x="459" y="321"/>
                          <a:pt x="443" y="330"/>
                          <a:pt x="437" y="348"/>
                        </a:cubicBezTo>
                        <a:cubicBezTo>
                          <a:pt x="431" y="366"/>
                          <a:pt x="431" y="392"/>
                          <a:pt x="429" y="404"/>
                        </a:cubicBezTo>
                        <a:cubicBezTo>
                          <a:pt x="427" y="416"/>
                          <a:pt x="431" y="423"/>
                          <a:pt x="425" y="420"/>
                        </a:cubicBezTo>
                        <a:cubicBezTo>
                          <a:pt x="419" y="417"/>
                          <a:pt x="402" y="396"/>
                          <a:pt x="393" y="388"/>
                        </a:cubicBezTo>
                        <a:cubicBezTo>
                          <a:pt x="384" y="380"/>
                          <a:pt x="382" y="377"/>
                          <a:pt x="369" y="372"/>
                        </a:cubicBezTo>
                        <a:cubicBezTo>
                          <a:pt x="356" y="367"/>
                          <a:pt x="333" y="359"/>
                          <a:pt x="317" y="360"/>
                        </a:cubicBezTo>
                        <a:cubicBezTo>
                          <a:pt x="301" y="361"/>
                          <a:pt x="286" y="372"/>
                          <a:pt x="273" y="380"/>
                        </a:cubicBezTo>
                        <a:cubicBezTo>
                          <a:pt x="260" y="388"/>
                          <a:pt x="245" y="406"/>
                          <a:pt x="237" y="408"/>
                        </a:cubicBezTo>
                        <a:cubicBezTo>
                          <a:pt x="229" y="410"/>
                          <a:pt x="235" y="399"/>
                          <a:pt x="223" y="392"/>
                        </a:cubicBezTo>
                        <a:cubicBezTo>
                          <a:pt x="211" y="385"/>
                          <a:pt x="185" y="372"/>
                          <a:pt x="165" y="368"/>
                        </a:cubicBezTo>
                        <a:cubicBezTo>
                          <a:pt x="145" y="364"/>
                          <a:pt x="120" y="363"/>
                          <a:pt x="105" y="368"/>
                        </a:cubicBezTo>
                        <a:cubicBezTo>
                          <a:pt x="90" y="373"/>
                          <a:pt x="82" y="393"/>
                          <a:pt x="73" y="400"/>
                        </a:cubicBezTo>
                        <a:cubicBezTo>
                          <a:pt x="64" y="407"/>
                          <a:pt x="56" y="413"/>
                          <a:pt x="49" y="412"/>
                        </a:cubicBezTo>
                        <a:cubicBezTo>
                          <a:pt x="42" y="411"/>
                          <a:pt x="37" y="404"/>
                          <a:pt x="31" y="392"/>
                        </a:cubicBezTo>
                        <a:cubicBezTo>
                          <a:pt x="25" y="380"/>
                          <a:pt x="18" y="360"/>
                          <a:pt x="13" y="340"/>
                        </a:cubicBezTo>
                        <a:cubicBezTo>
                          <a:pt x="8" y="320"/>
                          <a:pt x="2" y="293"/>
                          <a:pt x="1" y="272"/>
                        </a:cubicBezTo>
                        <a:cubicBezTo>
                          <a:pt x="0" y="251"/>
                          <a:pt x="0" y="232"/>
                          <a:pt x="5" y="212"/>
                        </a:cubicBezTo>
                        <a:cubicBezTo>
                          <a:pt x="10" y="192"/>
                          <a:pt x="22" y="171"/>
                          <a:pt x="31" y="152"/>
                        </a:cubicBezTo>
                        <a:cubicBezTo>
                          <a:pt x="40" y="133"/>
                          <a:pt x="49" y="124"/>
                          <a:pt x="57" y="100"/>
                        </a:cubicBezTo>
                        <a:cubicBezTo>
                          <a:pt x="65" y="76"/>
                          <a:pt x="75" y="27"/>
                          <a:pt x="79" y="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cc"/>
                      </a:gs>
                      <a:gs pos="50000">
                        <a:srgbClr val="000099"/>
                      </a:gs>
                      <a:gs pos="100000">
                        <a:srgbClr val="0066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796160" y="4523400"/>
                    <a:ext cx="5436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4">
                        <a:moveTo>
                          <a:pt x="0" y="0"/>
                        </a:moveTo>
                        <a:lnTo>
                          <a:pt x="48" y="0"/>
                        </a:lnTo>
                        <a:lnTo>
                          <a:pt x="48" y="144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7899840" y="4518000"/>
                    <a:ext cx="1472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44">
                        <a:moveTo>
                          <a:pt x="127" y="133"/>
                        </a:moveTo>
                        <a:lnTo>
                          <a:pt x="128" y="144"/>
                        </a:lnTo>
                        <a:lnTo>
                          <a:pt x="0" y="4"/>
                        </a:lnTo>
                        <a:lnTo>
                          <a:pt x="60" y="0"/>
                        </a:lnTo>
                        <a:lnTo>
                          <a:pt x="127" y="13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580880" y="4513680"/>
                    <a:ext cx="11916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52">
                        <a:moveTo>
                          <a:pt x="0" y="152"/>
                        </a:moveTo>
                        <a:lnTo>
                          <a:pt x="8" y="136"/>
                        </a:lnTo>
                        <a:lnTo>
                          <a:pt x="44" y="0"/>
                        </a:lnTo>
                        <a:lnTo>
                          <a:pt x="104" y="8"/>
                        </a:lnTo>
                        <a:lnTo>
                          <a:pt x="0" y="15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7621920" y="4241880"/>
                    <a:ext cx="36180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15">
                        <a:moveTo>
                          <a:pt x="6" y="212"/>
                        </a:moveTo>
                        <a:cubicBezTo>
                          <a:pt x="13" y="215"/>
                          <a:pt x="1" y="209"/>
                          <a:pt x="44" y="208"/>
                        </a:cubicBezTo>
                        <a:cubicBezTo>
                          <a:pt x="87" y="207"/>
                          <a:pt x="221" y="205"/>
                          <a:pt x="264" y="204"/>
                        </a:cubicBezTo>
                        <a:cubicBezTo>
                          <a:pt x="307" y="203"/>
                          <a:pt x="296" y="213"/>
                          <a:pt x="304" y="204"/>
                        </a:cubicBezTo>
                        <a:cubicBezTo>
                          <a:pt x="312" y="195"/>
                          <a:pt x="311" y="171"/>
                          <a:pt x="312" y="152"/>
                        </a:cubicBezTo>
                        <a:cubicBezTo>
                          <a:pt x="313" y="133"/>
                          <a:pt x="313" y="111"/>
                          <a:pt x="308" y="92"/>
                        </a:cubicBezTo>
                        <a:cubicBezTo>
                          <a:pt x="303" y="73"/>
                          <a:pt x="294" y="52"/>
                          <a:pt x="284" y="40"/>
                        </a:cubicBezTo>
                        <a:cubicBezTo>
                          <a:pt x="274" y="28"/>
                          <a:pt x="261" y="26"/>
                          <a:pt x="248" y="20"/>
                        </a:cubicBezTo>
                        <a:cubicBezTo>
                          <a:pt x="235" y="14"/>
                          <a:pt x="219" y="0"/>
                          <a:pt x="204" y="4"/>
                        </a:cubicBezTo>
                        <a:cubicBezTo>
                          <a:pt x="189" y="8"/>
                          <a:pt x="169" y="37"/>
                          <a:pt x="160" y="44"/>
                        </a:cubicBezTo>
                        <a:cubicBezTo>
                          <a:pt x="151" y="51"/>
                          <a:pt x="161" y="50"/>
                          <a:pt x="152" y="44"/>
                        </a:cubicBezTo>
                        <a:cubicBezTo>
                          <a:pt x="143" y="38"/>
                          <a:pt x="120" y="13"/>
                          <a:pt x="108" y="8"/>
                        </a:cubicBezTo>
                        <a:cubicBezTo>
                          <a:pt x="96" y="3"/>
                          <a:pt x="91" y="9"/>
                          <a:pt x="80" y="16"/>
                        </a:cubicBezTo>
                        <a:cubicBezTo>
                          <a:pt x="69" y="23"/>
                          <a:pt x="55" y="37"/>
                          <a:pt x="44" y="48"/>
                        </a:cubicBezTo>
                        <a:cubicBezTo>
                          <a:pt x="33" y="59"/>
                          <a:pt x="22" y="73"/>
                          <a:pt x="16" y="84"/>
                        </a:cubicBezTo>
                        <a:cubicBezTo>
                          <a:pt x="10" y="95"/>
                          <a:pt x="8" y="103"/>
                          <a:pt x="6" y="116"/>
                        </a:cubicBezTo>
                        <a:cubicBezTo>
                          <a:pt x="4" y="129"/>
                          <a:pt x="7" y="151"/>
                          <a:pt x="6" y="164"/>
                        </a:cubicBezTo>
                        <a:cubicBezTo>
                          <a:pt x="5" y="177"/>
                          <a:pt x="0" y="184"/>
                          <a:pt x="0" y="192"/>
                        </a:cubicBezTo>
                        <a:cubicBezTo>
                          <a:pt x="0" y="200"/>
                          <a:pt x="2" y="209"/>
                          <a:pt x="6" y="212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7906680" y="4239360"/>
                    <a:ext cx="227160" cy="42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320">
                        <a:moveTo>
                          <a:pt x="0" y="23"/>
                        </a:moveTo>
                        <a:cubicBezTo>
                          <a:pt x="8" y="16"/>
                          <a:pt x="48" y="0"/>
                          <a:pt x="74" y="7"/>
                        </a:cubicBezTo>
                        <a:cubicBezTo>
                          <a:pt x="100" y="14"/>
                          <a:pt x="139" y="46"/>
                          <a:pt x="154" y="67"/>
                        </a:cubicBezTo>
                        <a:cubicBezTo>
                          <a:pt x="169" y="88"/>
                          <a:pt x="163" y="116"/>
                          <a:pt x="166" y="135"/>
                        </a:cubicBezTo>
                        <a:cubicBezTo>
                          <a:pt x="169" y="154"/>
                          <a:pt x="168" y="161"/>
                          <a:pt x="170" y="179"/>
                        </a:cubicBezTo>
                        <a:cubicBezTo>
                          <a:pt x="172" y="197"/>
                          <a:pt x="174" y="229"/>
                          <a:pt x="178" y="243"/>
                        </a:cubicBezTo>
                        <a:cubicBezTo>
                          <a:pt x="182" y="257"/>
                          <a:pt x="198" y="252"/>
                          <a:pt x="192" y="263"/>
                        </a:cubicBezTo>
                        <a:cubicBezTo>
                          <a:pt x="186" y="274"/>
                          <a:pt x="156" y="302"/>
                          <a:pt x="144" y="311"/>
                        </a:cubicBezTo>
                        <a:cubicBezTo>
                          <a:pt x="132" y="320"/>
                          <a:pt x="126" y="319"/>
                          <a:pt x="118" y="315"/>
                        </a:cubicBezTo>
                        <a:cubicBezTo>
                          <a:pt x="110" y="311"/>
                          <a:pt x="108" y="303"/>
                          <a:pt x="98" y="287"/>
                        </a:cubicBezTo>
                        <a:cubicBezTo>
                          <a:pt x="88" y="271"/>
                          <a:pt x="63" y="236"/>
                          <a:pt x="58" y="219"/>
                        </a:cubicBezTo>
                        <a:cubicBezTo>
                          <a:pt x="53" y="202"/>
                          <a:pt x="65" y="199"/>
                          <a:pt x="66" y="183"/>
                        </a:cubicBezTo>
                        <a:cubicBezTo>
                          <a:pt x="67" y="167"/>
                          <a:pt x="69" y="142"/>
                          <a:pt x="66" y="123"/>
                        </a:cubicBezTo>
                        <a:cubicBezTo>
                          <a:pt x="63" y="104"/>
                          <a:pt x="53" y="85"/>
                          <a:pt x="48" y="71"/>
                        </a:cubicBezTo>
                        <a:cubicBezTo>
                          <a:pt x="43" y="57"/>
                          <a:pt x="42" y="47"/>
                          <a:pt x="34" y="39"/>
                        </a:cubicBezTo>
                        <a:cubicBezTo>
                          <a:pt x="26" y="31"/>
                          <a:pt x="7" y="26"/>
                          <a:pt x="0" y="23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8023680" y="4513680"/>
                    <a:ext cx="115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16">
                        <a:moveTo>
                          <a:pt x="76" y="4"/>
                        </a:moveTo>
                        <a:lnTo>
                          <a:pt x="76" y="0"/>
                        </a:lnTo>
                        <a:lnTo>
                          <a:pt x="100" y="56"/>
                        </a:lnTo>
                        <a:lnTo>
                          <a:pt x="28" y="116"/>
                        </a:lnTo>
                        <a:lnTo>
                          <a:pt x="0" y="80"/>
                        </a:lnTo>
                        <a:lnTo>
                          <a:pt x="76" y="4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7459560" y="4244760"/>
                    <a:ext cx="25668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322">
                        <a:moveTo>
                          <a:pt x="221" y="24"/>
                        </a:moveTo>
                        <a:cubicBezTo>
                          <a:pt x="222" y="15"/>
                          <a:pt x="202" y="4"/>
                          <a:pt x="185" y="2"/>
                        </a:cubicBezTo>
                        <a:cubicBezTo>
                          <a:pt x="168" y="0"/>
                          <a:pt x="144" y="0"/>
                          <a:pt x="121" y="10"/>
                        </a:cubicBezTo>
                        <a:cubicBezTo>
                          <a:pt x="98" y="20"/>
                          <a:pt x="61" y="40"/>
                          <a:pt x="47" y="60"/>
                        </a:cubicBezTo>
                        <a:cubicBezTo>
                          <a:pt x="33" y="80"/>
                          <a:pt x="38" y="109"/>
                          <a:pt x="35" y="128"/>
                        </a:cubicBezTo>
                        <a:cubicBezTo>
                          <a:pt x="32" y="147"/>
                          <a:pt x="33" y="154"/>
                          <a:pt x="31" y="172"/>
                        </a:cubicBezTo>
                        <a:cubicBezTo>
                          <a:pt x="29" y="190"/>
                          <a:pt x="27" y="222"/>
                          <a:pt x="23" y="236"/>
                        </a:cubicBezTo>
                        <a:cubicBezTo>
                          <a:pt x="19" y="250"/>
                          <a:pt x="0" y="246"/>
                          <a:pt x="9" y="256"/>
                        </a:cubicBezTo>
                        <a:cubicBezTo>
                          <a:pt x="18" y="266"/>
                          <a:pt x="59" y="288"/>
                          <a:pt x="77" y="298"/>
                        </a:cubicBezTo>
                        <a:cubicBezTo>
                          <a:pt x="95" y="308"/>
                          <a:pt x="109" y="322"/>
                          <a:pt x="117" y="318"/>
                        </a:cubicBezTo>
                        <a:cubicBezTo>
                          <a:pt x="125" y="314"/>
                          <a:pt x="121" y="292"/>
                          <a:pt x="125" y="274"/>
                        </a:cubicBezTo>
                        <a:cubicBezTo>
                          <a:pt x="129" y="256"/>
                          <a:pt x="140" y="228"/>
                          <a:pt x="143" y="212"/>
                        </a:cubicBezTo>
                        <a:cubicBezTo>
                          <a:pt x="146" y="196"/>
                          <a:pt x="145" y="189"/>
                          <a:pt x="145" y="178"/>
                        </a:cubicBezTo>
                        <a:cubicBezTo>
                          <a:pt x="145" y="167"/>
                          <a:pt x="143" y="164"/>
                          <a:pt x="145" y="148"/>
                        </a:cubicBezTo>
                        <a:cubicBezTo>
                          <a:pt x="147" y="132"/>
                          <a:pt x="154" y="97"/>
                          <a:pt x="157" y="84"/>
                        </a:cubicBezTo>
                        <a:cubicBezTo>
                          <a:pt x="160" y="71"/>
                          <a:pt x="161" y="77"/>
                          <a:pt x="165" y="72"/>
                        </a:cubicBezTo>
                        <a:cubicBezTo>
                          <a:pt x="169" y="67"/>
                          <a:pt x="172" y="64"/>
                          <a:pt x="181" y="56"/>
                        </a:cubicBezTo>
                        <a:cubicBezTo>
                          <a:pt x="190" y="48"/>
                          <a:pt x="213" y="31"/>
                          <a:pt x="221" y="24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475400" y="4523400"/>
                    <a:ext cx="1288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04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0" y="44"/>
                        </a:lnTo>
                        <a:lnTo>
                          <a:pt x="100" y="104"/>
                        </a:lnTo>
                        <a:lnTo>
                          <a:pt x="112" y="64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7698960" y="4205520"/>
                    <a:ext cx="9684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6">
                        <a:moveTo>
                          <a:pt x="40" y="0"/>
                        </a:moveTo>
                        <a:cubicBezTo>
                          <a:pt x="34" y="12"/>
                          <a:pt x="43" y="12"/>
                          <a:pt x="28" y="12"/>
                        </a:cubicBezTo>
                        <a:lnTo>
                          <a:pt x="0" y="28"/>
                        </a:lnTo>
                        <a:lnTo>
                          <a:pt x="56" y="96"/>
                        </a:lnTo>
                        <a:lnTo>
                          <a:pt x="84" y="60"/>
                        </a:lnTo>
                        <a:lnTo>
                          <a:pt x="32" y="8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 flipH="1">
                    <a:off x="7795440" y="4205520"/>
                    <a:ext cx="9540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6">
                        <a:moveTo>
                          <a:pt x="40" y="0"/>
                        </a:moveTo>
                        <a:cubicBezTo>
                          <a:pt x="34" y="12"/>
                          <a:pt x="43" y="12"/>
                          <a:pt x="28" y="12"/>
                        </a:cubicBezTo>
                        <a:lnTo>
                          <a:pt x="0" y="28"/>
                        </a:lnTo>
                        <a:lnTo>
                          <a:pt x="56" y="96"/>
                        </a:lnTo>
                        <a:lnTo>
                          <a:pt x="84" y="60"/>
                        </a:lnTo>
                        <a:lnTo>
                          <a:pt x="32" y="8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7804080" y="4523400"/>
                    <a:ext cx="792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00">
                        <a:moveTo>
                          <a:pt x="0" y="0"/>
                        </a:moveTo>
                        <a:lnTo>
                          <a:pt x="8" y="40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7799040" y="4295520"/>
                    <a:ext cx="108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0">
                        <a:moveTo>
                          <a:pt x="0" y="0"/>
                        </a:moveTo>
                        <a:lnTo>
                          <a:pt x="0" y="16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7592400" y="4996800"/>
                    <a:ext cx="45360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95">
                        <a:moveTo>
                          <a:pt x="10" y="49"/>
                        </a:moveTo>
                        <a:cubicBezTo>
                          <a:pt x="0" y="62"/>
                          <a:pt x="3" y="80"/>
                          <a:pt x="11" y="86"/>
                        </a:cubicBezTo>
                        <a:cubicBezTo>
                          <a:pt x="19" y="92"/>
                          <a:pt x="31" y="86"/>
                          <a:pt x="59" y="86"/>
                        </a:cubicBezTo>
                        <a:cubicBezTo>
                          <a:pt x="87" y="86"/>
                          <a:pt x="136" y="88"/>
                          <a:pt x="181" y="88"/>
                        </a:cubicBezTo>
                        <a:cubicBezTo>
                          <a:pt x="226" y="88"/>
                          <a:pt x="304" y="95"/>
                          <a:pt x="328" y="88"/>
                        </a:cubicBezTo>
                        <a:cubicBezTo>
                          <a:pt x="352" y="81"/>
                          <a:pt x="339" y="58"/>
                          <a:pt x="325" y="43"/>
                        </a:cubicBezTo>
                        <a:cubicBezTo>
                          <a:pt x="311" y="28"/>
                          <a:pt x="268" y="2"/>
                          <a:pt x="244" y="1"/>
                        </a:cubicBezTo>
                        <a:cubicBezTo>
                          <a:pt x="220" y="0"/>
                          <a:pt x="191" y="26"/>
                          <a:pt x="181" y="40"/>
                        </a:cubicBezTo>
                        <a:cubicBezTo>
                          <a:pt x="171" y="54"/>
                          <a:pt x="191" y="86"/>
                          <a:pt x="187" y="85"/>
                        </a:cubicBezTo>
                        <a:cubicBezTo>
                          <a:pt x="183" y="84"/>
                          <a:pt x="173" y="47"/>
                          <a:pt x="154" y="34"/>
                        </a:cubicBezTo>
                        <a:cubicBezTo>
                          <a:pt x="135" y="21"/>
                          <a:pt x="94" y="4"/>
                          <a:pt x="70" y="7"/>
                        </a:cubicBezTo>
                        <a:cubicBezTo>
                          <a:pt x="46" y="10"/>
                          <a:pt x="20" y="36"/>
                          <a:pt x="10" y="49"/>
                        </a:cubicBez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4" name=""/>
                  <p:cNvGrpSpPr/>
                  <p:nvPr/>
                </p:nvGrpSpPr>
                <p:grpSpPr>
                  <a:xfrm>
                    <a:off x="7420680" y="3645000"/>
                    <a:ext cx="772920" cy="1110600"/>
                    <a:chOff x="7420680" y="3645000"/>
                    <a:chExt cx="772920" cy="1110600"/>
                  </a:xfrm>
                </p:grpSpPr>
                <p:sp>
                  <p:nvSpPr>
                    <p:cNvPr id="1165" name=""/>
                    <p:cNvSpPr/>
                    <p:nvPr/>
                  </p:nvSpPr>
                  <p:spPr>
                    <a:xfrm>
                      <a:off x="7542000" y="3645000"/>
                      <a:ext cx="514440" cy="40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301">
                          <a:moveTo>
                            <a:pt x="378" y="286"/>
                          </a:moveTo>
                          <a:cubicBezTo>
                            <a:pt x="381" y="275"/>
                            <a:pt x="398" y="234"/>
                            <a:pt x="399" y="220"/>
                          </a:cubicBezTo>
                          <a:cubicBezTo>
                            <a:pt x="400" y="206"/>
                            <a:pt x="386" y="211"/>
                            <a:pt x="384" y="202"/>
                          </a:cubicBezTo>
                          <a:cubicBezTo>
                            <a:pt x="382" y="193"/>
                            <a:pt x="391" y="174"/>
                            <a:pt x="387" y="166"/>
                          </a:cubicBezTo>
                          <a:cubicBezTo>
                            <a:pt x="383" y="158"/>
                            <a:pt x="363" y="158"/>
                            <a:pt x="360" y="151"/>
                          </a:cubicBezTo>
                          <a:cubicBezTo>
                            <a:pt x="357" y="144"/>
                            <a:pt x="367" y="125"/>
                            <a:pt x="366" y="121"/>
                          </a:cubicBezTo>
                          <a:cubicBezTo>
                            <a:pt x="365" y="117"/>
                            <a:pt x="363" y="133"/>
                            <a:pt x="351" y="124"/>
                          </a:cubicBezTo>
                          <a:cubicBezTo>
                            <a:pt x="339" y="115"/>
                            <a:pt x="308" y="77"/>
                            <a:pt x="294" y="67"/>
                          </a:cubicBezTo>
                          <a:cubicBezTo>
                            <a:pt x="280" y="57"/>
                            <a:pt x="275" y="66"/>
                            <a:pt x="267" y="64"/>
                          </a:cubicBezTo>
                          <a:cubicBezTo>
                            <a:pt x="259" y="62"/>
                            <a:pt x="248" y="59"/>
                            <a:pt x="247" y="53"/>
                          </a:cubicBezTo>
                          <a:cubicBezTo>
                            <a:pt x="246" y="47"/>
                            <a:pt x="255" y="32"/>
                            <a:pt x="261" y="28"/>
                          </a:cubicBezTo>
                          <a:cubicBezTo>
                            <a:pt x="267" y="24"/>
                            <a:pt x="282" y="35"/>
                            <a:pt x="282" y="31"/>
                          </a:cubicBezTo>
                          <a:cubicBezTo>
                            <a:pt x="282" y="27"/>
                            <a:pt x="273" y="0"/>
                            <a:pt x="264" y="1"/>
                          </a:cubicBezTo>
                          <a:cubicBezTo>
                            <a:pt x="255" y="2"/>
                            <a:pt x="235" y="31"/>
                            <a:pt x="228" y="40"/>
                          </a:cubicBezTo>
                          <a:cubicBezTo>
                            <a:pt x="221" y="49"/>
                            <a:pt x="225" y="60"/>
                            <a:pt x="219" y="55"/>
                          </a:cubicBezTo>
                          <a:cubicBezTo>
                            <a:pt x="213" y="50"/>
                            <a:pt x="197" y="15"/>
                            <a:pt x="192" y="10"/>
                          </a:cubicBezTo>
                          <a:cubicBezTo>
                            <a:pt x="187" y="5"/>
                            <a:pt x="184" y="15"/>
                            <a:pt x="186" y="22"/>
                          </a:cubicBezTo>
                          <a:cubicBezTo>
                            <a:pt x="188" y="29"/>
                            <a:pt x="208" y="57"/>
                            <a:pt x="204" y="55"/>
                          </a:cubicBezTo>
                          <a:cubicBezTo>
                            <a:pt x="200" y="53"/>
                            <a:pt x="172" y="17"/>
                            <a:pt x="162" y="10"/>
                          </a:cubicBezTo>
                          <a:cubicBezTo>
                            <a:pt x="152" y="3"/>
                            <a:pt x="151" y="15"/>
                            <a:pt x="144" y="16"/>
                          </a:cubicBezTo>
                          <a:cubicBezTo>
                            <a:pt x="137" y="17"/>
                            <a:pt x="125" y="16"/>
                            <a:pt x="120" y="19"/>
                          </a:cubicBezTo>
                          <a:cubicBezTo>
                            <a:pt x="115" y="22"/>
                            <a:pt x="110" y="31"/>
                            <a:pt x="114" y="34"/>
                          </a:cubicBezTo>
                          <a:cubicBezTo>
                            <a:pt x="118" y="37"/>
                            <a:pt x="140" y="33"/>
                            <a:pt x="147" y="37"/>
                          </a:cubicBezTo>
                          <a:cubicBezTo>
                            <a:pt x="154" y="41"/>
                            <a:pt x="163" y="55"/>
                            <a:pt x="159" y="58"/>
                          </a:cubicBezTo>
                          <a:cubicBezTo>
                            <a:pt x="155" y="61"/>
                            <a:pt x="133" y="53"/>
                            <a:pt x="126" y="55"/>
                          </a:cubicBezTo>
                          <a:cubicBezTo>
                            <a:pt x="119" y="57"/>
                            <a:pt x="119" y="69"/>
                            <a:pt x="114" y="73"/>
                          </a:cubicBezTo>
                          <a:cubicBezTo>
                            <a:pt x="109" y="77"/>
                            <a:pt x="100" y="76"/>
                            <a:pt x="93" y="79"/>
                          </a:cubicBezTo>
                          <a:cubicBezTo>
                            <a:pt x="86" y="82"/>
                            <a:pt x="79" y="89"/>
                            <a:pt x="72" y="94"/>
                          </a:cubicBezTo>
                          <a:cubicBezTo>
                            <a:pt x="65" y="99"/>
                            <a:pt x="56" y="101"/>
                            <a:pt x="54" y="106"/>
                          </a:cubicBezTo>
                          <a:cubicBezTo>
                            <a:pt x="52" y="111"/>
                            <a:pt x="61" y="118"/>
                            <a:pt x="60" y="124"/>
                          </a:cubicBezTo>
                          <a:cubicBezTo>
                            <a:pt x="59" y="130"/>
                            <a:pt x="51" y="137"/>
                            <a:pt x="45" y="142"/>
                          </a:cubicBezTo>
                          <a:cubicBezTo>
                            <a:pt x="39" y="147"/>
                            <a:pt x="33" y="142"/>
                            <a:pt x="27" y="154"/>
                          </a:cubicBezTo>
                          <a:cubicBezTo>
                            <a:pt x="21" y="166"/>
                            <a:pt x="16" y="194"/>
                            <a:pt x="12" y="214"/>
                          </a:cubicBezTo>
                          <a:cubicBezTo>
                            <a:pt x="8" y="234"/>
                            <a:pt x="0" y="260"/>
                            <a:pt x="3" y="274"/>
                          </a:cubicBezTo>
                          <a:cubicBezTo>
                            <a:pt x="6" y="288"/>
                            <a:pt x="27" y="295"/>
                            <a:pt x="33" y="301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50000">
                          <a:srgbClr val="333333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6" name=""/>
                    <p:cNvSpPr/>
                    <p:nvPr/>
                  </p:nvSpPr>
                  <p:spPr>
                    <a:xfrm>
                      <a:off x="8058240" y="4599360"/>
                      <a:ext cx="135360" cy="15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7">
                          <a:moveTo>
                            <a:pt x="56" y="0"/>
                          </a:moveTo>
                          <a:cubicBezTo>
                            <a:pt x="62" y="5"/>
                            <a:pt x="87" y="20"/>
                            <a:pt x="95" y="33"/>
                          </a:cubicBezTo>
                          <a:cubicBezTo>
                            <a:pt x="103" y="46"/>
                            <a:pt x="105" y="70"/>
                            <a:pt x="101" y="81"/>
                          </a:cubicBezTo>
                          <a:cubicBezTo>
                            <a:pt x="97" y="92"/>
                            <a:pt x="78" y="91"/>
                            <a:pt x="68" y="96"/>
                          </a:cubicBezTo>
                          <a:cubicBezTo>
                            <a:pt x="58" y="101"/>
                            <a:pt x="48" y="117"/>
                            <a:pt x="38" y="114"/>
                          </a:cubicBezTo>
                          <a:cubicBezTo>
                            <a:pt x="28" y="111"/>
                            <a:pt x="10" y="86"/>
                            <a:pt x="5" y="75"/>
                          </a:cubicBezTo>
                          <a:cubicBezTo>
                            <a:pt x="0" y="64"/>
                            <a:pt x="5" y="54"/>
                            <a:pt x="5" y="4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9f3f"/>
                        </a:gs>
                        <a:gs pos="100000">
                          <a:srgbClr val="ffae5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>
                      <a:off x="7420320" y="4596840"/>
                      <a:ext cx="135720" cy="15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7">
                          <a:moveTo>
                            <a:pt x="56" y="0"/>
                          </a:moveTo>
                          <a:cubicBezTo>
                            <a:pt x="62" y="5"/>
                            <a:pt x="87" y="20"/>
                            <a:pt x="95" y="33"/>
                          </a:cubicBezTo>
                          <a:cubicBezTo>
                            <a:pt x="103" y="46"/>
                            <a:pt x="105" y="70"/>
                            <a:pt x="101" y="81"/>
                          </a:cubicBezTo>
                          <a:cubicBezTo>
                            <a:pt x="97" y="92"/>
                            <a:pt x="78" y="91"/>
                            <a:pt x="68" y="96"/>
                          </a:cubicBezTo>
                          <a:cubicBezTo>
                            <a:pt x="58" y="101"/>
                            <a:pt x="48" y="117"/>
                            <a:pt x="38" y="114"/>
                          </a:cubicBezTo>
                          <a:cubicBezTo>
                            <a:pt x="28" y="111"/>
                            <a:pt x="10" y="86"/>
                            <a:pt x="5" y="75"/>
                          </a:cubicBezTo>
                          <a:cubicBezTo>
                            <a:pt x="0" y="64"/>
                            <a:pt x="5" y="54"/>
                            <a:pt x="5" y="4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9f3f"/>
                        </a:gs>
                        <a:gs pos="100000">
                          <a:srgbClr val="ffae5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7585920" y="3788280"/>
                      <a:ext cx="44316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" h="365">
                          <a:moveTo>
                            <a:pt x="0" y="194"/>
                          </a:moveTo>
                          <a:cubicBezTo>
                            <a:pt x="0" y="198"/>
                            <a:pt x="0" y="197"/>
                            <a:pt x="6" y="209"/>
                          </a:cubicBezTo>
                          <a:cubicBezTo>
                            <a:pt x="12" y="221"/>
                            <a:pt x="23" y="250"/>
                            <a:pt x="36" y="266"/>
                          </a:cubicBezTo>
                          <a:cubicBezTo>
                            <a:pt x="49" y="282"/>
                            <a:pt x="70" y="299"/>
                            <a:pt x="87" y="308"/>
                          </a:cubicBezTo>
                          <a:cubicBezTo>
                            <a:pt x="104" y="317"/>
                            <a:pt x="129" y="314"/>
                            <a:pt x="138" y="320"/>
                          </a:cubicBezTo>
                          <a:cubicBezTo>
                            <a:pt x="147" y="326"/>
                            <a:pt x="140" y="337"/>
                            <a:pt x="144" y="344"/>
                          </a:cubicBezTo>
                          <a:cubicBezTo>
                            <a:pt x="148" y="351"/>
                            <a:pt x="157" y="365"/>
                            <a:pt x="165" y="365"/>
                          </a:cubicBezTo>
                          <a:cubicBezTo>
                            <a:pt x="173" y="365"/>
                            <a:pt x="185" y="349"/>
                            <a:pt x="192" y="341"/>
                          </a:cubicBezTo>
                          <a:cubicBezTo>
                            <a:pt x="199" y="333"/>
                            <a:pt x="197" y="322"/>
                            <a:pt x="207" y="317"/>
                          </a:cubicBezTo>
                          <a:cubicBezTo>
                            <a:pt x="217" y="312"/>
                            <a:pt x="239" y="315"/>
                            <a:pt x="255" y="308"/>
                          </a:cubicBezTo>
                          <a:cubicBezTo>
                            <a:pt x="271" y="301"/>
                            <a:pt x="289" y="296"/>
                            <a:pt x="303" y="275"/>
                          </a:cubicBezTo>
                          <a:cubicBezTo>
                            <a:pt x="317" y="254"/>
                            <a:pt x="344" y="208"/>
                            <a:pt x="342" y="179"/>
                          </a:cubicBezTo>
                          <a:cubicBezTo>
                            <a:pt x="340" y="150"/>
                            <a:pt x="302" y="123"/>
                            <a:pt x="288" y="98"/>
                          </a:cubicBezTo>
                          <a:cubicBezTo>
                            <a:pt x="274" y="73"/>
                            <a:pt x="269" y="31"/>
                            <a:pt x="256" y="27"/>
                          </a:cubicBezTo>
                          <a:cubicBezTo>
                            <a:pt x="243" y="23"/>
                            <a:pt x="218" y="70"/>
                            <a:pt x="208" y="75"/>
                          </a:cubicBezTo>
                          <a:cubicBezTo>
                            <a:pt x="198" y="80"/>
                            <a:pt x="202" y="60"/>
                            <a:pt x="198" y="56"/>
                          </a:cubicBezTo>
                          <a:cubicBezTo>
                            <a:pt x="194" y="52"/>
                            <a:pt x="197" y="50"/>
                            <a:pt x="183" y="53"/>
                          </a:cubicBezTo>
                          <a:cubicBezTo>
                            <a:pt x="169" y="56"/>
                            <a:pt x="121" y="77"/>
                            <a:pt x="112" y="75"/>
                          </a:cubicBezTo>
                          <a:cubicBezTo>
                            <a:pt x="103" y="73"/>
                            <a:pt x="126" y="52"/>
                            <a:pt x="126" y="41"/>
                          </a:cubicBezTo>
                          <a:cubicBezTo>
                            <a:pt x="126" y="30"/>
                            <a:pt x="126" y="0"/>
                            <a:pt x="114" y="11"/>
                          </a:cubicBezTo>
                          <a:cubicBezTo>
                            <a:pt x="102" y="22"/>
                            <a:pt x="63" y="89"/>
                            <a:pt x="54" y="110"/>
                          </a:cubicBezTo>
                          <a:cubicBezTo>
                            <a:pt x="45" y="131"/>
                            <a:pt x="60" y="129"/>
                            <a:pt x="60" y="137"/>
                          </a:cubicBezTo>
                          <a:cubicBezTo>
                            <a:pt x="60" y="145"/>
                            <a:pt x="58" y="158"/>
                            <a:pt x="54" y="161"/>
                          </a:cubicBezTo>
                          <a:cubicBezTo>
                            <a:pt x="50" y="164"/>
                            <a:pt x="39" y="162"/>
                            <a:pt x="36" y="155"/>
                          </a:cubicBezTo>
                          <a:cubicBezTo>
                            <a:pt x="33" y="148"/>
                            <a:pt x="37" y="119"/>
                            <a:pt x="33" y="119"/>
                          </a:cubicBezTo>
                          <a:cubicBezTo>
                            <a:pt x="29" y="119"/>
                            <a:pt x="16" y="143"/>
                            <a:pt x="12" y="152"/>
                          </a:cubicBezTo>
                          <a:cubicBezTo>
                            <a:pt x="8" y="161"/>
                            <a:pt x="12" y="168"/>
                            <a:pt x="12" y="173"/>
                          </a:cubicBezTo>
                          <a:cubicBezTo>
                            <a:pt x="12" y="178"/>
                            <a:pt x="11" y="182"/>
                            <a:pt x="9" y="185"/>
                          </a:cubicBezTo>
                          <a:cubicBezTo>
                            <a:pt x="7" y="188"/>
                            <a:pt x="0" y="190"/>
                            <a:pt x="0" y="19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993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>
                      <a:off x="7744320" y="4116600"/>
                      <a:ext cx="14616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32">
                          <a:moveTo>
                            <a:pt x="0" y="0"/>
                          </a:moveTo>
                          <a:cubicBezTo>
                            <a:pt x="7" y="4"/>
                            <a:pt x="29" y="22"/>
                            <a:pt x="39" y="27"/>
                          </a:cubicBezTo>
                          <a:cubicBezTo>
                            <a:pt x="49" y="32"/>
                            <a:pt x="53" y="30"/>
                            <a:pt x="60" y="30"/>
                          </a:cubicBezTo>
                          <a:cubicBezTo>
                            <a:pt x="67" y="30"/>
                            <a:pt x="72" y="32"/>
                            <a:pt x="81" y="27"/>
                          </a:cubicBezTo>
                          <a:cubicBezTo>
                            <a:pt x="90" y="22"/>
                            <a:pt x="107" y="8"/>
                            <a:pt x="114" y="3"/>
                          </a:cubicBezTo>
                        </a:path>
                      </a:pathLst>
                    </a:custGeom>
                    <a:noFill/>
                    <a:ln w="12600">
                      <a:solidFill>
                        <a:srgbClr val="d2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>
                      <a:off x="7792200" y="4133520"/>
                      <a:ext cx="608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">
                          <a:moveTo>
                            <a:pt x="0" y="10"/>
                          </a:moveTo>
                          <a:cubicBezTo>
                            <a:pt x="2" y="8"/>
                            <a:pt x="7" y="0"/>
                            <a:pt x="11" y="0"/>
                          </a:cubicBezTo>
                          <a:cubicBezTo>
                            <a:pt x="15" y="0"/>
                            <a:pt x="19" y="9"/>
                            <a:pt x="23" y="9"/>
                          </a:cubicBezTo>
                          <a:cubicBezTo>
                            <a:pt x="27" y="9"/>
                            <a:pt x="34" y="0"/>
                            <a:pt x="38" y="0"/>
                          </a:cubicBezTo>
                          <a:cubicBezTo>
                            <a:pt x="42" y="0"/>
                            <a:pt x="46" y="8"/>
                            <a:pt x="48" y="10"/>
                          </a:cubicBezTo>
                        </a:path>
                      </a:pathLst>
                    </a:cu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>
                      <a:off x="7721640" y="3958560"/>
                      <a:ext cx="810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8">
                          <a:moveTo>
                            <a:pt x="63" y="16"/>
                          </a:moveTo>
                          <a:cubicBezTo>
                            <a:pt x="58" y="14"/>
                            <a:pt x="39" y="6"/>
                            <a:pt x="33" y="4"/>
                          </a:cubicBezTo>
                          <a:cubicBezTo>
                            <a:pt x="27" y="2"/>
                            <a:pt x="29" y="0"/>
                            <a:pt x="24" y="4"/>
                          </a:cubicBezTo>
                          <a:cubicBezTo>
                            <a:pt x="19" y="8"/>
                            <a:pt x="5" y="23"/>
                            <a:pt x="0" y="2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7748280" y="3999600"/>
                      <a:ext cx="3456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7" y="12"/>
                          </a:moveTo>
                          <a:cubicBezTo>
                            <a:pt x="27" y="8"/>
                            <a:pt x="16" y="0"/>
                            <a:pt x="12" y="0"/>
                          </a:cubicBezTo>
                          <a:cubicBezTo>
                            <a:pt x="8" y="0"/>
                            <a:pt x="0" y="11"/>
                            <a:pt x="0" y="15"/>
                          </a:cubicBezTo>
                          <a:cubicBezTo>
                            <a:pt x="0" y="19"/>
                            <a:pt x="11" y="27"/>
                            <a:pt x="15" y="27"/>
                          </a:cubicBezTo>
                          <a:cubicBezTo>
                            <a:pt x="19" y="27"/>
                            <a:pt x="27" y="16"/>
                            <a:pt x="27" y="12"/>
                          </a:cubicBezTo>
                          <a:close/>
                        </a:path>
                      </a:pathLst>
                    </a:custGeom>
                    <a:solidFill>
                      <a:srgbClr val="333399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7720560" y="3970080"/>
                      <a:ext cx="8208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6">
                          <a:moveTo>
                            <a:pt x="4" y="31"/>
                          </a:moveTo>
                          <a:cubicBezTo>
                            <a:pt x="3" y="29"/>
                            <a:pt x="0" y="27"/>
                            <a:pt x="4" y="22"/>
                          </a:cubicBezTo>
                          <a:cubicBezTo>
                            <a:pt x="8" y="17"/>
                            <a:pt x="22" y="2"/>
                            <a:pt x="31" y="1"/>
                          </a:cubicBezTo>
                          <a:cubicBezTo>
                            <a:pt x="40" y="0"/>
                            <a:pt x="58" y="8"/>
                            <a:pt x="61" y="13"/>
                          </a:cubicBezTo>
                          <a:cubicBezTo>
                            <a:pt x="64" y="18"/>
                            <a:pt x="56" y="30"/>
                            <a:pt x="52" y="31"/>
                          </a:cubicBezTo>
                          <a:cubicBezTo>
                            <a:pt x="48" y="32"/>
                            <a:pt x="40" y="19"/>
                            <a:pt x="34" y="19"/>
                          </a:cubicBezTo>
                          <a:cubicBezTo>
                            <a:pt x="28" y="19"/>
                            <a:pt x="18" y="32"/>
                            <a:pt x="13" y="34"/>
                          </a:cubicBezTo>
                          <a:cubicBezTo>
                            <a:pt x="8" y="36"/>
                            <a:pt x="4" y="34"/>
                            <a:pt x="4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 flipH="1">
                      <a:off x="7852320" y="3953160"/>
                      <a:ext cx="810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8">
                          <a:moveTo>
                            <a:pt x="63" y="16"/>
                          </a:moveTo>
                          <a:cubicBezTo>
                            <a:pt x="58" y="14"/>
                            <a:pt x="39" y="6"/>
                            <a:pt x="33" y="4"/>
                          </a:cubicBezTo>
                          <a:cubicBezTo>
                            <a:pt x="27" y="2"/>
                            <a:pt x="29" y="0"/>
                            <a:pt x="24" y="4"/>
                          </a:cubicBezTo>
                          <a:cubicBezTo>
                            <a:pt x="19" y="8"/>
                            <a:pt x="5" y="23"/>
                            <a:pt x="0" y="2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5" name=""/>
                    <p:cNvSpPr/>
                    <p:nvPr/>
                  </p:nvSpPr>
                  <p:spPr>
                    <a:xfrm flipH="1">
                      <a:off x="7872840" y="3993840"/>
                      <a:ext cx="342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7" y="12"/>
                          </a:moveTo>
                          <a:cubicBezTo>
                            <a:pt x="27" y="8"/>
                            <a:pt x="16" y="0"/>
                            <a:pt x="12" y="0"/>
                          </a:cubicBezTo>
                          <a:cubicBezTo>
                            <a:pt x="8" y="0"/>
                            <a:pt x="0" y="11"/>
                            <a:pt x="0" y="15"/>
                          </a:cubicBezTo>
                          <a:cubicBezTo>
                            <a:pt x="0" y="19"/>
                            <a:pt x="11" y="27"/>
                            <a:pt x="15" y="27"/>
                          </a:cubicBezTo>
                          <a:cubicBezTo>
                            <a:pt x="19" y="27"/>
                            <a:pt x="27" y="16"/>
                            <a:pt x="27" y="12"/>
                          </a:cubicBezTo>
                          <a:close/>
                        </a:path>
                      </a:pathLst>
                    </a:custGeom>
                    <a:solidFill>
                      <a:srgbClr val="333399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flipH="1">
                      <a:off x="7852320" y="3965760"/>
                      <a:ext cx="8244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6">
                          <a:moveTo>
                            <a:pt x="4" y="31"/>
                          </a:moveTo>
                          <a:cubicBezTo>
                            <a:pt x="3" y="29"/>
                            <a:pt x="0" y="27"/>
                            <a:pt x="4" y="22"/>
                          </a:cubicBezTo>
                          <a:cubicBezTo>
                            <a:pt x="8" y="17"/>
                            <a:pt x="22" y="2"/>
                            <a:pt x="31" y="1"/>
                          </a:cubicBezTo>
                          <a:cubicBezTo>
                            <a:pt x="40" y="0"/>
                            <a:pt x="58" y="8"/>
                            <a:pt x="61" y="13"/>
                          </a:cubicBezTo>
                          <a:cubicBezTo>
                            <a:pt x="64" y="18"/>
                            <a:pt x="56" y="30"/>
                            <a:pt x="52" y="31"/>
                          </a:cubicBezTo>
                          <a:cubicBezTo>
                            <a:pt x="48" y="32"/>
                            <a:pt x="40" y="19"/>
                            <a:pt x="34" y="19"/>
                          </a:cubicBezTo>
                          <a:cubicBezTo>
                            <a:pt x="28" y="19"/>
                            <a:pt x="18" y="32"/>
                            <a:pt x="13" y="34"/>
                          </a:cubicBezTo>
                          <a:cubicBezTo>
                            <a:pt x="8" y="36"/>
                            <a:pt x="4" y="34"/>
                            <a:pt x="4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>
                      <a:off x="7828200" y="3916440"/>
                      <a:ext cx="13140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07">
                          <a:moveTo>
                            <a:pt x="4" y="35"/>
                          </a:moveTo>
                          <a:cubicBezTo>
                            <a:pt x="9" y="25"/>
                            <a:pt x="27" y="10"/>
                            <a:pt x="37" y="5"/>
                          </a:cubicBezTo>
                          <a:cubicBezTo>
                            <a:pt x="47" y="0"/>
                            <a:pt x="57" y="0"/>
                            <a:pt x="67" y="5"/>
                          </a:cubicBezTo>
                          <a:cubicBezTo>
                            <a:pt x="77" y="10"/>
                            <a:pt x="92" y="25"/>
                            <a:pt x="97" y="35"/>
                          </a:cubicBezTo>
                          <a:cubicBezTo>
                            <a:pt x="102" y="45"/>
                            <a:pt x="101" y="57"/>
                            <a:pt x="97" y="68"/>
                          </a:cubicBezTo>
                          <a:cubicBezTo>
                            <a:pt x="93" y="79"/>
                            <a:pt x="79" y="95"/>
                            <a:pt x="70" y="101"/>
                          </a:cubicBezTo>
                          <a:cubicBezTo>
                            <a:pt x="61" y="107"/>
                            <a:pt x="49" y="105"/>
                            <a:pt x="40" y="104"/>
                          </a:cubicBezTo>
                          <a:cubicBezTo>
                            <a:pt x="31" y="103"/>
                            <a:pt x="19" y="98"/>
                            <a:pt x="13" y="92"/>
                          </a:cubicBezTo>
                          <a:cubicBezTo>
                            <a:pt x="7" y="86"/>
                            <a:pt x="2" y="74"/>
                            <a:pt x="1" y="65"/>
                          </a:cubicBezTo>
                          <a:cubicBezTo>
                            <a:pt x="0" y="56"/>
                            <a:pt x="4" y="41"/>
                            <a:pt x="4" y="35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>
                      <a:off x="7691040" y="3924720"/>
                      <a:ext cx="133920" cy="13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4">
                          <a:moveTo>
                            <a:pt x="2" y="32"/>
                          </a:moveTo>
                          <a:cubicBezTo>
                            <a:pt x="6" y="23"/>
                            <a:pt x="17" y="12"/>
                            <a:pt x="29" y="8"/>
                          </a:cubicBezTo>
                          <a:cubicBezTo>
                            <a:pt x="41" y="4"/>
                            <a:pt x="62" y="0"/>
                            <a:pt x="74" y="5"/>
                          </a:cubicBezTo>
                          <a:cubicBezTo>
                            <a:pt x="86" y="10"/>
                            <a:pt x="98" y="27"/>
                            <a:pt x="101" y="38"/>
                          </a:cubicBezTo>
                          <a:cubicBezTo>
                            <a:pt x="104" y="49"/>
                            <a:pt x="99" y="64"/>
                            <a:pt x="95" y="74"/>
                          </a:cubicBezTo>
                          <a:cubicBezTo>
                            <a:pt x="91" y="84"/>
                            <a:pt x="79" y="94"/>
                            <a:pt x="74" y="98"/>
                          </a:cubicBezTo>
                          <a:cubicBezTo>
                            <a:pt x="69" y="102"/>
                            <a:pt x="69" y="97"/>
                            <a:pt x="62" y="98"/>
                          </a:cubicBezTo>
                          <a:cubicBezTo>
                            <a:pt x="55" y="99"/>
                            <a:pt x="41" y="104"/>
                            <a:pt x="32" y="101"/>
                          </a:cubicBezTo>
                          <a:cubicBezTo>
                            <a:pt x="23" y="98"/>
                            <a:pt x="12" y="87"/>
                            <a:pt x="8" y="80"/>
                          </a:cubicBezTo>
                          <a:cubicBezTo>
                            <a:pt x="4" y="73"/>
                            <a:pt x="6" y="70"/>
                            <a:pt x="5" y="62"/>
                          </a:cubicBezTo>
                          <a:cubicBezTo>
                            <a:pt x="4" y="54"/>
                            <a:pt x="0" y="40"/>
                            <a:pt x="2" y="32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>
                      <a:off x="7887960" y="4036320"/>
                      <a:ext cx="8928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82">
                          <a:moveTo>
                            <a:pt x="60" y="6"/>
                          </a:moveTo>
                          <a:cubicBezTo>
                            <a:pt x="70" y="8"/>
                            <a:pt x="66" y="27"/>
                            <a:pt x="63" y="39"/>
                          </a:cubicBezTo>
                          <a:cubicBezTo>
                            <a:pt x="60" y="51"/>
                            <a:pt x="53" y="82"/>
                            <a:pt x="43" y="81"/>
                          </a:cubicBezTo>
                          <a:cubicBezTo>
                            <a:pt x="33" y="80"/>
                            <a:pt x="0" y="42"/>
                            <a:pt x="3" y="30"/>
                          </a:cubicBezTo>
                          <a:cubicBezTo>
                            <a:pt x="6" y="18"/>
                            <a:pt x="50" y="0"/>
                            <a:pt x="60" y="6"/>
                          </a:cubicBezTo>
                          <a:close/>
                        </a:path>
                      </a:pathLst>
                    </a:custGeom>
                    <a:solidFill>
                      <a:srgbClr val="fda1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7668720" y="4077000"/>
                      <a:ext cx="9432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52">
                          <a:moveTo>
                            <a:pt x="10" y="0"/>
                          </a:moveTo>
                          <a:cubicBezTo>
                            <a:pt x="0" y="1"/>
                            <a:pt x="4" y="25"/>
                            <a:pt x="7" y="33"/>
                          </a:cubicBezTo>
                          <a:cubicBezTo>
                            <a:pt x="10" y="41"/>
                            <a:pt x="18" y="52"/>
                            <a:pt x="28" y="51"/>
                          </a:cubicBezTo>
                          <a:cubicBezTo>
                            <a:pt x="38" y="50"/>
                            <a:pt x="73" y="35"/>
                            <a:pt x="70" y="27"/>
                          </a:cubicBezTo>
                          <a:cubicBezTo>
                            <a:pt x="67" y="19"/>
                            <a:pt x="23" y="0"/>
                            <a:pt x="10" y="0"/>
                          </a:cubicBezTo>
                          <a:close/>
                        </a:path>
                      </a:pathLst>
                    </a:custGeom>
                    <a:solidFill>
                      <a:srgbClr val="fda1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81" name=""/>
                <p:cNvSpPr/>
                <p:nvPr/>
              </p:nvSpPr>
              <p:spPr>
                <a:xfrm>
                  <a:off x="7795800" y="4062960"/>
                  <a:ext cx="55800" cy="23760"/>
                </a:xfrm>
                <a:custGeom>
                  <a:avLst/>
                  <a:gdLst/>
                  <a:ahLst/>
                  <a:rect l="l" t="t" r="r" b="b"/>
                  <a:pathLst>
                    <a:path w="42" h="17">
                      <a:moveTo>
                        <a:pt x="0" y="9"/>
                      </a:moveTo>
                      <a:cubicBezTo>
                        <a:pt x="1" y="9"/>
                        <a:pt x="3" y="16"/>
                        <a:pt x="6" y="15"/>
                      </a:cubicBezTo>
                      <a:cubicBezTo>
                        <a:pt x="9" y="14"/>
                        <a:pt x="16" y="0"/>
                        <a:pt x="21" y="0"/>
                      </a:cubicBezTo>
                      <a:cubicBezTo>
                        <a:pt x="26" y="0"/>
                        <a:pt x="33" y="13"/>
                        <a:pt x="36" y="15"/>
                      </a:cubicBezTo>
                      <a:cubicBezTo>
                        <a:pt x="39" y="17"/>
                        <a:pt x="41" y="13"/>
                        <a:pt x="42" y="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8199360" y="3996720"/>
                <a:ext cx="618480" cy="1159560"/>
                <a:chOff x="8199360" y="3996720"/>
                <a:chExt cx="618480" cy="1159560"/>
              </a:xfrm>
            </p:grpSpPr>
            <p:pic>
              <p:nvPicPr>
                <p:cNvPr id="118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199360" y="4013640"/>
                  <a:ext cx="618480" cy="114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8299080" y="4706640"/>
                  <a:ext cx="431280" cy="242280"/>
                </a:xfrm>
                <a:custGeom>
                  <a:avLst/>
                  <a:gdLst/>
                  <a:ahLst/>
                  <a:rect l="l" t="t" r="r" b="b"/>
                  <a:pathLst>
                    <a:path w="562" h="252">
                      <a:moveTo>
                        <a:pt x="138" y="0"/>
                      </a:moveTo>
                      <a:lnTo>
                        <a:pt x="438" y="8"/>
                      </a:lnTo>
                      <a:lnTo>
                        <a:pt x="562" y="224"/>
                      </a:lnTo>
                      <a:lnTo>
                        <a:pt x="470" y="248"/>
                      </a:lnTo>
                      <a:lnTo>
                        <a:pt x="400" y="96"/>
                      </a:lnTo>
                      <a:lnTo>
                        <a:pt x="454" y="252"/>
                      </a:lnTo>
                      <a:lnTo>
                        <a:pt x="322" y="248"/>
                      </a:lnTo>
                      <a:lnTo>
                        <a:pt x="304" y="96"/>
                      </a:lnTo>
                      <a:lnTo>
                        <a:pt x="304" y="240"/>
                      </a:lnTo>
                      <a:lnTo>
                        <a:pt x="112" y="240"/>
                      </a:lnTo>
                      <a:lnTo>
                        <a:pt x="208" y="96"/>
                      </a:lnTo>
                      <a:lnTo>
                        <a:pt x="90" y="240"/>
                      </a:lnTo>
                      <a:cubicBezTo>
                        <a:pt x="59" y="239"/>
                        <a:pt x="36" y="235"/>
                        <a:pt x="6" y="228"/>
                      </a:cubicBezTo>
                      <a:cubicBezTo>
                        <a:pt x="0" y="227"/>
                        <a:pt x="14" y="228"/>
                        <a:pt x="18" y="224"/>
                      </a:cubicBezTo>
                      <a:cubicBezTo>
                        <a:pt x="25" y="217"/>
                        <a:pt x="4" y="241"/>
                        <a:pt x="30" y="204"/>
                      </a:cubicBezTo>
                      <a:lnTo>
                        <a:pt x="13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0099"/>
                    </a:gs>
                    <a:gs pos="50000">
                      <a:srgbClr val="660066"/>
                    </a:gs>
                    <a:gs pos="100000">
                      <a:srgbClr val="cc00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8407800" y="4676040"/>
                  <a:ext cx="22104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6">
                      <a:moveTo>
                        <a:pt x="4" y="0"/>
                      </a:moveTo>
                      <a:cubicBezTo>
                        <a:pt x="11" y="0"/>
                        <a:pt x="17" y="0"/>
                        <a:pt x="24" y="0"/>
                      </a:cubicBezTo>
                      <a:lnTo>
                        <a:pt x="284" y="4"/>
                      </a:lnTo>
                      <a:lnTo>
                        <a:pt x="288" y="36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6" name=""/>
                <p:cNvGrpSpPr/>
                <p:nvPr/>
              </p:nvGrpSpPr>
              <p:grpSpPr>
                <a:xfrm>
                  <a:off x="8513640" y="3996720"/>
                  <a:ext cx="218520" cy="218880"/>
                  <a:chOff x="8513640" y="3996720"/>
                  <a:chExt cx="218520" cy="218880"/>
                </a:xfrm>
              </p:grpSpPr>
              <p:sp>
                <p:nvSpPr>
                  <p:cNvPr id="1187" name=""/>
                  <p:cNvSpPr/>
                  <p:nvPr/>
                </p:nvSpPr>
                <p:spPr>
                  <a:xfrm rot="720600">
                    <a:off x="8530920" y="4013640"/>
                    <a:ext cx="18396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84">
                        <a:moveTo>
                          <a:pt x="288" y="240"/>
                        </a:moveTo>
                        <a:lnTo>
                          <a:pt x="0" y="192"/>
                        </a:lnTo>
                        <a:lnTo>
                          <a:pt x="96" y="0"/>
                        </a:lnTo>
                        <a:lnTo>
                          <a:pt x="288" y="144"/>
                        </a:lnTo>
                        <a:lnTo>
                          <a:pt x="576" y="192"/>
                        </a:lnTo>
                        <a:lnTo>
                          <a:pt x="528" y="336"/>
                        </a:lnTo>
                        <a:lnTo>
                          <a:pt x="432" y="384"/>
                        </a:lnTo>
                        <a:lnTo>
                          <a:pt x="240" y="192"/>
                        </a:lnTo>
                      </a:path>
                    </a:pathLst>
                  </a:cu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 rot="720600">
                    <a:off x="8607240" y="4082760"/>
                    <a:ext cx="30600" cy="46080"/>
                  </a:xfrm>
                  <a:prstGeom prst="ellipse">
                    <a:avLst/>
                  </a:prstGeom>
                  <a:solidFill>
                    <a:srgbClr val="66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8284680" y="3999240"/>
                  <a:ext cx="198000" cy="259200"/>
                  <a:chOff x="8284680" y="3999240"/>
                  <a:chExt cx="198000" cy="25920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 rot="17028000">
                    <a:off x="8268120" y="4055040"/>
                    <a:ext cx="230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84">
                        <a:moveTo>
                          <a:pt x="288" y="240"/>
                        </a:moveTo>
                        <a:lnTo>
                          <a:pt x="0" y="192"/>
                        </a:lnTo>
                        <a:lnTo>
                          <a:pt x="96" y="0"/>
                        </a:lnTo>
                        <a:lnTo>
                          <a:pt x="288" y="144"/>
                        </a:lnTo>
                        <a:lnTo>
                          <a:pt x="576" y="192"/>
                        </a:lnTo>
                        <a:lnTo>
                          <a:pt x="528" y="336"/>
                        </a:lnTo>
                        <a:lnTo>
                          <a:pt x="432" y="384"/>
                        </a:lnTo>
                        <a:lnTo>
                          <a:pt x="240" y="192"/>
                        </a:lnTo>
                      </a:path>
                    </a:pathLst>
                  </a:cu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 rot="17028000">
                    <a:off x="8364240" y="4110120"/>
                    <a:ext cx="38160" cy="36720"/>
                  </a:xfrm>
                  <a:prstGeom prst="ellipse">
                    <a:avLst/>
                  </a:prstGeom>
                  <a:solidFill>
                    <a:srgbClr val="66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192" name=""/>
          <p:cNvSpPr txBox="1"/>
          <p:nvPr/>
        </p:nvSpPr>
        <p:spPr>
          <a:xfrm>
            <a:off x="900000" y="3357720"/>
            <a:ext cx="6572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твет: топливо стоит 42 руб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aphicFrame>
        <p:nvGraphicFramePr>
          <p:cNvPr id="1193" name=""/>
          <p:cNvGraphicFramePr/>
          <p:nvPr/>
        </p:nvGraphicFramePr>
        <p:xfrm>
          <a:off x="1547640" y="4365720"/>
          <a:ext cx="4089600" cy="1776240"/>
        </p:xfrm>
        <a:graphic>
          <a:graphicData uri="http://schemas.openxmlformats.org/drawingml/2006/table">
            <a:tbl>
              <a:tblPr/>
              <a:tblGrid>
                <a:gridCol w="681120"/>
                <a:gridCol w="682560"/>
                <a:gridCol w="681120"/>
                <a:gridCol w="682560"/>
                <a:gridCol w="681120"/>
                <a:gridCol w="68112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4" name=""/>
          <p:cNvSpPr txBox="1"/>
          <p:nvPr/>
        </p:nvSpPr>
        <p:spPr>
          <a:xfrm>
            <a:off x="169236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234000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305928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370836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442764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507672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69236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234000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05928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378000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442764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507672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176364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241128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305928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378000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442764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507672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5867280" y="5157720"/>
            <a:ext cx="865440" cy="71928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87" h="21600">
                <a:moveTo>
                  <a:pt x="0" y="0"/>
                </a:moveTo>
                <a:lnTo>
                  <a:pt x="25987" y="0"/>
                </a:lnTo>
                <a:lnTo>
                  <a:pt x="25987" y="21600"/>
                </a:lnTo>
                <a:lnTo>
                  <a:pt x="0" y="21600"/>
                </a:lnTo>
                <a:close/>
              </a:path>
              <a:path fill="lightenLess" w="25987" h="21600">
                <a:moveTo>
                  <a:pt x="0" y="0"/>
                </a:moveTo>
                <a:lnTo>
                  <a:pt x="25987" y="0"/>
                </a:lnTo>
                <a:lnTo>
                  <a:pt x="24587" y="1400"/>
                </a:lnTo>
                <a:lnTo>
                  <a:pt x="1400" y="1400"/>
                </a:lnTo>
                <a:close/>
              </a:path>
              <a:path fill="darken" w="25987" h="21600">
                <a:moveTo>
                  <a:pt x="25987" y="0"/>
                </a:moveTo>
                <a:lnTo>
                  <a:pt x="25987" y="21600"/>
                </a:lnTo>
                <a:lnTo>
                  <a:pt x="24587" y="20200"/>
                </a:lnTo>
                <a:lnTo>
                  <a:pt x="24587" y="1400"/>
                </a:lnTo>
                <a:close/>
              </a:path>
              <a:path fill="darkenLess" w="25987" h="21600">
                <a:moveTo>
                  <a:pt x="25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7" y="20200"/>
                </a:lnTo>
                <a:close/>
              </a:path>
              <a:path fill="lighten" w="25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954" dur="indefinite" restart="never" nodeType="tmRoot">
          <p:childTnLst>
            <p:seq>
              <p:cTn id="1955" dur="indefinite" nodeType="mainSeq">
                <p:childTnLst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500"/>
                            </p:stCondLst>
                            <p:childTnLst>
                              <p:par>
                                <p:cTn id="19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5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1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0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3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0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9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8500"/>
                            </p:stCondLst>
                            <p:childTnLst>
                              <p:par>
                                <p:cTn id="2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1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5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6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2077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0" dur="10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10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5435640" y="-603360"/>
            <a:ext cx="3889440" cy="6408720"/>
            <a:chOff x="5435640" y="-603360"/>
            <a:chExt cx="3889440" cy="6408720"/>
          </a:xfrm>
        </p:grpSpPr>
        <p:sp>
          <p:nvSpPr>
            <p:cNvPr id="1215" name=""/>
            <p:cNvSpPr/>
            <p:nvPr/>
          </p:nvSpPr>
          <p:spPr>
            <a:xfrm>
              <a:off x="5435640" y="-603360"/>
              <a:ext cx="3889440" cy="6408720"/>
            </a:xfrm>
            <a:custGeom>
              <a:avLst/>
              <a:gdLst/>
              <a:ahLst/>
              <a:rect l="l" t="t" r="r" b="b"/>
              <a:pathLst>
                <a:path w="2003" h="3799">
                  <a:moveTo>
                    <a:pt x="50" y="3759"/>
                  </a:moveTo>
                  <a:cubicBezTo>
                    <a:pt x="65" y="3659"/>
                    <a:pt x="85" y="3560"/>
                    <a:pt x="103" y="3460"/>
                  </a:cubicBezTo>
                  <a:cubicBezTo>
                    <a:pt x="114" y="3332"/>
                    <a:pt x="106" y="3400"/>
                    <a:pt x="126" y="3268"/>
                  </a:cubicBezTo>
                  <a:cubicBezTo>
                    <a:pt x="129" y="3250"/>
                    <a:pt x="134" y="3214"/>
                    <a:pt x="134" y="3214"/>
                  </a:cubicBezTo>
                  <a:cubicBezTo>
                    <a:pt x="144" y="3068"/>
                    <a:pt x="160" y="2924"/>
                    <a:pt x="203" y="2784"/>
                  </a:cubicBezTo>
                  <a:cubicBezTo>
                    <a:pt x="198" y="2638"/>
                    <a:pt x="203" y="2491"/>
                    <a:pt x="188" y="2346"/>
                  </a:cubicBezTo>
                  <a:cubicBezTo>
                    <a:pt x="181" y="2279"/>
                    <a:pt x="142" y="2219"/>
                    <a:pt x="126" y="2154"/>
                  </a:cubicBezTo>
                  <a:cubicBezTo>
                    <a:pt x="110" y="1998"/>
                    <a:pt x="57" y="1848"/>
                    <a:pt x="34" y="1693"/>
                  </a:cubicBezTo>
                  <a:cubicBezTo>
                    <a:pt x="42" y="1431"/>
                    <a:pt x="0" y="1131"/>
                    <a:pt x="142" y="894"/>
                  </a:cubicBezTo>
                  <a:cubicBezTo>
                    <a:pt x="164" y="761"/>
                    <a:pt x="204" y="634"/>
                    <a:pt x="257" y="510"/>
                  </a:cubicBezTo>
                  <a:cubicBezTo>
                    <a:pt x="266" y="489"/>
                    <a:pt x="278" y="469"/>
                    <a:pt x="288" y="449"/>
                  </a:cubicBezTo>
                  <a:cubicBezTo>
                    <a:pt x="299" y="427"/>
                    <a:pt x="293" y="412"/>
                    <a:pt x="303" y="388"/>
                  </a:cubicBezTo>
                  <a:cubicBezTo>
                    <a:pt x="306" y="381"/>
                    <a:pt x="311" y="375"/>
                    <a:pt x="318" y="372"/>
                  </a:cubicBezTo>
                  <a:cubicBezTo>
                    <a:pt x="366" y="348"/>
                    <a:pt x="430" y="346"/>
                    <a:pt x="480" y="342"/>
                  </a:cubicBezTo>
                  <a:cubicBezTo>
                    <a:pt x="533" y="324"/>
                    <a:pt x="575" y="287"/>
                    <a:pt x="626" y="265"/>
                  </a:cubicBezTo>
                  <a:cubicBezTo>
                    <a:pt x="645" y="257"/>
                    <a:pt x="668" y="258"/>
                    <a:pt x="687" y="249"/>
                  </a:cubicBezTo>
                  <a:cubicBezTo>
                    <a:pt x="709" y="238"/>
                    <a:pt x="741" y="219"/>
                    <a:pt x="764" y="211"/>
                  </a:cubicBezTo>
                  <a:cubicBezTo>
                    <a:pt x="786" y="204"/>
                    <a:pt x="811" y="204"/>
                    <a:pt x="833" y="196"/>
                  </a:cubicBezTo>
                  <a:cubicBezTo>
                    <a:pt x="841" y="193"/>
                    <a:pt x="848" y="191"/>
                    <a:pt x="856" y="188"/>
                  </a:cubicBezTo>
                  <a:cubicBezTo>
                    <a:pt x="970" y="193"/>
                    <a:pt x="1081" y="215"/>
                    <a:pt x="1194" y="219"/>
                  </a:cubicBezTo>
                  <a:cubicBezTo>
                    <a:pt x="1307" y="223"/>
                    <a:pt x="1419" y="223"/>
                    <a:pt x="1532" y="226"/>
                  </a:cubicBezTo>
                  <a:cubicBezTo>
                    <a:pt x="1601" y="228"/>
                    <a:pt x="1670" y="231"/>
                    <a:pt x="1739" y="234"/>
                  </a:cubicBezTo>
                  <a:cubicBezTo>
                    <a:pt x="1804" y="257"/>
                    <a:pt x="1867" y="281"/>
                    <a:pt x="1916" y="334"/>
                  </a:cubicBezTo>
                  <a:cubicBezTo>
                    <a:pt x="1924" y="382"/>
                    <a:pt x="1927" y="430"/>
                    <a:pt x="1954" y="472"/>
                  </a:cubicBezTo>
                  <a:cubicBezTo>
                    <a:pt x="1956" y="483"/>
                    <a:pt x="1963" y="521"/>
                    <a:pt x="1970" y="534"/>
                  </a:cubicBezTo>
                  <a:cubicBezTo>
                    <a:pt x="1979" y="550"/>
                    <a:pt x="2000" y="580"/>
                    <a:pt x="2000" y="580"/>
                  </a:cubicBezTo>
                  <a:cubicBezTo>
                    <a:pt x="1991" y="540"/>
                    <a:pt x="1972" y="504"/>
                    <a:pt x="1962" y="464"/>
                  </a:cubicBezTo>
                  <a:cubicBezTo>
                    <a:pt x="1967" y="324"/>
                    <a:pt x="1969" y="193"/>
                    <a:pt x="2000" y="57"/>
                  </a:cubicBezTo>
                  <a:cubicBezTo>
                    <a:pt x="1987" y="0"/>
                    <a:pt x="2003" y="42"/>
                    <a:pt x="1962" y="42"/>
                  </a:cubicBezTo>
                  <a:lnTo>
                    <a:pt x="1963" y="3654"/>
                  </a:lnTo>
                  <a:cubicBezTo>
                    <a:pt x="1918" y="3699"/>
                    <a:pt x="1877" y="3750"/>
                    <a:pt x="1827" y="3790"/>
                  </a:cubicBezTo>
                  <a:cubicBezTo>
                    <a:pt x="1816" y="3799"/>
                    <a:pt x="1799" y="3798"/>
                    <a:pt x="1785" y="3798"/>
                  </a:cubicBezTo>
                  <a:cubicBezTo>
                    <a:pt x="1765" y="3798"/>
                    <a:pt x="1755" y="3782"/>
                    <a:pt x="1739" y="3774"/>
                  </a:cubicBezTo>
                  <a:cubicBezTo>
                    <a:pt x="1707" y="3758"/>
                    <a:pt x="1665" y="3755"/>
                    <a:pt x="1632" y="3751"/>
                  </a:cubicBezTo>
                  <a:cubicBezTo>
                    <a:pt x="1602" y="3742"/>
                    <a:pt x="1617" y="3744"/>
                    <a:pt x="1586" y="3744"/>
                  </a:cubicBezTo>
                  <a:cubicBezTo>
                    <a:pt x="1063" y="3772"/>
                    <a:pt x="1304" y="3767"/>
                    <a:pt x="864" y="3767"/>
                  </a:cubicBezTo>
                  <a:lnTo>
                    <a:pt x="58" y="3699"/>
                  </a:lnTo>
                  <a:lnTo>
                    <a:pt x="12" y="3699"/>
                  </a:lnTo>
                  <a:lnTo>
                    <a:pt x="58" y="3699"/>
                  </a:lnTo>
                  <a:lnTo>
                    <a:pt x="103" y="3699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732720" y="2852640"/>
              <a:ext cx="1800000" cy="2881440"/>
            </a:xfrm>
            <a:custGeom>
              <a:avLst/>
              <a:gdLst/>
              <a:ahLst/>
              <a:rect l="l" t="t" r="r" b="b"/>
              <a:pathLst>
                <a:path w="1134" h="1815">
                  <a:moveTo>
                    <a:pt x="181" y="1406"/>
                  </a:moveTo>
                  <a:lnTo>
                    <a:pt x="181" y="1497"/>
                  </a:lnTo>
                  <a:lnTo>
                    <a:pt x="45" y="1678"/>
                  </a:lnTo>
                  <a:lnTo>
                    <a:pt x="0" y="1815"/>
                  </a:lnTo>
                  <a:lnTo>
                    <a:pt x="227" y="1815"/>
                  </a:lnTo>
                  <a:lnTo>
                    <a:pt x="453" y="1815"/>
                  </a:lnTo>
                  <a:lnTo>
                    <a:pt x="589" y="1815"/>
                  </a:lnTo>
                  <a:lnTo>
                    <a:pt x="816" y="1815"/>
                  </a:lnTo>
                  <a:lnTo>
                    <a:pt x="862" y="1815"/>
                  </a:lnTo>
                  <a:lnTo>
                    <a:pt x="907" y="1815"/>
                  </a:lnTo>
                  <a:lnTo>
                    <a:pt x="998" y="1815"/>
                  </a:lnTo>
                  <a:lnTo>
                    <a:pt x="998" y="1588"/>
                  </a:lnTo>
                  <a:lnTo>
                    <a:pt x="998" y="1452"/>
                  </a:lnTo>
                  <a:cubicBezTo>
                    <a:pt x="1003" y="1407"/>
                    <a:pt x="999" y="1278"/>
                    <a:pt x="1043" y="1237"/>
                  </a:cubicBezTo>
                  <a:cubicBezTo>
                    <a:pt x="1064" y="1177"/>
                    <a:pt x="1066" y="1226"/>
                    <a:pt x="1066" y="1137"/>
                  </a:cubicBezTo>
                  <a:lnTo>
                    <a:pt x="1043" y="998"/>
                  </a:lnTo>
                  <a:lnTo>
                    <a:pt x="1134" y="771"/>
                  </a:lnTo>
                  <a:lnTo>
                    <a:pt x="1088" y="635"/>
                  </a:lnTo>
                  <a:cubicBezTo>
                    <a:pt x="945" y="490"/>
                    <a:pt x="1036" y="590"/>
                    <a:pt x="981" y="484"/>
                  </a:cubicBezTo>
                  <a:cubicBezTo>
                    <a:pt x="979" y="474"/>
                    <a:pt x="978" y="463"/>
                    <a:pt x="974" y="453"/>
                  </a:cubicBezTo>
                  <a:cubicBezTo>
                    <a:pt x="970" y="442"/>
                    <a:pt x="961" y="434"/>
                    <a:pt x="958" y="423"/>
                  </a:cubicBezTo>
                  <a:cubicBezTo>
                    <a:pt x="953" y="408"/>
                    <a:pt x="955" y="391"/>
                    <a:pt x="951" y="376"/>
                  </a:cubicBezTo>
                  <a:cubicBezTo>
                    <a:pt x="947" y="360"/>
                    <a:pt x="940" y="345"/>
                    <a:pt x="935" y="330"/>
                  </a:cubicBezTo>
                  <a:cubicBezTo>
                    <a:pt x="909" y="255"/>
                    <a:pt x="912" y="302"/>
                    <a:pt x="912" y="254"/>
                  </a:cubicBezTo>
                  <a:lnTo>
                    <a:pt x="907" y="91"/>
                  </a:lnTo>
                  <a:lnTo>
                    <a:pt x="771" y="0"/>
                  </a:lnTo>
                  <a:lnTo>
                    <a:pt x="499" y="0"/>
                  </a:lnTo>
                  <a:lnTo>
                    <a:pt x="317" y="136"/>
                  </a:lnTo>
                  <a:lnTo>
                    <a:pt x="227" y="363"/>
                  </a:lnTo>
                  <a:lnTo>
                    <a:pt x="272" y="544"/>
                  </a:lnTo>
                  <a:lnTo>
                    <a:pt x="227" y="681"/>
                  </a:lnTo>
                  <a:cubicBezTo>
                    <a:pt x="182" y="726"/>
                    <a:pt x="132" y="755"/>
                    <a:pt x="114" y="814"/>
                  </a:cubicBezTo>
                  <a:cubicBezTo>
                    <a:pt x="119" y="848"/>
                    <a:pt x="123" y="894"/>
                    <a:pt x="144" y="922"/>
                  </a:cubicBezTo>
                  <a:cubicBezTo>
                    <a:pt x="166" y="952"/>
                    <a:pt x="236" y="1020"/>
                    <a:pt x="236" y="1060"/>
                  </a:cubicBezTo>
                  <a:lnTo>
                    <a:pt x="181" y="1179"/>
                  </a:lnTo>
                  <a:lnTo>
                    <a:pt x="181" y="1316"/>
                  </a:lnTo>
                  <a:lnTo>
                    <a:pt x="181" y="140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-396720" y="260280"/>
            <a:ext cx="6954840" cy="5386320"/>
            <a:chOff x="-396720" y="260280"/>
            <a:chExt cx="6954840" cy="5386320"/>
          </a:xfrm>
        </p:grpSpPr>
        <p:grpSp>
          <p:nvGrpSpPr>
            <p:cNvPr id="1218" name=""/>
            <p:cNvGrpSpPr/>
            <p:nvPr/>
          </p:nvGrpSpPr>
          <p:grpSpPr>
            <a:xfrm>
              <a:off x="-396720" y="260280"/>
              <a:ext cx="6015960" cy="5386320"/>
              <a:chOff x="-396720" y="260280"/>
              <a:chExt cx="6015960" cy="5386320"/>
            </a:xfrm>
          </p:grpSpPr>
          <p:sp>
            <p:nvSpPr>
              <p:cNvPr id="1219" name="Tree"/>
              <p:cNvSpPr/>
              <p:nvPr/>
            </p:nvSpPr>
            <p:spPr>
              <a:xfrm>
                <a:off x="898200" y="1312560"/>
                <a:ext cx="2849400" cy="433404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Tree"/>
              <p:cNvSpPr/>
              <p:nvPr/>
            </p:nvSpPr>
            <p:spPr>
              <a:xfrm>
                <a:off x="2769840" y="449280"/>
                <a:ext cx="2849400" cy="433368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Tree"/>
              <p:cNvSpPr/>
              <p:nvPr/>
            </p:nvSpPr>
            <p:spPr>
              <a:xfrm>
                <a:off x="1185480" y="260280"/>
                <a:ext cx="2849400" cy="433368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Tree"/>
              <p:cNvSpPr/>
              <p:nvPr/>
            </p:nvSpPr>
            <p:spPr>
              <a:xfrm>
                <a:off x="2195280" y="1960560"/>
                <a:ext cx="2849400" cy="364176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Tree"/>
              <p:cNvSpPr/>
              <p:nvPr/>
            </p:nvSpPr>
            <p:spPr>
              <a:xfrm>
                <a:off x="-396720" y="1601640"/>
                <a:ext cx="2849040" cy="328140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Tree"/>
            <p:cNvSpPr/>
            <p:nvPr/>
          </p:nvSpPr>
          <p:spPr>
            <a:xfrm>
              <a:off x="3708360" y="1125360"/>
              <a:ext cx="2849760" cy="4334040"/>
            </a:xfrm>
            <a:gradFill rotWithShape="0">
              <a:gsLst>
                <a:gs pos="0">
                  <a:srgbClr val="008000"/>
                </a:gs>
                <a:gs pos="100000">
                  <a:srgbClr val="0011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-360" y="2924280"/>
            <a:ext cx="3230640" cy="3619440"/>
            <a:chOff x="-360" y="2924280"/>
            <a:chExt cx="3230640" cy="3619440"/>
          </a:xfrm>
        </p:grpSpPr>
        <p:grpSp>
          <p:nvGrpSpPr>
            <p:cNvPr id="1226" name=""/>
            <p:cNvGrpSpPr/>
            <p:nvPr/>
          </p:nvGrpSpPr>
          <p:grpSpPr>
            <a:xfrm>
              <a:off x="-360" y="2924280"/>
              <a:ext cx="3230640" cy="2953440"/>
              <a:chOff x="-360" y="2924280"/>
              <a:chExt cx="3230640" cy="2953440"/>
            </a:xfrm>
          </p:grpSpPr>
          <p:grpSp>
            <p:nvGrpSpPr>
              <p:cNvPr id="1227" name=""/>
              <p:cNvGrpSpPr/>
              <p:nvPr/>
            </p:nvGrpSpPr>
            <p:grpSpPr>
              <a:xfrm>
                <a:off x="-360" y="2924280"/>
                <a:ext cx="1786320" cy="2889720"/>
                <a:chOff x="-360" y="2924280"/>
                <a:chExt cx="1786320" cy="2889720"/>
              </a:xfrm>
            </p:grpSpPr>
            <p:grpSp>
              <p:nvGrpSpPr>
                <p:cNvPr id="1228" name=""/>
                <p:cNvGrpSpPr/>
                <p:nvPr/>
              </p:nvGrpSpPr>
              <p:grpSpPr>
                <a:xfrm>
                  <a:off x="-360" y="2924280"/>
                  <a:ext cx="1786320" cy="2889720"/>
                  <a:chOff x="-360" y="2924280"/>
                  <a:chExt cx="1786320" cy="288972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895320" y="5027040"/>
                    <a:ext cx="360" cy="66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6">
                        <a:moveTo>
                          <a:pt x="0" y="0"/>
                        </a:moveTo>
                        <a:lnTo>
                          <a:pt x="0" y="25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270360" y="4622040"/>
                    <a:ext cx="1248840" cy="10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68" h="423">
                        <a:moveTo>
                          <a:pt x="79" y="8"/>
                        </a:moveTo>
                        <a:cubicBezTo>
                          <a:pt x="118" y="0"/>
                          <a:pt x="265" y="8"/>
                          <a:pt x="313" y="8"/>
                        </a:cubicBezTo>
                        <a:cubicBezTo>
                          <a:pt x="361" y="8"/>
                          <a:pt x="355" y="5"/>
                          <a:pt x="367" y="8"/>
                        </a:cubicBezTo>
                        <a:cubicBezTo>
                          <a:pt x="379" y="11"/>
                          <a:pt x="377" y="15"/>
                          <a:pt x="385" y="28"/>
                        </a:cubicBezTo>
                        <a:cubicBezTo>
                          <a:pt x="393" y="41"/>
                          <a:pt x="409" y="67"/>
                          <a:pt x="417" y="84"/>
                        </a:cubicBezTo>
                        <a:cubicBezTo>
                          <a:pt x="425" y="101"/>
                          <a:pt x="425" y="113"/>
                          <a:pt x="433" y="132"/>
                        </a:cubicBezTo>
                        <a:cubicBezTo>
                          <a:pt x="441" y="151"/>
                          <a:pt x="458" y="173"/>
                          <a:pt x="463" y="200"/>
                        </a:cubicBezTo>
                        <a:cubicBezTo>
                          <a:pt x="468" y="227"/>
                          <a:pt x="467" y="271"/>
                          <a:pt x="463" y="296"/>
                        </a:cubicBezTo>
                        <a:cubicBezTo>
                          <a:pt x="459" y="321"/>
                          <a:pt x="443" y="330"/>
                          <a:pt x="437" y="348"/>
                        </a:cubicBezTo>
                        <a:cubicBezTo>
                          <a:pt x="431" y="366"/>
                          <a:pt x="431" y="392"/>
                          <a:pt x="429" y="404"/>
                        </a:cubicBezTo>
                        <a:cubicBezTo>
                          <a:pt x="427" y="416"/>
                          <a:pt x="431" y="423"/>
                          <a:pt x="425" y="420"/>
                        </a:cubicBezTo>
                        <a:cubicBezTo>
                          <a:pt x="419" y="417"/>
                          <a:pt x="402" y="396"/>
                          <a:pt x="393" y="388"/>
                        </a:cubicBezTo>
                        <a:cubicBezTo>
                          <a:pt x="384" y="380"/>
                          <a:pt x="382" y="377"/>
                          <a:pt x="369" y="372"/>
                        </a:cubicBezTo>
                        <a:cubicBezTo>
                          <a:pt x="356" y="367"/>
                          <a:pt x="333" y="359"/>
                          <a:pt x="317" y="360"/>
                        </a:cubicBezTo>
                        <a:cubicBezTo>
                          <a:pt x="301" y="361"/>
                          <a:pt x="286" y="372"/>
                          <a:pt x="273" y="380"/>
                        </a:cubicBezTo>
                        <a:cubicBezTo>
                          <a:pt x="260" y="388"/>
                          <a:pt x="245" y="406"/>
                          <a:pt x="237" y="408"/>
                        </a:cubicBezTo>
                        <a:cubicBezTo>
                          <a:pt x="229" y="410"/>
                          <a:pt x="235" y="399"/>
                          <a:pt x="223" y="392"/>
                        </a:cubicBezTo>
                        <a:cubicBezTo>
                          <a:pt x="211" y="385"/>
                          <a:pt x="185" y="372"/>
                          <a:pt x="165" y="368"/>
                        </a:cubicBezTo>
                        <a:cubicBezTo>
                          <a:pt x="145" y="364"/>
                          <a:pt x="120" y="363"/>
                          <a:pt x="105" y="368"/>
                        </a:cubicBezTo>
                        <a:cubicBezTo>
                          <a:pt x="90" y="373"/>
                          <a:pt x="82" y="393"/>
                          <a:pt x="73" y="400"/>
                        </a:cubicBezTo>
                        <a:cubicBezTo>
                          <a:pt x="64" y="407"/>
                          <a:pt x="56" y="413"/>
                          <a:pt x="49" y="412"/>
                        </a:cubicBezTo>
                        <a:cubicBezTo>
                          <a:pt x="42" y="411"/>
                          <a:pt x="37" y="404"/>
                          <a:pt x="31" y="392"/>
                        </a:cubicBezTo>
                        <a:cubicBezTo>
                          <a:pt x="25" y="380"/>
                          <a:pt x="18" y="360"/>
                          <a:pt x="13" y="340"/>
                        </a:cubicBezTo>
                        <a:cubicBezTo>
                          <a:pt x="8" y="320"/>
                          <a:pt x="2" y="293"/>
                          <a:pt x="1" y="272"/>
                        </a:cubicBezTo>
                        <a:cubicBezTo>
                          <a:pt x="0" y="251"/>
                          <a:pt x="0" y="232"/>
                          <a:pt x="5" y="212"/>
                        </a:cubicBezTo>
                        <a:cubicBezTo>
                          <a:pt x="10" y="192"/>
                          <a:pt x="22" y="171"/>
                          <a:pt x="31" y="152"/>
                        </a:cubicBezTo>
                        <a:cubicBezTo>
                          <a:pt x="40" y="133"/>
                          <a:pt x="49" y="124"/>
                          <a:pt x="57" y="100"/>
                        </a:cubicBezTo>
                        <a:cubicBezTo>
                          <a:pt x="65" y="76"/>
                          <a:pt x="75" y="27"/>
                          <a:pt x="79" y="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cc"/>
                      </a:gs>
                      <a:gs pos="50000">
                        <a:srgbClr val="000099"/>
                      </a:gs>
                      <a:gs pos="100000">
                        <a:srgbClr val="0066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867240" y="4641480"/>
                    <a:ext cx="126000" cy="37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4">
                        <a:moveTo>
                          <a:pt x="0" y="0"/>
                        </a:moveTo>
                        <a:lnTo>
                          <a:pt x="48" y="0"/>
                        </a:lnTo>
                        <a:lnTo>
                          <a:pt x="48" y="144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1107360" y="4630680"/>
                    <a:ext cx="340920" cy="37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44">
                        <a:moveTo>
                          <a:pt x="127" y="133"/>
                        </a:moveTo>
                        <a:lnTo>
                          <a:pt x="128" y="144"/>
                        </a:lnTo>
                        <a:lnTo>
                          <a:pt x="0" y="4"/>
                        </a:lnTo>
                        <a:lnTo>
                          <a:pt x="60" y="0"/>
                        </a:lnTo>
                        <a:lnTo>
                          <a:pt x="127" y="13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369360" y="4622040"/>
                    <a:ext cx="276120" cy="3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52">
                        <a:moveTo>
                          <a:pt x="0" y="152"/>
                        </a:moveTo>
                        <a:lnTo>
                          <a:pt x="8" y="136"/>
                        </a:lnTo>
                        <a:lnTo>
                          <a:pt x="44" y="0"/>
                        </a:lnTo>
                        <a:lnTo>
                          <a:pt x="104" y="8"/>
                        </a:lnTo>
                        <a:lnTo>
                          <a:pt x="0" y="15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64400" y="4090680"/>
                    <a:ext cx="83664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15">
                        <a:moveTo>
                          <a:pt x="6" y="212"/>
                        </a:moveTo>
                        <a:cubicBezTo>
                          <a:pt x="13" y="215"/>
                          <a:pt x="1" y="209"/>
                          <a:pt x="44" y="208"/>
                        </a:cubicBezTo>
                        <a:cubicBezTo>
                          <a:pt x="87" y="207"/>
                          <a:pt x="221" y="205"/>
                          <a:pt x="264" y="204"/>
                        </a:cubicBezTo>
                        <a:cubicBezTo>
                          <a:pt x="307" y="203"/>
                          <a:pt x="296" y="213"/>
                          <a:pt x="304" y="204"/>
                        </a:cubicBezTo>
                        <a:cubicBezTo>
                          <a:pt x="312" y="195"/>
                          <a:pt x="311" y="171"/>
                          <a:pt x="312" y="152"/>
                        </a:cubicBezTo>
                        <a:cubicBezTo>
                          <a:pt x="313" y="133"/>
                          <a:pt x="313" y="111"/>
                          <a:pt x="308" y="92"/>
                        </a:cubicBezTo>
                        <a:cubicBezTo>
                          <a:pt x="303" y="73"/>
                          <a:pt x="294" y="52"/>
                          <a:pt x="284" y="40"/>
                        </a:cubicBezTo>
                        <a:cubicBezTo>
                          <a:pt x="274" y="28"/>
                          <a:pt x="261" y="26"/>
                          <a:pt x="248" y="20"/>
                        </a:cubicBezTo>
                        <a:cubicBezTo>
                          <a:pt x="235" y="14"/>
                          <a:pt x="219" y="0"/>
                          <a:pt x="204" y="4"/>
                        </a:cubicBezTo>
                        <a:cubicBezTo>
                          <a:pt x="189" y="8"/>
                          <a:pt x="169" y="37"/>
                          <a:pt x="160" y="44"/>
                        </a:cubicBezTo>
                        <a:cubicBezTo>
                          <a:pt x="151" y="51"/>
                          <a:pt x="161" y="50"/>
                          <a:pt x="152" y="44"/>
                        </a:cubicBezTo>
                        <a:cubicBezTo>
                          <a:pt x="143" y="38"/>
                          <a:pt x="120" y="13"/>
                          <a:pt x="108" y="8"/>
                        </a:cubicBezTo>
                        <a:cubicBezTo>
                          <a:pt x="96" y="3"/>
                          <a:pt x="91" y="9"/>
                          <a:pt x="80" y="16"/>
                        </a:cubicBezTo>
                        <a:cubicBezTo>
                          <a:pt x="69" y="23"/>
                          <a:pt x="55" y="37"/>
                          <a:pt x="44" y="48"/>
                        </a:cubicBezTo>
                        <a:cubicBezTo>
                          <a:pt x="33" y="59"/>
                          <a:pt x="22" y="73"/>
                          <a:pt x="16" y="84"/>
                        </a:cubicBezTo>
                        <a:cubicBezTo>
                          <a:pt x="10" y="95"/>
                          <a:pt x="8" y="103"/>
                          <a:pt x="6" y="116"/>
                        </a:cubicBezTo>
                        <a:cubicBezTo>
                          <a:pt x="4" y="129"/>
                          <a:pt x="7" y="151"/>
                          <a:pt x="6" y="164"/>
                        </a:cubicBezTo>
                        <a:cubicBezTo>
                          <a:pt x="5" y="177"/>
                          <a:pt x="0" y="184"/>
                          <a:pt x="0" y="192"/>
                        </a:cubicBezTo>
                        <a:cubicBezTo>
                          <a:pt x="0" y="200"/>
                          <a:pt x="2" y="209"/>
                          <a:pt x="6" y="212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1122480" y="4085640"/>
                    <a:ext cx="525600" cy="82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320">
                        <a:moveTo>
                          <a:pt x="0" y="23"/>
                        </a:moveTo>
                        <a:cubicBezTo>
                          <a:pt x="8" y="16"/>
                          <a:pt x="48" y="0"/>
                          <a:pt x="74" y="7"/>
                        </a:cubicBezTo>
                        <a:cubicBezTo>
                          <a:pt x="100" y="14"/>
                          <a:pt x="139" y="46"/>
                          <a:pt x="154" y="67"/>
                        </a:cubicBezTo>
                        <a:cubicBezTo>
                          <a:pt x="169" y="88"/>
                          <a:pt x="163" y="116"/>
                          <a:pt x="166" y="135"/>
                        </a:cubicBezTo>
                        <a:cubicBezTo>
                          <a:pt x="169" y="154"/>
                          <a:pt x="168" y="161"/>
                          <a:pt x="170" y="179"/>
                        </a:cubicBezTo>
                        <a:cubicBezTo>
                          <a:pt x="172" y="197"/>
                          <a:pt x="174" y="229"/>
                          <a:pt x="178" y="243"/>
                        </a:cubicBezTo>
                        <a:cubicBezTo>
                          <a:pt x="182" y="257"/>
                          <a:pt x="198" y="252"/>
                          <a:pt x="192" y="263"/>
                        </a:cubicBezTo>
                        <a:cubicBezTo>
                          <a:pt x="186" y="274"/>
                          <a:pt x="156" y="302"/>
                          <a:pt x="144" y="311"/>
                        </a:cubicBezTo>
                        <a:cubicBezTo>
                          <a:pt x="132" y="320"/>
                          <a:pt x="126" y="319"/>
                          <a:pt x="118" y="315"/>
                        </a:cubicBezTo>
                        <a:cubicBezTo>
                          <a:pt x="110" y="311"/>
                          <a:pt x="108" y="303"/>
                          <a:pt x="98" y="287"/>
                        </a:cubicBezTo>
                        <a:cubicBezTo>
                          <a:pt x="88" y="271"/>
                          <a:pt x="63" y="236"/>
                          <a:pt x="58" y="219"/>
                        </a:cubicBezTo>
                        <a:cubicBezTo>
                          <a:pt x="53" y="202"/>
                          <a:pt x="65" y="199"/>
                          <a:pt x="66" y="183"/>
                        </a:cubicBezTo>
                        <a:cubicBezTo>
                          <a:pt x="67" y="167"/>
                          <a:pt x="69" y="142"/>
                          <a:pt x="66" y="123"/>
                        </a:cubicBezTo>
                        <a:cubicBezTo>
                          <a:pt x="63" y="104"/>
                          <a:pt x="53" y="85"/>
                          <a:pt x="48" y="71"/>
                        </a:cubicBezTo>
                        <a:cubicBezTo>
                          <a:pt x="43" y="57"/>
                          <a:pt x="42" y="47"/>
                          <a:pt x="34" y="39"/>
                        </a:cubicBezTo>
                        <a:cubicBezTo>
                          <a:pt x="26" y="31"/>
                          <a:pt x="7" y="26"/>
                          <a:pt x="0" y="23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1393200" y="4622040"/>
                    <a:ext cx="26748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16">
                        <a:moveTo>
                          <a:pt x="76" y="4"/>
                        </a:moveTo>
                        <a:lnTo>
                          <a:pt x="76" y="0"/>
                        </a:lnTo>
                        <a:lnTo>
                          <a:pt x="100" y="56"/>
                        </a:lnTo>
                        <a:lnTo>
                          <a:pt x="28" y="116"/>
                        </a:lnTo>
                        <a:lnTo>
                          <a:pt x="0" y="80"/>
                        </a:lnTo>
                        <a:lnTo>
                          <a:pt x="76" y="4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88920" y="4096440"/>
                    <a:ext cx="593280" cy="83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322">
                        <a:moveTo>
                          <a:pt x="221" y="24"/>
                        </a:moveTo>
                        <a:cubicBezTo>
                          <a:pt x="222" y="15"/>
                          <a:pt x="202" y="4"/>
                          <a:pt x="185" y="2"/>
                        </a:cubicBezTo>
                        <a:cubicBezTo>
                          <a:pt x="168" y="0"/>
                          <a:pt x="144" y="0"/>
                          <a:pt x="121" y="10"/>
                        </a:cubicBezTo>
                        <a:cubicBezTo>
                          <a:pt x="98" y="20"/>
                          <a:pt x="61" y="40"/>
                          <a:pt x="47" y="60"/>
                        </a:cubicBezTo>
                        <a:cubicBezTo>
                          <a:pt x="33" y="80"/>
                          <a:pt x="38" y="109"/>
                          <a:pt x="35" y="128"/>
                        </a:cubicBezTo>
                        <a:cubicBezTo>
                          <a:pt x="32" y="147"/>
                          <a:pt x="33" y="154"/>
                          <a:pt x="31" y="172"/>
                        </a:cubicBezTo>
                        <a:cubicBezTo>
                          <a:pt x="29" y="190"/>
                          <a:pt x="27" y="222"/>
                          <a:pt x="23" y="236"/>
                        </a:cubicBezTo>
                        <a:cubicBezTo>
                          <a:pt x="19" y="250"/>
                          <a:pt x="0" y="246"/>
                          <a:pt x="9" y="256"/>
                        </a:cubicBezTo>
                        <a:cubicBezTo>
                          <a:pt x="18" y="266"/>
                          <a:pt x="59" y="288"/>
                          <a:pt x="77" y="298"/>
                        </a:cubicBezTo>
                        <a:cubicBezTo>
                          <a:pt x="95" y="308"/>
                          <a:pt x="109" y="322"/>
                          <a:pt x="117" y="318"/>
                        </a:cubicBezTo>
                        <a:cubicBezTo>
                          <a:pt x="125" y="314"/>
                          <a:pt x="121" y="292"/>
                          <a:pt x="125" y="274"/>
                        </a:cubicBezTo>
                        <a:cubicBezTo>
                          <a:pt x="129" y="256"/>
                          <a:pt x="140" y="228"/>
                          <a:pt x="143" y="212"/>
                        </a:cubicBezTo>
                        <a:cubicBezTo>
                          <a:pt x="146" y="196"/>
                          <a:pt x="145" y="189"/>
                          <a:pt x="145" y="178"/>
                        </a:cubicBezTo>
                        <a:cubicBezTo>
                          <a:pt x="145" y="167"/>
                          <a:pt x="143" y="164"/>
                          <a:pt x="145" y="148"/>
                        </a:cubicBezTo>
                        <a:cubicBezTo>
                          <a:pt x="147" y="132"/>
                          <a:pt x="154" y="97"/>
                          <a:pt x="157" y="84"/>
                        </a:cubicBezTo>
                        <a:cubicBezTo>
                          <a:pt x="160" y="71"/>
                          <a:pt x="161" y="77"/>
                          <a:pt x="165" y="72"/>
                        </a:cubicBezTo>
                        <a:cubicBezTo>
                          <a:pt x="169" y="67"/>
                          <a:pt x="172" y="64"/>
                          <a:pt x="181" y="56"/>
                        </a:cubicBezTo>
                        <a:cubicBezTo>
                          <a:pt x="190" y="48"/>
                          <a:pt x="213" y="31"/>
                          <a:pt x="221" y="24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26000" y="4641480"/>
                    <a:ext cx="2984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04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0" y="44"/>
                        </a:lnTo>
                        <a:lnTo>
                          <a:pt x="100" y="104"/>
                        </a:lnTo>
                        <a:lnTo>
                          <a:pt x="112" y="64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642960" y="4019760"/>
                    <a:ext cx="2242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6">
                        <a:moveTo>
                          <a:pt x="40" y="0"/>
                        </a:moveTo>
                        <a:cubicBezTo>
                          <a:pt x="34" y="12"/>
                          <a:pt x="43" y="12"/>
                          <a:pt x="28" y="12"/>
                        </a:cubicBezTo>
                        <a:lnTo>
                          <a:pt x="0" y="28"/>
                        </a:lnTo>
                        <a:lnTo>
                          <a:pt x="56" y="96"/>
                        </a:lnTo>
                        <a:lnTo>
                          <a:pt x="84" y="60"/>
                        </a:lnTo>
                        <a:lnTo>
                          <a:pt x="32" y="8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 flipH="1">
                    <a:off x="867240" y="4019760"/>
                    <a:ext cx="2210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6">
                        <a:moveTo>
                          <a:pt x="40" y="0"/>
                        </a:moveTo>
                        <a:cubicBezTo>
                          <a:pt x="34" y="12"/>
                          <a:pt x="43" y="12"/>
                          <a:pt x="28" y="12"/>
                        </a:cubicBezTo>
                        <a:lnTo>
                          <a:pt x="0" y="28"/>
                        </a:lnTo>
                        <a:lnTo>
                          <a:pt x="56" y="96"/>
                        </a:lnTo>
                        <a:lnTo>
                          <a:pt x="84" y="60"/>
                        </a:lnTo>
                        <a:lnTo>
                          <a:pt x="32" y="8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885600" y="4641480"/>
                    <a:ext cx="18720" cy="10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00">
                        <a:moveTo>
                          <a:pt x="0" y="0"/>
                        </a:moveTo>
                        <a:lnTo>
                          <a:pt x="8" y="40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873720" y="4195800"/>
                    <a:ext cx="2520" cy="41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0">
                        <a:moveTo>
                          <a:pt x="0" y="0"/>
                        </a:moveTo>
                        <a:lnTo>
                          <a:pt x="0" y="16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396720" y="5566320"/>
                    <a:ext cx="10486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95">
                        <a:moveTo>
                          <a:pt x="10" y="49"/>
                        </a:moveTo>
                        <a:cubicBezTo>
                          <a:pt x="0" y="62"/>
                          <a:pt x="3" y="80"/>
                          <a:pt x="11" y="86"/>
                        </a:cubicBezTo>
                        <a:cubicBezTo>
                          <a:pt x="19" y="92"/>
                          <a:pt x="31" y="86"/>
                          <a:pt x="59" y="86"/>
                        </a:cubicBezTo>
                        <a:cubicBezTo>
                          <a:pt x="87" y="86"/>
                          <a:pt x="136" y="88"/>
                          <a:pt x="181" y="88"/>
                        </a:cubicBezTo>
                        <a:cubicBezTo>
                          <a:pt x="226" y="88"/>
                          <a:pt x="304" y="95"/>
                          <a:pt x="328" y="88"/>
                        </a:cubicBezTo>
                        <a:cubicBezTo>
                          <a:pt x="352" y="81"/>
                          <a:pt x="339" y="58"/>
                          <a:pt x="325" y="43"/>
                        </a:cubicBezTo>
                        <a:cubicBezTo>
                          <a:pt x="311" y="28"/>
                          <a:pt x="268" y="2"/>
                          <a:pt x="244" y="1"/>
                        </a:cubicBezTo>
                        <a:cubicBezTo>
                          <a:pt x="220" y="0"/>
                          <a:pt x="191" y="26"/>
                          <a:pt x="181" y="40"/>
                        </a:cubicBezTo>
                        <a:cubicBezTo>
                          <a:pt x="171" y="54"/>
                          <a:pt x="191" y="86"/>
                          <a:pt x="187" y="85"/>
                        </a:cubicBezTo>
                        <a:cubicBezTo>
                          <a:pt x="183" y="84"/>
                          <a:pt x="173" y="47"/>
                          <a:pt x="154" y="34"/>
                        </a:cubicBezTo>
                        <a:cubicBezTo>
                          <a:pt x="135" y="21"/>
                          <a:pt x="94" y="4"/>
                          <a:pt x="70" y="7"/>
                        </a:cubicBezTo>
                        <a:cubicBezTo>
                          <a:pt x="46" y="10"/>
                          <a:pt x="20" y="36"/>
                          <a:pt x="10" y="49"/>
                        </a:cubicBez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4" name=""/>
                  <p:cNvGrpSpPr/>
                  <p:nvPr/>
                </p:nvGrpSpPr>
                <p:grpSpPr>
                  <a:xfrm>
                    <a:off x="-360" y="2924280"/>
                    <a:ext cx="1786320" cy="2170800"/>
                    <a:chOff x="-360" y="2924280"/>
                    <a:chExt cx="1786320" cy="2170800"/>
                  </a:xfrm>
                </p:grpSpPr>
                <p:sp>
                  <p:nvSpPr>
                    <p:cNvPr id="1245" name=""/>
                    <p:cNvSpPr/>
                    <p:nvPr/>
                  </p:nvSpPr>
                  <p:spPr>
                    <a:xfrm>
                      <a:off x="280080" y="2924280"/>
                      <a:ext cx="1189440" cy="78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301">
                          <a:moveTo>
                            <a:pt x="378" y="286"/>
                          </a:moveTo>
                          <a:cubicBezTo>
                            <a:pt x="381" y="275"/>
                            <a:pt x="398" y="234"/>
                            <a:pt x="399" y="220"/>
                          </a:cubicBezTo>
                          <a:cubicBezTo>
                            <a:pt x="400" y="206"/>
                            <a:pt x="386" y="211"/>
                            <a:pt x="384" y="202"/>
                          </a:cubicBezTo>
                          <a:cubicBezTo>
                            <a:pt x="382" y="193"/>
                            <a:pt x="391" y="174"/>
                            <a:pt x="387" y="166"/>
                          </a:cubicBezTo>
                          <a:cubicBezTo>
                            <a:pt x="383" y="158"/>
                            <a:pt x="363" y="158"/>
                            <a:pt x="360" y="151"/>
                          </a:cubicBezTo>
                          <a:cubicBezTo>
                            <a:pt x="357" y="144"/>
                            <a:pt x="367" y="125"/>
                            <a:pt x="366" y="121"/>
                          </a:cubicBezTo>
                          <a:cubicBezTo>
                            <a:pt x="365" y="117"/>
                            <a:pt x="363" y="133"/>
                            <a:pt x="351" y="124"/>
                          </a:cubicBezTo>
                          <a:cubicBezTo>
                            <a:pt x="339" y="115"/>
                            <a:pt x="308" y="77"/>
                            <a:pt x="294" y="67"/>
                          </a:cubicBezTo>
                          <a:cubicBezTo>
                            <a:pt x="280" y="57"/>
                            <a:pt x="275" y="66"/>
                            <a:pt x="267" y="64"/>
                          </a:cubicBezTo>
                          <a:cubicBezTo>
                            <a:pt x="259" y="62"/>
                            <a:pt x="248" y="59"/>
                            <a:pt x="247" y="53"/>
                          </a:cubicBezTo>
                          <a:cubicBezTo>
                            <a:pt x="246" y="47"/>
                            <a:pt x="255" y="32"/>
                            <a:pt x="261" y="28"/>
                          </a:cubicBezTo>
                          <a:cubicBezTo>
                            <a:pt x="267" y="24"/>
                            <a:pt x="282" y="35"/>
                            <a:pt x="282" y="31"/>
                          </a:cubicBezTo>
                          <a:cubicBezTo>
                            <a:pt x="282" y="27"/>
                            <a:pt x="273" y="0"/>
                            <a:pt x="264" y="1"/>
                          </a:cubicBezTo>
                          <a:cubicBezTo>
                            <a:pt x="255" y="2"/>
                            <a:pt x="235" y="31"/>
                            <a:pt x="228" y="40"/>
                          </a:cubicBezTo>
                          <a:cubicBezTo>
                            <a:pt x="221" y="49"/>
                            <a:pt x="225" y="60"/>
                            <a:pt x="219" y="55"/>
                          </a:cubicBezTo>
                          <a:cubicBezTo>
                            <a:pt x="213" y="50"/>
                            <a:pt x="197" y="15"/>
                            <a:pt x="192" y="10"/>
                          </a:cubicBezTo>
                          <a:cubicBezTo>
                            <a:pt x="187" y="5"/>
                            <a:pt x="184" y="15"/>
                            <a:pt x="186" y="22"/>
                          </a:cubicBezTo>
                          <a:cubicBezTo>
                            <a:pt x="188" y="29"/>
                            <a:pt x="208" y="57"/>
                            <a:pt x="204" y="55"/>
                          </a:cubicBezTo>
                          <a:cubicBezTo>
                            <a:pt x="200" y="53"/>
                            <a:pt x="172" y="17"/>
                            <a:pt x="162" y="10"/>
                          </a:cubicBezTo>
                          <a:cubicBezTo>
                            <a:pt x="152" y="3"/>
                            <a:pt x="151" y="15"/>
                            <a:pt x="144" y="16"/>
                          </a:cubicBezTo>
                          <a:cubicBezTo>
                            <a:pt x="137" y="17"/>
                            <a:pt x="125" y="16"/>
                            <a:pt x="120" y="19"/>
                          </a:cubicBezTo>
                          <a:cubicBezTo>
                            <a:pt x="115" y="22"/>
                            <a:pt x="110" y="31"/>
                            <a:pt x="114" y="34"/>
                          </a:cubicBezTo>
                          <a:cubicBezTo>
                            <a:pt x="118" y="37"/>
                            <a:pt x="140" y="33"/>
                            <a:pt x="147" y="37"/>
                          </a:cubicBezTo>
                          <a:cubicBezTo>
                            <a:pt x="154" y="41"/>
                            <a:pt x="163" y="55"/>
                            <a:pt x="159" y="58"/>
                          </a:cubicBezTo>
                          <a:cubicBezTo>
                            <a:pt x="155" y="61"/>
                            <a:pt x="133" y="53"/>
                            <a:pt x="126" y="55"/>
                          </a:cubicBezTo>
                          <a:cubicBezTo>
                            <a:pt x="119" y="57"/>
                            <a:pt x="119" y="69"/>
                            <a:pt x="114" y="73"/>
                          </a:cubicBezTo>
                          <a:cubicBezTo>
                            <a:pt x="109" y="77"/>
                            <a:pt x="100" y="76"/>
                            <a:pt x="93" y="79"/>
                          </a:cubicBezTo>
                          <a:cubicBezTo>
                            <a:pt x="86" y="82"/>
                            <a:pt x="79" y="89"/>
                            <a:pt x="72" y="94"/>
                          </a:cubicBezTo>
                          <a:cubicBezTo>
                            <a:pt x="65" y="99"/>
                            <a:pt x="56" y="101"/>
                            <a:pt x="54" y="106"/>
                          </a:cubicBezTo>
                          <a:cubicBezTo>
                            <a:pt x="52" y="111"/>
                            <a:pt x="61" y="118"/>
                            <a:pt x="60" y="124"/>
                          </a:cubicBezTo>
                          <a:cubicBezTo>
                            <a:pt x="59" y="130"/>
                            <a:pt x="51" y="137"/>
                            <a:pt x="45" y="142"/>
                          </a:cubicBezTo>
                          <a:cubicBezTo>
                            <a:pt x="39" y="147"/>
                            <a:pt x="33" y="142"/>
                            <a:pt x="27" y="154"/>
                          </a:cubicBezTo>
                          <a:cubicBezTo>
                            <a:pt x="21" y="166"/>
                            <a:pt x="16" y="194"/>
                            <a:pt x="12" y="214"/>
                          </a:cubicBezTo>
                          <a:cubicBezTo>
                            <a:pt x="8" y="234"/>
                            <a:pt x="0" y="260"/>
                            <a:pt x="3" y="274"/>
                          </a:cubicBezTo>
                          <a:cubicBezTo>
                            <a:pt x="6" y="288"/>
                            <a:pt x="27" y="295"/>
                            <a:pt x="33" y="301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50000">
                          <a:srgbClr val="333333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6" name=""/>
                    <p:cNvSpPr/>
                    <p:nvPr/>
                  </p:nvSpPr>
                  <p:spPr>
                    <a:xfrm>
                      <a:off x="1473120" y="4789440"/>
                      <a:ext cx="31284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7">
                          <a:moveTo>
                            <a:pt x="56" y="0"/>
                          </a:moveTo>
                          <a:cubicBezTo>
                            <a:pt x="62" y="5"/>
                            <a:pt x="87" y="20"/>
                            <a:pt x="95" y="33"/>
                          </a:cubicBezTo>
                          <a:cubicBezTo>
                            <a:pt x="103" y="46"/>
                            <a:pt x="105" y="70"/>
                            <a:pt x="101" y="81"/>
                          </a:cubicBezTo>
                          <a:cubicBezTo>
                            <a:pt x="97" y="92"/>
                            <a:pt x="78" y="91"/>
                            <a:pt x="68" y="96"/>
                          </a:cubicBezTo>
                          <a:cubicBezTo>
                            <a:pt x="58" y="101"/>
                            <a:pt x="48" y="117"/>
                            <a:pt x="38" y="114"/>
                          </a:cubicBezTo>
                          <a:cubicBezTo>
                            <a:pt x="28" y="111"/>
                            <a:pt x="10" y="86"/>
                            <a:pt x="5" y="75"/>
                          </a:cubicBezTo>
                          <a:cubicBezTo>
                            <a:pt x="0" y="64"/>
                            <a:pt x="5" y="54"/>
                            <a:pt x="5" y="4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9f3f"/>
                        </a:gs>
                        <a:gs pos="100000">
                          <a:srgbClr val="ffae5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 flipH="1">
                      <a:off x="-720" y="4784400"/>
                      <a:ext cx="313560" cy="30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7">
                          <a:moveTo>
                            <a:pt x="56" y="0"/>
                          </a:moveTo>
                          <a:cubicBezTo>
                            <a:pt x="62" y="5"/>
                            <a:pt x="87" y="20"/>
                            <a:pt x="95" y="33"/>
                          </a:cubicBezTo>
                          <a:cubicBezTo>
                            <a:pt x="103" y="46"/>
                            <a:pt x="105" y="70"/>
                            <a:pt x="101" y="81"/>
                          </a:cubicBezTo>
                          <a:cubicBezTo>
                            <a:pt x="97" y="92"/>
                            <a:pt x="78" y="91"/>
                            <a:pt x="68" y="96"/>
                          </a:cubicBezTo>
                          <a:cubicBezTo>
                            <a:pt x="58" y="101"/>
                            <a:pt x="48" y="117"/>
                            <a:pt x="38" y="114"/>
                          </a:cubicBezTo>
                          <a:cubicBezTo>
                            <a:pt x="28" y="111"/>
                            <a:pt x="10" y="86"/>
                            <a:pt x="5" y="75"/>
                          </a:cubicBezTo>
                          <a:cubicBezTo>
                            <a:pt x="0" y="64"/>
                            <a:pt x="5" y="54"/>
                            <a:pt x="5" y="4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9f3f"/>
                        </a:gs>
                        <a:gs pos="100000">
                          <a:srgbClr val="ffae5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>
                      <a:off x="381240" y="3204360"/>
                      <a:ext cx="1024200" cy="9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" h="365">
                          <a:moveTo>
                            <a:pt x="0" y="194"/>
                          </a:moveTo>
                          <a:cubicBezTo>
                            <a:pt x="0" y="198"/>
                            <a:pt x="0" y="197"/>
                            <a:pt x="6" y="209"/>
                          </a:cubicBezTo>
                          <a:cubicBezTo>
                            <a:pt x="12" y="221"/>
                            <a:pt x="23" y="250"/>
                            <a:pt x="36" y="266"/>
                          </a:cubicBezTo>
                          <a:cubicBezTo>
                            <a:pt x="49" y="282"/>
                            <a:pt x="70" y="299"/>
                            <a:pt x="87" y="308"/>
                          </a:cubicBezTo>
                          <a:cubicBezTo>
                            <a:pt x="104" y="317"/>
                            <a:pt x="129" y="314"/>
                            <a:pt x="138" y="320"/>
                          </a:cubicBezTo>
                          <a:cubicBezTo>
                            <a:pt x="147" y="326"/>
                            <a:pt x="140" y="337"/>
                            <a:pt x="144" y="344"/>
                          </a:cubicBezTo>
                          <a:cubicBezTo>
                            <a:pt x="148" y="351"/>
                            <a:pt x="157" y="365"/>
                            <a:pt x="165" y="365"/>
                          </a:cubicBezTo>
                          <a:cubicBezTo>
                            <a:pt x="173" y="365"/>
                            <a:pt x="185" y="349"/>
                            <a:pt x="192" y="341"/>
                          </a:cubicBezTo>
                          <a:cubicBezTo>
                            <a:pt x="199" y="333"/>
                            <a:pt x="197" y="322"/>
                            <a:pt x="207" y="317"/>
                          </a:cubicBezTo>
                          <a:cubicBezTo>
                            <a:pt x="217" y="312"/>
                            <a:pt x="239" y="315"/>
                            <a:pt x="255" y="308"/>
                          </a:cubicBezTo>
                          <a:cubicBezTo>
                            <a:pt x="271" y="301"/>
                            <a:pt x="289" y="296"/>
                            <a:pt x="303" y="275"/>
                          </a:cubicBezTo>
                          <a:cubicBezTo>
                            <a:pt x="317" y="254"/>
                            <a:pt x="344" y="208"/>
                            <a:pt x="342" y="179"/>
                          </a:cubicBezTo>
                          <a:cubicBezTo>
                            <a:pt x="340" y="150"/>
                            <a:pt x="302" y="123"/>
                            <a:pt x="288" y="98"/>
                          </a:cubicBezTo>
                          <a:cubicBezTo>
                            <a:pt x="274" y="73"/>
                            <a:pt x="269" y="31"/>
                            <a:pt x="256" y="27"/>
                          </a:cubicBezTo>
                          <a:cubicBezTo>
                            <a:pt x="243" y="23"/>
                            <a:pt x="218" y="70"/>
                            <a:pt x="208" y="75"/>
                          </a:cubicBezTo>
                          <a:cubicBezTo>
                            <a:pt x="198" y="80"/>
                            <a:pt x="202" y="60"/>
                            <a:pt x="198" y="56"/>
                          </a:cubicBezTo>
                          <a:cubicBezTo>
                            <a:pt x="194" y="52"/>
                            <a:pt x="197" y="50"/>
                            <a:pt x="183" y="53"/>
                          </a:cubicBezTo>
                          <a:cubicBezTo>
                            <a:pt x="169" y="56"/>
                            <a:pt x="121" y="77"/>
                            <a:pt x="112" y="75"/>
                          </a:cubicBezTo>
                          <a:cubicBezTo>
                            <a:pt x="103" y="73"/>
                            <a:pt x="126" y="52"/>
                            <a:pt x="126" y="41"/>
                          </a:cubicBezTo>
                          <a:cubicBezTo>
                            <a:pt x="126" y="30"/>
                            <a:pt x="126" y="0"/>
                            <a:pt x="114" y="11"/>
                          </a:cubicBezTo>
                          <a:cubicBezTo>
                            <a:pt x="102" y="22"/>
                            <a:pt x="63" y="89"/>
                            <a:pt x="54" y="110"/>
                          </a:cubicBezTo>
                          <a:cubicBezTo>
                            <a:pt x="45" y="131"/>
                            <a:pt x="60" y="129"/>
                            <a:pt x="60" y="137"/>
                          </a:cubicBezTo>
                          <a:cubicBezTo>
                            <a:pt x="60" y="145"/>
                            <a:pt x="58" y="158"/>
                            <a:pt x="54" y="161"/>
                          </a:cubicBezTo>
                          <a:cubicBezTo>
                            <a:pt x="50" y="164"/>
                            <a:pt x="39" y="162"/>
                            <a:pt x="36" y="155"/>
                          </a:cubicBezTo>
                          <a:cubicBezTo>
                            <a:pt x="33" y="148"/>
                            <a:pt x="37" y="119"/>
                            <a:pt x="33" y="119"/>
                          </a:cubicBezTo>
                          <a:cubicBezTo>
                            <a:pt x="29" y="119"/>
                            <a:pt x="16" y="143"/>
                            <a:pt x="12" y="152"/>
                          </a:cubicBezTo>
                          <a:cubicBezTo>
                            <a:pt x="8" y="161"/>
                            <a:pt x="12" y="168"/>
                            <a:pt x="12" y="173"/>
                          </a:cubicBezTo>
                          <a:cubicBezTo>
                            <a:pt x="12" y="178"/>
                            <a:pt x="11" y="182"/>
                            <a:pt x="9" y="185"/>
                          </a:cubicBezTo>
                          <a:cubicBezTo>
                            <a:pt x="7" y="188"/>
                            <a:pt x="0" y="190"/>
                            <a:pt x="0" y="19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993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>
                      <a:off x="747360" y="3845880"/>
                      <a:ext cx="338040" cy="8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32">
                          <a:moveTo>
                            <a:pt x="0" y="0"/>
                          </a:moveTo>
                          <a:cubicBezTo>
                            <a:pt x="7" y="4"/>
                            <a:pt x="29" y="22"/>
                            <a:pt x="39" y="27"/>
                          </a:cubicBezTo>
                          <a:cubicBezTo>
                            <a:pt x="49" y="32"/>
                            <a:pt x="53" y="30"/>
                            <a:pt x="60" y="30"/>
                          </a:cubicBezTo>
                          <a:cubicBezTo>
                            <a:pt x="67" y="30"/>
                            <a:pt x="72" y="32"/>
                            <a:pt x="81" y="27"/>
                          </a:cubicBezTo>
                          <a:cubicBezTo>
                            <a:pt x="90" y="22"/>
                            <a:pt x="107" y="8"/>
                            <a:pt x="114" y="3"/>
                          </a:cubicBezTo>
                        </a:path>
                      </a:pathLst>
                    </a:custGeom>
                    <a:noFill/>
                    <a:ln w="12600">
                      <a:solidFill>
                        <a:srgbClr val="d2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858240" y="3879000"/>
                      <a:ext cx="14076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">
                          <a:moveTo>
                            <a:pt x="0" y="10"/>
                          </a:moveTo>
                          <a:cubicBezTo>
                            <a:pt x="2" y="8"/>
                            <a:pt x="7" y="0"/>
                            <a:pt x="11" y="0"/>
                          </a:cubicBezTo>
                          <a:cubicBezTo>
                            <a:pt x="15" y="0"/>
                            <a:pt x="19" y="9"/>
                            <a:pt x="23" y="9"/>
                          </a:cubicBezTo>
                          <a:cubicBezTo>
                            <a:pt x="27" y="9"/>
                            <a:pt x="34" y="0"/>
                            <a:pt x="38" y="0"/>
                          </a:cubicBezTo>
                          <a:cubicBezTo>
                            <a:pt x="42" y="0"/>
                            <a:pt x="46" y="8"/>
                            <a:pt x="48" y="10"/>
                          </a:cubicBezTo>
                        </a:path>
                      </a:pathLst>
                    </a:cu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>
                      <a:off x="694800" y="3537720"/>
                      <a:ext cx="1872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8">
                          <a:moveTo>
                            <a:pt x="63" y="16"/>
                          </a:moveTo>
                          <a:cubicBezTo>
                            <a:pt x="58" y="14"/>
                            <a:pt x="39" y="6"/>
                            <a:pt x="33" y="4"/>
                          </a:cubicBezTo>
                          <a:cubicBezTo>
                            <a:pt x="27" y="2"/>
                            <a:pt x="29" y="0"/>
                            <a:pt x="24" y="4"/>
                          </a:cubicBezTo>
                          <a:cubicBezTo>
                            <a:pt x="19" y="8"/>
                            <a:pt x="5" y="23"/>
                            <a:pt x="0" y="2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2" name=""/>
                    <p:cNvSpPr/>
                    <p:nvPr/>
                  </p:nvSpPr>
                  <p:spPr>
                    <a:xfrm>
                      <a:off x="756360" y="3617640"/>
                      <a:ext cx="7992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7" y="12"/>
                          </a:moveTo>
                          <a:cubicBezTo>
                            <a:pt x="27" y="8"/>
                            <a:pt x="16" y="0"/>
                            <a:pt x="12" y="0"/>
                          </a:cubicBezTo>
                          <a:cubicBezTo>
                            <a:pt x="8" y="0"/>
                            <a:pt x="0" y="11"/>
                            <a:pt x="0" y="15"/>
                          </a:cubicBezTo>
                          <a:cubicBezTo>
                            <a:pt x="0" y="19"/>
                            <a:pt x="11" y="27"/>
                            <a:pt x="15" y="27"/>
                          </a:cubicBezTo>
                          <a:cubicBezTo>
                            <a:pt x="19" y="27"/>
                            <a:pt x="27" y="16"/>
                            <a:pt x="27" y="12"/>
                          </a:cubicBezTo>
                          <a:close/>
                        </a:path>
                      </a:pathLst>
                    </a:custGeom>
                    <a:solidFill>
                      <a:srgbClr val="333399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3" name=""/>
                    <p:cNvSpPr/>
                    <p:nvPr/>
                  </p:nvSpPr>
                  <p:spPr>
                    <a:xfrm>
                      <a:off x="692280" y="3559320"/>
                      <a:ext cx="19008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6">
                          <a:moveTo>
                            <a:pt x="4" y="31"/>
                          </a:moveTo>
                          <a:cubicBezTo>
                            <a:pt x="3" y="29"/>
                            <a:pt x="0" y="27"/>
                            <a:pt x="4" y="22"/>
                          </a:cubicBezTo>
                          <a:cubicBezTo>
                            <a:pt x="8" y="17"/>
                            <a:pt x="22" y="2"/>
                            <a:pt x="31" y="1"/>
                          </a:cubicBezTo>
                          <a:cubicBezTo>
                            <a:pt x="40" y="0"/>
                            <a:pt x="58" y="8"/>
                            <a:pt x="61" y="13"/>
                          </a:cubicBezTo>
                          <a:cubicBezTo>
                            <a:pt x="64" y="18"/>
                            <a:pt x="56" y="30"/>
                            <a:pt x="52" y="31"/>
                          </a:cubicBezTo>
                          <a:cubicBezTo>
                            <a:pt x="48" y="32"/>
                            <a:pt x="40" y="19"/>
                            <a:pt x="34" y="19"/>
                          </a:cubicBezTo>
                          <a:cubicBezTo>
                            <a:pt x="28" y="19"/>
                            <a:pt x="18" y="32"/>
                            <a:pt x="13" y="34"/>
                          </a:cubicBezTo>
                          <a:cubicBezTo>
                            <a:pt x="8" y="36"/>
                            <a:pt x="4" y="34"/>
                            <a:pt x="4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4" name=""/>
                    <p:cNvSpPr/>
                    <p:nvPr/>
                  </p:nvSpPr>
                  <p:spPr>
                    <a:xfrm flipH="1">
                      <a:off x="999000" y="3526200"/>
                      <a:ext cx="18720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8">
                          <a:moveTo>
                            <a:pt x="63" y="16"/>
                          </a:moveTo>
                          <a:cubicBezTo>
                            <a:pt x="58" y="14"/>
                            <a:pt x="39" y="6"/>
                            <a:pt x="33" y="4"/>
                          </a:cubicBezTo>
                          <a:cubicBezTo>
                            <a:pt x="27" y="2"/>
                            <a:pt x="29" y="0"/>
                            <a:pt x="24" y="4"/>
                          </a:cubicBezTo>
                          <a:cubicBezTo>
                            <a:pt x="19" y="8"/>
                            <a:pt x="5" y="23"/>
                            <a:pt x="0" y="2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5" name=""/>
                    <p:cNvSpPr/>
                    <p:nvPr/>
                  </p:nvSpPr>
                  <p:spPr>
                    <a:xfrm flipH="1">
                      <a:off x="1045800" y="3606120"/>
                      <a:ext cx="792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7" y="12"/>
                          </a:moveTo>
                          <a:cubicBezTo>
                            <a:pt x="27" y="8"/>
                            <a:pt x="16" y="0"/>
                            <a:pt x="12" y="0"/>
                          </a:cubicBezTo>
                          <a:cubicBezTo>
                            <a:pt x="8" y="0"/>
                            <a:pt x="0" y="11"/>
                            <a:pt x="0" y="15"/>
                          </a:cubicBezTo>
                          <a:cubicBezTo>
                            <a:pt x="0" y="19"/>
                            <a:pt x="11" y="27"/>
                            <a:pt x="15" y="27"/>
                          </a:cubicBezTo>
                          <a:cubicBezTo>
                            <a:pt x="19" y="27"/>
                            <a:pt x="27" y="16"/>
                            <a:pt x="27" y="12"/>
                          </a:cubicBezTo>
                          <a:close/>
                        </a:path>
                      </a:pathLst>
                    </a:custGeom>
                    <a:solidFill>
                      <a:srgbClr val="333399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6" name=""/>
                    <p:cNvSpPr/>
                    <p:nvPr/>
                  </p:nvSpPr>
                  <p:spPr>
                    <a:xfrm flipH="1">
                      <a:off x="999000" y="3551400"/>
                      <a:ext cx="1908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6">
                          <a:moveTo>
                            <a:pt x="4" y="31"/>
                          </a:moveTo>
                          <a:cubicBezTo>
                            <a:pt x="3" y="29"/>
                            <a:pt x="0" y="27"/>
                            <a:pt x="4" y="22"/>
                          </a:cubicBezTo>
                          <a:cubicBezTo>
                            <a:pt x="8" y="17"/>
                            <a:pt x="22" y="2"/>
                            <a:pt x="31" y="1"/>
                          </a:cubicBezTo>
                          <a:cubicBezTo>
                            <a:pt x="40" y="0"/>
                            <a:pt x="58" y="8"/>
                            <a:pt x="61" y="13"/>
                          </a:cubicBezTo>
                          <a:cubicBezTo>
                            <a:pt x="64" y="18"/>
                            <a:pt x="56" y="30"/>
                            <a:pt x="52" y="31"/>
                          </a:cubicBezTo>
                          <a:cubicBezTo>
                            <a:pt x="48" y="32"/>
                            <a:pt x="40" y="19"/>
                            <a:pt x="34" y="19"/>
                          </a:cubicBezTo>
                          <a:cubicBezTo>
                            <a:pt x="28" y="19"/>
                            <a:pt x="18" y="32"/>
                            <a:pt x="13" y="34"/>
                          </a:cubicBezTo>
                          <a:cubicBezTo>
                            <a:pt x="8" y="36"/>
                            <a:pt x="4" y="34"/>
                            <a:pt x="4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7" name=""/>
                    <p:cNvSpPr/>
                    <p:nvPr/>
                  </p:nvSpPr>
                  <p:spPr>
                    <a:xfrm>
                      <a:off x="941040" y="3455280"/>
                      <a:ext cx="303840" cy="28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07">
                          <a:moveTo>
                            <a:pt x="4" y="35"/>
                          </a:moveTo>
                          <a:cubicBezTo>
                            <a:pt x="9" y="25"/>
                            <a:pt x="27" y="10"/>
                            <a:pt x="37" y="5"/>
                          </a:cubicBezTo>
                          <a:cubicBezTo>
                            <a:pt x="47" y="0"/>
                            <a:pt x="57" y="0"/>
                            <a:pt x="67" y="5"/>
                          </a:cubicBezTo>
                          <a:cubicBezTo>
                            <a:pt x="77" y="10"/>
                            <a:pt x="92" y="25"/>
                            <a:pt x="97" y="35"/>
                          </a:cubicBezTo>
                          <a:cubicBezTo>
                            <a:pt x="102" y="45"/>
                            <a:pt x="101" y="57"/>
                            <a:pt x="97" y="68"/>
                          </a:cubicBezTo>
                          <a:cubicBezTo>
                            <a:pt x="93" y="79"/>
                            <a:pt x="79" y="95"/>
                            <a:pt x="70" y="101"/>
                          </a:cubicBezTo>
                          <a:cubicBezTo>
                            <a:pt x="61" y="107"/>
                            <a:pt x="49" y="105"/>
                            <a:pt x="40" y="104"/>
                          </a:cubicBezTo>
                          <a:cubicBezTo>
                            <a:pt x="31" y="103"/>
                            <a:pt x="19" y="98"/>
                            <a:pt x="13" y="92"/>
                          </a:cubicBezTo>
                          <a:cubicBezTo>
                            <a:pt x="7" y="86"/>
                            <a:pt x="2" y="74"/>
                            <a:pt x="1" y="65"/>
                          </a:cubicBezTo>
                          <a:cubicBezTo>
                            <a:pt x="0" y="56"/>
                            <a:pt x="4" y="41"/>
                            <a:pt x="4" y="35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8" name=""/>
                    <p:cNvSpPr/>
                    <p:nvPr/>
                  </p:nvSpPr>
                  <p:spPr>
                    <a:xfrm>
                      <a:off x="624600" y="3471480"/>
                      <a:ext cx="309960" cy="27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4">
                          <a:moveTo>
                            <a:pt x="2" y="32"/>
                          </a:moveTo>
                          <a:cubicBezTo>
                            <a:pt x="6" y="23"/>
                            <a:pt x="17" y="12"/>
                            <a:pt x="29" y="8"/>
                          </a:cubicBezTo>
                          <a:cubicBezTo>
                            <a:pt x="41" y="4"/>
                            <a:pt x="62" y="0"/>
                            <a:pt x="74" y="5"/>
                          </a:cubicBezTo>
                          <a:cubicBezTo>
                            <a:pt x="86" y="10"/>
                            <a:pt x="98" y="27"/>
                            <a:pt x="101" y="38"/>
                          </a:cubicBezTo>
                          <a:cubicBezTo>
                            <a:pt x="104" y="49"/>
                            <a:pt x="99" y="64"/>
                            <a:pt x="95" y="74"/>
                          </a:cubicBezTo>
                          <a:cubicBezTo>
                            <a:pt x="91" y="84"/>
                            <a:pt x="79" y="94"/>
                            <a:pt x="74" y="98"/>
                          </a:cubicBezTo>
                          <a:cubicBezTo>
                            <a:pt x="69" y="102"/>
                            <a:pt x="69" y="97"/>
                            <a:pt x="62" y="98"/>
                          </a:cubicBezTo>
                          <a:cubicBezTo>
                            <a:pt x="55" y="99"/>
                            <a:pt x="41" y="104"/>
                            <a:pt x="32" y="101"/>
                          </a:cubicBezTo>
                          <a:cubicBezTo>
                            <a:pt x="23" y="98"/>
                            <a:pt x="12" y="87"/>
                            <a:pt x="8" y="80"/>
                          </a:cubicBezTo>
                          <a:cubicBezTo>
                            <a:pt x="4" y="73"/>
                            <a:pt x="6" y="70"/>
                            <a:pt x="5" y="62"/>
                          </a:cubicBezTo>
                          <a:cubicBezTo>
                            <a:pt x="4" y="54"/>
                            <a:pt x="0" y="40"/>
                            <a:pt x="2" y="32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9" name=""/>
                    <p:cNvSpPr/>
                    <p:nvPr/>
                  </p:nvSpPr>
                  <p:spPr>
                    <a:xfrm>
                      <a:off x="1079280" y="3689280"/>
                      <a:ext cx="206280" cy="21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82">
                          <a:moveTo>
                            <a:pt x="60" y="6"/>
                          </a:moveTo>
                          <a:cubicBezTo>
                            <a:pt x="70" y="8"/>
                            <a:pt x="66" y="27"/>
                            <a:pt x="63" y="39"/>
                          </a:cubicBezTo>
                          <a:cubicBezTo>
                            <a:pt x="60" y="51"/>
                            <a:pt x="53" y="82"/>
                            <a:pt x="43" y="81"/>
                          </a:cubicBezTo>
                          <a:cubicBezTo>
                            <a:pt x="33" y="80"/>
                            <a:pt x="0" y="42"/>
                            <a:pt x="3" y="30"/>
                          </a:cubicBezTo>
                          <a:cubicBezTo>
                            <a:pt x="6" y="18"/>
                            <a:pt x="50" y="0"/>
                            <a:pt x="60" y="6"/>
                          </a:cubicBezTo>
                          <a:close/>
                        </a:path>
                      </a:pathLst>
                    </a:custGeom>
                    <a:solidFill>
                      <a:srgbClr val="fda1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0" name=""/>
                    <p:cNvSpPr/>
                    <p:nvPr/>
                  </p:nvSpPr>
                  <p:spPr>
                    <a:xfrm>
                      <a:off x="572400" y="3768480"/>
                      <a:ext cx="218160" cy="13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52">
                          <a:moveTo>
                            <a:pt x="10" y="0"/>
                          </a:moveTo>
                          <a:cubicBezTo>
                            <a:pt x="0" y="1"/>
                            <a:pt x="4" y="25"/>
                            <a:pt x="7" y="33"/>
                          </a:cubicBezTo>
                          <a:cubicBezTo>
                            <a:pt x="10" y="41"/>
                            <a:pt x="18" y="52"/>
                            <a:pt x="28" y="51"/>
                          </a:cubicBezTo>
                          <a:cubicBezTo>
                            <a:pt x="38" y="50"/>
                            <a:pt x="73" y="35"/>
                            <a:pt x="70" y="27"/>
                          </a:cubicBezTo>
                          <a:cubicBezTo>
                            <a:pt x="67" y="19"/>
                            <a:pt x="23" y="0"/>
                            <a:pt x="10" y="0"/>
                          </a:cubicBezTo>
                          <a:close/>
                        </a:path>
                      </a:pathLst>
                    </a:custGeom>
                    <a:solidFill>
                      <a:srgbClr val="fda1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61" name=""/>
                <p:cNvSpPr/>
                <p:nvPr/>
              </p:nvSpPr>
              <p:spPr>
                <a:xfrm>
                  <a:off x="866880" y="3741480"/>
                  <a:ext cx="128880" cy="46800"/>
                </a:xfrm>
                <a:custGeom>
                  <a:avLst/>
                  <a:gdLst/>
                  <a:ahLst/>
                  <a:rect l="l" t="t" r="r" b="b"/>
                  <a:pathLst>
                    <a:path w="42" h="17">
                      <a:moveTo>
                        <a:pt x="0" y="9"/>
                      </a:moveTo>
                      <a:cubicBezTo>
                        <a:pt x="1" y="9"/>
                        <a:pt x="3" y="16"/>
                        <a:pt x="6" y="15"/>
                      </a:cubicBezTo>
                      <a:cubicBezTo>
                        <a:pt x="9" y="14"/>
                        <a:pt x="16" y="0"/>
                        <a:pt x="21" y="0"/>
                      </a:cubicBezTo>
                      <a:cubicBezTo>
                        <a:pt x="26" y="0"/>
                        <a:pt x="33" y="13"/>
                        <a:pt x="36" y="15"/>
                      </a:cubicBezTo>
                      <a:cubicBezTo>
                        <a:pt x="39" y="17"/>
                        <a:pt x="41" y="13"/>
                        <a:pt x="42" y="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1800000" y="3604320"/>
                <a:ext cx="1430280" cy="2273400"/>
                <a:chOff x="1800000" y="3604320"/>
                <a:chExt cx="1430280" cy="2273400"/>
              </a:xfrm>
            </p:grpSpPr>
            <p:pic>
              <p:nvPicPr>
                <p:cNvPr id="126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00000" y="3644640"/>
                  <a:ext cx="1430280" cy="223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4" name=""/>
                <p:cNvSpPr/>
                <p:nvPr/>
              </p:nvSpPr>
              <p:spPr>
                <a:xfrm>
                  <a:off x="2030400" y="4999320"/>
                  <a:ext cx="997560" cy="473760"/>
                </a:xfrm>
                <a:custGeom>
                  <a:avLst/>
                  <a:gdLst/>
                  <a:ahLst/>
                  <a:rect l="l" t="t" r="r" b="b"/>
                  <a:pathLst>
                    <a:path w="562" h="252">
                      <a:moveTo>
                        <a:pt x="138" y="0"/>
                      </a:moveTo>
                      <a:lnTo>
                        <a:pt x="438" y="8"/>
                      </a:lnTo>
                      <a:lnTo>
                        <a:pt x="562" y="224"/>
                      </a:lnTo>
                      <a:lnTo>
                        <a:pt x="470" y="248"/>
                      </a:lnTo>
                      <a:lnTo>
                        <a:pt x="400" y="96"/>
                      </a:lnTo>
                      <a:lnTo>
                        <a:pt x="454" y="252"/>
                      </a:lnTo>
                      <a:lnTo>
                        <a:pt x="322" y="248"/>
                      </a:lnTo>
                      <a:lnTo>
                        <a:pt x="304" y="96"/>
                      </a:lnTo>
                      <a:lnTo>
                        <a:pt x="304" y="240"/>
                      </a:lnTo>
                      <a:lnTo>
                        <a:pt x="112" y="240"/>
                      </a:lnTo>
                      <a:lnTo>
                        <a:pt x="208" y="96"/>
                      </a:lnTo>
                      <a:lnTo>
                        <a:pt x="90" y="240"/>
                      </a:lnTo>
                      <a:cubicBezTo>
                        <a:pt x="59" y="239"/>
                        <a:pt x="36" y="235"/>
                        <a:pt x="6" y="228"/>
                      </a:cubicBezTo>
                      <a:cubicBezTo>
                        <a:pt x="0" y="227"/>
                        <a:pt x="14" y="228"/>
                        <a:pt x="18" y="224"/>
                      </a:cubicBezTo>
                      <a:cubicBezTo>
                        <a:pt x="25" y="217"/>
                        <a:pt x="4" y="241"/>
                        <a:pt x="30" y="204"/>
                      </a:cubicBezTo>
                      <a:lnTo>
                        <a:pt x="13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0099"/>
                    </a:gs>
                    <a:gs pos="50000">
                      <a:srgbClr val="660066"/>
                    </a:gs>
                    <a:gs pos="100000">
                      <a:srgbClr val="cc00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282400" y="4939200"/>
                  <a:ext cx="511200" cy="67320"/>
                </a:xfrm>
                <a:custGeom>
                  <a:avLst/>
                  <a:gdLst/>
                  <a:ahLst/>
                  <a:rect l="l" t="t" r="r" b="b"/>
                  <a:pathLst>
                    <a:path w="288" h="36">
                      <a:moveTo>
                        <a:pt x="4" y="0"/>
                      </a:moveTo>
                      <a:cubicBezTo>
                        <a:pt x="11" y="0"/>
                        <a:pt x="17" y="0"/>
                        <a:pt x="24" y="0"/>
                      </a:cubicBezTo>
                      <a:lnTo>
                        <a:pt x="284" y="4"/>
                      </a:lnTo>
                      <a:lnTo>
                        <a:pt x="288" y="36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6" name=""/>
                <p:cNvGrpSpPr/>
                <p:nvPr/>
              </p:nvGrpSpPr>
              <p:grpSpPr>
                <a:xfrm>
                  <a:off x="2534040" y="3604320"/>
                  <a:ext cx="491040" cy="441360"/>
                  <a:chOff x="2534040" y="3604320"/>
                  <a:chExt cx="491040" cy="441360"/>
                </a:xfrm>
              </p:grpSpPr>
              <p:sp>
                <p:nvSpPr>
                  <p:cNvPr id="1267" name=""/>
                  <p:cNvSpPr/>
                  <p:nvPr/>
                </p:nvSpPr>
                <p:spPr>
                  <a:xfrm rot="720600">
                    <a:off x="2566440" y="3644640"/>
                    <a:ext cx="42552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84">
                        <a:moveTo>
                          <a:pt x="288" y="240"/>
                        </a:moveTo>
                        <a:lnTo>
                          <a:pt x="0" y="192"/>
                        </a:lnTo>
                        <a:lnTo>
                          <a:pt x="96" y="0"/>
                        </a:lnTo>
                        <a:lnTo>
                          <a:pt x="288" y="144"/>
                        </a:lnTo>
                        <a:lnTo>
                          <a:pt x="576" y="192"/>
                        </a:lnTo>
                        <a:lnTo>
                          <a:pt x="528" y="336"/>
                        </a:lnTo>
                        <a:lnTo>
                          <a:pt x="432" y="384"/>
                        </a:lnTo>
                        <a:lnTo>
                          <a:pt x="240" y="192"/>
                        </a:lnTo>
                      </a:path>
                    </a:pathLst>
                  </a:cu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 rot="720600">
                    <a:off x="2743560" y="3779280"/>
                    <a:ext cx="70560" cy="90000"/>
                  </a:xfrm>
                  <a:prstGeom prst="ellipse">
                    <a:avLst/>
                  </a:prstGeom>
                  <a:solidFill>
                    <a:srgbClr val="66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9" name=""/>
                <p:cNvGrpSpPr/>
                <p:nvPr/>
              </p:nvGrpSpPr>
              <p:grpSpPr>
                <a:xfrm>
                  <a:off x="2006640" y="3610440"/>
                  <a:ext cx="438840" cy="519840"/>
                  <a:chOff x="2006640" y="3610440"/>
                  <a:chExt cx="438840" cy="519840"/>
                </a:xfrm>
              </p:grpSpPr>
              <p:sp>
                <p:nvSpPr>
                  <p:cNvPr id="1270" name=""/>
                  <p:cNvSpPr/>
                  <p:nvPr/>
                </p:nvSpPr>
                <p:spPr>
                  <a:xfrm rot="17028000">
                    <a:off x="2000160" y="3699720"/>
                    <a:ext cx="4514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84">
                        <a:moveTo>
                          <a:pt x="288" y="240"/>
                        </a:moveTo>
                        <a:lnTo>
                          <a:pt x="0" y="192"/>
                        </a:lnTo>
                        <a:lnTo>
                          <a:pt x="96" y="0"/>
                        </a:lnTo>
                        <a:lnTo>
                          <a:pt x="288" y="144"/>
                        </a:lnTo>
                        <a:lnTo>
                          <a:pt x="576" y="192"/>
                        </a:lnTo>
                        <a:lnTo>
                          <a:pt x="528" y="336"/>
                        </a:lnTo>
                        <a:lnTo>
                          <a:pt x="432" y="384"/>
                        </a:lnTo>
                        <a:lnTo>
                          <a:pt x="240" y="192"/>
                        </a:lnTo>
                      </a:path>
                    </a:pathLst>
                  </a:cu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 rot="17028000">
                    <a:off x="2188080" y="3828240"/>
                    <a:ext cx="74880" cy="84960"/>
                  </a:xfrm>
                  <a:prstGeom prst="ellipse">
                    <a:avLst/>
                  </a:prstGeom>
                  <a:solidFill>
                    <a:srgbClr val="66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272" name="" descr=""/>
            <p:cNvPicPr/>
            <p:nvPr/>
          </p:nvPicPr>
          <p:blipFill>
            <a:blip r:embed="rId5"/>
            <a:stretch/>
          </p:blipFill>
          <p:spPr>
            <a:xfrm>
              <a:off x="755640" y="4437000"/>
              <a:ext cx="1695600" cy="2106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0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Проверка домашнего зад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55640" y="2133720"/>
          <a:ext cx="7786800" cy="254952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25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1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–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х =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= 21 -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=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Ответ: х =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+ 9 = 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= 63 -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= 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Ответ: х = 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0 + х =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= 100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= 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Ответ: х = 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" descr=""/>
          <p:cNvPicPr/>
          <p:nvPr/>
        </p:nvPicPr>
        <p:blipFill>
          <a:blip r:embed="rId1"/>
          <a:stretch/>
        </p:blipFill>
        <p:spPr>
          <a:xfrm>
            <a:off x="1697040" y="1600200"/>
            <a:ext cx="574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75" name="" descr=""/>
          <p:cNvPicPr/>
          <p:nvPr/>
        </p:nvPicPr>
        <p:blipFill>
          <a:blip r:embed="rId2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pic>
        <p:nvPicPr>
          <p:cNvPr id="1276" name="" descr=""/>
          <p:cNvPicPr/>
          <p:nvPr/>
        </p:nvPicPr>
        <p:blipFill>
          <a:blip r:embed="rId3"/>
          <a:stretch/>
        </p:blipFill>
        <p:spPr>
          <a:xfrm>
            <a:off x="971640" y="836640"/>
            <a:ext cx="2857320" cy="4257720"/>
          </a:xfrm>
          <a:prstGeom prst="rect">
            <a:avLst/>
          </a:prstGeom>
          <a:ln w="0">
            <a:noFill/>
          </a:ln>
        </p:spPr>
      </p:pic>
      <p:sp>
        <p:nvSpPr>
          <p:cNvPr id="1277" name=""/>
          <p:cNvSpPr/>
          <p:nvPr/>
        </p:nvSpPr>
        <p:spPr>
          <a:xfrm>
            <a:off x="3851280" y="1197000"/>
            <a:ext cx="352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Буратино потя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Раз – наг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Два – прог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Руки в стороны разв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идно, ключик не на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Улыбнулся – и пошёл</a:t>
            </a:r>
            <a:r>
              <a:rPr b="1" lang="en-US" sz="2800" spc="-1" strike="noStrike">
                <a:solidFill>
                  <a:srgbClr val="cc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093" dur="indefinite" restart="never" nodeType="tmRoot">
          <p:childTnLst>
            <p:seq>
              <p:cTn id="2094" dur="indefinite" nodeType="mainSeq">
                <p:childTnLst>
                  <p:par>
                    <p:cTn id="2095" fill="hold">
                      <p:stCondLst>
                        <p:cond delay="0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2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4" dur="8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5" dur="8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6" dur="8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760"/>
                            </p:stCondLst>
                            <p:childTnLst>
                              <p:par>
                                <p:cTn id="210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0" dur="8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1" dur="8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2" dur="8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3320"/>
                            </p:stCondLst>
                            <p:childTnLst>
                              <p:par>
                                <p:cTn id="211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6" dur="80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7" dur="80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8" dur="80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5920"/>
                            </p:stCondLst>
                            <p:childTnLst>
                              <p:par>
                                <p:cTn id="212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2" dur="80"/>
                                        <p:tgtEl>
                                          <p:spTgt spid="1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3" dur="80"/>
                                        <p:tgtEl>
                                          <p:spTgt spid="1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4" dur="80"/>
                                        <p:tgtEl>
                                          <p:spTgt spid="1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5" fill="hold">
                            <p:stCondLst>
                              <p:cond delay="8720"/>
                            </p:stCondLst>
                            <p:childTnLst>
                              <p:par>
                                <p:cTn id="212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8" dur="80"/>
                                        <p:tgtEl>
                                          <p:spTgt spid="1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9" dur="80"/>
                                        <p:tgtEl>
                                          <p:spTgt spid="1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0" dur="80"/>
                                        <p:tgtEl>
                                          <p:spTgt spid="1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11560"/>
                            </p:stCondLst>
                            <p:childTnLst>
                              <p:par>
                                <p:cTn id="213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4" dur="80"/>
                                        <p:tgtEl>
                                          <p:spTgt spid="1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5" dur="80"/>
                                        <p:tgtEl>
                                          <p:spTgt spid="1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6" dur="80"/>
                                        <p:tgtEl>
                                          <p:spTgt spid="1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"/>
          <p:cNvGrpSpPr/>
          <p:nvPr/>
        </p:nvGrpSpPr>
        <p:grpSpPr>
          <a:xfrm>
            <a:off x="1835280" y="260280"/>
            <a:ext cx="5645160" cy="7029360"/>
            <a:chOff x="1835280" y="260280"/>
            <a:chExt cx="5645160" cy="7029360"/>
          </a:xfrm>
        </p:grpSpPr>
        <p:sp>
          <p:nvSpPr>
            <p:cNvPr id="1279" name=""/>
            <p:cNvSpPr/>
            <p:nvPr/>
          </p:nvSpPr>
          <p:spPr>
            <a:xfrm rot="20303400">
              <a:off x="2139840" y="4633920"/>
              <a:ext cx="790560" cy="115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0" name="" descr=""/>
            <p:cNvPicPr/>
            <p:nvPr/>
          </p:nvPicPr>
          <p:blipFill>
            <a:blip r:embed="rId2"/>
            <a:stretch/>
          </p:blipFill>
          <p:spPr>
            <a:xfrm>
              <a:off x="1835280" y="260280"/>
              <a:ext cx="5645160" cy="702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1" name=""/>
          <p:cNvSpPr/>
          <p:nvPr/>
        </p:nvSpPr>
        <p:spPr>
          <a:xfrm flipH="1">
            <a:off x="250200" y="0"/>
            <a:ext cx="3529080" cy="3141720"/>
          </a:xfrm>
          <a:prstGeom prst="cloudCallout">
            <a:avLst>
              <a:gd name="adj1" fmla="val -69254"/>
              <a:gd name="adj2" fmla="val 43328"/>
            </a:avLst>
          </a:prstGeom>
          <a:solidFill>
            <a:srgbClr val="ffffff">
              <a:alpha val="52000"/>
            </a:srgbClr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РЕШИТЕ ЗАДАЧУ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2" name=""/>
          <p:cNvGrpSpPr/>
          <p:nvPr/>
        </p:nvGrpSpPr>
        <p:grpSpPr>
          <a:xfrm>
            <a:off x="0" y="0"/>
            <a:ext cx="2124000" cy="2205000"/>
            <a:chOff x="0" y="0"/>
            <a:chExt cx="2124000" cy="2205000"/>
          </a:xfrm>
        </p:grpSpPr>
        <p:sp>
          <p:nvSpPr>
            <p:cNvPr id="1283" name=""/>
            <p:cNvSpPr/>
            <p:nvPr/>
          </p:nvSpPr>
          <p:spPr>
            <a:xfrm rot="20303400">
              <a:off x="114480" y="1371600"/>
              <a:ext cx="297360" cy="3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24000" cy="220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Задач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964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Подземелье  Кащея большое, но состоит оно всего из двух залов. Длина зала, в котором вы стоите, 56 м, а другой на 38 м длиннее.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Узнайте длину второго з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767280" y="4653000"/>
            <a:ext cx="2376360" cy="2205000"/>
            <a:chOff x="6767280" y="4653000"/>
            <a:chExt cx="2376360" cy="2205000"/>
          </a:xfrm>
        </p:grpSpPr>
        <p:grpSp>
          <p:nvGrpSpPr>
            <p:cNvPr id="1288" name=""/>
            <p:cNvGrpSpPr/>
            <p:nvPr/>
          </p:nvGrpSpPr>
          <p:grpSpPr>
            <a:xfrm>
              <a:off x="6767280" y="4653000"/>
              <a:ext cx="1313640" cy="2156400"/>
              <a:chOff x="6767280" y="4653000"/>
              <a:chExt cx="1313640" cy="2156400"/>
            </a:xfrm>
          </p:grpSpPr>
          <p:grpSp>
            <p:nvGrpSpPr>
              <p:cNvPr id="1289" name=""/>
              <p:cNvGrpSpPr/>
              <p:nvPr/>
            </p:nvGrpSpPr>
            <p:grpSpPr>
              <a:xfrm>
                <a:off x="6767280" y="4653000"/>
                <a:ext cx="1313640" cy="2156400"/>
                <a:chOff x="6767280" y="4653000"/>
                <a:chExt cx="1313640" cy="215640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7426080" y="6222240"/>
                  <a:ext cx="360" cy="49464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966360" y="5919840"/>
                  <a:ext cx="918360" cy="81972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7405560" y="5934600"/>
                  <a:ext cx="92520" cy="27936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7581960" y="5926680"/>
                  <a:ext cx="250560" cy="27900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7039440" y="5919840"/>
                  <a:ext cx="203040" cy="29376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108920" y="5523480"/>
                  <a:ext cx="615240" cy="41724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7593480" y="5519880"/>
                  <a:ext cx="386640" cy="61812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7792200" y="5919840"/>
                  <a:ext cx="196920" cy="22212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833160" y="5527800"/>
                  <a:ext cx="436320" cy="62460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860160" y="5934600"/>
                  <a:ext cx="219240" cy="20124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7240320" y="5470560"/>
                  <a:ext cx="164880" cy="184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H="1">
                  <a:off x="7404840" y="5470560"/>
                  <a:ext cx="162360" cy="184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7418880" y="5934600"/>
                  <a:ext cx="13680" cy="77220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7410240" y="5601960"/>
                  <a:ext cx="1800" cy="30780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7059240" y="6624720"/>
                  <a:ext cx="771480" cy="18468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5" name=""/>
                <p:cNvGrpSpPr/>
                <p:nvPr/>
              </p:nvGrpSpPr>
              <p:grpSpPr>
                <a:xfrm>
                  <a:off x="6767280" y="4653000"/>
                  <a:ext cx="1313640" cy="1620360"/>
                  <a:chOff x="6767280" y="4653000"/>
                  <a:chExt cx="1313640" cy="162036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>
                    <a:off x="6973560" y="4653000"/>
                    <a:ext cx="874800" cy="58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7850880" y="6045120"/>
                    <a:ext cx="23004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 flipH="1">
                    <a:off x="6766920" y="6041520"/>
                    <a:ext cx="23076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7048080" y="4861800"/>
                    <a:ext cx="753120" cy="713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7317360" y="5340960"/>
                    <a:ext cx="2484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7398720" y="5365440"/>
                    <a:ext cx="1033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7278840" y="5110560"/>
                    <a:ext cx="137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7323840" y="5170320"/>
                    <a:ext cx="586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7276680" y="5127120"/>
                    <a:ext cx="13968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 flipH="1">
                    <a:off x="7501680" y="5102280"/>
                    <a:ext cx="13788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 flipH="1">
                    <a:off x="7536600" y="5162040"/>
                    <a:ext cx="583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 flipH="1">
                    <a:off x="7502400" y="5121000"/>
                    <a:ext cx="1404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7459920" y="5049360"/>
                    <a:ext cx="2235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7227000" y="5061240"/>
                    <a:ext cx="22788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7561440" y="5223960"/>
                    <a:ext cx="1515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7188480" y="5283000"/>
                    <a:ext cx="1602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22" name=""/>
              <p:cNvSpPr/>
              <p:nvPr/>
            </p:nvSpPr>
            <p:spPr>
              <a:xfrm>
                <a:off x="7405200" y="5262840"/>
                <a:ext cx="94680" cy="3492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8091360" y="5161320"/>
              <a:ext cx="1052280" cy="1696680"/>
              <a:chOff x="8091360" y="5161320"/>
              <a:chExt cx="1052280" cy="1696680"/>
            </a:xfrm>
          </p:grpSpPr>
          <p:pic>
            <p:nvPicPr>
              <p:cNvPr id="1324" name="" descr="">
                <a:hlinkClick r:id="rId4" action="ppaction://hlinksldjump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8091360" y="5190840"/>
                <a:ext cx="1052280" cy="166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5" name=""/>
              <p:cNvSpPr/>
              <p:nvPr/>
            </p:nvSpPr>
            <p:spPr>
              <a:xfrm>
                <a:off x="8260920" y="6202080"/>
                <a:ext cx="733680" cy="353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446320" y="6157080"/>
                <a:ext cx="375840" cy="5004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8630280" y="5161320"/>
                <a:ext cx="362520" cy="328680"/>
                <a:chOff x="8630280" y="5161320"/>
                <a:chExt cx="362520" cy="328680"/>
              </a:xfrm>
            </p:grpSpPr>
            <p:sp>
              <p:nvSpPr>
                <p:cNvPr id="1328" name=""/>
                <p:cNvSpPr/>
                <p:nvPr/>
              </p:nvSpPr>
              <p:spPr>
                <a:xfrm rot="720600">
                  <a:off x="8654760" y="5190840"/>
                  <a:ext cx="313200" cy="26928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rot="720600">
                  <a:off x="8785080" y="5291280"/>
                  <a:ext cx="51840" cy="6732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8242560" y="5165640"/>
                <a:ext cx="323640" cy="387000"/>
                <a:chOff x="8242560" y="5165640"/>
                <a:chExt cx="323640" cy="387000"/>
              </a:xfrm>
            </p:grpSpPr>
            <p:sp>
              <p:nvSpPr>
                <p:cNvPr id="1331" name=""/>
                <p:cNvSpPr/>
                <p:nvPr/>
              </p:nvSpPr>
              <p:spPr>
                <a:xfrm rot="17028000">
                  <a:off x="8235720" y="5233680"/>
                  <a:ext cx="336960" cy="2505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rot="17028000">
                  <a:off x="8376480" y="5328000"/>
                  <a:ext cx="55800" cy="626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3" name="">
            <a:hlinkClick r:id="rId6" action="ppaction://hlinksldjump"/>
          </p:cNvPr>
          <p:cNvSpPr/>
          <p:nvPr/>
        </p:nvSpPr>
        <p:spPr>
          <a:xfrm>
            <a:off x="6443640" y="4653000"/>
            <a:ext cx="270036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" name=""/>
          <p:cNvGrpSpPr/>
          <p:nvPr/>
        </p:nvGrpSpPr>
        <p:grpSpPr>
          <a:xfrm>
            <a:off x="1042920" y="189000"/>
            <a:ext cx="8101080" cy="6669000"/>
            <a:chOff x="1042920" y="189000"/>
            <a:chExt cx="8101080" cy="6669000"/>
          </a:xfrm>
        </p:grpSpPr>
        <p:sp>
          <p:nvSpPr>
            <p:cNvPr id="1335" name=""/>
            <p:cNvSpPr/>
            <p:nvPr/>
          </p:nvSpPr>
          <p:spPr>
            <a:xfrm>
              <a:off x="1042920" y="189000"/>
              <a:ext cx="8101080" cy="6669000"/>
            </a:xfrm>
            <a:prstGeom prst="irregularSeal2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ff99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2411280" y="1533240"/>
              <a:ext cx="4426200" cy="3651120"/>
              <a:chOff x="2411280" y="1533240"/>
              <a:chExt cx="4426200" cy="3651120"/>
            </a:xfrm>
          </p:grpSpPr>
          <p:pic>
            <p:nvPicPr>
              <p:cNvPr id="13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11280" y="2174760"/>
                <a:ext cx="4426200" cy="300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flipV="1" rot="17260800">
                <a:off x="3606120" y="1622160"/>
                <a:ext cx="2292120" cy="2880000"/>
              </a:xfrm>
              <a:prstGeom prst="parallelogram">
                <a:avLst>
                  <a:gd name="adj" fmla="val 25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Comic Sans MS"/>
                  </a:rPr>
                  <a:t>С. 41, № 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роверь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24000" y="549360"/>
            <a:ext cx="1942920" cy="25905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50920" y="3716280"/>
            <a:ext cx="165564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076720" y="4076640"/>
            <a:ext cx="165600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643280" y="1268280"/>
            <a:ext cx="208944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948360" y="3573360"/>
            <a:ext cx="219564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093080" y="333360"/>
            <a:ext cx="165564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268360" y="4267080"/>
            <a:ext cx="215928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484360" y="1700280"/>
            <a:ext cx="1656000" cy="25905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137" dur="indefinite" restart="never" nodeType="tmRoot">
          <p:childTnLst>
            <p:seq>
              <p:cTn id="2138" dur="indefinite" nodeType="mainSeq">
                <p:childTnLst>
                  <p:par>
                    <p:cTn id="2139" fill="hold">
                      <p:stCondLst>
                        <p:cond delay="0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2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5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8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10000" y="324648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club.itdrom.com/gallery/gal_graf/pict2d/363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-190440" y="-1611360"/>
            <a:ext cx="9334440" cy="10369440"/>
          </a:xfrm>
          <a:prstGeom prst="rect">
            <a:avLst/>
          </a:prstGeom>
          <a:ln w="0">
            <a:noFill/>
          </a:ln>
        </p:spPr>
      </p:pic>
      <p:grpSp>
        <p:nvGrpSpPr>
          <p:cNvPr id="1350" name=""/>
          <p:cNvGrpSpPr/>
          <p:nvPr/>
        </p:nvGrpSpPr>
        <p:grpSpPr>
          <a:xfrm>
            <a:off x="468360" y="3573360"/>
            <a:ext cx="3599640" cy="3530160"/>
            <a:chOff x="468360" y="3573360"/>
            <a:chExt cx="3599640" cy="3530160"/>
          </a:xfrm>
        </p:grpSpPr>
        <p:grpSp>
          <p:nvGrpSpPr>
            <p:cNvPr id="1351" name=""/>
            <p:cNvGrpSpPr/>
            <p:nvPr/>
          </p:nvGrpSpPr>
          <p:grpSpPr>
            <a:xfrm>
              <a:off x="468360" y="3573360"/>
              <a:ext cx="1989720" cy="3453480"/>
              <a:chOff x="468360" y="3573360"/>
              <a:chExt cx="1989720" cy="3453480"/>
            </a:xfrm>
          </p:grpSpPr>
          <p:grpSp>
            <p:nvGrpSpPr>
              <p:cNvPr id="1352" name=""/>
              <p:cNvGrpSpPr/>
              <p:nvPr/>
            </p:nvGrpSpPr>
            <p:grpSpPr>
              <a:xfrm>
                <a:off x="468360" y="3573360"/>
                <a:ext cx="1989720" cy="3453480"/>
                <a:chOff x="468360" y="3573360"/>
                <a:chExt cx="1989720" cy="345348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1465920" y="6086160"/>
                  <a:ext cx="360" cy="79200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69680" y="5602320"/>
                  <a:ext cx="1391400" cy="131256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434960" y="5625360"/>
                  <a:ext cx="140400" cy="44748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1702080" y="5612760"/>
                  <a:ext cx="379800" cy="44676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879840" y="5602320"/>
                  <a:ext cx="307440" cy="47052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985680" y="4967280"/>
                  <a:ext cx="932400" cy="66816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1719360" y="4961520"/>
                  <a:ext cx="585720" cy="98964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2020680" y="5602320"/>
                  <a:ext cx="298080" cy="35568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567720" y="4974120"/>
                  <a:ext cx="660960" cy="100008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608760" y="5625360"/>
                  <a:ext cx="332280" cy="32220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184760" y="4882320"/>
                  <a:ext cx="250200" cy="29592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H="1">
                  <a:off x="1434960" y="4882320"/>
                  <a:ext cx="246240" cy="29592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455120" y="5625360"/>
                  <a:ext cx="20880" cy="123660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1441800" y="5092560"/>
                  <a:ext cx="2880" cy="49284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910440" y="6730920"/>
                  <a:ext cx="1168560" cy="29592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8" name=""/>
                <p:cNvGrpSpPr/>
                <p:nvPr/>
              </p:nvGrpSpPr>
              <p:grpSpPr>
                <a:xfrm>
                  <a:off x="468360" y="3573360"/>
                  <a:ext cx="1989720" cy="2594160"/>
                  <a:chOff x="468360" y="3573360"/>
                  <a:chExt cx="1989720" cy="2594160"/>
                </a:xfrm>
              </p:grpSpPr>
              <p:sp>
                <p:nvSpPr>
                  <p:cNvPr id="1369" name=""/>
                  <p:cNvSpPr/>
                  <p:nvPr/>
                </p:nvSpPr>
                <p:spPr>
                  <a:xfrm>
                    <a:off x="780480" y="3573360"/>
                    <a:ext cx="1324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2109600" y="5802120"/>
                    <a:ext cx="348480" cy="36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 flipH="1">
                    <a:off x="468360" y="5796360"/>
                    <a:ext cx="349200" cy="36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893160" y="3908160"/>
                    <a:ext cx="1140840" cy="11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1300680" y="4674600"/>
                    <a:ext cx="3765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1424520" y="4714200"/>
                    <a:ext cx="1566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1242720" y="4306320"/>
                    <a:ext cx="208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1311120" y="4401720"/>
                    <a:ext cx="892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1239480" y="4332240"/>
                    <a:ext cx="21204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 flipH="1">
                    <a:off x="1581120" y="4293000"/>
                    <a:ext cx="2088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 flipH="1">
                    <a:off x="1632600" y="4388400"/>
                    <a:ext cx="882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 flipH="1">
                    <a:off x="1580400" y="4322520"/>
                    <a:ext cx="2127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1516680" y="4207680"/>
                    <a:ext cx="338400" cy="33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1164240" y="4227120"/>
                    <a:ext cx="345600" cy="32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1670760" y="4487400"/>
                    <a:ext cx="229680" cy="25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1105920" y="4582080"/>
                    <a:ext cx="24300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85" name=""/>
              <p:cNvSpPr/>
              <p:nvPr/>
            </p:nvSpPr>
            <p:spPr>
              <a:xfrm>
                <a:off x="1434240" y="4549680"/>
                <a:ext cx="143640" cy="558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2474280" y="4389840"/>
              <a:ext cx="1593720" cy="2713680"/>
              <a:chOff x="2474280" y="4389840"/>
              <a:chExt cx="1593720" cy="2713680"/>
            </a:xfrm>
          </p:grpSpPr>
          <p:pic>
            <p:nvPicPr>
              <p:cNvPr id="138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74280" y="4434480"/>
                <a:ext cx="1593720" cy="266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8" name=""/>
              <p:cNvSpPr/>
              <p:nvPr/>
            </p:nvSpPr>
            <p:spPr>
              <a:xfrm>
                <a:off x="2730960" y="6053400"/>
                <a:ext cx="1111680" cy="5662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011760" y="5981760"/>
                <a:ext cx="569520" cy="80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0" name=""/>
              <p:cNvGrpSpPr/>
              <p:nvPr/>
            </p:nvGrpSpPr>
            <p:grpSpPr>
              <a:xfrm>
                <a:off x="3288960" y="4389840"/>
                <a:ext cx="553680" cy="520560"/>
                <a:chOff x="3288960" y="4389840"/>
                <a:chExt cx="553680" cy="520560"/>
              </a:xfrm>
            </p:grpSpPr>
            <p:sp>
              <p:nvSpPr>
                <p:cNvPr id="1391" name=""/>
                <p:cNvSpPr/>
                <p:nvPr/>
              </p:nvSpPr>
              <p:spPr>
                <a:xfrm rot="720600">
                  <a:off x="3328200" y="4434480"/>
                  <a:ext cx="474480" cy="43128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rot="720600">
                  <a:off x="3526200" y="4595760"/>
                  <a:ext cx="78840" cy="1076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2700360" y="4397040"/>
                <a:ext cx="497520" cy="614520"/>
                <a:chOff x="2700360" y="4397040"/>
                <a:chExt cx="497520" cy="614520"/>
              </a:xfrm>
            </p:grpSpPr>
            <p:sp>
              <p:nvSpPr>
                <p:cNvPr id="1394" name=""/>
                <p:cNvSpPr/>
                <p:nvPr/>
              </p:nvSpPr>
              <p:spPr>
                <a:xfrm rot="17028000">
                  <a:off x="2679120" y="4514040"/>
                  <a:ext cx="539280" cy="37980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rot="17028000">
                  <a:off x="2903400" y="4656600"/>
                  <a:ext cx="89640" cy="9468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96" name=""/>
          <p:cNvSpPr/>
          <p:nvPr/>
        </p:nvSpPr>
        <p:spPr>
          <a:xfrm rot="1040400">
            <a:off x="5435280" y="-316080"/>
            <a:ext cx="3708360" cy="216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Спасибо,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4" name="chimes.wav"/>
      </p:stSnd>
    </p:sndAc>
  </p:transition>
  <p:timing>
    <p:tnLst>
      <p:par>
        <p:cTn id="2172" dur="indefinite" restart="never" nodeType="tmRoot">
          <p:childTnLst>
            <p:seq>
              <p:cTn id="2173" dur="indefinite" nodeType="mainSeq">
                <p:childTnLst>
                  <p:par>
                    <p:cTn id="2174" fill="hold">
                      <p:stCondLst>
                        <p:cond delay="0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500"/>
                            </p:stCondLst>
                            <p:childTnLst>
                              <p:par>
                                <p:cTn id="218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1" dur="3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http://club.itdrom.com/gallery/gal_graf/pict2d/3631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Белосне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zaitseva-irina.ru/archiv/snap/snap0011.jpg - Бурати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hahaha.com.ua/file/140.htm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аба-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starinism.ru/shop/index.php?productID=386&amp;PHPSESSID=5770894cec28d454e748523f5fa7da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нд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dahr.ru/n_189.htm - Ка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e-y.ru/~mihailikus/skaz.htm -  мо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1115280" y="2276640"/>
            <a:ext cx="2521080" cy="1368360"/>
          </a:xfrm>
          <a:prstGeom prst="wedgeRoundRectCallout">
            <a:avLst>
              <a:gd name="adj1" fmla="val -55921"/>
              <a:gd name="adj2" fmla="val 69949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и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76360" y="2852640"/>
            <a:ext cx="1786320" cy="2889720"/>
            <a:chOff x="3276360" y="2852640"/>
            <a:chExt cx="1786320" cy="2889720"/>
          </a:xfrm>
        </p:grpSpPr>
        <p:grpSp>
          <p:nvGrpSpPr>
            <p:cNvPr id="49" name=""/>
            <p:cNvGrpSpPr/>
            <p:nvPr/>
          </p:nvGrpSpPr>
          <p:grpSpPr>
            <a:xfrm>
              <a:off x="3276360" y="2852640"/>
              <a:ext cx="1786320" cy="2889720"/>
              <a:chOff x="3276360" y="2852640"/>
              <a:chExt cx="1786320" cy="2889720"/>
            </a:xfrm>
          </p:grpSpPr>
          <p:sp>
            <p:nvSpPr>
              <p:cNvPr id="50" name=""/>
              <p:cNvSpPr/>
              <p:nvPr/>
            </p:nvSpPr>
            <p:spPr>
              <a:xfrm>
                <a:off x="4172040" y="495540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547080" y="4550400"/>
                <a:ext cx="124884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143960" y="456984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384080" y="455904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646080" y="455040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41120" y="4019040"/>
                <a:ext cx="83664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99200" y="401400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669920" y="4550400"/>
                <a:ext cx="26748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365640" y="402480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402720" y="456984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919680" y="394812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4143960" y="394812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162320" y="456984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150440" y="412416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673440" y="5494680"/>
                <a:ext cx="104868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276360" y="2852640"/>
                <a:ext cx="1786320" cy="2170800"/>
                <a:chOff x="3276360" y="2852640"/>
                <a:chExt cx="1786320" cy="21708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556800" y="285264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749840" y="471780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H="1">
                  <a:off x="3276000" y="471276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657960" y="313272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024080" y="377424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134960" y="380736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971520" y="3466080"/>
                  <a:ext cx="18720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033080" y="354600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969000" y="348768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>
                  <a:off x="4275720" y="3454560"/>
                  <a:ext cx="18720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H="1">
                  <a:off x="4322520" y="353448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>
                  <a:off x="4275720" y="347976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17760" y="338364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901320" y="3399840"/>
                  <a:ext cx="30996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356000" y="361764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849120" y="369684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" name=""/>
            <p:cNvSpPr/>
            <p:nvPr/>
          </p:nvSpPr>
          <p:spPr>
            <a:xfrm>
              <a:off x="4143600" y="366984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932360" y="3822120"/>
            <a:ext cx="1358640" cy="1982880"/>
            <a:chOff x="4932360" y="3822120"/>
            <a:chExt cx="1358640" cy="1982880"/>
          </a:xfrm>
        </p:grpSpPr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4932360" y="3860640"/>
              <a:ext cx="135864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151240" y="5040000"/>
              <a:ext cx="947880" cy="4125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90640" y="4987800"/>
              <a:ext cx="485280" cy="5868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632200" y="3822120"/>
              <a:ext cx="460800" cy="391680"/>
              <a:chOff x="5632200" y="3822120"/>
              <a:chExt cx="460800" cy="391680"/>
            </a:xfrm>
          </p:grpSpPr>
          <p:sp>
            <p:nvSpPr>
              <p:cNvPr id="88" name=""/>
              <p:cNvSpPr/>
              <p:nvPr/>
            </p:nvSpPr>
            <p:spPr>
              <a:xfrm rot="720600">
                <a:off x="5660280" y="3860640"/>
                <a:ext cx="404280" cy="31428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720600">
                <a:off x="5829120" y="3978360"/>
                <a:ext cx="67320" cy="7848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132880" y="3827160"/>
              <a:ext cx="407880" cy="458640"/>
              <a:chOff x="5132880" y="3827160"/>
              <a:chExt cx="407880" cy="458640"/>
            </a:xfrm>
          </p:grpSpPr>
          <p:sp>
            <p:nvSpPr>
              <p:cNvPr id="91" name=""/>
              <p:cNvSpPr/>
              <p:nvPr/>
            </p:nvSpPr>
            <p:spPr>
              <a:xfrm rot="17028000">
                <a:off x="5140440" y="3894480"/>
                <a:ext cx="392760" cy="32364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028000">
                <a:off x="5303880" y="4016520"/>
                <a:ext cx="65160" cy="8064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6084720" y="2997360"/>
            <a:ext cx="1800360" cy="1081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97320" y="6165000"/>
            <a:ext cx="41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ebmama.dp.u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esn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ra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843200" y="-171360"/>
            <a:ext cx="5645160" cy="7029360"/>
            <a:chOff x="1843200" y="-171360"/>
            <a:chExt cx="5645160" cy="7029360"/>
          </a:xfrm>
        </p:grpSpPr>
        <p:sp>
          <p:nvSpPr>
            <p:cNvPr id="96" name=""/>
            <p:cNvSpPr/>
            <p:nvPr/>
          </p:nvSpPr>
          <p:spPr>
            <a:xfrm rot="20303400">
              <a:off x="2147760" y="4202280"/>
              <a:ext cx="790560" cy="115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1843200" y="-171360"/>
              <a:ext cx="5645160" cy="7029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Узнай, кого надо спасти!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Реши примеры и сложи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Comic Sans MS"/>
              </a:rPr>
              <a:t>3 </a:t>
            </a:r>
            <a:r>
              <a:rPr b="0" lang="en-US" sz="4800" spc="-1" strike="noStrike" baseline="30000">
                <a:solidFill>
                  <a:srgbClr val="cc3399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cc3399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8 </a:t>
            </a:r>
            <a:r>
              <a:rPr b="0" lang="en-US" sz="4800" spc="-1" strike="noStrike" baseline="30000">
                <a:solidFill>
                  <a:srgbClr val="333399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25 :</a:t>
            </a:r>
            <a:r>
              <a:rPr b="0" lang="en-US" sz="4800" spc="-1" strike="noStrike" baseline="30000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18: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e5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12 :</a:t>
            </a:r>
            <a:r>
              <a:rPr b="0" lang="en-US" sz="4800" spc="-1" strike="noStrike" baseline="30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16:</a:t>
            </a:r>
            <a:r>
              <a:rPr b="0" lang="en-US" sz="4800" spc="-1" strike="noStrike" baseline="30000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Comic Sans MS"/>
              </a:rPr>
              <a:t>4 </a:t>
            </a:r>
            <a:r>
              <a:rPr b="0" lang="en-US" sz="4800" spc="-1" strike="noStrike" baseline="30000">
                <a:solidFill>
                  <a:srgbClr val="009999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2 </a:t>
            </a:r>
            <a:r>
              <a:rPr b="0" lang="en-US" sz="4800" spc="-1" strike="noStrike" baseline="30000">
                <a:solidFill>
                  <a:srgbClr val="6600cc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6 </a:t>
            </a:r>
            <a:r>
              <a:rPr b="0" lang="en-US" sz="4800" spc="-1" strike="noStrike" baseline="30000">
                <a:solidFill>
                  <a:srgbClr val="ff6600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b2c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cc"/>
                </a:solidFill>
                <a:latin typeface="Comic Sans MS"/>
              </a:rPr>
              <a:t>20 :</a:t>
            </a:r>
            <a:r>
              <a:rPr b="0" lang="en-US" sz="4800" spc="-1" strike="noStrike" baseline="30000">
                <a:solidFill>
                  <a:srgbClr val="cc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cc00cc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10000" y="324648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club.itdrom.com/gallery/gal_graf/pict2d/363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-1684440"/>
            <a:ext cx="9334440" cy="10369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443640" y="5013360"/>
            <a:ext cx="719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5013360"/>
            <a:ext cx="79200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5013360"/>
            <a:ext cx="792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5013360"/>
            <a:ext cx="7189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16360" y="5013360"/>
            <a:ext cx="792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13360"/>
            <a:ext cx="7207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5013360"/>
            <a:ext cx="7207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5013360"/>
            <a:ext cx="792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08720" y="5013360"/>
            <a:ext cx="719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5013360"/>
            <a:ext cx="7189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3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45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0"/>
            <a:ext cx="4572000" cy="6858000"/>
            <a:chOff x="0" y="0"/>
            <a:chExt cx="4572000" cy="6858000"/>
          </a:xfrm>
        </p:grpSpPr>
        <p:sp>
          <p:nvSpPr>
            <p:cNvPr id="18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3492360" y="2781360"/>
              <a:ext cx="936720" cy="792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572000" y="0"/>
            <a:ext cx="4572000" cy="6858000"/>
            <a:chOff x="4572000" y="0"/>
            <a:chExt cx="4572000" cy="6858000"/>
          </a:xfrm>
        </p:grpSpPr>
        <p:sp>
          <p:nvSpPr>
            <p:cNvPr id="187" name=""/>
            <p:cNvSpPr/>
            <p:nvPr/>
          </p:nvSpPr>
          <p:spPr>
            <a:xfrm>
              <a:off x="4572000" y="0"/>
              <a:ext cx="4572000" cy="685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800000">
              <a:off x="4787640" y="2781360"/>
              <a:ext cx="936360" cy="792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ibbon2Sharp"/>
          <p:cNvSpPr/>
          <p:nvPr/>
        </p:nvSpPr>
        <p:spPr>
          <a:xfrm rot="16200000">
            <a:off x="-514080" y="1241280"/>
            <a:ext cx="6858000" cy="3743280"/>
          </a:xfrm>
          <a:custGeom>
            <a:avLst/>
            <a:gdLst>
              <a:gd name="textAreaLeft" fmla="*/ 1714320 w 6858000"/>
              <a:gd name="textAreaRight" fmla="*/ 5143680 w 6858000"/>
              <a:gd name="textAreaTop" fmla="*/ 415800 h 3743280"/>
              <a:gd name="textAreaBottom" fmla="*/ 332748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3500" y="19200"/>
                </a:moveTo>
                <a:lnTo>
                  <a:pt x="16200" y="19200"/>
                </a:lnTo>
                <a:lnTo>
                  <a:pt x="16200" y="4800"/>
                </a:lnTo>
              </a:path>
              <a:path fill="none" w="21600" h="21600">
                <a:moveTo>
                  <a:pt x="13500" y="21600"/>
                </a:moveTo>
                <a:lnTo>
                  <a:pt x="16200" y="1920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6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4 – 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1" lang="ru-RU" sz="4800" spc="-1" strike="noStrike" baseline="15000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4000" spc="-1" strike="noStrike" baseline="1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ru-RU" sz="4800" spc="-1" strike="noStrike" baseline="15000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3 + 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00 –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360" y="4005360"/>
            <a:ext cx="3816720" cy="3068640"/>
            <a:chOff x="-360" y="4005360"/>
            <a:chExt cx="3816720" cy="3068640"/>
          </a:xfrm>
        </p:grpSpPr>
        <p:sp>
          <p:nvSpPr>
            <p:cNvPr id="191" name=""/>
            <p:cNvSpPr/>
            <p:nvPr/>
          </p:nvSpPr>
          <p:spPr>
            <a:xfrm>
              <a:off x="934920" y="4408560"/>
              <a:ext cx="2881440" cy="26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-360" y="4005360"/>
              <a:ext cx="1786320" cy="2889720"/>
              <a:chOff x="-360" y="4005360"/>
              <a:chExt cx="1786320" cy="288972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-360" y="4005360"/>
                <a:ext cx="1786320" cy="2889720"/>
                <a:chOff x="-360" y="4005360"/>
                <a:chExt cx="1786320" cy="288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895320" y="6108120"/>
                  <a:ext cx="360" cy="66276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70360" y="5703120"/>
                  <a:ext cx="1248840" cy="109836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67240" y="5722560"/>
                  <a:ext cx="126000" cy="37440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107360" y="5711760"/>
                  <a:ext cx="340920" cy="37368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69360" y="5703120"/>
                  <a:ext cx="276120" cy="39384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4400" y="5171760"/>
                  <a:ext cx="836640" cy="55908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122480" y="5166720"/>
                  <a:ext cx="525600" cy="82800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393200" y="5703120"/>
                  <a:ext cx="267480" cy="29772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8920" y="5177520"/>
                  <a:ext cx="593280" cy="83700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6000" y="5722560"/>
                  <a:ext cx="298440" cy="26964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42960" y="5100840"/>
                  <a:ext cx="224280" cy="247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867240" y="5100840"/>
                  <a:ext cx="221040" cy="247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85600" y="5722560"/>
                  <a:ext cx="18720" cy="103464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73720" y="5276880"/>
                  <a:ext cx="2520" cy="41256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720" y="6647400"/>
                  <a:ext cx="1048680" cy="24768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-360" y="4005360"/>
                  <a:ext cx="1786320" cy="2170800"/>
                  <a:chOff x="-360" y="4005360"/>
                  <a:chExt cx="1786320" cy="21708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280080" y="4005360"/>
                    <a:ext cx="1189440" cy="789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1473120" y="5870520"/>
                    <a:ext cx="312840" cy="30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>
                    <a:off x="-720" y="5865480"/>
                    <a:ext cx="3135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81240" y="4285440"/>
                    <a:ext cx="1024200" cy="9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47360" y="4926960"/>
                    <a:ext cx="3380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858240" y="4960080"/>
                    <a:ext cx="140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94800" y="4618800"/>
                    <a:ext cx="1872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56360" y="4698720"/>
                    <a:ext cx="799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92280" y="4640400"/>
                    <a:ext cx="1900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>
                    <a:off x="999000" y="4607280"/>
                    <a:ext cx="1872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>
                    <a:off x="1045800" y="4687200"/>
                    <a:ext cx="792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>
                    <a:off x="999000" y="4632480"/>
                    <a:ext cx="190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941040" y="4536360"/>
                    <a:ext cx="30384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624600" y="4552560"/>
                    <a:ext cx="30996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1079280" y="4770360"/>
                    <a:ext cx="20628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72400" y="4849560"/>
                    <a:ext cx="21816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6" name=""/>
              <p:cNvSpPr/>
              <p:nvPr/>
            </p:nvSpPr>
            <p:spPr>
              <a:xfrm>
                <a:off x="866880" y="4822560"/>
                <a:ext cx="128880" cy="468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727280" y="4901760"/>
              <a:ext cx="1358640" cy="1982880"/>
              <a:chOff x="1727280" y="4901760"/>
              <a:chExt cx="1358640" cy="1982880"/>
            </a:xfrm>
          </p:grpSpPr>
          <p:pic>
            <p:nvPicPr>
              <p:cNvPr id="2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727280" y="4940280"/>
                <a:ext cx="1358640" cy="19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1946160" y="6119640"/>
                <a:ext cx="947880" cy="4125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85560" y="6067440"/>
                <a:ext cx="485280" cy="586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2427120" y="4901760"/>
                <a:ext cx="460800" cy="391680"/>
                <a:chOff x="2427120" y="4901760"/>
                <a:chExt cx="460800" cy="391680"/>
              </a:xfrm>
            </p:grpSpPr>
            <p:sp>
              <p:nvSpPr>
                <p:cNvPr id="232" name=""/>
                <p:cNvSpPr/>
                <p:nvPr/>
              </p:nvSpPr>
              <p:spPr>
                <a:xfrm rot="720600">
                  <a:off x="2455200" y="4940280"/>
                  <a:ext cx="404280" cy="31428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720600">
                  <a:off x="2624040" y="5058000"/>
                  <a:ext cx="67320" cy="7848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927800" y="4906800"/>
                <a:ext cx="407880" cy="458640"/>
                <a:chOff x="1927800" y="4906800"/>
                <a:chExt cx="407880" cy="458640"/>
              </a:xfrm>
            </p:grpSpPr>
            <p:sp>
              <p:nvSpPr>
                <p:cNvPr id="235" name=""/>
                <p:cNvSpPr/>
                <p:nvPr/>
              </p:nvSpPr>
              <p:spPr>
                <a:xfrm rot="17028000">
                  <a:off x="1935360" y="4974120"/>
                  <a:ext cx="392760" cy="32364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17028000">
                  <a:off x="2098800" y="5096160"/>
                  <a:ext cx="65160" cy="806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7" name=""/>
          <p:cNvSpPr/>
          <p:nvPr/>
        </p:nvSpPr>
        <p:spPr>
          <a:xfrm>
            <a:off x="5292720" y="1484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59280" y="134136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1773360"/>
            <a:ext cx="12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11280" y="2276640"/>
            <a:ext cx="12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278136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87640" y="3213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364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0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2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3606 L 0.18889 -0.50659 E">
                                      <p:cBhvr>
                                        <p:cTn id="843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5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246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247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281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284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287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290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381720" y="5638680"/>
            <a:ext cx="1658880" cy="1050840"/>
            <a:chOff x="6381720" y="5638680"/>
            <a:chExt cx="1658880" cy="1050840"/>
          </a:xfrm>
        </p:grpSpPr>
        <p:sp>
          <p:nvSpPr>
            <p:cNvPr id="293" name=""/>
            <p:cNvSpPr/>
            <p:nvPr/>
          </p:nvSpPr>
          <p:spPr>
            <a:xfrm flipH="1" rot="20803800">
              <a:off x="6443640" y="580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6875640" y="594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070080" y="5062680"/>
            <a:ext cx="1658880" cy="1050840"/>
            <a:chOff x="3070080" y="5062680"/>
            <a:chExt cx="1658880" cy="1050840"/>
          </a:xfrm>
        </p:grpSpPr>
        <p:sp>
          <p:nvSpPr>
            <p:cNvPr id="296" name=""/>
            <p:cNvSpPr/>
            <p:nvPr/>
          </p:nvSpPr>
          <p:spPr>
            <a:xfrm flipH="1" rot="20803800">
              <a:off x="313200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356400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299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302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305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246800" y="741240"/>
            <a:ext cx="1658880" cy="1050840"/>
            <a:chOff x="7246800" y="741240"/>
            <a:chExt cx="1658880" cy="1050840"/>
          </a:xfrm>
        </p:grpSpPr>
        <p:sp>
          <p:nvSpPr>
            <p:cNvPr id="308" name=""/>
            <p:cNvSpPr/>
            <p:nvPr/>
          </p:nvSpPr>
          <p:spPr>
            <a:xfrm flipH="1" rot="20803800">
              <a:off x="7308720" y="9075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7740720" y="10522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311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314" name="" descr=""/>
            <p:cNvPicPr/>
            <p:nvPr/>
          </p:nvPicPr>
          <p:blipFill>
            <a:blip r:embed="rId15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318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321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324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327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330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333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337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 spd="slow" advTm="1800000">
    <p:circle/>
  </p:transition>
  <p:timing>
    <p:tnLst>
      <p:par>
        <p:cTn id="846" dur="indefinite" restart="never" nodeType="tmRoot">
          <p:childTnLst>
            <p:seq>
              <p:cTn id="847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341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342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376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379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382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385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381720" y="5638680"/>
            <a:ext cx="1658880" cy="1050840"/>
            <a:chOff x="6381720" y="5638680"/>
            <a:chExt cx="1658880" cy="1050840"/>
          </a:xfrm>
        </p:grpSpPr>
        <p:sp>
          <p:nvSpPr>
            <p:cNvPr id="388" name=""/>
            <p:cNvSpPr/>
            <p:nvPr/>
          </p:nvSpPr>
          <p:spPr>
            <a:xfrm flipH="1" rot="20803800">
              <a:off x="6443640" y="580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6875640" y="594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070080" y="5062680"/>
            <a:ext cx="1658880" cy="1050840"/>
            <a:chOff x="3070080" y="5062680"/>
            <a:chExt cx="1658880" cy="1050840"/>
          </a:xfrm>
        </p:grpSpPr>
        <p:sp>
          <p:nvSpPr>
            <p:cNvPr id="391" name=""/>
            <p:cNvSpPr/>
            <p:nvPr/>
          </p:nvSpPr>
          <p:spPr>
            <a:xfrm flipH="1" rot="20803800">
              <a:off x="313200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356400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394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397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400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7246800" y="741240"/>
            <a:ext cx="1658880" cy="1050840"/>
            <a:chOff x="7246800" y="741240"/>
            <a:chExt cx="1658880" cy="1050840"/>
          </a:xfrm>
        </p:grpSpPr>
        <p:sp>
          <p:nvSpPr>
            <p:cNvPr id="403" name=""/>
            <p:cNvSpPr/>
            <p:nvPr/>
          </p:nvSpPr>
          <p:spPr>
            <a:xfrm flipH="1" rot="20803800">
              <a:off x="7308720" y="9075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7740720" y="10522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406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409" name="" descr=""/>
            <p:cNvPicPr/>
            <p:nvPr/>
          </p:nvPicPr>
          <p:blipFill>
            <a:blip r:embed="rId15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413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416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419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422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425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428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431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33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547640" y="1844640"/>
            <a:ext cx="2305080" cy="1800360"/>
          </a:xfrm>
          <a:prstGeom prst="wedgeEllipseCallout">
            <a:avLst>
              <a:gd name="adj1" fmla="val -43731"/>
              <a:gd name="adj2" fmla="val 69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6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436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86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4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65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66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6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77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8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8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9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0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1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2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13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4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4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25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26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0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51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52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5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2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63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64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971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4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75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76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6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87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88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4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995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8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99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0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6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007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11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12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2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23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24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4" dur="1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35" dur="1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6" dur="1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04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6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47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8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8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9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6:28:56Z</dcterms:created>
  <dc:creator>Лариса</dc:creator>
  <dc:description/>
  <dc:language>en-US</dc:language>
  <cp:lastModifiedBy>Александр</cp:lastModifiedBy>
  <dcterms:modified xsi:type="dcterms:W3CDTF">2010-01-22T10:48:30Z</dcterms:modified>
  <cp:revision>74</cp:revision>
  <dc:subject/>
  <dc:title>Слайд 1</dc:title>
</cp:coreProperties>
</file>