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26.jpeg" ContentType="image/jpeg"/>
  <Override PartName="/ppt/media/image23.jpeg" ContentType="image/jpeg"/>
  <Override PartName="/ppt/media/image22.wmf" ContentType="image/x-wmf"/>
  <Override PartName="/ppt/media/image19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401480" y="801720"/>
            <a:ext cx="4049640" cy="33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158840" y="933480"/>
            <a:ext cx="435312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003320" y="695160"/>
            <a:ext cx="4848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155600" y="933480"/>
            <a:ext cx="435456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1155600" y="933480"/>
            <a:ext cx="435456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003320" y="695160"/>
            <a:ext cx="4848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155600" y="933480"/>
            <a:ext cx="435456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190520" y="878040"/>
            <a:ext cx="44751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155600" y="933480"/>
            <a:ext cx="435456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155600" y="933480"/>
            <a:ext cx="435456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158840" y="933480"/>
            <a:ext cx="435312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1401840" y="803160"/>
            <a:ext cx="4052880" cy="335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401840" y="803160"/>
            <a:ext cx="4052880" cy="335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1003320" y="695160"/>
            <a:ext cx="4848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750E-6C4D-42D1-9A6E-6762DB05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E0FD-A626-400F-A76B-D60FECCD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529E-C6FC-42FF-9236-FD97E9AF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09A-8F9F-4302-B5D8-F7DEA482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A407-24B9-44B2-A622-8BB4AEF7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9FD6-0785-4A59-A8CC-29FCC0E8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1406-1D50-47BA-9742-B277F511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E4A4-7F4E-489F-B35C-14ED7C2D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87A6-9796-46B3-89BB-1B1FB1AA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9556-6B35-49CC-8B9A-BAEAF621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73C4-FBA1-477E-BB75-986C66B7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2432-8AE8-42F4-A245-2FCDE5DE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BD90-2444-40D7-BD2F-9D4DEFC6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6B0D-9054-475E-87B2-8CA9A379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0EEB-95E8-43CE-996A-6221E486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021A-F3C2-426C-8B23-AC408BEF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2B8-FCA5-451C-81D5-C67EA287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2C2-B716-4CB4-9F6E-328129FB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97B-7284-4D95-AC7E-99E73EF0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BAA-D3C5-4BCE-8A52-17D57FC6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4FF7-C8D3-4CE2-9D24-0AF57355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E97-6B1E-4E8E-B144-BA26DA75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BF81-1AE2-4555-B109-ECCD285E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A860-C75B-41AB-9E37-5A3AE691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image" Target="../media/image10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6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image" Target="../media/image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6000c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6000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6000c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6000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6000c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76C87-58EF-46AE-817F-CC922490C106}" type="slidenum">
              <a:rPr b="0" lang="en-GB" sz="1400" spc="-1" strike="noStrike">
                <a:solidFill>
                  <a:srgbClr val="06000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buSzPct val="100000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5880" indent="-428760">
              <a:buSzPct val="107048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4600" indent="-426960">
              <a:buSzPct val="100000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2240" indent="-427320">
              <a:buSzPct val="100000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50960" indent="-428760">
              <a:buSzPct val="100000"/>
              <a:buBlip>
                <a:blip r:embed="rId7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50960" indent="-428760">
              <a:buSzPct val="100000"/>
              <a:buBlip>
                <a:blip r:embed="rId8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50960" indent="-428760">
              <a:buSzPct val="100000"/>
              <a:buBlip>
                <a:blip r:embed="rId9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62040" y="480960"/>
            <a:ext cx="78026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62040" y="1904760"/>
            <a:ext cx="7802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09680" indent="-309240"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400" indent="-274320">
              <a:spcAft>
                <a:spcPts val="1412"/>
              </a:spcAft>
              <a:buSzPct val="107048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760" indent="-204120"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3480" indent="-202680"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7840" indent="-204120">
              <a:spcAft>
                <a:spcPts val="1412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7840" indent="-204120">
              <a:spcAft>
                <a:spcPts val="1412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7840" indent="-204120">
              <a:spcAft>
                <a:spcPts val="1412"/>
              </a:spcAft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1373040" cy="6858000"/>
          </a:xfrm>
          <a:custGeom>
            <a:avLst/>
            <a:gdLst>
              <a:gd name="textAreaLeft" fmla="*/ 360 w 1373040"/>
              <a:gd name="textAreaRight" fmla="*/ 1372680 w 13730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864">
                <a:moveTo>
                  <a:pt x="25" y="0"/>
                </a:moveTo>
                <a:arcTo wR="25" hR="25" stAng="16200000" swAng="-5400000"/>
                <a:lnTo>
                  <a:pt x="0" y="107839"/>
                </a:lnTo>
                <a:arcTo wR="25" hR="25" stAng="10800000" swAng="-5400000"/>
                <a:lnTo>
                  <a:pt x="21575" y="10786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84200" y="0"/>
            <a:ext cx="34920" cy="6858000"/>
          </a:xfrm>
          <a:custGeom>
            <a:avLst/>
            <a:gdLst>
              <a:gd name="textAreaLeft" fmla="*/ 360 w 34920"/>
              <a:gd name="textAreaRight" fmla="*/ 34560 w 349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198996">
                <a:moveTo>
                  <a:pt x="981" y="0"/>
                </a:moveTo>
                <a:arcTo wR="981" hR="981" stAng="16200000" swAng="-5400000"/>
                <a:lnTo>
                  <a:pt x="0" y="4198015"/>
                </a:lnTo>
                <a:arcTo wR="981" hR="981" stAng="10800000" swAng="-5400000"/>
                <a:lnTo>
                  <a:pt x="20619" y="4198996"/>
                </a:lnTo>
                <a:arcTo wR="981" hR="981" stAng="5400000" swAng="-5400000"/>
                <a:lnTo>
                  <a:pt x="21600" y="981"/>
                </a:lnTo>
                <a:arcTo wR="981" hR="98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799"/>
              </a:spcBef>
              <a:buSzPct val="105276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5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6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5EB3B03-8AEE-4E31-8813-2ADC37C574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3deb3d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62040" y="480960"/>
            <a:ext cx="780552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805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12920" indent="-31104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7280" indent="-273960"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2000" indent="-207360"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56360" indent="-205560"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71080" indent="-207360"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71080" indent="-207360">
              <a:spcAft>
                <a:spcPts val="1412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71080" indent="-207360">
              <a:spcAft>
                <a:spcPts val="1412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1373040" cy="6858000"/>
          </a:xfrm>
          <a:custGeom>
            <a:avLst/>
            <a:gdLst>
              <a:gd name="textAreaLeft" fmla="*/ 360 w 1373040"/>
              <a:gd name="textAreaRight" fmla="*/ 1372680 w 13730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864">
                <a:moveTo>
                  <a:pt x="25" y="0"/>
                </a:moveTo>
                <a:arcTo wR="25" hR="25" stAng="16200000" swAng="-5400000"/>
                <a:lnTo>
                  <a:pt x="0" y="107839"/>
                </a:lnTo>
                <a:arcTo wR="25" hR="25" stAng="10800000" swAng="-5400000"/>
                <a:lnTo>
                  <a:pt x="21575" y="10786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384200" y="0"/>
            <a:ext cx="34920" cy="6858000"/>
          </a:xfrm>
          <a:custGeom>
            <a:avLst/>
            <a:gdLst>
              <a:gd name="textAreaLeft" fmla="*/ 360 w 34920"/>
              <a:gd name="textAreaRight" fmla="*/ 34560 w 349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198996">
                <a:moveTo>
                  <a:pt x="981" y="0"/>
                </a:moveTo>
                <a:arcTo wR="981" hR="981" stAng="16200000" swAng="-5400000"/>
                <a:lnTo>
                  <a:pt x="0" y="4198015"/>
                </a:lnTo>
                <a:arcTo wR="981" hR="981" stAng="10800000" swAng="-5400000"/>
                <a:lnTo>
                  <a:pt x="20619" y="4198996"/>
                </a:lnTo>
                <a:arcTo wR="981" hR="981" stAng="5400000" swAng="-5400000"/>
                <a:lnTo>
                  <a:pt x="21600" y="981"/>
                </a:lnTo>
                <a:arcTo wR="981" hR="98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445520" y="678168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445520" y="665172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445520" y="650880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45520" y="638028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445520" y="6237360"/>
            <a:ext cx="54432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445520" y="6107040"/>
            <a:ext cx="54432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107200" y="678168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107200" y="665172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107200" y="650880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107200" y="638028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107200" y="6237360"/>
            <a:ext cx="54468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107200" y="6107040"/>
            <a:ext cx="54468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59040"/>
            <a:ext cx="555480" cy="4998960"/>
          </a:xfrm>
          <a:custGeom>
            <a:avLst/>
            <a:gdLst>
              <a:gd name="textAreaLeft" fmla="*/ 360 w 555480"/>
              <a:gd name="textAreaRight" fmla="*/ 555120 w 555480"/>
              <a:gd name="textAreaTop" fmla="*/ 360 h 4998960"/>
              <a:gd name="textAreaBottom" fmla="*/ 4998600 h 4998960"/>
            </a:gdLst>
            <a:ahLst/>
            <a:rect l="textAreaLeft" t="textAreaTop" r="textAreaRight" b="textAreaBottom"/>
            <a:pathLst>
              <a:path w="21600" h="194274">
                <a:moveTo>
                  <a:pt x="61" y="0"/>
                </a:moveTo>
                <a:arcTo wR="61" hR="61" stAng="16200000" swAng="-5400000"/>
                <a:lnTo>
                  <a:pt x="0" y="194213"/>
                </a:lnTo>
                <a:arcTo wR="61" hR="61" stAng="10800000" swAng="-5400000"/>
                <a:lnTo>
                  <a:pt x="21539" y="194274"/>
                </a:lnTo>
                <a:arcTo wR="61" hR="61" stAng="5400000" swAng="-5400000"/>
                <a:lnTo>
                  <a:pt x="21600" y="61"/>
                </a:lnTo>
                <a:arcTo wR="61" hR="61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0880" y="0"/>
            <a:ext cx="8493120" cy="1739880"/>
          </a:xfrm>
          <a:prstGeom prst="roundRect">
            <a:avLst>
              <a:gd name="adj" fmla="val 88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80264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71400" y="2165400"/>
            <a:ext cx="78026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01040" indent="-302760"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7120" indent="-2685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1998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18920" indent="-1983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24640" indent="-1998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24640" indent="-1998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24640" indent="-1998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28720"/>
            <a:ext cx="9144000" cy="177840"/>
          </a:xfrm>
          <a:prstGeom prst="roundRect">
            <a:avLst>
              <a:gd name="adj" fmla="val 88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6800" y="0"/>
            <a:ext cx="165240" cy="68580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894569">
                <a:moveTo>
                  <a:pt x="207" y="0"/>
                </a:moveTo>
                <a:arcTo wR="207" hR="207" stAng="16200000" swAng="-5400000"/>
                <a:lnTo>
                  <a:pt x="0" y="894362"/>
                </a:lnTo>
                <a:arcTo wR="207" hR="207" stAng="10800000" swAng="-5400000"/>
                <a:lnTo>
                  <a:pt x="21393" y="894569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80264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05360" indent="-306000"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815760" indent="-271440"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225800" indent="-201960"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636200" indent="-200520"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046240" indent="-201960"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046240" indent="-2019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046240" indent="-2019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770520" y="4381560"/>
            <a:ext cx="2373480" cy="23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80264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05360" indent="-306000"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815760" indent="-271440"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225800" indent="-201960"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636200" indent="-200520"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046240" indent="-201960"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046240" indent="-2019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046240" indent="-2019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70520" y="4381560"/>
            <a:ext cx="2373480" cy="23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3deb3d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2040" y="480960"/>
            <a:ext cx="78026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62040" y="1904760"/>
            <a:ext cx="7802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09680" indent="-309240"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400" indent="-27432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8760" indent="-2041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53480" indent="-20268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67840" indent="-2041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67840" indent="-2041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67840" indent="-2041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1373040" cy="6858000"/>
          </a:xfrm>
          <a:custGeom>
            <a:avLst/>
            <a:gdLst>
              <a:gd name="textAreaLeft" fmla="*/ 360 w 1373040"/>
              <a:gd name="textAreaRight" fmla="*/ 1372680 w 13730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864">
                <a:moveTo>
                  <a:pt x="25" y="0"/>
                </a:moveTo>
                <a:arcTo wR="25" hR="25" stAng="16200000" swAng="-5400000"/>
                <a:lnTo>
                  <a:pt x="0" y="107839"/>
                </a:lnTo>
                <a:arcTo wR="25" hR="25" stAng="10800000" swAng="-5400000"/>
                <a:lnTo>
                  <a:pt x="21575" y="10786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84200" y="0"/>
            <a:ext cx="34920" cy="6858000"/>
          </a:xfrm>
          <a:custGeom>
            <a:avLst/>
            <a:gdLst>
              <a:gd name="textAreaLeft" fmla="*/ 360 w 34920"/>
              <a:gd name="textAreaRight" fmla="*/ 34560 w 349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198996">
                <a:moveTo>
                  <a:pt x="981" y="0"/>
                </a:moveTo>
                <a:arcTo wR="981" hR="981" stAng="16200000" swAng="-5400000"/>
                <a:lnTo>
                  <a:pt x="0" y="4198015"/>
                </a:lnTo>
                <a:arcTo wR="981" hR="981" stAng="10800000" swAng="-5400000"/>
                <a:lnTo>
                  <a:pt x="20619" y="4198996"/>
                </a:lnTo>
                <a:arcTo wR="981" hR="981" stAng="5400000" swAng="-5400000"/>
                <a:lnTo>
                  <a:pt x="21600" y="981"/>
                </a:lnTo>
                <a:arcTo wR="981" hR="98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45520" y="678168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445520" y="665172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45520" y="650880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45520" y="638028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45520" y="6237360"/>
            <a:ext cx="54432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45520" y="6107040"/>
            <a:ext cx="54432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107200" y="678168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107200" y="665172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07200" y="650880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107200" y="638028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07200" y="6237360"/>
            <a:ext cx="54468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07200" y="6107040"/>
            <a:ext cx="54468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1168560"/>
            <a:ext cx="9144000" cy="1046160"/>
          </a:xfrm>
          <a:prstGeom prst="roundRect">
            <a:avLst>
              <a:gd name="adj" fmla="val 148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0" y="11880"/>
            <a:ext cx="9144000" cy="1189080"/>
          </a:xfrm>
          <a:prstGeom prst="roundRect">
            <a:avLst>
              <a:gd name="adj" fmla="val 13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027840"/>
            <a:ext cx="9144000" cy="830160"/>
          </a:xfrm>
          <a:prstGeom prst="roundRect">
            <a:avLst>
              <a:gd name="adj" fmla="val 190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65400" y="6126120"/>
            <a:ext cx="5177160" cy="480960"/>
          </a:xfrm>
          <a:custGeom>
            <a:avLst/>
            <a:gdLst/>
            <a:ahLst/>
            <a:rect l="l" t="t" r="r" b="b"/>
            <a:pathLst>
              <a:path w="14382" h="1334">
                <a:moveTo>
                  <a:pt x="1223" y="712"/>
                </a:moveTo>
                <a:cubicBezTo>
                  <a:pt x="0" y="647"/>
                  <a:pt x="2612" y="672"/>
                  <a:pt x="2025" y="534"/>
                </a:cubicBezTo>
                <a:cubicBezTo>
                  <a:pt x="1438" y="396"/>
                  <a:pt x="3677" y="430"/>
                  <a:pt x="3947" y="341"/>
                </a:cubicBezTo>
                <a:cubicBezTo>
                  <a:pt x="4066" y="301"/>
                  <a:pt x="3997" y="212"/>
                  <a:pt x="3839" y="173"/>
                </a:cubicBezTo>
                <a:cubicBezTo>
                  <a:pt x="3830" y="171"/>
                  <a:pt x="2498" y="97"/>
                  <a:pt x="2759" y="48"/>
                </a:cubicBezTo>
                <a:cubicBezTo>
                  <a:pt x="3020" y="0"/>
                  <a:pt x="6565" y="366"/>
                  <a:pt x="6554" y="433"/>
                </a:cubicBezTo>
                <a:cubicBezTo>
                  <a:pt x="6543" y="500"/>
                  <a:pt x="4796" y="572"/>
                  <a:pt x="4796" y="572"/>
                </a:cubicBezTo>
                <a:lnTo>
                  <a:pt x="5655" y="662"/>
                </a:lnTo>
                <a:lnTo>
                  <a:pt x="7026" y="679"/>
                </a:lnTo>
                <a:lnTo>
                  <a:pt x="9264" y="791"/>
                </a:lnTo>
                <a:cubicBezTo>
                  <a:pt x="9264" y="791"/>
                  <a:pt x="10256" y="625"/>
                  <a:pt x="10044" y="647"/>
                </a:cubicBezTo>
                <a:cubicBezTo>
                  <a:pt x="9833" y="669"/>
                  <a:pt x="11017" y="658"/>
                  <a:pt x="11119" y="626"/>
                </a:cubicBezTo>
                <a:cubicBezTo>
                  <a:pt x="11222" y="595"/>
                  <a:pt x="11424" y="636"/>
                  <a:pt x="11434" y="637"/>
                </a:cubicBezTo>
                <a:cubicBezTo>
                  <a:pt x="11806" y="669"/>
                  <a:pt x="12046" y="704"/>
                  <a:pt x="12314" y="714"/>
                </a:cubicBezTo>
                <a:cubicBezTo>
                  <a:pt x="12583" y="724"/>
                  <a:pt x="13177" y="679"/>
                  <a:pt x="13520" y="697"/>
                </a:cubicBezTo>
                <a:cubicBezTo>
                  <a:pt x="13863" y="715"/>
                  <a:pt x="14381" y="637"/>
                  <a:pt x="14381" y="637"/>
                </a:cubicBezTo>
                <a:lnTo>
                  <a:pt x="14381" y="764"/>
                </a:lnTo>
                <a:cubicBezTo>
                  <a:pt x="14381" y="764"/>
                  <a:pt x="11207" y="963"/>
                  <a:pt x="11221" y="963"/>
                </a:cubicBezTo>
                <a:cubicBezTo>
                  <a:pt x="11235" y="963"/>
                  <a:pt x="7758" y="968"/>
                  <a:pt x="7770" y="968"/>
                </a:cubicBezTo>
                <a:cubicBezTo>
                  <a:pt x="7783" y="968"/>
                  <a:pt x="5431" y="909"/>
                  <a:pt x="5431" y="909"/>
                </a:cubicBezTo>
                <a:cubicBezTo>
                  <a:pt x="5431" y="909"/>
                  <a:pt x="4149" y="882"/>
                  <a:pt x="4228" y="872"/>
                </a:cubicBezTo>
                <a:cubicBezTo>
                  <a:pt x="4307" y="862"/>
                  <a:pt x="2989" y="1333"/>
                  <a:pt x="2810" y="1300"/>
                </a:cubicBezTo>
                <a:cubicBezTo>
                  <a:pt x="2631" y="1268"/>
                  <a:pt x="1893" y="1075"/>
                  <a:pt x="1867" y="1086"/>
                </a:cubicBezTo>
                <a:cubicBezTo>
                  <a:pt x="1840" y="1097"/>
                  <a:pt x="3058" y="809"/>
                  <a:pt x="2629" y="786"/>
                </a:cubicBezTo>
                <a:lnTo>
                  <a:pt x="1223" y="712"/>
                </a:lnTo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0600" y="6016680"/>
            <a:ext cx="5227560" cy="345960"/>
          </a:xfrm>
          <a:custGeom>
            <a:avLst/>
            <a:gdLst/>
            <a:ahLst/>
            <a:rect l="l" t="t" r="r" b="b"/>
            <a:pathLst>
              <a:path w="14520" h="962">
                <a:moveTo>
                  <a:pt x="0" y="961"/>
                </a:moveTo>
                <a:lnTo>
                  <a:pt x="5341" y="762"/>
                </a:lnTo>
                <a:lnTo>
                  <a:pt x="11582" y="650"/>
                </a:lnTo>
                <a:lnTo>
                  <a:pt x="14519" y="480"/>
                </a:lnTo>
                <a:lnTo>
                  <a:pt x="13192" y="282"/>
                </a:lnTo>
                <a:lnTo>
                  <a:pt x="9662" y="338"/>
                </a:lnTo>
                <a:lnTo>
                  <a:pt x="7742" y="0"/>
                </a:lnTo>
                <a:lnTo>
                  <a:pt x="5483" y="282"/>
                </a:lnTo>
                <a:lnTo>
                  <a:pt x="3224" y="395"/>
                </a:lnTo>
                <a:lnTo>
                  <a:pt x="1680" y="15"/>
                </a:lnTo>
                <a:lnTo>
                  <a:pt x="878" y="582"/>
                </a:lnTo>
                <a:lnTo>
                  <a:pt x="0" y="961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11240" y="6157800"/>
            <a:ext cx="2051280" cy="212760"/>
          </a:xfrm>
          <a:custGeom>
            <a:avLst/>
            <a:gdLst/>
            <a:ahLst/>
            <a:rect l="l" t="t" r="r" b="b"/>
            <a:pathLst>
              <a:path w="5696" h="589">
                <a:moveTo>
                  <a:pt x="0" y="588"/>
                </a:moveTo>
                <a:lnTo>
                  <a:pt x="982" y="552"/>
                </a:lnTo>
                <a:lnTo>
                  <a:pt x="4186" y="494"/>
                </a:lnTo>
                <a:lnTo>
                  <a:pt x="5695" y="407"/>
                </a:lnTo>
                <a:lnTo>
                  <a:pt x="5014" y="320"/>
                </a:lnTo>
                <a:lnTo>
                  <a:pt x="3147" y="39"/>
                </a:lnTo>
                <a:lnTo>
                  <a:pt x="2298" y="516"/>
                </a:lnTo>
                <a:lnTo>
                  <a:pt x="1143" y="0"/>
                </a:lnTo>
                <a:lnTo>
                  <a:pt x="210" y="308"/>
                </a:lnTo>
                <a:lnTo>
                  <a:pt x="0" y="58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6059520"/>
            <a:ext cx="5346720" cy="650880"/>
          </a:xfrm>
          <a:custGeom>
            <a:avLst/>
            <a:gdLst/>
            <a:ahLst/>
            <a:rect l="l" t="t" r="r" b="b"/>
            <a:pathLst>
              <a:path w="14854" h="1806">
                <a:moveTo>
                  <a:pt x="0" y="1313"/>
                </a:moveTo>
                <a:lnTo>
                  <a:pt x="9742" y="1438"/>
                </a:lnTo>
                <a:lnTo>
                  <a:pt x="13412" y="1664"/>
                </a:lnTo>
                <a:lnTo>
                  <a:pt x="14853" y="1805"/>
                </a:lnTo>
                <a:lnTo>
                  <a:pt x="13695" y="1382"/>
                </a:lnTo>
                <a:lnTo>
                  <a:pt x="11210" y="902"/>
                </a:lnTo>
                <a:lnTo>
                  <a:pt x="6692" y="676"/>
                </a:lnTo>
                <a:lnTo>
                  <a:pt x="4320" y="0"/>
                </a:lnTo>
                <a:lnTo>
                  <a:pt x="2259" y="704"/>
                </a:lnTo>
                <a:lnTo>
                  <a:pt x="0" y="1178"/>
                </a:lnTo>
                <a:lnTo>
                  <a:pt x="0" y="1313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400" y="77760"/>
            <a:ext cx="78026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1400" y="1447560"/>
            <a:ext cx="780264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20760">
              <a:spcAft>
                <a:spcPts val="1426"/>
              </a:spcAft>
              <a:buSzPct val="11008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85840">
              <a:spcAft>
                <a:spcPts val="1426"/>
              </a:spcAft>
              <a:buSzPct val="177274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0600" indent="-212760"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2600" indent="-211320"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12760"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12760"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12760">
              <a:spcAft>
                <a:spcPts val="1426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22280" y="0"/>
            <a:ext cx="872172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ffffcc"/>
              </a:gs>
              <a:gs pos="100000">
                <a:srgbClr val="fffbf0"/>
              </a:gs>
            </a:gsLst>
            <a:lin ang="0"/>
          </a:gradFill>
          <a:ln w="936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80264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05360" indent="-306000"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5760" indent="-271440">
              <a:spcAft>
                <a:spcPts val="1426"/>
              </a:spcAft>
              <a:buSzPct val="107048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5800" indent="-201960"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36200" indent="-200520"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01960"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01960">
              <a:spcAft>
                <a:spcPts val="1426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01960">
              <a:spcAft>
                <a:spcPts val="1426"/>
              </a:spcAft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22280" y="0"/>
            <a:ext cx="872172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ffffcc"/>
              </a:gs>
              <a:gs pos="100000">
                <a:srgbClr val="fffbf0"/>
              </a:gs>
            </a:gsLst>
            <a:lin ang="0"/>
          </a:gradFill>
          <a:ln w="936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80264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05360" indent="-306000"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5760" indent="-271440">
              <a:spcAft>
                <a:spcPts val="1426"/>
              </a:spcAft>
              <a:buSzPct val="107048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5800" indent="-201960"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36200" indent="-200520"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01960"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01960">
              <a:spcAft>
                <a:spcPts val="1426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01960">
              <a:spcAft>
                <a:spcPts val="1426"/>
              </a:spcAft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422280" y="0"/>
            <a:ext cx="872172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ffffcc"/>
              </a:gs>
              <a:gs pos="100000">
                <a:srgbClr val="fffbf0"/>
              </a:gs>
            </a:gsLst>
            <a:lin ang="0"/>
          </a:gradFill>
          <a:ln w="936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80264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05360" indent="-306000"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5760" indent="-271440">
              <a:spcAft>
                <a:spcPts val="1426"/>
              </a:spcAft>
              <a:buSzPct val="107048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5800" indent="-201960"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36200" indent="-200520"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01960"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01960">
              <a:spcAft>
                <a:spcPts val="1426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01960">
              <a:spcAft>
                <a:spcPts val="1426"/>
              </a:spcAft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40000" y="900000"/>
            <a:ext cx="738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80"/>
                </a:solidFill>
                <a:latin typeface="Times New Roman"/>
              </a:rPr>
              <a:t>ПРОЗВЕНЕЛ ЗВОНОК ,</a:t>
            </a: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000080"/>
                </a:solidFill>
                <a:latin typeface="Times New Roman"/>
              </a:rPr>
              <a:t>НАЧАЛСЯ УРОК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457200" y="274680"/>
            <a:ext cx="822960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Радоваться первой весенней 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кап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079640" y="1341360"/>
            <a:ext cx="360360" cy="574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619280" y="134136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979640" y="134136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80000" y="1341360"/>
            <a:ext cx="360360" cy="574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319640" y="1341360"/>
            <a:ext cx="360360" cy="574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3779280" y="2781360"/>
            <a:ext cx="360360" cy="718920"/>
          </a:xfrm>
          <a:prstGeom prst="triangle">
            <a:avLst>
              <a:gd name="adj" fmla="val 586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076720" y="2781360"/>
            <a:ext cx="324000" cy="718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 fill="hold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685800" y="3933720"/>
            <a:ext cx="7772400" cy="10065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приро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371600" y="4941720"/>
            <a:ext cx="64008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разобрать по схеме СУО ( слог, ударение, орфограмма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назвать грамматические признак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765000" y="179280"/>
            <a:ext cx="762012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0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217656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8360" y="47628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У природы нет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780000" y="476280"/>
            <a:ext cx="42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 плохая пого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17680" y="1547640"/>
            <a:ext cx="84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К холодному лету птицы вьют гнезда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19120" y="2124000"/>
            <a:ext cx="44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 солнечная сторона)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003640" y="213372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дерев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47840" y="341964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Люблю березк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851280" y="342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русска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39640" y="4076640"/>
            <a:ext cx="6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116000" y="4076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светла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276720" y="4076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24360" y="4076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 грустная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925800" y="476280"/>
            <a:ext cx="32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плох</a:t>
            </a:r>
            <a:r>
              <a:rPr b="1" lang="en-GB" sz="3200" spc="-1" strike="noStrike">
                <a:solidFill>
                  <a:srgbClr val="339933"/>
                </a:solidFill>
                <a:latin typeface="Arial"/>
              </a:rPr>
              <a:t>ой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по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84000" y="2133720"/>
            <a:ext cx="41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солнечн</a:t>
            </a:r>
            <a:r>
              <a:rPr b="1" lang="en-GB" sz="3200" spc="-1" strike="noStrike">
                <a:solidFill>
                  <a:srgbClr val="339933"/>
                </a:solidFill>
                <a:latin typeface="Arial"/>
              </a:rPr>
              <a:t>ой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стор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68560" y="3429000"/>
            <a:ext cx="19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русск</a:t>
            </a:r>
            <a:r>
              <a:rPr b="1" lang="en-GB" sz="3200" spc="-1" strike="noStrike">
                <a:solidFill>
                  <a:srgbClr val="339933"/>
                </a:solidFill>
                <a:latin typeface="Arial"/>
              </a:rPr>
              <a:t>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131480" y="4076640"/>
            <a:ext cx="202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светл</a:t>
            </a:r>
            <a:r>
              <a:rPr b="1" lang="en-GB" sz="3200" spc="-1" strike="noStrike">
                <a:solidFill>
                  <a:srgbClr val="339933"/>
                </a:solidFill>
                <a:latin typeface="Arial"/>
              </a:rPr>
              <a:t>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068720" y="4076640"/>
            <a:ext cx="20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грустн</a:t>
            </a:r>
            <a:r>
              <a:rPr b="1" lang="en-GB" sz="3200" spc="-1" strike="noStrike">
                <a:solidFill>
                  <a:srgbClr val="339933"/>
                </a:solidFill>
                <a:latin typeface="Arial"/>
              </a:rPr>
              <a:t>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0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 fill="hold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 fill="hold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 fill="hold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 fill="hold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 fill="hold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 fill="hold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 fill="hold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 fill="hold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 fill="hold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 fill="hold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 fill="hold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 fill="hold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 fill="hold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 fill="hold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 fill="hold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 fill="hold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 fill="hold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 fill="hold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 fill="hold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 fill="hold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 fill="hold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468360" y="333360"/>
            <a:ext cx="82184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Ты отправляешься на загородн..   пр.гулку. И в березов.. роще, и на лесн.. п.ляне ты в г.стях у пр.роды: у тех, кто здесь ж.вет. Соблюдай правила вежливости. Не об.жай зв.рей. Помни, что они здесь х.зяева, а ты гость. Они ж.вут, как их пр.рода устроила, и каждый делает в пр.роде своё полезное д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95280" y="3357720"/>
            <a:ext cx="2592360" cy="2768400"/>
            <a:chOff x="395280" y="3357720"/>
            <a:chExt cx="2592360" cy="2768400"/>
          </a:xfrm>
        </p:grpSpPr>
        <p:pic>
          <p:nvPicPr>
            <p:cNvPr id="606" name="" descr=""/>
            <p:cNvPicPr/>
            <p:nvPr/>
          </p:nvPicPr>
          <p:blipFill>
            <a:blip r:embed="rId2"/>
            <a:stretch/>
          </p:blipFill>
          <p:spPr>
            <a:xfrm>
              <a:off x="395280" y="3357720"/>
              <a:ext cx="2592360" cy="27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395280" y="3357720"/>
              <a:ext cx="2592360" cy="27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5938920" y="3357720"/>
            <a:ext cx="2593800" cy="2735280"/>
            <a:chOff x="5938920" y="3357720"/>
            <a:chExt cx="2593800" cy="2735280"/>
          </a:xfrm>
        </p:grpSpPr>
        <p:pic>
          <p:nvPicPr>
            <p:cNvPr id="609" name="" descr=""/>
            <p:cNvPicPr/>
            <p:nvPr/>
          </p:nvPicPr>
          <p:blipFill>
            <a:blip r:embed="rId3"/>
            <a:stretch/>
          </p:blipFill>
          <p:spPr>
            <a:xfrm>
              <a:off x="5938920" y="3357720"/>
              <a:ext cx="259380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5938920" y="3357720"/>
              <a:ext cx="259380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192560" y="431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97512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559480" y="438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3203640" y="4076640"/>
            <a:ext cx="2448000" cy="2089080"/>
            <a:chOff x="3203640" y="4076640"/>
            <a:chExt cx="2448000" cy="2089080"/>
          </a:xfrm>
        </p:grpSpPr>
        <p:pic>
          <p:nvPicPr>
            <p:cNvPr id="615" name="" descr=""/>
            <p:cNvPicPr/>
            <p:nvPr/>
          </p:nvPicPr>
          <p:blipFill>
            <a:blip r:embed="rId4"/>
            <a:stretch/>
          </p:blipFill>
          <p:spPr>
            <a:xfrm>
              <a:off x="3203640" y="4076640"/>
              <a:ext cx="244800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3203640" y="4076640"/>
              <a:ext cx="244800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6300720" y="260280"/>
            <a:ext cx="19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 fill="hold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 fill="hold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 fill="hold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 fill="hold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468360" y="189000"/>
            <a:ext cx="849636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Ты отправляешься на загородн       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пр   гулку. И в березов        роще, и на лесн        п   ляне ты в г   стях у пр  роды: у тех, кто здесь ж  вет. Соблюдай правила вежливости. Не об  жай зв  рей. Помни, что они здесь х  зяева, а ты гость. Они ж  вут, как их  пр  рода устроила, и каждый делает в  пр  роде своё полезное д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92560" y="431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97512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559480" y="438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300720" y="260280"/>
            <a:ext cx="19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 rot="10800000">
            <a:off x="7025760" y="969120"/>
            <a:ext cx="79236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042920" y="148428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148360" y="1484280"/>
            <a:ext cx="79200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547640" y="1989000"/>
            <a:ext cx="64800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627280" y="198900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219640" y="198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380360" y="1989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400720" y="2519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084720" y="2924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667640" y="296532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19640" y="346860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987640" y="393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084720" y="3933720"/>
            <a:ext cx="5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093080" y="443700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 fill="hold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 fill="hold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 fill="hold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 fill="hold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 fill="hold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 fill="hold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 fill="hold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 fill="hold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 fill="hold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 fill="hold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 fill="hold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 fill="hold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 fill="hold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 fill="hold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71400" y="504360"/>
            <a:ext cx="780912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imes New Roman"/>
              </a:rPr>
              <a:t>Как же нужно относиться к природ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3780000" y="1979640"/>
            <a:ext cx="5219640" cy="409896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SzPct val="102861"/>
              <a:buBlip>
                <a:blip r:embed="rId3"/>
              </a:buBlip>
              <a:tabLst>
                <a:tab algn="l" pos="1908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dc2300"/>
                </a:solidFill>
                <a:latin typeface="Times New Roman"/>
              </a:rPr>
              <a:t>Люби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SzPct val="102861"/>
              <a:buBlip>
                <a:blip r:embed="rId4"/>
              </a:buBlip>
              <a:tabLst>
                <a:tab algn="l" pos="1908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2300dc"/>
                </a:solidFill>
                <a:latin typeface="Times New Roman"/>
              </a:rPr>
              <a:t>Береч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SzPct val="102861"/>
              <a:buBlip>
                <a:blip r:embed="rId5"/>
              </a:buBlip>
              <a:tabLst>
                <a:tab algn="l" pos="1908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6b2394"/>
                </a:solidFill>
                <a:latin typeface="Times New Roman"/>
              </a:rPr>
              <a:t>Дружи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dur="indefinite" fill="hold">
                      <p:stCondLst>
                        <p:cond delay="indefinite"/>
                      </p:stCondLst>
                      <p:childTnLst>
                        <p:par>
                          <p:cTn id="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dur="indefinite" fill="hold">
                      <p:stCondLst>
                        <p:cond delay="indefinite"/>
                      </p:stCondLst>
                      <p:childTnLst>
                        <p:par>
                          <p:cTn id="3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dur="indefinite" fill="hold">
                      <p:stCondLst>
                        <p:cond delay="indefinite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 fill="hold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79280" y="587520"/>
            <a:ext cx="360072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2160"/>
                <a:tab algn="l" pos="54144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ff"/>
                </a:solidFill>
                <a:latin typeface="Monotype Corsiva"/>
              </a:rPr>
              <a:t>ЖЕЛАЕМ ВАМ ПРИЯТНОГО ПРОСМОТРА ФИЛЬМА О ДРУЖБ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3780000" y="1260360"/>
            <a:ext cx="467964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dur="indefinite" fill="hold">
                      <p:stCondLst>
                        <p:cond delay="indefinite"/>
                      </p:stCondLst>
                      <p:childTnLst>
                        <p:par>
                          <p:cTn id="3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 fill="hold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457200" y="274680"/>
            <a:ext cx="8218440" cy="58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4b1f6f"/>
                </a:solidFill>
                <a:latin typeface="Tahoma"/>
              </a:rPr>
              <a:t>Красивая, долгожданной, солнечную, радостная, </a:t>
            </a:r>
            <a:br>
              <a:rPr sz="4400"/>
            </a:br>
            <a:r>
              <a:rPr b="1" lang="en-GB" sz="4400" spc="-1" strike="noStrike">
                <a:solidFill>
                  <a:srgbClr val="4b1f6f"/>
                </a:solidFill>
                <a:latin typeface="Tahoma"/>
              </a:rPr>
              <a:t>к красивой,  красивую, солнечная, из радостной, весенню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dc2300"/>
                </a:solidFill>
                <a:latin typeface="Tahoma"/>
              </a:rPr>
              <a:t>3 : 3 :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92784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6360" y="6174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Красивая , радостная, солнеч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975120" y="193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68360" y="1844640"/>
            <a:ext cx="820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2300dc"/>
                </a:solidFill>
                <a:latin typeface="Arial"/>
              </a:rPr>
              <a:t>Долгожданной, к красив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2300dc"/>
                </a:solidFill>
                <a:latin typeface="Arial"/>
              </a:rPr>
              <a:t>из радостной</a:t>
            </a:r>
            <a:r>
              <a:rPr b="0" lang="en-GB" sz="1800" spc="-1" strike="noStrike">
                <a:solidFill>
                  <a:srgbClr val="2300dc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408560" y="431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39640" y="38084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d320"/>
                </a:solidFill>
                <a:latin typeface="Arial"/>
              </a:rPr>
              <a:t>Солнечную, красивую,</a:t>
            </a:r>
            <a:br>
              <a:rPr sz="3600"/>
            </a:br>
            <a:r>
              <a:rPr b="1" lang="en-GB" sz="3600" spc="-1" strike="noStrike">
                <a:solidFill>
                  <a:srgbClr val="ffd320"/>
                </a:solidFill>
                <a:latin typeface="Arial"/>
              </a:rPr>
              <a:t>весеннюю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60360" y="579600"/>
            <a:ext cx="822960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ae00"/>
                </a:solidFill>
                <a:latin typeface="Arial"/>
                <a:ea typeface="MS P ゴシック"/>
              </a:rPr>
              <a:t>Урок — презентация</a:t>
            </a:r>
            <a:br>
              <a:rPr sz="4400"/>
            </a:br>
            <a:r>
              <a:rPr b="0" lang="en-GB" sz="4400" spc="-1" strike="noStrike">
                <a:solidFill>
                  <a:srgbClr val="00ae00"/>
                </a:solidFill>
                <a:latin typeface="Arial"/>
                <a:ea typeface="MS P ゴシック"/>
              </a:rPr>
              <a:t> русского языка.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ff"/>
                </a:solidFill>
                <a:latin typeface="Arial"/>
                <a:ea typeface="MS P ゴシック"/>
              </a:rPr>
              <a:t>ТЕМА УРОКА:</a:t>
            </a:r>
            <a:br>
              <a:rPr sz="4400"/>
            </a:br>
            <a:r>
              <a:rPr b="0" lang="en-GB" sz="4400" spc="-1" strike="noStrike">
                <a:solidFill>
                  <a:srgbClr val="0000ff"/>
                </a:solidFill>
                <a:latin typeface="Arial"/>
                <a:ea typeface="MS P ゴシック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0000ff"/>
                </a:solidFill>
                <a:latin typeface="Arial"/>
                <a:ea typeface="MS P ゴシック"/>
              </a:rPr>
              <a:t>«  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  <a:ea typeface="MS P ゴシック"/>
              </a:rPr>
              <a:t>ПРАВОПИСАНИЕ ОКОНЧАНИЙ ИМЁН ПРИЛАГАТЕЛЬНЫХ ЖЕНСКОГО РОД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099280" y="2160720"/>
            <a:ext cx="17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539640" y="274680"/>
            <a:ext cx="8353440" cy="61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99"/>
                </a:solidFill>
                <a:latin typeface="Times New Roman"/>
                <a:ea typeface="ＭＳ Ｐ明朝"/>
              </a:rPr>
              <a:t>      </a:t>
            </a:r>
            <a:r>
              <a:rPr b="1" lang="en-GB" sz="4800" spc="-1" strike="noStrike">
                <a:solidFill>
                  <a:srgbClr val="333399"/>
                </a:solidFill>
                <a:latin typeface="Times New Roman"/>
                <a:ea typeface="ＭＳ Ｐ明朝"/>
              </a:rPr>
              <a:t>Цели:</a:t>
            </a:r>
            <a:br>
              <a:rPr sz="4800"/>
            </a:br>
            <a:r>
              <a:rPr b="1" lang="en-GB" sz="4800" spc="-1" strike="noStrike">
                <a:solidFill>
                  <a:srgbClr val="333399"/>
                </a:solidFill>
                <a:latin typeface="Times New Roman"/>
                <a:ea typeface="ＭＳ Ｐ明朝"/>
              </a:rPr>
              <a:t>      </a:t>
            </a: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- повторить…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     -учиться…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     - познакомиться  с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40360" y="3933720"/>
            <a:ext cx="180036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71040" y="515520"/>
            <a:ext cx="78058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Что такое имя прилагательн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671040" y="2209320"/>
            <a:ext cx="780588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работа по тест-картам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360360" y="260280"/>
            <a:ext cx="8280360" cy="62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39640" y="453600"/>
            <a:ext cx="822636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2300dc"/>
                </a:solidFill>
                <a:latin typeface="Times New Roman"/>
              </a:rPr>
              <a:t>СЛОВАРНО-  ОРФОГРАФИЧЕСКАЯ РАБОТ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GB" sz="2600" spc="-1" strike="noStrike">
                <a:solidFill>
                  <a:srgbClr val="2300dc"/>
                </a:solidFill>
                <a:latin typeface="Times New Roman"/>
              </a:rPr>
              <a:t>Программа « Фраза» </a:t>
            </a:r>
            <a:br>
              <a:rPr sz="2600"/>
            </a:br>
            <a:r>
              <a:rPr b="1" lang="en-GB" sz="2600" spc="-1" strike="noStrike">
                <a:solidFill>
                  <a:srgbClr val="2300dc"/>
                </a:solidFill>
                <a:latin typeface="Times New Roman"/>
              </a:rPr>
              <a:t>( 2кл. Тема 2.6 Вариант 87)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 rot="10800000">
            <a:off x="611280" y="11880"/>
            <a:ext cx="82296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755640" y="3573360"/>
            <a:ext cx="7848720" cy="266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минут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408560" y="445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2843280" y="260280"/>
            <a:ext cx="403380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 fill="hold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ироткин И.Н.</dc:creator>
  <dc:description/>
  <dc:language>en-US</dc:language>
  <cp:lastModifiedBy>user</cp:lastModifiedBy>
  <cp:revision>0</cp:revision>
  <dc:subject/>
  <dc:title>Красивая, долгожданной, солнечную, радостная,  к красивой,  красивую, солнечная, из радостной, весеннюю. 3 : 3 : 3</dc:title>
</cp:coreProperties>
</file>