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6.jpeg" ContentType="image/jpeg"/>
  <Override PartName="/ppt/media/image23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401480" y="801720"/>
            <a:ext cx="4049640" cy="33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190520" y="878040"/>
            <a:ext cx="44751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155600" y="933480"/>
            <a:ext cx="435456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158840" y="933480"/>
            <a:ext cx="4353120" cy="33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401840" y="803160"/>
            <a:ext cx="405288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401840" y="803160"/>
            <a:ext cx="4052880" cy="335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01840" y="914400"/>
            <a:ext cx="4056120" cy="313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003320" y="69516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F4C-EACA-45E9-AE53-BB398C80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050-57B2-421A-A4D6-7DF0A03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F82-6B7E-46E3-942C-1CF42D3D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729-8311-46AC-9BF4-5DD66E3A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E2F-393D-4D57-9ED2-26A2839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8676-DEC3-43CC-AA9D-86A477A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7775-3524-4250-98C1-67B1D0F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405B-33A8-4FCE-B0C6-F702557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9D0-ED27-4EBC-A485-F42C6E88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AEF-BD33-46E8-988C-AC6F77A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C6D2-1686-4C50-9322-A668E569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E47A-6757-4C63-AE82-0F33000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12F-A401-4986-B649-8F202B5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C179-26C1-4E0D-A548-D3E92C3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2CF-C0B7-4D0E-896A-D831901F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BB82-A633-4227-944B-535CD7B0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1FF-F932-46FA-90AA-EF1B81CE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B77-845B-4A24-904A-856B653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E28-EC4A-4196-8963-30782A5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3F4-C8D5-4428-97D6-FC4F9D7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0D0-D32C-46D5-8552-C1977750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B13-E70B-4C45-BB96-9A34122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669-0D54-4C36-BF4C-F69EC8D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9B2-B1C9-4BC9-B124-179E718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71400" y="596880"/>
            <a:ext cx="780264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31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6000c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E08FC-3BF8-4FBA-929A-1ADB2F5A5F36}" type="slidenum">
              <a:rPr b="0" lang="en-GB" sz="1400" spc="-1" strike="noStrike">
                <a:solidFill>
                  <a:srgbClr val="06000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71400" y="596880"/>
            <a:ext cx="780264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38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8600" indent="-428760"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5880" indent="-428760">
              <a:buSzPct val="107048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4600" indent="-426960"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2240" indent="-427320"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0960" indent="-428760"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0960" indent="-428760"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0960" indent="-428760">
              <a:buSzPct val="100000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09680" indent="-30924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400" indent="-274320">
              <a:spcAft>
                <a:spcPts val="1412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760" indent="-20412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3480" indent="-20268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7840" indent="-204120"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7840" indent="-204120"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7840" indent="-204120">
              <a:spcAft>
                <a:spcPts val="1412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SzPct val="105276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A96FE6-6A01-44C1-AF1E-82768B489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552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805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2920" indent="-311040">
              <a:spcAft>
                <a:spcPts val="1412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7280" indent="-273960">
              <a:spcAft>
                <a:spcPts val="1412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2000" indent="-207360">
              <a:spcAft>
                <a:spcPts val="1412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6360" indent="-205560">
              <a:spcAft>
                <a:spcPts val="1412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71080" indent="-207360">
              <a:spcAft>
                <a:spcPts val="1412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71080" indent="-207360">
              <a:spcAft>
                <a:spcPts val="1412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71080" indent="-207360">
              <a:spcAft>
                <a:spcPts val="1412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59040"/>
            <a:ext cx="555480" cy="4998960"/>
          </a:xfrm>
          <a:custGeom>
            <a:avLst/>
            <a:gdLst>
              <a:gd name="textAreaLeft" fmla="*/ 360 w 555480"/>
              <a:gd name="textAreaRight" fmla="*/ 555120 w 555480"/>
              <a:gd name="textAreaTop" fmla="*/ 360 h 4998960"/>
              <a:gd name="textAreaBottom" fmla="*/ 4998600 h 4998960"/>
            </a:gdLst>
            <a:ahLst/>
            <a:rect l="textAreaLeft" t="textAreaTop" r="textAreaRight" b="textAreaBottom"/>
            <a:pathLst>
              <a:path w="21600" h="194274">
                <a:moveTo>
                  <a:pt x="61" y="0"/>
                </a:moveTo>
                <a:arcTo wR="61" hR="61" stAng="16200000" swAng="-5400000"/>
                <a:lnTo>
                  <a:pt x="0" y="194213"/>
                </a:lnTo>
                <a:arcTo wR="61" hR="61" stAng="10800000" swAng="-5400000"/>
                <a:lnTo>
                  <a:pt x="21539" y="194274"/>
                </a:lnTo>
                <a:arcTo wR="61" hR="61" stAng="5400000" swAng="-5400000"/>
                <a:lnTo>
                  <a:pt x="21600" y="61"/>
                </a:lnTo>
                <a:arcTo wR="61" hR="61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0880" y="0"/>
            <a:ext cx="8493120" cy="1739880"/>
          </a:xfrm>
          <a:prstGeom prst="roundRect">
            <a:avLst>
              <a:gd name="adj" fmla="val 88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1400" y="2165400"/>
            <a:ext cx="78026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1040" indent="-302760"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7120" indent="-2685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18920" indent="-1983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1998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28720"/>
            <a:ext cx="9144000" cy="177840"/>
          </a:xfrm>
          <a:prstGeom prst="roundRect">
            <a:avLst>
              <a:gd name="adj" fmla="val 88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6800" y="0"/>
            <a:ext cx="165240" cy="68580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894569">
                <a:moveTo>
                  <a:pt x="207" y="0"/>
                </a:moveTo>
                <a:arcTo wR="207" hR="207" stAng="16200000" swAng="-5400000"/>
                <a:lnTo>
                  <a:pt x="0" y="894362"/>
                </a:lnTo>
                <a:arcTo wR="207" hR="207" stAng="10800000" swAng="-5400000"/>
                <a:lnTo>
                  <a:pt x="21393" y="894569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70520" y="4381560"/>
            <a:ext cx="2373480" cy="23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2040" y="4809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09680" indent="-30924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400" indent="-27432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76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53480" indent="-2026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67840" indent="-20412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168560"/>
            <a:ext cx="9144000" cy="1046160"/>
          </a:xfrm>
          <a:prstGeom prst="roundRect">
            <a:avLst>
              <a:gd name="adj" fmla="val 148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0" y="11880"/>
            <a:ext cx="9144000" cy="118908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027840"/>
            <a:ext cx="9144000" cy="830160"/>
          </a:xfrm>
          <a:prstGeom prst="roundRect">
            <a:avLst>
              <a:gd name="adj" fmla="val 190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6126120"/>
            <a:ext cx="5177160" cy="480960"/>
          </a:xfrm>
          <a:custGeom>
            <a:avLst/>
            <a:gdLst/>
            <a:ahLst/>
            <a:rect l="l" t="t" r="r" b="b"/>
            <a:pathLst>
              <a:path w="14382" h="1334">
                <a:moveTo>
                  <a:pt x="1223" y="712"/>
                </a:moveTo>
                <a:cubicBezTo>
                  <a:pt x="0" y="647"/>
                  <a:pt x="2612" y="672"/>
                  <a:pt x="2025" y="534"/>
                </a:cubicBezTo>
                <a:cubicBezTo>
                  <a:pt x="1438" y="396"/>
                  <a:pt x="3677" y="430"/>
                  <a:pt x="3947" y="341"/>
                </a:cubicBezTo>
                <a:cubicBezTo>
                  <a:pt x="4066" y="301"/>
                  <a:pt x="3997" y="212"/>
                  <a:pt x="3839" y="173"/>
                </a:cubicBezTo>
                <a:cubicBezTo>
                  <a:pt x="3830" y="171"/>
                  <a:pt x="2498" y="97"/>
                  <a:pt x="2759" y="48"/>
                </a:cubicBezTo>
                <a:cubicBezTo>
                  <a:pt x="3020" y="0"/>
                  <a:pt x="6565" y="366"/>
                  <a:pt x="6554" y="433"/>
                </a:cubicBezTo>
                <a:cubicBezTo>
                  <a:pt x="6543" y="500"/>
                  <a:pt x="4796" y="572"/>
                  <a:pt x="4796" y="572"/>
                </a:cubicBezTo>
                <a:lnTo>
                  <a:pt x="5655" y="662"/>
                </a:lnTo>
                <a:lnTo>
                  <a:pt x="7026" y="679"/>
                </a:lnTo>
                <a:lnTo>
                  <a:pt x="9264" y="791"/>
                </a:lnTo>
                <a:cubicBezTo>
                  <a:pt x="9264" y="791"/>
                  <a:pt x="10256" y="625"/>
                  <a:pt x="10044" y="647"/>
                </a:cubicBezTo>
                <a:cubicBezTo>
                  <a:pt x="9833" y="669"/>
                  <a:pt x="11017" y="658"/>
                  <a:pt x="11119" y="626"/>
                </a:cubicBezTo>
                <a:cubicBezTo>
                  <a:pt x="11222" y="595"/>
                  <a:pt x="11424" y="636"/>
                  <a:pt x="11434" y="637"/>
                </a:cubicBezTo>
                <a:cubicBezTo>
                  <a:pt x="11806" y="669"/>
                  <a:pt x="12046" y="704"/>
                  <a:pt x="12314" y="714"/>
                </a:cubicBezTo>
                <a:cubicBezTo>
                  <a:pt x="12583" y="724"/>
                  <a:pt x="13177" y="679"/>
                  <a:pt x="13520" y="697"/>
                </a:cubicBezTo>
                <a:cubicBezTo>
                  <a:pt x="13863" y="715"/>
                  <a:pt x="14381" y="637"/>
                  <a:pt x="14381" y="637"/>
                </a:cubicBezTo>
                <a:lnTo>
                  <a:pt x="14381" y="764"/>
                </a:lnTo>
                <a:cubicBezTo>
                  <a:pt x="14381" y="764"/>
                  <a:pt x="11207" y="963"/>
                  <a:pt x="11221" y="963"/>
                </a:cubicBezTo>
                <a:cubicBezTo>
                  <a:pt x="11235" y="963"/>
                  <a:pt x="7758" y="968"/>
                  <a:pt x="7770" y="968"/>
                </a:cubicBezTo>
                <a:cubicBezTo>
                  <a:pt x="7783" y="968"/>
                  <a:pt x="5431" y="909"/>
                  <a:pt x="5431" y="909"/>
                </a:cubicBezTo>
                <a:cubicBezTo>
                  <a:pt x="5431" y="909"/>
                  <a:pt x="4149" y="882"/>
                  <a:pt x="4228" y="872"/>
                </a:cubicBezTo>
                <a:cubicBezTo>
                  <a:pt x="4307" y="862"/>
                  <a:pt x="2989" y="1333"/>
                  <a:pt x="2810" y="1300"/>
                </a:cubicBezTo>
                <a:cubicBezTo>
                  <a:pt x="2631" y="1268"/>
                  <a:pt x="1893" y="1075"/>
                  <a:pt x="1867" y="1086"/>
                </a:cubicBezTo>
                <a:cubicBezTo>
                  <a:pt x="1840" y="1097"/>
                  <a:pt x="3058" y="809"/>
                  <a:pt x="2629" y="786"/>
                </a:cubicBezTo>
                <a:lnTo>
                  <a:pt x="1223" y="712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00" y="6016680"/>
            <a:ext cx="5227560" cy="345960"/>
          </a:xfrm>
          <a:custGeom>
            <a:avLst/>
            <a:gdLst/>
            <a:ahLst/>
            <a:rect l="l" t="t" r="r" b="b"/>
            <a:pathLst>
              <a:path w="14520" h="962">
                <a:moveTo>
                  <a:pt x="0" y="961"/>
                </a:moveTo>
                <a:lnTo>
                  <a:pt x="5341" y="762"/>
                </a:lnTo>
                <a:lnTo>
                  <a:pt x="11582" y="650"/>
                </a:lnTo>
                <a:lnTo>
                  <a:pt x="14519" y="480"/>
                </a:lnTo>
                <a:lnTo>
                  <a:pt x="13192" y="282"/>
                </a:lnTo>
                <a:lnTo>
                  <a:pt x="9662" y="338"/>
                </a:lnTo>
                <a:lnTo>
                  <a:pt x="7742" y="0"/>
                </a:lnTo>
                <a:lnTo>
                  <a:pt x="5483" y="282"/>
                </a:lnTo>
                <a:lnTo>
                  <a:pt x="3224" y="395"/>
                </a:lnTo>
                <a:lnTo>
                  <a:pt x="1680" y="15"/>
                </a:lnTo>
                <a:lnTo>
                  <a:pt x="878" y="582"/>
                </a:lnTo>
                <a:lnTo>
                  <a:pt x="0" y="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240" y="6157800"/>
            <a:ext cx="2051280" cy="212760"/>
          </a:xfrm>
          <a:custGeom>
            <a:avLst/>
            <a:gdLst/>
            <a:ahLst/>
            <a:rect l="l" t="t" r="r" b="b"/>
            <a:pathLst>
              <a:path w="5696" h="589">
                <a:moveTo>
                  <a:pt x="0" y="588"/>
                </a:moveTo>
                <a:lnTo>
                  <a:pt x="982" y="552"/>
                </a:lnTo>
                <a:lnTo>
                  <a:pt x="4186" y="494"/>
                </a:lnTo>
                <a:lnTo>
                  <a:pt x="5695" y="407"/>
                </a:lnTo>
                <a:lnTo>
                  <a:pt x="5014" y="320"/>
                </a:lnTo>
                <a:lnTo>
                  <a:pt x="3147" y="39"/>
                </a:lnTo>
                <a:lnTo>
                  <a:pt x="2298" y="516"/>
                </a:lnTo>
                <a:lnTo>
                  <a:pt x="1143" y="0"/>
                </a:lnTo>
                <a:lnTo>
                  <a:pt x="210" y="308"/>
                </a:lnTo>
                <a:lnTo>
                  <a:pt x="0" y="58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59520"/>
            <a:ext cx="5346720" cy="650880"/>
          </a:xfrm>
          <a:custGeom>
            <a:avLst/>
            <a:gdLst/>
            <a:ahLst/>
            <a:rect l="l" t="t" r="r" b="b"/>
            <a:pathLst>
              <a:path w="14854" h="1806">
                <a:moveTo>
                  <a:pt x="0" y="1313"/>
                </a:moveTo>
                <a:lnTo>
                  <a:pt x="9742" y="1438"/>
                </a:lnTo>
                <a:lnTo>
                  <a:pt x="13412" y="1664"/>
                </a:lnTo>
                <a:lnTo>
                  <a:pt x="14853" y="1805"/>
                </a:lnTo>
                <a:lnTo>
                  <a:pt x="13695" y="1382"/>
                </a:lnTo>
                <a:lnTo>
                  <a:pt x="11210" y="902"/>
                </a:lnTo>
                <a:lnTo>
                  <a:pt x="6692" y="676"/>
                </a:lnTo>
                <a:lnTo>
                  <a:pt x="4320" y="0"/>
                </a:lnTo>
                <a:lnTo>
                  <a:pt x="2259" y="704"/>
                </a:lnTo>
                <a:lnTo>
                  <a:pt x="0" y="1178"/>
                </a:lnTo>
                <a:lnTo>
                  <a:pt x="0" y="1313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77760"/>
            <a:ext cx="78026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1400" y="1447560"/>
            <a:ext cx="780264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20760"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85840">
              <a:spcAft>
                <a:spcPts val="1426"/>
              </a:spcAft>
              <a:buSzPct val="17727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0600" indent="-21276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2600" indent="-21132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1276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127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127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471240"/>
            <a:ext cx="780264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05360" indent="-306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5760" indent="-271440">
              <a:spcAft>
                <a:spcPts val="1426"/>
              </a:spcAft>
              <a:buSzPct val="10704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5800" indent="-20196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6200" indent="-20052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0196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01960">
              <a:spcAft>
                <a:spcPts val="1426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01960">
              <a:spcAft>
                <a:spcPts val="1426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0000" y="900000"/>
            <a:ext cx="73800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ПРОЗВЕНЕЛ ЗВОНОК ,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80"/>
                </a:solidFill>
                <a:latin typeface="Times New Roman"/>
              </a:rPr>
              <a:t>НАЧАЛСЯ УРО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57200" y="274680"/>
            <a:ext cx="82296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Радоваться первой весенней 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кап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07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19280" y="134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79640" y="134136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8000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1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779280" y="2781360"/>
            <a:ext cx="360360" cy="718920"/>
          </a:xfrm>
          <a:prstGeom prst="triangle">
            <a:avLst>
              <a:gd name="adj" fmla="val 58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76720" y="2781360"/>
            <a:ext cx="324000" cy="71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3933720"/>
            <a:ext cx="7772400" cy="1006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при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71600" y="4941720"/>
            <a:ext cx="6400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разобрать по схеме СУО ( слог, ударение, орфограмма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назвать грамматические признак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65000" y="179280"/>
            <a:ext cx="76201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17656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360" y="476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У природы нет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0000" y="47628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плохая по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7680" y="1547640"/>
            <a:ext cx="84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 холодному лету птицы вьют гнезд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9120" y="212400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солнечная сторона)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003640" y="2133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7840" y="341964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Люблю берез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5128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русска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407664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116000" y="4076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светла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76720" y="4076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407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 грустная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25800" y="476280"/>
            <a:ext cx="32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лох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о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по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4000" y="213372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олнечн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о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68560" y="3429000"/>
            <a:ext cx="19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русск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31480" y="4076640"/>
            <a:ext cx="20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светл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68720" y="4076640"/>
            <a:ext cx="20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грустн</a:t>
            </a:r>
            <a:r>
              <a:rPr b="1" lang="en-GB" sz="3200" spc="-1" strike="noStrike">
                <a:solidFill>
                  <a:srgbClr val="339933"/>
                </a:solidFill>
                <a:latin typeface="Arial"/>
              </a:rPr>
              <a:t>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 fill="hold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 fill="hold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 fill="hold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 fill="hold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 fill="hold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 fill="hold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 fill="hold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 fill="hold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 fill="hold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 fill="hold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 fill="hold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68360" y="333360"/>
            <a:ext cx="8218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Ты отправляешься на загородн..   пр.гулку. И в березов.. роще, и на лесн.. п.ляне ты в г.стях у пр.роды: у тех, кто здесь ж.вет. Соблюдай правила вежливости. Не об.жай зв.рей. Помни, что они здесь х.зяева, а ты гость. Они ж.вут, как их пр.рода устроила, и каждый делает в пр.роде своё полез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95280" y="3357720"/>
            <a:ext cx="2592360" cy="2768400"/>
            <a:chOff x="395280" y="3357720"/>
            <a:chExt cx="2592360" cy="2768400"/>
          </a:xfrm>
        </p:grpSpPr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395280" y="3357720"/>
              <a:ext cx="259236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395280" y="3357720"/>
              <a:ext cx="2592360" cy="27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938920" y="3357720"/>
            <a:ext cx="2593800" cy="2735280"/>
            <a:chOff x="5938920" y="3357720"/>
            <a:chExt cx="2593800" cy="2735280"/>
          </a:xfrm>
        </p:grpSpPr>
        <p:pic>
          <p:nvPicPr>
            <p:cNvPr id="609" name="" descr=""/>
            <p:cNvPicPr/>
            <p:nvPr/>
          </p:nvPicPr>
          <p:blipFill>
            <a:blip r:embed="rId3"/>
            <a:stretch/>
          </p:blipFill>
          <p:spPr>
            <a:xfrm>
              <a:off x="5938920" y="3357720"/>
              <a:ext cx="259380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5938920" y="3357720"/>
              <a:ext cx="259380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192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59480" y="438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203640" y="4076640"/>
            <a:ext cx="2448000" cy="2089080"/>
            <a:chOff x="3203640" y="4076640"/>
            <a:chExt cx="2448000" cy="2089080"/>
          </a:xfrm>
        </p:grpSpPr>
        <p:pic>
          <p:nvPicPr>
            <p:cNvPr id="615" name="" descr=""/>
            <p:cNvPicPr/>
            <p:nvPr/>
          </p:nvPicPr>
          <p:blipFill>
            <a:blip r:embed="rId4"/>
            <a:stretch/>
          </p:blipFill>
          <p:spPr>
            <a:xfrm>
              <a:off x="3203640" y="4076640"/>
              <a:ext cx="244800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3203640" y="4076640"/>
              <a:ext cx="244800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6300720" y="2602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 fill="hold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68360" y="189000"/>
            <a:ext cx="8496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Ты отправляешься на загородн      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р   гулку. И в березов        роще, и на лесн        п   ляне ты в г   стях у пр  роды: у тех, кто здесь ж  вет. Соблюдай правила вежливости. Не об  жай зв  рей. Помни, что они здесь х  зяева, а ты гость. Они ж  вут, как их  пр  рода устроила, и каждый делает в  пр  роде своё полез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925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7512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59480" y="438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300720" y="260280"/>
            <a:ext cx="19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 rot="10800000">
            <a:off x="7025760" y="969120"/>
            <a:ext cx="79236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042920" y="148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148360" y="1484280"/>
            <a:ext cx="79200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47640" y="1989000"/>
            <a:ext cx="64800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27280" y="1989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21964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80360" y="198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400720" y="2519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84720" y="2924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67640" y="29653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19640" y="34686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8764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84720" y="393372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4437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 fill="hold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 fill="hold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 fill="hold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 fill="hold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 fill="hold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 fill="hold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 fill="hold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71400" y="504360"/>
            <a:ext cx="780912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Как же нужно относиться к природ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3780000" y="1979640"/>
            <a:ext cx="5219640" cy="409896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3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dc2300"/>
                </a:solidFill>
                <a:latin typeface="Times New Roman"/>
              </a:rPr>
              <a:t>Люб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4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2300dc"/>
                </a:solidFill>
                <a:latin typeface="Times New Roman"/>
              </a:rPr>
              <a:t>Береч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buSzPct val="102861"/>
              <a:buBlip>
                <a:blip r:embed="rId5"/>
              </a:buBlip>
              <a:tabLst>
                <a:tab algn="l" pos="1908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b2394"/>
                </a:solidFill>
                <a:latin typeface="Times New Roman"/>
              </a:rPr>
              <a:t>Друж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 fill="hold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280" y="587520"/>
            <a:ext cx="360072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2160"/>
                <a:tab algn="l" pos="54144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Monotype Corsiva"/>
              </a:rPr>
              <a:t>ЖЕЛАЕМ ВАМ ПРИЯТНОГО ПРОСМОТРА ФИЛЬМА О ДРУЖБ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780000" y="1260360"/>
            <a:ext cx="46796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572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4b1f6f"/>
                </a:solidFill>
                <a:latin typeface="Tahoma"/>
              </a:rPr>
              <a:t>Красивая, долгожданной, солнечную, радостная, </a:t>
            </a:r>
            <a:br>
              <a:rPr sz="4400"/>
            </a:br>
            <a:r>
              <a:rPr b="1" lang="en-GB" sz="4400" spc="-1" strike="noStrike">
                <a:solidFill>
                  <a:srgbClr val="4b1f6f"/>
                </a:solidFill>
                <a:latin typeface="Tahoma"/>
              </a:rPr>
              <a:t>к красивой,  красивую, солнечная, из радостной, весенню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dc2300"/>
                </a:solidFill>
                <a:latin typeface="Tahoma"/>
              </a:rPr>
              <a:t>3 : 3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92784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6360" y="6174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Красивая , радостная, солнеч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7512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8360" y="184464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2300dc"/>
                </a:solidFill>
                <a:latin typeface="Arial"/>
              </a:rPr>
              <a:t>Долгожданной, к красив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2300dc"/>
                </a:solidFill>
                <a:latin typeface="Arial"/>
              </a:rPr>
              <a:t>из радостной</a:t>
            </a:r>
            <a:r>
              <a:rPr b="0" lang="en-GB" sz="1800" spc="-1" strike="noStrike">
                <a:solidFill>
                  <a:srgbClr val="2300dc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40856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9640" y="38084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d320"/>
                </a:solidFill>
                <a:latin typeface="Arial"/>
              </a:rPr>
              <a:t>Солнечную, красивую,</a:t>
            </a:r>
            <a:br>
              <a:rPr sz="3600"/>
            </a:br>
            <a:r>
              <a:rPr b="1" lang="en-GB" sz="3600" spc="-1" strike="noStrike">
                <a:solidFill>
                  <a:srgbClr val="ffd320"/>
                </a:solidFill>
                <a:latin typeface="Arial"/>
              </a:rPr>
              <a:t>весенню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60360" y="579600"/>
            <a:ext cx="82296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ae00"/>
                </a:solidFill>
                <a:latin typeface="Arial"/>
                <a:ea typeface="MS P ゴシック"/>
              </a:rPr>
              <a:t>Урок — презентация</a:t>
            </a:r>
            <a:br>
              <a:rPr sz="4400"/>
            </a:br>
            <a:r>
              <a:rPr b="0" lang="en-GB" sz="4400" spc="-1" strike="noStrike">
                <a:solidFill>
                  <a:srgbClr val="00ae00"/>
                </a:solidFill>
                <a:latin typeface="Arial"/>
                <a:ea typeface="MS P ゴシック"/>
              </a:rPr>
              <a:t> русского языка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ТЕМА УРОКА: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«  </a:t>
            </a:r>
            <a:r>
              <a:rPr b="1" lang="en-GB" sz="4400" spc="-1" strike="noStrike">
                <a:solidFill>
                  <a:srgbClr val="0000ff"/>
                </a:solidFill>
                <a:latin typeface="Arial"/>
                <a:ea typeface="MS P ゴシック"/>
              </a:rPr>
              <a:t>ПРАВОПИСАНИЕ ОКОНЧАНИЙ ИМЁН ПРИЛАГАТЕЛЬНЫХ ЖЕНСКОГО Р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099280" y="2160720"/>
            <a:ext cx="1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539640" y="274680"/>
            <a:ext cx="835344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      </a:t>
            </a: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Цели:</a:t>
            </a:r>
            <a:br>
              <a:rPr sz="4800"/>
            </a:br>
            <a:r>
              <a:rPr b="1" lang="en-GB" sz="4800" spc="-1" strike="noStrike">
                <a:solidFill>
                  <a:srgbClr val="333399"/>
                </a:solidFill>
                <a:latin typeface="Times New Roman"/>
                <a:ea typeface="ＭＳ Ｐ明朝"/>
              </a:rPr>
              <a:t>     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- повторить…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-учиться…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      - познакомиться  с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0360" y="3933720"/>
            <a:ext cx="1800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71040" y="515520"/>
            <a:ext cx="78058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Что такое имя прилагательн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71040" y="2209320"/>
            <a:ext cx="78058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работа по тест-картам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60360" y="260280"/>
            <a:ext cx="828036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9640" y="453600"/>
            <a:ext cx="822636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2300dc"/>
                </a:solidFill>
                <a:latin typeface="Times New Roman"/>
              </a:rPr>
              <a:t>СЛОВАРНО-  ОРФОГРАФИЧЕСКАЯ РАБОТ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GB" sz="2600" spc="-1" strike="noStrike">
                <a:solidFill>
                  <a:srgbClr val="2300dc"/>
                </a:solidFill>
                <a:latin typeface="Times New Roman"/>
              </a:rPr>
              <a:t>Программа « Фраза» </a:t>
            </a:r>
            <a:br>
              <a:rPr sz="2600"/>
            </a:br>
            <a:r>
              <a:rPr b="1" lang="en-GB" sz="2600" spc="-1" strike="noStrike">
                <a:solidFill>
                  <a:srgbClr val="2300dc"/>
                </a:solidFill>
                <a:latin typeface="Times New Roman"/>
              </a:rPr>
              <a:t>( 2кл. Тема 2.6 Вариант 87)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 rot="10800000">
            <a:off x="611280" y="11880"/>
            <a:ext cx="822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55640" y="3573360"/>
            <a:ext cx="7848720" cy="26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085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0338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 fill="hold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ироткин И.Н.</dc:creator>
  <dc:description/>
  <dc:language>en-US</dc:language>
  <cp:lastModifiedBy>user</cp:lastModifiedBy>
  <cp:revision>0</cp:revision>
  <dc:subject/>
  <dc:title>Красивая, долгожданной, солнечную, радостная,  к красивой,  красивую, солнечная, из радостной, весеннюю. 3 : 3 : 3</dc:title>
</cp:coreProperties>
</file>