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751-5370-4281-A67F-02ECC86A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105-991D-4C39-8956-9BA9620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2D6-0039-4C8E-8715-45D7DF4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59A-45A7-4C8F-8D1D-678A778A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796-C81F-4EC4-8067-1057EB7F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ADD-7645-4770-BED8-6E586FA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0E30-F8BB-4DDC-9440-62E1B54A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B18F-1F5A-4B4F-96B8-1282D20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E298-6773-4483-BF90-DDC59669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FC8E-D249-4A64-97F3-D91BAB70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90CB-95D1-4874-8950-E2454C6A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CAD-7300-41D7-BD2F-3CD2BA77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CDE4-3A34-4F7C-9CF2-BA0A51B6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27CD-7E3F-451A-BBBF-2A9F84C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94DD-F1BA-429C-8259-4A48FE2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1949-166C-4578-9902-60A2A0BD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CED0-71C9-4644-936F-49DCC5F0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2DA-039B-43DA-8667-4A1982FA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8ED-30A2-4B52-B69C-2766018C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49F-F3E0-4BBB-BF87-541C8448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A3A-6EF1-4A03-833E-61D0D4B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71A-1377-4FFC-BF39-6755CEC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E21-44E4-4F38-AAD5-FBC25AA8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9B6-1F03-46B0-92D5-3CD9EDD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251160"/>
            <a:ext cx="6858000" cy="5395320"/>
            <a:chOff x="0" y="3251160"/>
            <a:chExt cx="6858000" cy="5395320"/>
          </a:xfrm>
        </p:grpSpPr>
        <p:sp>
          <p:nvSpPr>
            <p:cNvPr id="1" name="Rectangle 3"/>
            <p:cNvSpPr/>
            <p:nvPr/>
          </p:nvSpPr>
          <p:spPr>
            <a:xfrm rot="20175000">
              <a:off x="2525040" y="5486040"/>
              <a:ext cx="3657600" cy="812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5639040"/>
              <a:ext cx="3200040" cy="2590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999240" y="3251160"/>
              <a:ext cx="2858760" cy="260784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514760" y="3251160"/>
              <a:ext cx="2342880" cy="16131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4285080" y="5243040"/>
              <a:ext cx="221400" cy="253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99280" y="5064840"/>
              <a:ext cx="220320" cy="2541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4570560" y="3886200"/>
              <a:ext cx="628560" cy="5821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4376520" y="4265280"/>
              <a:ext cx="858600" cy="647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998160" y="4000320"/>
              <a:ext cx="2857320" cy="1864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570560" y="3924360"/>
              <a:ext cx="686880" cy="54576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342480" y="3475800"/>
              <a:ext cx="5760" cy="180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570560" y="3657600"/>
              <a:ext cx="852120" cy="8107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4111200" y="4806720"/>
              <a:ext cx="378360" cy="4766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5626080"/>
              <a:ext cx="3089520" cy="197460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6337440"/>
              <a:ext cx="3242160" cy="23090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A78D-1DD1-4925-A5AD-EEA0A32DA7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3251160"/>
            <a:ext cx="6858000" cy="5395320"/>
            <a:chOff x="0" y="3251160"/>
            <a:chExt cx="6858000" cy="539532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2525040" y="5486040"/>
              <a:ext cx="3657600" cy="812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5639040"/>
              <a:ext cx="3200040" cy="2590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3999240" y="3251160"/>
              <a:ext cx="2858760" cy="260784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4514760" y="3251160"/>
              <a:ext cx="2342880" cy="16131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4285080" y="5243040"/>
              <a:ext cx="221400" cy="253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4499280" y="5064840"/>
              <a:ext cx="220320" cy="2541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4570560" y="3886200"/>
              <a:ext cx="628560" cy="5821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4376520" y="4265280"/>
              <a:ext cx="858600" cy="6472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3998160" y="4000320"/>
              <a:ext cx="2857320" cy="1864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4570560" y="3924360"/>
              <a:ext cx="686880" cy="54576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6342480" y="3475800"/>
              <a:ext cx="5760" cy="180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4570560" y="3657600"/>
              <a:ext cx="852120" cy="8107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4111200" y="4806720"/>
              <a:ext cx="378360" cy="4766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5626080"/>
              <a:ext cx="3089520" cy="197460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6337440"/>
              <a:ext cx="3242160" cy="23090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E9C-1B6D-4478-9494-3EBE970369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14480" y="304920"/>
            <a:ext cx="64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оспитание у детей культурно-гигиенических навы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743200" y="160020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С раннего детства нужно прививать ребёнку навыки, которые в последствии превратятся в привычку культурного поведения. Если ребёнка постоянно приучают к определённым действиям, связанным с заботой о его чистоте, здоровье, у него легко выработать привычку следить за чистотой своего лица,  рук, тела, одежды, предметов домашнего обихода, игруше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2133720"/>
            <a:ext cx="3143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57200" y="2235240"/>
            <a:ext cx="217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71680" y="2438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28600" y="2235240"/>
            <a:ext cx="20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866960" cy="209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1" name="Text Box 17"/>
          <p:cNvSpPr/>
          <p:nvPr/>
        </p:nvSpPr>
        <p:spPr>
          <a:xfrm>
            <a:off x="0" y="5867280"/>
            <a:ext cx="685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чистоте. Чтобы приучить ребёнка к чистоплотности, надо, чтобы все гигиенические процедуры доставляли ему удовольствие . Часто матери жалуются, что ребёнок не любит купания. Если ребёнка выкупали в холодной или горячей воде или ему попало в глаза мыло, или его внезапно облили большой струёй воды - он станет бояться купания. Потребность в чистоте подкрепляться теми приятными ощущениями, которые даёт купание в тёплой воде, сопутствуемое ласковым, внимательным отношением взрослого к ребёнк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0" y="5257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Приобретённые в детстве гигиенические навыки становятся второй натурой человека, потребностью 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507960"/>
            <a:ext cx="67438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Используйте во время купания народные потешки: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Ай, лады, лады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не боимся мы вод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Чисто умываемся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Маме улыбаем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* * *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 гуся вода, с лебедя вод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 Димочки вся худоб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Вода текучая, тело растуще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У ребёнка старше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лет должно быть отдельное небольшое полотенце, которое он может сам повесить на низко прибитый крючок . В доступном для ребёнка месте должны также храниться салфетка или нагрудник . Это вырабатывает у ребёнка привычку к порядку. Умывание надо проводить таким образом, чтобы не причинять малышу неприятных ощущений. Иногда взрослые плохо засучивают рукава, и вода заливается в них, или вода слишком холодная - всё это создаст у ребёнка отрицательное отношение к умыван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 2лет ребёнок уже может сам умыться, научите его намыливать руки,  где надо получше  потереть, как пользоваться щеткой для рук,- это вызовет интерес к умыванию. Если ребёнка ежедневно умывать утром и вечером перед сном,  мыть руки перед едой, и он перед обедом сам побежит мыть ру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-152280" y="22860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Необходимо с раннего возраста приучать детей подстригать ногти, причёсывать волосы. Если всё это делается, то у ребёнка образуется привычка,  и он сам будет требовать,  чтобы его причесали,  подстригл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ему ног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Со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2-г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о года ребёнка приучают пользоваться носовым платк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Приучайте ребёнка к опрятности, надевайте ему передник, чтобы не пачкалось платье. Перед с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14760" y="3049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2019600" cy="214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Text Box 7"/>
          <p:cNvSpPr/>
          <p:nvPr/>
        </p:nvSpPr>
        <p:spPr>
          <a:xfrm>
            <a:off x="-57240" y="3809880"/>
            <a:ext cx="6915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ребёнок должен аккуратно складывать свою одежду на стул, никогда не влезать в одежде и обуви на кровать. Следите за тем, чтобы ребёнок, приходя с улицы, самостоятельно вытирал ноги, снимал обувь и верхнюю одежду. Он должен сам повесить одежду на вешалку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Для закрепления навыков чистоплотности и аккуратности необходимо,  чтобы эти навыки подкреплялись примером взрослых. Родители должны приучать детей, есть только чистыми руками. К сожалению, ещё можно видеть, как взрослые, гуляя с ребёнком, покупают ему на улице яблоко и ребёнок тут же ест. Надо с первых лет жизни приучать ребёнка есть только мытые фрукты и овощи.  У ребёнка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2-3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 лет можно выработать этот стойкий навык, если старшие последовательны и сами никогда не едят фруктов, только что купленных на улице или в магазине, и никогда не дают их детя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14440" y="700200"/>
            <a:ext cx="577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171360" y="609480"/>
            <a:ext cx="691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Мы говорили, что гигиенические навыки тесно связаны с культурными навыками. Ребёнок должен приучаться есть аккуратно,  не пачкать скатерть, не бросать ничего на пол, вытирать рот и руки салфеткой, благодарить взрослы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Чистота и порядок в комнате являются необходимым условием здоровья и хорошего настроения живущих в ней людей. На 2-м году жизни ребёнок уже хорошо запоминает расположение предметов в комнате, у него есть потребность видеть всё на привычном месте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257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Вы хотите, чтобы ребёнок вырос здоровым и культурным человеком, поэтому отнеситесь серьёзно и вдумчиво к его воспитан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5800" y="4673520"/>
            <a:ext cx="422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223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9:08:54Z</dcterms:created>
  <dc:creator>Шурик</dc:creator>
  <dc:description/>
  <dc:language>en-US</dc:language>
  <cp:lastModifiedBy>1</cp:lastModifiedBy>
  <dcterms:modified xsi:type="dcterms:W3CDTF">2012-09-21T12:04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