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9D5-94FA-4A02-8675-14EB3BEE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9D1-5913-4A0C-8085-B41B3393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496-C233-4C5B-A2B9-EB5368A3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7BA-461A-493F-A40D-E463E53D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2C9D-FE23-4DA2-A27D-19AD9FCA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B13A-A242-4BC9-BD7E-0892AF27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9050-F233-4C2F-A7DB-050F5DDD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867F-7562-485E-8505-4AB6E26D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C308-DE3B-4C25-85D9-EE3BFFE6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9F76-04B2-475D-91C8-40BAE19E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BFEB-58DF-40FA-A7EB-04BA4E14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895-1DA8-4954-A79D-D32B2AE5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C10D-8ABE-4E20-AA2D-85E28425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A05A-130C-40B0-9002-5A68F3BD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DDAC-C35F-456F-B160-DF3A4F54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98D5-0749-403C-B3CC-58173484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AF56-0254-4523-AE31-C6DED5BC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7DE-EF94-4291-A9EA-BD26F3CE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E24-6437-468E-A66F-EA6D3A7C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74A-196C-4089-86C2-AADFF14D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8B2-26A0-4E83-A8E2-B444D5AC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2BA-3CAE-4272-ACC0-F884CCE1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17D-B6AA-4EF7-890A-6EA47A0B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B9F-D1F3-43A3-BBE7-98B6D121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251160"/>
            <a:ext cx="6858000" cy="5395320"/>
            <a:chOff x="0" y="3251160"/>
            <a:chExt cx="6858000" cy="5395320"/>
          </a:xfrm>
        </p:grpSpPr>
        <p:sp>
          <p:nvSpPr>
            <p:cNvPr id="1" name="Rectangle 3"/>
            <p:cNvSpPr/>
            <p:nvPr/>
          </p:nvSpPr>
          <p:spPr>
            <a:xfrm rot="20175000">
              <a:off x="2525040" y="5486040"/>
              <a:ext cx="3657600" cy="8125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5639040"/>
              <a:ext cx="3200040" cy="2590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999240" y="3251160"/>
              <a:ext cx="2858760" cy="260784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514760" y="3251160"/>
              <a:ext cx="2342880" cy="16131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4285080" y="5243040"/>
              <a:ext cx="221400" cy="253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99280" y="5064840"/>
              <a:ext cx="220320" cy="2541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4570560" y="3886200"/>
              <a:ext cx="628560" cy="5821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4376520" y="4265280"/>
              <a:ext cx="858600" cy="6472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998160" y="4000320"/>
              <a:ext cx="2857320" cy="1864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570560" y="3924360"/>
              <a:ext cx="686880" cy="54576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342480" y="3475800"/>
              <a:ext cx="5760" cy="180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570560" y="3657600"/>
              <a:ext cx="852120" cy="8107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4111200" y="4806720"/>
              <a:ext cx="378360" cy="4766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5626080"/>
              <a:ext cx="3089520" cy="197460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6337440"/>
              <a:ext cx="3242160" cy="23090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032E-592C-4B5F-AFFC-090AC943A0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3251160"/>
            <a:ext cx="6858000" cy="5395320"/>
            <a:chOff x="0" y="3251160"/>
            <a:chExt cx="6858000" cy="539532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2525040" y="5486040"/>
              <a:ext cx="3657600" cy="8125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5639040"/>
              <a:ext cx="3200040" cy="2590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3999240" y="3251160"/>
              <a:ext cx="2858760" cy="260784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4514760" y="3251160"/>
              <a:ext cx="2342880" cy="16131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4285080" y="5243040"/>
              <a:ext cx="221400" cy="253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4499280" y="5064840"/>
              <a:ext cx="220320" cy="2541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4570560" y="3886200"/>
              <a:ext cx="628560" cy="5821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4376520" y="4265280"/>
              <a:ext cx="858600" cy="6472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3998160" y="4000320"/>
              <a:ext cx="2857320" cy="1864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4570560" y="3924360"/>
              <a:ext cx="686880" cy="54576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6342480" y="3475800"/>
              <a:ext cx="5760" cy="180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4570560" y="3657600"/>
              <a:ext cx="852120" cy="8107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4111200" y="4806720"/>
              <a:ext cx="378360" cy="4766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5626080"/>
              <a:ext cx="3089520" cy="197460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6337440"/>
              <a:ext cx="3242160" cy="23090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A916-5FC6-4705-A842-4F64991DC0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114480" y="304920"/>
            <a:ext cx="645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Воспитание у детей культурно-гигиенических навык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743200" y="1600200"/>
            <a:ext cx="3886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С раннего детства нужно прививать ребёнку навыки, которые в последствии превратятся в привычку культурного поведения. Если ребёнка постоянно приучают к определённым действиям, связанным с заботой о его чистоте, здоровье, у него легко выработать привычку следить за чистотой своего лица,  рук, тела, одежды, предметов домашнего обихода, игрушек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8600" y="2133720"/>
            <a:ext cx="314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457200" y="2235240"/>
            <a:ext cx="217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71680" y="24382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228600" y="2235240"/>
            <a:ext cx="20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16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1866960" cy="2094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1" name="Text Box 17"/>
          <p:cNvSpPr/>
          <p:nvPr/>
        </p:nvSpPr>
        <p:spPr>
          <a:xfrm>
            <a:off x="0" y="5867280"/>
            <a:ext cx="685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чистоте. Чтобы приучить ребёнка к чистоплотности, надо, чтобы все гигиенические процедуры доставляли ему удовольствие . Часто матери жалуются, что ребёнок не любит купания. Если ребёнка выкупали в холодной или горячей воде или ему попало в глаза мыло, или его внезапно облили большой струёй воды - он станет бояться купания. Потребность в чистоте подкрепляться теми приятными ощущениями, которые даёт купание в тёплой воде, сопутствуемое ласковым, внимательным отношением взрослого к ребёнку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0" y="5257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Приобретённые в детстве гигиенические навыки становятся второй натурой человека, потребностью к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507960"/>
            <a:ext cx="67438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Используйте во время купания народные потешки: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Ай, лады, лады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не боимся мы вод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Чисто умываемся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Маме улыбаем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* * *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С гуся вода, с лебедя вода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с Димочки вся худоб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Вода текучая, тело растуще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У ребёнка старше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 лет должно быть отдельное небольшое полотенце, которое он может сам повесить на низко прибитый крючок . В доступном для ребёнка месте должны также храниться салфетка или нагрудник . Это вырабатывает у ребёнка привычку к порядку. Умывание надо проводить таким образом, чтобы не причинять малышу неприятных ощущений. Иногда взрослые плохо засучивают рукава, и вода заливается в них, или вода слишком холодная - всё это создаст у ребёнка отрицательное отношение к умывани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С 2лет ребёнок уже может сам умыться, научите его намыливать руки,  где надо получше  потереть, как пользоваться щеткой для рук,- это вызовет интерес к умыванию. Если ребёнка ежедневно умывать утром и вечером перед сном,  мыть руки перед едой, и он перед обедом сам побежит мыть ру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-152280" y="228600"/>
            <a:ext cx="4343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Необходимо с раннего возраста приучать детей подстригать ногти, причёсывать волосы. Если всё это делается, то у ребёнка образуется привычка,  и он сам будет требовать,  чтобы его причесали,  подстригл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ему ног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Со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2-г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о года ребёнка приучают пользоваться носовым платко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Приучайте ребёнка к опрятности, надевайте ему передник, чтобы не пачкалось платье. Перед сн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514760" y="3049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4267080" y="838080"/>
            <a:ext cx="2019600" cy="214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7" name="Text Box 7"/>
          <p:cNvSpPr/>
          <p:nvPr/>
        </p:nvSpPr>
        <p:spPr>
          <a:xfrm>
            <a:off x="-57240" y="3809880"/>
            <a:ext cx="6915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ребёнок должен аккуратно складывать свою одежду на стул, никогда не влезать в одежде и обуви на кровать. Следите за тем, чтобы ребёнок, приходя с улицы, самостоятельно вытирал ноги, снимал обувь и верхнюю одежду. Он должен сам повесить одежду на вешалку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Для закрепления навыков чистоплотности и аккуратности необходимо,  чтобы эти навыки подкреплялись примером взрослых. Родители должны приучать детей, есть только чистыми руками. К сожалению, ещё можно видеть, как взрослые, гуляя с ребёнком, покупают ему на улице яблоко и ребёнок тут же ест. Надо с первых лет жизни приучать ребёнка есть только мытые фрукты и овощи.  У ребёнка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2-3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 лет можно выработать этот стойкий навык, если старшие последовательны и сами никогда не едят фруктов, только что купленных на улице или в магазине, и никогда не дают их детя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514440" y="700200"/>
            <a:ext cx="577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171360" y="609480"/>
            <a:ext cx="691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Мы говорили, что гигиенические навыки тесно связаны с культурными навыками. Ребёнок должен приучаться есть аккуратно,  не пачкать скатерть, не бросать ничего на пол, вытирать рот и руки салфеткой, благодарить взрослы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Чистота и порядок в комнате являются необходимым условием здоровья и хорошего настроения живущих в ней людей. На 2-м году жизни ребёнок уже хорошо запоминает расположение предметов в комнате, у него есть потребность видеть всё на привычном мест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Вы хотите, чтобы ребёнок вырос здоровым и культурным человеком, поэтому отнеситесь серьёзно и вдумчиво к его воспитани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5800" y="4673520"/>
            <a:ext cx="422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223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9:08:54Z</dcterms:created>
  <dc:creator>Шурик</dc:creator>
  <dc:description/>
  <dc:language>en-US</dc:language>
  <cp:lastModifiedBy>1</cp:lastModifiedBy>
  <dcterms:modified xsi:type="dcterms:W3CDTF">2012-09-21T12:04:4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