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14D-64DB-4C02-A2DE-6880902E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F0E-C5D6-4E95-9223-776FCD2A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AC5-B11A-44DC-9399-90D84063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646-06EC-4B29-91E1-44013DC8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869-1132-4700-AA27-59A884BC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D11-F8E5-45F4-A1E5-E000A86D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DF1-39A3-4800-8734-604694AE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31A-829F-4BBA-A3CC-C14403A6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96D-6111-4A07-AF8B-750793B3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A30-C92A-4683-B5EF-1C016DE7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E46-1B3C-4AFC-9838-EC6CC1EF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E4C-9C73-491D-86B9-5CAE73E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21D0-B0C9-4D90-B0B8-F5C80B16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89000"/>
            <a:ext cx="4969080" cy="5929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1280" y="333360"/>
            <a:ext cx="4969080" cy="5929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476280"/>
            <a:ext cx="4968720" cy="5929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692280"/>
            <a:ext cx="4968720" cy="5929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7025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СЕМЬ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ДНЕЙ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НЕ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47640" y="587700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Андрей Усач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5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В общем, трудно жить Емеле…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Было б восемь дней в неделе – 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Вот тогда бы он успел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Сделать много важных де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3384720" cy="23479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16520" y="3556080"/>
            <a:ext cx="3292560" cy="18889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195640" y="2349360"/>
            <a:ext cx="3600360" cy="23162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11160"/>
            <a:ext cx="3637080" cy="2481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5"/>
          <a:srcRect l="0" t="0" r="35717" b="0"/>
          <a:stretch/>
        </p:blipFill>
        <p:spPr>
          <a:xfrm>
            <a:off x="0" y="4508640"/>
            <a:ext cx="2316240" cy="2349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7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9026640" y="-674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951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3813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А давай-ка повторим вместе семь дней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4446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. ПОНЕДЕ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12366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2. ВТОР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20289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3.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3280" y="27478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4. ЧЕТВ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35402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5. ПЯТ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43322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6. СУБ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52038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Verdana"/>
              </a:rPr>
              <a:t>7. ВОСКРЕС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6764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956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5099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99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9349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5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 Black"/>
              </a:rPr>
              <a:t>КОНЕ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41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74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Жаль, всего семь дней в неделе – 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Дел навалом у Ем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849400"/>
            <a:ext cx="4211640" cy="284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32000" y="40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1. ПОНЕДЕ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197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2. ВТО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1989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3.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270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4. ЧЕТВ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35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Verdana"/>
              </a:rPr>
              <a:t>5. ПЯТ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429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6. СУБ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7280" y="5157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7. ВОСКРЕСЕ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13175400">
            <a:off x="4427280" y="-501120"/>
            <a:ext cx="6099120" cy="4651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55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44720" y="1844640"/>
            <a:ext cx="5256360" cy="358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1159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ПОНЕДЕ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5818320"/>
            <a:ext cx="525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В понедельник на пе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Протирает кирпи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32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1159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ВТОР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5745240"/>
            <a:ext cx="525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Не скучает и во втор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н слону плетет намор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400720" cy="347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65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260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 Black"/>
              </a:rPr>
              <a:t>С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5950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Языком молотит в сре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И баклуши бьёт сос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8000" y="1724040"/>
            <a:ext cx="5328000" cy="3695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26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ЧЕТВЕ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580536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После дождичка в четве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н пускает фейерве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55800" y="1989000"/>
            <a:ext cx="5524560" cy="3168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358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 Black"/>
              </a:rPr>
              <a:t>ПЯТ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950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Пятница тяжелый д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Тень наводит на плет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473800" cy="368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75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СУБ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5950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И суббота не субб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У него на мух ох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98720" y="1484280"/>
            <a:ext cx="5381640" cy="3510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23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 Black"/>
              </a:rPr>
              <a:t>ВОСКРЕСЕН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5084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Но седьмой настанет ден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Сдвинет шапку набекрен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Потому что воскресень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Это праздник и весел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, улёгшись на п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ст Емеля кала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237280" cy="3425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019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18:44:01Z</dcterms:created>
  <dc:creator>viki</dc:creator>
  <dc:description/>
  <dc:language>en-US</dc:language>
  <cp:lastModifiedBy>USER</cp:lastModifiedBy>
  <dcterms:modified xsi:type="dcterms:W3CDTF">2009-11-29T17:41:40Z</dcterms:modified>
  <cp:revision>9</cp:revision>
  <dc:subject/>
  <dc:title>СЕМЬ ДНЕЙ НЕДЕЛИ</dc:title>
</cp:coreProperties>
</file>