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930-C4A2-4A7C-BD7A-5457C97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A3E-3FCB-4498-A7CB-FADF1481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479-822B-4BB9-98C3-C010C214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F86-4BC1-497E-836C-96D0D24A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4E7-A6E6-4EE8-AE92-09E01C73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A79-E83A-4314-8EB1-2924A693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3DF-1835-48DA-BAA4-901B1D7A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3FE-1EB5-4B81-88FD-FBC10D62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D05-DB2C-4B4E-8BE1-3195013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00B-E472-4883-9689-2E5CB5D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F87-EC23-418A-B45B-2FC89C0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887-9789-4017-A97E-B28B4397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9DD-FAB1-439E-AFF3-440D0FAD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89000"/>
            <a:ext cx="496908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11280" y="333360"/>
            <a:ext cx="496908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476280"/>
            <a:ext cx="496872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692280"/>
            <a:ext cx="4968720" cy="5929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7025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ЕМЬ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ДНЕЙ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587700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Андрей Усач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 общем, трудно жить Емеле…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Было б восемь дней в неделе –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от тогда бы он успел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Сделать много важных де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3384720" cy="23479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16520" y="3556080"/>
            <a:ext cx="3292560" cy="18889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95640" y="2349360"/>
            <a:ext cx="3600360" cy="23162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11160"/>
            <a:ext cx="3637080" cy="2481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rcRect l="0" t="0" r="35717" b="0"/>
          <a:stretch/>
        </p:blipFill>
        <p:spPr>
          <a:xfrm>
            <a:off x="0" y="4508640"/>
            <a:ext cx="2316240" cy="2349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026640" y="-674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951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381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А давай-ка повторим вместе семь дней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4446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. 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12366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ВТ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20289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3.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27478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4. ЧЕТВ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540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5. ПЯ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43322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6. СУБ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5203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Verdana"/>
              </a:rPr>
              <a:t>7.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6764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956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09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99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9349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41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74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Жаль, всего семь дней в неделе – </a:t>
            </a:r>
            <a:br>
              <a:rPr sz="2000"/>
            </a:b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Дел навалом у Ем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49400"/>
            <a:ext cx="4211640" cy="28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2000" y="40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1. 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197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2. ВТ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1989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.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4. ЧЕТВ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35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Verdana"/>
              </a:rPr>
              <a:t>5. ПЯТ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6. СУБ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7280" y="5157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7. ВОСКРЕС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3175400">
            <a:off x="4427280" y="-501120"/>
            <a:ext cx="6099120" cy="4651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55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44720" y="1844640"/>
            <a:ext cx="5256360" cy="358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159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ПОНЕД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581832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В понедельник на п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ротирает кирпи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32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1159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ВТОР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574524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Не скучает и во втор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н слону плетет намор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400720" cy="347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6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 Black"/>
              </a:rPr>
              <a:t>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Языком молотит в с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И баклуши бьёт сос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8000" y="1724040"/>
            <a:ext cx="5328000" cy="369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26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 Black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580536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осле дождичка в четв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н пускает фейерве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55800" y="1989000"/>
            <a:ext cx="552456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35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 Black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Пятница тяжелый д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Тень наводит на пле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73800" cy="368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7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СУБ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950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И суббота не суб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У него на мух ох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98720" y="1484280"/>
            <a:ext cx="5381640" cy="351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23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85080" y="-27000"/>
            <a:ext cx="1295280" cy="6885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 Black"/>
              </a:rPr>
              <a:t>ВОСКРЕСЕ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084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Но седьмой настанет ден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Сдвинет шапку набекре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Потому что воскресень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Это праздник и весел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, улёгшись на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ст Емеля кал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237280" cy="342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01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8:44:01Z</dcterms:created>
  <dc:creator>viki</dc:creator>
  <dc:description/>
  <dc:language>en-US</dc:language>
  <cp:lastModifiedBy>USER</cp:lastModifiedBy>
  <dcterms:modified xsi:type="dcterms:W3CDTF">2009-11-29T17:41:40Z</dcterms:modified>
  <cp:revision>9</cp:revision>
  <dc:subject/>
  <dc:title>СЕМЬ ДНЕЙ НЕДЕЛИ</dc:title>
</cp:coreProperties>
</file>