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0.png" ContentType="image/png"/>
  <Override PartName="/ppt/media/image28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2.jpeg" ContentType="image/jpeg"/>
  <Override PartName="/ppt/media/image23.jpeg" ContentType="image/jpeg"/>
  <Override PartName="/ppt/media/image26.jpeg" ContentType="image/jpe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130C-F204-478E-8836-9DABD55D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9788-B226-4BE1-89A2-41FB39BB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ADB7-DC34-4E9E-88EC-63FA4315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5F90-6EB1-4B2C-BC09-513206D0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2067-E178-4C65-BDDA-4391A1BF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DC1C-BF23-41CA-9C66-3F518024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26DF-712C-4140-BB1D-F6E416C3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76A3-E478-4B08-A06B-060E297A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1CDF-048F-4964-8C80-3B9032B5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965E-4554-4331-BFE9-129319C9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4AC9-5D02-4CCB-9B5D-BBC59755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5B5-EB80-4CD3-A78D-3603D614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1962-FCBA-4CB1-9A35-BE7F340C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E36C-A892-41DC-AD24-D97FD748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86F8-0D9B-4B29-97B6-EAB09C71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5426-3DFE-42B5-8503-6171263E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615F-5245-46BA-B519-87AB085A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B540-F342-4BC9-9014-63BD272F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9091-2E82-45CA-9F02-C1566C0F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941-A355-40E9-A37E-53E34210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1FDD-2A47-4E77-9813-50B91E3A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97D5-DF85-47DD-B2AB-9240EADF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5D96-77A2-4520-8EFE-D0050130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F79A-C4CC-46F2-9205-031EF840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5CF2-0691-475A-BDE7-63686F75DF8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A9A1-9403-4559-A708-E798D3B1EF5A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63520" y="404280"/>
            <a:ext cx="7386480" cy="5977080"/>
          </a:xfrm>
          <a:prstGeom prst="rect">
            <a:avLst/>
          </a:prstGeom>
          <a:solidFill>
            <a:srgbClr val="f7d4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2f1311"/>
                </a:solidFill>
                <a:latin typeface="Arial"/>
              </a:rPr>
              <a:t>Известные люди Мордовии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Автор презентации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Максимкин Александр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9 класс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МБОУ «Учхозская СОШ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Picture 5" descr="SDC10235"/>
          <p:cNvPicPr/>
          <p:nvPr/>
        </p:nvPicPr>
        <p:blipFill>
          <a:blip r:embed="rId1"/>
          <a:stretch/>
        </p:blipFill>
        <p:spPr>
          <a:xfrm>
            <a:off x="5219640" y="2637000"/>
            <a:ext cx="22431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300800" cy="1546200"/>
          </a:xfrm>
          <a:prstGeom prst="rect">
            <a:avLst/>
          </a:prstGeom>
          <a:solidFill>
            <a:srgbClr val="f7d47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Певица </a:t>
            </a:r>
            <a:br>
              <a:rPr sz="3200"/>
            </a:b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Надежда Кадышева</a:t>
            </a:r>
            <a:br>
              <a:rPr sz="3200"/>
            </a:b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(эрьзя)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9" name="Picture 4" descr="Кадышева Надежда Никитична"/>
          <p:cNvPicPr/>
          <p:nvPr/>
        </p:nvPicPr>
        <p:blipFill>
          <a:blip r:embed="rId1"/>
          <a:stretch/>
        </p:blipFill>
        <p:spPr>
          <a:xfrm>
            <a:off x="1692360" y="1854360"/>
            <a:ext cx="49672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128000" cy="1297080"/>
          </a:xfrm>
          <a:prstGeom prst="rect">
            <a:avLst/>
          </a:prstGeom>
          <a:solidFill>
            <a:srgbClr val="f7d47d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ва Республики Мордов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лай Меркушкин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1" name="Picture 4" descr="merkushkin"/>
          <p:cNvPicPr/>
          <p:nvPr/>
        </p:nvPicPr>
        <p:blipFill>
          <a:blip r:embed="rId1"/>
          <a:stretch/>
        </p:blipFill>
        <p:spPr>
          <a:xfrm>
            <a:off x="324000" y="1628640"/>
            <a:ext cx="3379680" cy="3976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big_pic_327823_thumbnail"/>
          <p:cNvPicPr/>
          <p:nvPr/>
        </p:nvPicPr>
        <p:blipFill>
          <a:blip r:embed="rId2"/>
          <a:stretch/>
        </p:blipFill>
        <p:spPr>
          <a:xfrm>
            <a:off x="3276720" y="3141720"/>
            <a:ext cx="561636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4" name="Picture 3" descr="1006002982_1006002982forumtonnel"/>
          <p:cNvPicPr/>
          <p:nvPr/>
        </p:nvPicPr>
        <p:blipFill>
          <a:blip r:embed="rId1"/>
          <a:stretch/>
        </p:blipFill>
        <p:spPr>
          <a:xfrm>
            <a:off x="2340000" y="1700280"/>
            <a:ext cx="6481800" cy="4860720"/>
          </a:xfrm>
          <a:prstGeom prst="rect">
            <a:avLst/>
          </a:prstGeom>
          <a:ln w="0">
            <a:noFill/>
          </a:ln>
        </p:spPr>
      </p:pic>
      <p:pic>
        <p:nvPicPr>
          <p:cNvPr id="245" name="baseofmp3.com_VBarkov_L_Ganina_-_ZHivi_Mordoviya_moya.mp3" descr=""/>
          <p:cNvPicPr/>
          <p:nvPr/>
        </p:nvPicPr>
        <p:blipFill>
          <a:blip r:embed="rId2"/>
          <a:stretch/>
        </p:blipFill>
        <p:spPr>
          <a:xfrm>
            <a:off x="7596360" y="5445000"/>
            <a:ext cx="863280" cy="863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G4RXMCAWQCM61CAKT1E0DCAB8PV5PCAOEZCKWCAOXDIOFCAOOYVY2CAC55U20CACDU303CAANQAKXCA4BTGGQCAC0UQEKCABF0FYXCACTWAK4CALAKPTZCAUZ6T6PCAXGEKAICA96WA2OCAHPP465CAR6GJXO"/>
          <p:cNvPicPr/>
          <p:nvPr/>
        </p:nvPicPr>
        <p:blipFill>
          <a:blip r:embed="rId3"/>
          <a:stretch/>
        </p:blipFill>
        <p:spPr>
          <a:xfrm>
            <a:off x="250920" y="189000"/>
            <a:ext cx="3209760" cy="45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3851280" y="260280"/>
          <a:ext cx="4968720" cy="1224000"/>
        </p:xfrm>
        <a:graphic>
          <a:graphicData uri="http://schemas.openxmlformats.org/drawingml/2006/table">
            <a:tbl>
              <a:tblPr/>
              <a:tblGrid>
                <a:gridCol w="496872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дмила Ганина Валентин Барков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d5b7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11280" y="5157720"/>
          <a:ext cx="5761080" cy="1440000"/>
        </p:xfrm>
        <a:graphic>
          <a:graphicData uri="http://schemas.openxmlformats.org/drawingml/2006/table">
            <a:tbl>
              <a:tblPr/>
              <a:tblGrid>
                <a:gridCol w="576108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и, Мордовия моя!</a:t>
                      </a:r>
                      <a:endParaRPr b="0" lang="en-US" sz="4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ри небесный свет!</a:t>
                      </a:r>
                      <a:endParaRPr b="0" lang="en-US" sz="4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d5b78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8977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Picture 7" descr="Саранск Мордовия Достопримечательности памятник Никону на Справка13.ру spravka13.ru"/>
          <p:cNvPicPr/>
          <p:nvPr/>
        </p:nvPicPr>
        <p:blipFill>
          <a:blip r:embed="rId1"/>
          <a:stretch/>
        </p:blipFill>
        <p:spPr>
          <a:xfrm>
            <a:off x="684360" y="549360"/>
            <a:ext cx="2985840" cy="4497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900000" y="5445000"/>
          <a:ext cx="2735280" cy="1209960"/>
        </p:xfrm>
        <a:graphic>
          <a:graphicData uri="http://schemas.openxmlformats.org/drawingml/2006/table">
            <a:tbl>
              <a:tblPr/>
              <a:tblGrid>
                <a:gridCol w="2735280"/>
              </a:tblGrid>
              <a:tr h="12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атриарх Никон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</a:tr>
            </a:tbl>
          </a:graphicData>
        </a:graphic>
      </p:graphicFrame>
      <p:pic>
        <p:nvPicPr>
          <p:cNvPr id="198" name="Picture 18" descr="серафим_саровский_2"/>
          <p:cNvPicPr/>
          <p:nvPr/>
        </p:nvPicPr>
        <p:blipFill>
          <a:blip r:embed="rId2"/>
          <a:stretch/>
        </p:blipFill>
        <p:spPr>
          <a:xfrm>
            <a:off x="4211640" y="549360"/>
            <a:ext cx="3340080" cy="45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"/>
          <p:cNvGraphicFramePr/>
          <p:nvPr/>
        </p:nvGraphicFramePr>
        <p:xfrm>
          <a:off x="4284720" y="5445000"/>
          <a:ext cx="3095640" cy="1224000"/>
        </p:xfrm>
        <a:graphic>
          <a:graphicData uri="http://schemas.openxmlformats.org/drawingml/2006/table">
            <a:tbl>
              <a:tblPr/>
              <a:tblGrid>
                <a:gridCol w="309564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подобный  Серафим Саровский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Picture 7" descr="николай_огарев"/>
          <p:cNvPicPr/>
          <p:nvPr/>
        </p:nvPicPr>
        <p:blipFill>
          <a:blip r:embed="rId1"/>
          <a:stretch/>
        </p:blipFill>
        <p:spPr>
          <a:xfrm>
            <a:off x="539640" y="836640"/>
            <a:ext cx="3295800" cy="4392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степан_Эрьзя"/>
          <p:cNvPicPr/>
          <p:nvPr/>
        </p:nvPicPr>
        <p:blipFill>
          <a:blip r:embed="rId2"/>
          <a:stretch/>
        </p:blipFill>
        <p:spPr>
          <a:xfrm>
            <a:off x="4284720" y="765000"/>
            <a:ext cx="3144960" cy="446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539640" y="5445000"/>
          <a:ext cx="3384720" cy="944640"/>
        </p:xfrm>
        <a:graphic>
          <a:graphicData uri="http://schemas.openxmlformats.org/drawingml/2006/table">
            <a:tbl>
              <a:tblPr/>
              <a:tblGrid>
                <a:gridCol w="3384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оэт, философ Николай Огарев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284720" y="5516640"/>
          <a:ext cx="3166920" cy="944640"/>
        </p:xfrm>
        <a:graphic>
          <a:graphicData uri="http://schemas.openxmlformats.org/drawingml/2006/table">
            <a:tbl>
              <a:tblPr/>
              <a:tblGrid>
                <a:gridCol w="3166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кульптор Степан Эрьзя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Picture 4" descr="180px-Filatov"/>
          <p:cNvPicPr/>
          <p:nvPr/>
        </p:nvPicPr>
        <p:blipFill>
          <a:blip r:embed="rId1"/>
          <a:stretch/>
        </p:blipFill>
        <p:spPr>
          <a:xfrm>
            <a:off x="324000" y="549360"/>
            <a:ext cx="3600360" cy="4465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211572"/>
          <p:cNvPicPr/>
          <p:nvPr/>
        </p:nvPicPr>
        <p:blipFill>
          <a:blip r:embed="rId2"/>
          <a:stretch/>
        </p:blipFill>
        <p:spPr>
          <a:xfrm>
            <a:off x="4335480" y="549360"/>
            <a:ext cx="3133800" cy="446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324000" y="5013360"/>
          <a:ext cx="3671640" cy="1652400"/>
        </p:xfrm>
        <a:graphic>
          <a:graphicData uri="http://schemas.openxmlformats.org/drawingml/2006/table">
            <a:tbl>
              <a:tblPr/>
              <a:tblGrid>
                <a:gridCol w="3671640"/>
              </a:tblGrid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рач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ладимир Филатов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284720" y="4941720"/>
          <a:ext cx="3240000" cy="1656000"/>
        </p:xfrm>
        <a:graphic>
          <a:graphicData uri="http://schemas.openxmlformats.org/drawingml/2006/table">
            <a:tbl>
              <a:tblPr/>
              <a:tblGrid>
                <a:gridCol w="3240000"/>
              </a:tblGrid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Летчик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Михаил Девятаев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solidFill>
            <a:srgbClr val="f7d47d"/>
          </a:solidFill>
          <a:ln w="9360">
            <a:solidFill>
              <a:srgbClr val="2f131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ртсмены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льга Каниськина, Денис Нижегородов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ргей Кирдяпкин, Олег Маскаев, Алексей Немов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4" name="Picture 4" descr="Каниськина"/>
          <p:cNvPicPr/>
          <p:nvPr/>
        </p:nvPicPr>
        <p:blipFill>
          <a:blip r:embed="rId1"/>
          <a:stretch/>
        </p:blipFill>
        <p:spPr>
          <a:xfrm>
            <a:off x="1619280" y="1413000"/>
            <a:ext cx="4248000" cy="3186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1"/>
          <p:cNvPicPr/>
          <p:nvPr/>
        </p:nvPicPr>
        <p:blipFill>
          <a:blip r:embed="rId2"/>
          <a:stretch/>
        </p:blipFill>
        <p:spPr>
          <a:xfrm>
            <a:off x="5148360" y="1628640"/>
            <a:ext cx="2492280" cy="4497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105_290802"/>
          <p:cNvPicPr/>
          <p:nvPr/>
        </p:nvPicPr>
        <p:blipFill>
          <a:blip r:embed="rId3"/>
          <a:stretch/>
        </p:blipFill>
        <p:spPr>
          <a:xfrm>
            <a:off x="250920" y="2421000"/>
            <a:ext cx="2317680" cy="3090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FEAQVCASUC20CCAPL7PM0CA0IAR42CAF1HC3UCAWYLN7BCAF3YQ2ZCAQB1OW6CAH0UH1JCAT3SFHECAAQLZ29CA713PK8CA9ANRX6CA38012ACAENT0XKCA87NNMUCAEOU6YSCAVN1EI9CA3LK9HECAG27VTS"/>
          <p:cNvPicPr/>
          <p:nvPr/>
        </p:nvPicPr>
        <p:blipFill>
          <a:blip r:embed="rId4"/>
          <a:stretch/>
        </p:blipFill>
        <p:spPr>
          <a:xfrm>
            <a:off x="2771640" y="4238640"/>
            <a:ext cx="18734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solidFill>
            <a:srgbClr val="d5b78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Picture 4" descr="maresiev"/>
          <p:cNvPicPr/>
          <p:nvPr/>
        </p:nvPicPr>
        <p:blipFill>
          <a:blip r:embed="rId1"/>
          <a:stretch/>
        </p:blipFill>
        <p:spPr>
          <a:xfrm>
            <a:off x="4179960" y="2060640"/>
            <a:ext cx="2662200" cy="4068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Маресьев"/>
          <p:cNvPicPr/>
          <p:nvPr/>
        </p:nvPicPr>
        <p:blipFill>
          <a:blip r:embed="rId2"/>
          <a:stretch/>
        </p:blipFill>
        <p:spPr>
          <a:xfrm>
            <a:off x="395280" y="1341360"/>
            <a:ext cx="2502000" cy="367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3059280" y="476280"/>
          <a:ext cx="4537080" cy="154296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Летчик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лексей Маресьев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(мордвин-мокша)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Picture 4" descr="Русланова Лидия Андреевна"/>
          <p:cNvPicPr/>
          <p:nvPr/>
        </p:nvPicPr>
        <p:blipFill>
          <a:blip r:embed="rId1"/>
          <a:stretch/>
        </p:blipFill>
        <p:spPr>
          <a:xfrm>
            <a:off x="3419640" y="1844640"/>
            <a:ext cx="4411440" cy="4464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Русланава в молодости"/>
          <p:cNvPicPr/>
          <p:nvPr/>
        </p:nvPicPr>
        <p:blipFill>
          <a:blip r:embed="rId2"/>
          <a:stretch/>
        </p:blipFill>
        <p:spPr>
          <a:xfrm>
            <a:off x="539640" y="476280"/>
            <a:ext cx="3262320" cy="453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"/>
          <p:cNvGraphicFramePr/>
          <p:nvPr/>
        </p:nvGraphicFramePr>
        <p:xfrm>
          <a:off x="4067280" y="549360"/>
          <a:ext cx="3529080" cy="154296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евица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Лидия Русланова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эрьзя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Picture 5" descr="Шукшин"/>
          <p:cNvPicPr/>
          <p:nvPr/>
        </p:nvPicPr>
        <p:blipFill>
          <a:blip r:embed="rId1"/>
          <a:stretch/>
        </p:blipFill>
        <p:spPr>
          <a:xfrm>
            <a:off x="324000" y="476280"/>
            <a:ext cx="3483000" cy="3889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Шукшин3"/>
          <p:cNvPicPr/>
          <p:nvPr/>
        </p:nvPicPr>
        <p:blipFill>
          <a:blip r:embed="rId2"/>
          <a:stretch/>
        </p:blipFill>
        <p:spPr>
          <a:xfrm>
            <a:off x="4356000" y="2421000"/>
            <a:ext cx="2882880" cy="403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3995640" y="333360"/>
          <a:ext cx="3456000" cy="201600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20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ктер, писатель, режиссер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асилий Шукшин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мокша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9240" y="404640"/>
            <a:ext cx="3776400" cy="1224000"/>
          </a:xfrm>
          <a:prstGeom prst="rect">
            <a:avLst/>
          </a:prstGeom>
          <a:solidFill>
            <a:srgbClr val="f7d47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Топ-модель</a:t>
            </a:r>
            <a:br>
              <a:rPr sz="2800"/>
            </a:b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Наталья Водянова</a:t>
            </a:r>
            <a:br>
              <a:rPr sz="2800"/>
            </a:b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эрьзя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4" name="Picture 4" descr="Водянова"/>
          <p:cNvPicPr/>
          <p:nvPr/>
        </p:nvPicPr>
        <p:blipFill>
          <a:blip r:embed="rId1"/>
          <a:stretch/>
        </p:blipFill>
        <p:spPr>
          <a:xfrm>
            <a:off x="611280" y="1773360"/>
            <a:ext cx="3154320" cy="4243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Чиндяйкин Николай Дмитриевич"/>
          <p:cNvPicPr/>
          <p:nvPr/>
        </p:nvPicPr>
        <p:blipFill>
          <a:blip r:embed="rId2"/>
          <a:stretch/>
        </p:blipFill>
        <p:spPr>
          <a:xfrm>
            <a:off x="4427640" y="333360"/>
            <a:ext cx="2879640" cy="446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4067280" y="5157720"/>
          <a:ext cx="3600360" cy="1438200"/>
        </p:xfrm>
        <a:graphic>
          <a:graphicData uri="http://schemas.openxmlformats.org/drawingml/2006/table">
            <a:tbl>
              <a:tblPr/>
              <a:tblGrid>
                <a:gridCol w="3600360"/>
              </a:tblGrid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ктер 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Николай Чиндяйкин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эрьзя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2:37:51Z</dcterms:created>
  <dc:creator>Иван Петрович</dc:creator>
  <dc:description/>
  <dc:language>en-US</dc:language>
  <cp:lastModifiedBy>1</cp:lastModifiedBy>
  <dcterms:modified xsi:type="dcterms:W3CDTF">2012-09-22T15:50:51Z</dcterms:modified>
  <cp:revision>35</cp:revision>
  <dc:subject/>
  <dc:title>Слайд 1</dc:title>
</cp:coreProperties>
</file>