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B1F-6C8E-464D-A34A-16B0FE637A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AC3-4F66-48F1-9456-909DED94B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5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едение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511-AE03-4E28-97A4-B281C8050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4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09D-901F-4FAB-8877-0B5BB8291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4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BAD-5F57-4E93-888C-88D6DD5AB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ли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л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ожни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34B-FDC0-4292-B59A-4C779075D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8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астное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06C-3707-40CE-AEA0-003C21761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е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4AA8-E9AE-48C1-803C-6B2104B2D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лаг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лагаемо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м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3CA-C8B6-427F-82D8-BCA5FE09E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4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мма (внизу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518E-5070-40A4-9AAA-BF306F82B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ьш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читаемое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23A-098C-4DC5-9B0D-80BE636EE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ьшае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читаем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243-B5CB-4424-948C-7F2C37BF0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4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зность (вни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69A-6F9C-4309-A616-37D817535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работы с триггерами: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ож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ож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0C8-94A8-478F-AE96-6F2436CF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30B-3B32-4DFB-BD23-364A21A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4FA-1526-4B56-AD5C-0894E8C6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9F4-9F20-4CFB-9393-EE181F48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7FF-EB03-482C-8DF1-BCA8D5C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2CB-ED9D-4870-BD79-53A9420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F21-EF94-4343-83A3-623A961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C32-A472-49A8-A5BC-57EAEBA6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86A-D10E-49D3-8770-4A5215B6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B06-B59D-4A79-A960-415DA84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6A2-E729-4B1A-9F30-673E4AB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E1B-6087-4874-A9F4-F423670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79C-C52D-4B76-9317-BE0C71EC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3.png"/><Relationship Id="rId19" Type="http://schemas.openxmlformats.org/officeDocument/2006/relationships/image" Target="../media/image7.png"/><Relationship Id="rId20" Type="http://schemas.openxmlformats.org/officeDocument/2006/relationships/slide" Target="slide2.xml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" Target="slide2.xml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t-n.ru/communities.aspx?cat_no=5025&amp;lib_no=16958&amp;tmpl=lib" TargetMode="Externa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thumbs/1199880529_2.jpg" TargetMode="External"/><Relationship Id="rId2" Type="http://schemas.openxmlformats.org/officeDocument/2006/relationships/hyperlink" Target="http://allday.ru/uploads/posts/thumbs/1199880529_2.jpg" TargetMode="External"/><Relationship Id="rId3" Type="http://schemas.openxmlformats.org/officeDocument/2006/relationships/hyperlink" Target="http://allday.ru/uploads/posts/thumbs/1199880529_2.jpg" TargetMode="External"/><Relationship Id="rId4" Type="http://schemas.openxmlformats.org/officeDocument/2006/relationships/hyperlink" Target="http://allday.ru/uploads/posts/thumbs/1199880529_2.jpg" TargetMode="External"/><Relationship Id="rId5" Type="http://schemas.openxmlformats.org/officeDocument/2006/relationships/hyperlink" Target="http://allday.ru/uploads/posts/thumbs/1199880529_2.jpg" TargetMode="External"/><Relationship Id="rId6" Type="http://schemas.openxmlformats.org/officeDocument/2006/relationships/hyperlink" Target="http://allday.ru/uploads/posts/thumbs/1199880529_2.jpg" TargetMode="External"/><Relationship Id="rId7" Type="http://schemas.openxmlformats.org/officeDocument/2006/relationships/hyperlink" Target="http://allday.ru/uploads/posts/thumbs/1199880529_2.jpg" TargetMode="External"/><Relationship Id="rId8" Type="http://schemas.openxmlformats.org/officeDocument/2006/relationships/hyperlink" Target="http://allday.ru/uploads/posts/thumbs/1199880529_2.jpg" TargetMode="External"/><Relationship Id="rId9" Type="http://schemas.openxmlformats.org/officeDocument/2006/relationships/hyperlink" Target="http://allday.ru/uploads/posts/thumbs/1199880529_2.jpg" TargetMode="External"/><Relationship Id="rId10" Type="http://schemas.openxmlformats.org/officeDocument/2006/relationships/hyperlink" Target="http://allday.ru/uploads/posts/thumbs/1199880529_2.jpg" TargetMode="External"/><Relationship Id="rId11" Type="http://schemas.openxmlformats.org/officeDocument/2006/relationships/hyperlink" Target="http://static.novate.ru/files/masha/fruit_bowls3.jpg" TargetMode="External"/><Relationship Id="rId12" Type="http://schemas.openxmlformats.org/officeDocument/2006/relationships/hyperlink" Target="http://static.novate.ru/files/masha/fruit_bowls3.jpg" TargetMode="External"/><Relationship Id="rId13" Type="http://schemas.openxmlformats.org/officeDocument/2006/relationships/hyperlink" Target="http://static.novate.ru/files/masha/fruit_bowls3.jpg" TargetMode="External"/><Relationship Id="rId14" Type="http://schemas.openxmlformats.org/officeDocument/2006/relationships/hyperlink" Target="http://static.novate.ru/files/masha/fruit_bowls3.jpg" TargetMode="External"/><Relationship Id="rId15" Type="http://schemas.openxmlformats.org/officeDocument/2006/relationships/hyperlink" Target="http://static.novate.ru/files/masha/fruit_bowls3.jpg" TargetMode="External"/><Relationship Id="rId16" Type="http://schemas.openxmlformats.org/officeDocument/2006/relationships/hyperlink" Target="http://static.novate.ru/files/masha/fruit_bowls3.jpg" TargetMode="External"/><Relationship Id="rId17" Type="http://schemas.openxmlformats.org/officeDocument/2006/relationships/hyperlink" Target="http://static.novate.ru/files/masha/fruit_bowls3.jpg" TargetMode="External"/><Relationship Id="rId18" Type="http://schemas.openxmlformats.org/officeDocument/2006/relationships/hyperlink" Target="http://static.novate.ru/files/masha/fruit_bowls3.jpg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2.xml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9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388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ультимедийные плак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23880" y="4941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71600" y="37940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АТЕМАТИКА, 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8" descr=""/>
          <p:cNvPicPr/>
          <p:nvPr/>
        </p:nvPicPr>
        <p:blipFill>
          <a:blip r:embed="rId2"/>
          <a:stretch/>
        </p:blipFill>
        <p:spPr>
          <a:xfrm>
            <a:off x="1139760" y="1359000"/>
            <a:ext cx="751068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1752480" y="22860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8580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048120" y="1905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1143000" y="243828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743200" y="228600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505320" y="23004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724280" y="22860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477120" y="609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23"/>
          <p:cNvSpPr txBox="1"/>
          <p:nvPr/>
        </p:nvSpPr>
        <p:spPr>
          <a:xfrm>
            <a:off x="6019920" y="2508120"/>
            <a:ext cx="121896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24" descr="рамка копия"/>
          <p:cNvPicPr/>
          <p:nvPr/>
        </p:nvPicPr>
        <p:blipFill>
          <a:blip r:embed="rId5"/>
          <a:stretch/>
        </p:blipFill>
        <p:spPr>
          <a:xfrm>
            <a:off x="5486400" y="1974960"/>
            <a:ext cx="2533680" cy="2063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5410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5867280" y="227952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16002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лон.mp3" descr=""/>
          <p:cNvPicPr/>
          <p:nvPr/>
        </p:nvPicPr>
        <p:blipFill>
          <a:blip r:embed="rId6"/>
          <a:stretch/>
        </p:blipFill>
        <p:spPr>
          <a:xfrm>
            <a:off x="12193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4" descr="Копия 702cbec07df0 копия"/>
          <p:cNvPicPr/>
          <p:nvPr/>
        </p:nvPicPr>
        <p:blipFill>
          <a:blip r:embed="rId7"/>
          <a:stretch/>
        </p:blipFill>
        <p:spPr>
          <a:xfrm>
            <a:off x="-76320" y="380988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99072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35268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791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7524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048120" y="175248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4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слон.mp3" descr=""/>
          <p:cNvPicPr/>
          <p:nvPr/>
        </p:nvPicPr>
        <p:blipFill>
          <a:blip r:embed="rId3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Копия 702cbec07df0 копия"/>
          <p:cNvPicPr/>
          <p:nvPr/>
        </p:nvPicPr>
        <p:blipFill>
          <a:blip r:embed="rId4"/>
          <a:stretch/>
        </p:blipFill>
        <p:spPr>
          <a:xfrm>
            <a:off x="-101520" y="380988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5943600" y="13716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2057400" y="13716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91440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48120" y="990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56272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1447920" y="152388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81080" y="2819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048120" y="1371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809880" y="13860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5029200" y="137160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57150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3" descr="6104394_Bezuymyannuyy_banan копия"/>
          <p:cNvPicPr/>
          <p:nvPr/>
        </p:nvPicPr>
        <p:blipFill>
          <a:blip r:embed="rId2"/>
          <a:stretch/>
        </p:blipFill>
        <p:spPr>
          <a:xfrm rot="18453000">
            <a:off x="993600" y="35017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6" descr="6104394_Bezuymyannuyy_banan копия"/>
          <p:cNvPicPr/>
          <p:nvPr/>
        </p:nvPicPr>
        <p:blipFill>
          <a:blip r:embed="rId3"/>
          <a:stretch/>
        </p:blipFill>
        <p:spPr>
          <a:xfrm rot="18453000">
            <a:off x="183168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7" descr="6104394_Bezuymyannuyy_banan копия"/>
          <p:cNvPicPr/>
          <p:nvPr/>
        </p:nvPicPr>
        <p:blipFill>
          <a:blip r:embed="rId4"/>
          <a:stretch/>
        </p:blipFill>
        <p:spPr>
          <a:xfrm rot="18453000">
            <a:off x="525132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8" descr="6104394_Bezuymyannuyy_banan копия"/>
          <p:cNvPicPr/>
          <p:nvPr/>
        </p:nvPicPr>
        <p:blipFill>
          <a:blip r:embed="rId5"/>
          <a:stretch/>
        </p:blipFill>
        <p:spPr>
          <a:xfrm rot="18453000">
            <a:off x="274608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9" descr="6104394_Bezuymyannuyy_banan копия"/>
          <p:cNvPicPr/>
          <p:nvPr/>
        </p:nvPicPr>
        <p:blipFill>
          <a:blip r:embed="rId6"/>
          <a:stretch/>
        </p:blipFill>
        <p:spPr>
          <a:xfrm rot="18453000">
            <a:off x="349884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0" descr="6104394_Bezuymyannuyy_banan копия"/>
          <p:cNvPicPr/>
          <p:nvPr/>
        </p:nvPicPr>
        <p:blipFill>
          <a:blip r:embed="rId7"/>
          <a:stretch/>
        </p:blipFill>
        <p:spPr>
          <a:xfrm rot="18453000">
            <a:off x="6165720" y="3504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1" descr="6104394_Bezuymyannuyy_banan копия"/>
          <p:cNvPicPr/>
          <p:nvPr/>
        </p:nvPicPr>
        <p:blipFill>
          <a:blip r:embed="rId8"/>
          <a:stretch/>
        </p:blipFill>
        <p:spPr>
          <a:xfrm rot="18453000">
            <a:off x="4413240" y="3504960"/>
            <a:ext cx="1069920" cy="7714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1"/>
          <p:cNvGrpSpPr/>
          <p:nvPr/>
        </p:nvGrpSpPr>
        <p:grpSpPr>
          <a:xfrm>
            <a:off x="1245600" y="3056400"/>
            <a:ext cx="1818360" cy="1487520"/>
            <a:chOff x="1245600" y="3056400"/>
            <a:chExt cx="1818360" cy="1487520"/>
          </a:xfrm>
        </p:grpSpPr>
        <p:pic>
          <p:nvPicPr>
            <p:cNvPr id="280" name="Picture 53" descr="6104394_Bezuymyannuyy_banan копия"/>
            <p:cNvPicPr/>
            <p:nvPr/>
          </p:nvPicPr>
          <p:blipFill>
            <a:blip r:embed="rId9"/>
            <a:stretch/>
          </p:blipFill>
          <p:spPr>
            <a:xfrm rot="15734400">
              <a:off x="2050920" y="34225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52" descr="6104394_Bezuymyannuyy_banan копия"/>
            <p:cNvPicPr/>
            <p:nvPr/>
          </p:nvPicPr>
          <p:blipFill>
            <a:blip r:embed="rId10"/>
            <a:stretch/>
          </p:blipFill>
          <p:spPr>
            <a:xfrm rot="16014000">
              <a:off x="1898640" y="34225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54" descr="6104394_Bezuymyannuyy_banan копия"/>
            <p:cNvPicPr/>
            <p:nvPr/>
          </p:nvPicPr>
          <p:blipFill>
            <a:blip r:embed="rId11"/>
            <a:stretch/>
          </p:blipFill>
          <p:spPr>
            <a:xfrm rot="19980600">
              <a:off x="1362240" y="334296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55" descr="6104394_Bezuymyannuyy_banan копия"/>
            <p:cNvPicPr/>
            <p:nvPr/>
          </p:nvPicPr>
          <p:blipFill>
            <a:blip r:embed="rId12"/>
            <a:stretch/>
          </p:blipFill>
          <p:spPr>
            <a:xfrm rot="20505600">
              <a:off x="1438200" y="341928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6" descr="6104394_Bezuymyannuyy_banan копия"/>
            <p:cNvPicPr/>
            <p:nvPr/>
          </p:nvPicPr>
          <p:blipFill>
            <a:blip r:embed="rId13"/>
            <a:stretch/>
          </p:blipFill>
          <p:spPr>
            <a:xfrm rot="20284200">
              <a:off x="1438560" y="349524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57" descr="6104394_Bezuymyannuyy_banan копия"/>
            <p:cNvPicPr/>
            <p:nvPr/>
          </p:nvPicPr>
          <p:blipFill>
            <a:blip r:embed="rId14"/>
            <a:stretch/>
          </p:blipFill>
          <p:spPr>
            <a:xfrm rot="18269400">
              <a:off x="1822320" y="349848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8" descr="6104394_Bezuymyannuyy_banan копия"/>
            <p:cNvPicPr/>
            <p:nvPr/>
          </p:nvPicPr>
          <p:blipFill>
            <a:blip r:embed="rId15"/>
            <a:stretch/>
          </p:blipFill>
          <p:spPr>
            <a:xfrm rot="15491400">
              <a:off x="2041560" y="3273120"/>
              <a:ext cx="10699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9" descr="6104394_Bezuymyannuyy_banan копия"/>
            <p:cNvPicPr/>
            <p:nvPr/>
          </p:nvPicPr>
          <p:blipFill>
            <a:blip r:embed="rId16"/>
            <a:stretch/>
          </p:blipFill>
          <p:spPr>
            <a:xfrm rot="18537600">
              <a:off x="1670040" y="3425400"/>
              <a:ext cx="1069920" cy="77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8" name="Picture 67" descr="6104394_Bezuymyannuyy_banan копия"/>
          <p:cNvPicPr/>
          <p:nvPr/>
        </p:nvPicPr>
        <p:blipFill>
          <a:blip r:embed="rId17"/>
          <a:stretch/>
        </p:blipFill>
        <p:spPr>
          <a:xfrm rot="18453000">
            <a:off x="6927840" y="3504960"/>
            <a:ext cx="1069920" cy="771480"/>
          </a:xfrm>
          <a:prstGeom prst="rect">
            <a:avLst/>
          </a:prstGeom>
          <a:ln w="0">
            <a:noFill/>
          </a:ln>
        </p:spPr>
      </p:pic>
      <p:sp>
        <p:nvSpPr>
          <p:cNvPr id="289" name="Line 70"/>
          <p:cNvSpPr/>
          <p:nvPr/>
        </p:nvSpPr>
        <p:spPr>
          <a:xfrm flipV="1">
            <a:off x="4495680" y="335592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слон.mp3" descr=""/>
          <p:cNvPicPr/>
          <p:nvPr/>
        </p:nvPicPr>
        <p:blipFill>
          <a:blip r:embed="rId18"/>
          <a:stretch/>
        </p:blipFill>
        <p:spPr>
          <a:xfrm>
            <a:off x="6781680" y="563868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4" descr="Копия 702cbec07df0 копия"/>
          <p:cNvPicPr/>
          <p:nvPr/>
        </p:nvPicPr>
        <p:blipFill>
          <a:blip r:embed="rId19"/>
          <a:stretch/>
        </p:blipFill>
        <p:spPr>
          <a:xfrm>
            <a:off x="5967360" y="4114800"/>
            <a:ext cx="2643120" cy="289548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75">
            <a:hlinkClick r:id="rId20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3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7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91440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562720" y="1371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9810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048120" y="1752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105520" y="1752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838080" y="3657600"/>
            <a:ext cx="1828800" cy="916920"/>
            <a:chOff x="838080" y="3657600"/>
            <a:chExt cx="1828800" cy="916920"/>
          </a:xfrm>
        </p:grpSpPr>
        <p:grpSp>
          <p:nvGrpSpPr>
            <p:cNvPr id="305" name="Group 16"/>
            <p:cNvGrpSpPr/>
            <p:nvPr/>
          </p:nvGrpSpPr>
          <p:grpSpPr>
            <a:xfrm>
              <a:off x="838080" y="3733560"/>
              <a:ext cx="1828800" cy="762120"/>
              <a:chOff x="838080" y="3733560"/>
              <a:chExt cx="1828800" cy="762120"/>
            </a:xfrm>
          </p:grpSpPr>
          <p:sp>
            <p:nvSpPr>
              <p:cNvPr id="306" name="Rectangle 17"/>
              <p:cNvSpPr/>
              <p:nvPr/>
            </p:nvSpPr>
            <p:spPr>
              <a:xfrm>
                <a:off x="8380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17524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9"/>
            <p:cNvSpPr/>
            <p:nvPr/>
          </p:nvSpPr>
          <p:spPr>
            <a:xfrm>
              <a:off x="99072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Д  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0"/>
          <p:cNvGrpSpPr/>
          <p:nvPr/>
        </p:nvGrpSpPr>
        <p:grpSpPr>
          <a:xfrm>
            <a:off x="2666880" y="3657600"/>
            <a:ext cx="1828800" cy="916920"/>
            <a:chOff x="2666880" y="3657600"/>
            <a:chExt cx="1828800" cy="916920"/>
          </a:xfrm>
        </p:grpSpPr>
        <p:grpSp>
          <p:nvGrpSpPr>
            <p:cNvPr id="310" name="Group 21"/>
            <p:cNvGrpSpPr/>
            <p:nvPr/>
          </p:nvGrpSpPr>
          <p:grpSpPr>
            <a:xfrm>
              <a:off x="2666880" y="3733560"/>
              <a:ext cx="1828800" cy="762120"/>
              <a:chOff x="2666880" y="3733560"/>
              <a:chExt cx="1828800" cy="762120"/>
            </a:xfrm>
          </p:grpSpPr>
          <p:sp>
            <p:nvSpPr>
              <p:cNvPr id="311" name="Rectangle 22"/>
              <p:cNvSpPr/>
              <p:nvPr/>
            </p:nvSpPr>
            <p:spPr>
              <a:xfrm>
                <a:off x="26668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3"/>
              <p:cNvSpPr/>
              <p:nvPr/>
            </p:nvSpPr>
            <p:spPr>
              <a:xfrm>
                <a:off x="35812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Text Box 24"/>
            <p:cNvSpPr/>
            <p:nvPr/>
          </p:nvSpPr>
          <p:spPr>
            <a:xfrm>
              <a:off x="2819520" y="3657600"/>
              <a:ext cx="167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Л  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5"/>
          <p:cNvGrpSpPr/>
          <p:nvPr/>
        </p:nvGrpSpPr>
        <p:grpSpPr>
          <a:xfrm>
            <a:off x="4495680" y="3657600"/>
            <a:ext cx="1828800" cy="916920"/>
            <a:chOff x="4495680" y="3657600"/>
            <a:chExt cx="1828800" cy="916920"/>
          </a:xfrm>
        </p:grpSpPr>
        <p:grpSp>
          <p:nvGrpSpPr>
            <p:cNvPr id="315" name="Group 26"/>
            <p:cNvGrpSpPr/>
            <p:nvPr/>
          </p:nvGrpSpPr>
          <p:grpSpPr>
            <a:xfrm>
              <a:off x="4495680" y="3733560"/>
              <a:ext cx="1828800" cy="762120"/>
              <a:chOff x="4495680" y="3733560"/>
              <a:chExt cx="1828800" cy="762120"/>
            </a:xfrm>
          </p:grpSpPr>
          <p:sp>
            <p:nvSpPr>
              <p:cNvPr id="316" name="Rectangle 27"/>
              <p:cNvSpPr/>
              <p:nvPr/>
            </p:nvSpPr>
            <p:spPr>
              <a:xfrm>
                <a:off x="44956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54100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29"/>
            <p:cNvSpPr/>
            <p:nvPr/>
          </p:nvSpPr>
          <p:spPr>
            <a:xfrm>
              <a:off x="464832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М 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0"/>
          <p:cNvGrpSpPr/>
          <p:nvPr/>
        </p:nvGrpSpPr>
        <p:grpSpPr>
          <a:xfrm>
            <a:off x="6324480" y="3657600"/>
            <a:ext cx="1828800" cy="916920"/>
            <a:chOff x="6324480" y="3657600"/>
            <a:chExt cx="1828800" cy="916920"/>
          </a:xfrm>
        </p:grpSpPr>
        <p:grpSp>
          <p:nvGrpSpPr>
            <p:cNvPr id="320" name="Group 31"/>
            <p:cNvGrpSpPr/>
            <p:nvPr/>
          </p:nvGrpSpPr>
          <p:grpSpPr>
            <a:xfrm>
              <a:off x="6324480" y="3733560"/>
              <a:ext cx="1828800" cy="762120"/>
              <a:chOff x="6324480" y="3733560"/>
              <a:chExt cx="1828800" cy="762120"/>
            </a:xfrm>
          </p:grpSpPr>
          <p:sp>
            <p:nvSpPr>
              <p:cNvPr id="321" name="Rectangle 32"/>
              <p:cNvSpPr/>
              <p:nvPr/>
            </p:nvSpPr>
            <p:spPr>
              <a:xfrm>
                <a:off x="63244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38880" y="3733560"/>
                <a:ext cx="914400" cy="7621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34"/>
            <p:cNvSpPr/>
            <p:nvPr/>
          </p:nvSpPr>
          <p:spPr>
            <a:xfrm>
              <a:off x="6400800" y="365760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5" descr="Nozhnicy копия"/>
          <p:cNvPicPr/>
          <p:nvPr/>
        </p:nvPicPr>
        <p:blipFill>
          <a:blip r:embed="rId2"/>
          <a:stretch/>
        </p:blipFill>
        <p:spPr>
          <a:xfrm rot="3913800">
            <a:off x="1985040" y="4719960"/>
            <a:ext cx="1182960" cy="733680"/>
          </a:xfrm>
          <a:prstGeom prst="rect">
            <a:avLst/>
          </a:prstGeom>
          <a:ln w="0">
            <a:noFill/>
          </a:ln>
        </p:spPr>
      </p:pic>
      <p:sp>
        <p:nvSpPr>
          <p:cNvPr id="325" name="Line 36"/>
          <p:cNvSpPr/>
          <p:nvPr/>
        </p:nvSpPr>
        <p:spPr>
          <a:xfrm flipV="1">
            <a:off x="26668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7"/>
          <p:cNvSpPr/>
          <p:nvPr/>
        </p:nvSpPr>
        <p:spPr>
          <a:xfrm flipV="1">
            <a:off x="44956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 flipV="1">
            <a:off x="6324480" y="365760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9" descr="Nozhnicy копия"/>
          <p:cNvPicPr/>
          <p:nvPr/>
        </p:nvPicPr>
        <p:blipFill>
          <a:blip r:embed="rId3"/>
          <a:stretch/>
        </p:blipFill>
        <p:spPr>
          <a:xfrm rot="3913800">
            <a:off x="3841920" y="4720680"/>
            <a:ext cx="1182960" cy="733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40"/>
          <p:cNvSpPr/>
          <p:nvPr/>
        </p:nvSpPr>
        <p:spPr>
          <a:xfrm rot="5400000">
            <a:off x="1676160" y="380988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114300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 rot="16200000">
            <a:off x="1997280" y="234576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слон.mp3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6" descr="Копия 702cbec07df0 копия"/>
          <p:cNvPicPr/>
          <p:nvPr/>
        </p:nvPicPr>
        <p:blipFill>
          <a:blip r:embed="rId5"/>
          <a:stretch/>
        </p:blipFill>
        <p:spPr>
          <a:xfrm>
            <a:off x="6634080" y="4343400"/>
            <a:ext cx="2433600" cy="26668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48">
            <a:hlinkClick r:id="rId6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Rot by="5400000">
                                      <p:cBhvr>
                                        <p:cTn id="62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77457E-006 L 0.1066 -0.12208 E">
                                      <p:cBhvr>
                                        <p:cTn id="63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31214E-006 L 0.20156 0.00278 E">
                                      <p:cBhvr>
                                        <p:cTn id="66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5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31214E-006 L 0.20156 0.00278 E">
                                      <p:cBhvr>
                                        <p:cTn id="67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5943600" y="22240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057400" y="2224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8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90720" y="1843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352680" y="1843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943600" y="1843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"/>
          <p:cNvSpPr/>
          <p:nvPr/>
        </p:nvSpPr>
        <p:spPr>
          <a:xfrm>
            <a:off x="1447920" y="237636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981080" y="38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048120" y="22240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: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3809880" y="2238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029200" y="22240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слон.mp3" descr=""/>
          <p:cNvPicPr/>
          <p:nvPr/>
        </p:nvPicPr>
        <p:blipFill>
          <a:blip r:embed="rId2"/>
          <a:stretch/>
        </p:blipFill>
        <p:spPr>
          <a:xfrm>
            <a:off x="708660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8" descr="Копия 702cbec07df0 копия"/>
          <p:cNvPicPr/>
          <p:nvPr/>
        </p:nvPicPr>
        <p:blipFill>
          <a:blip r:embed="rId3"/>
          <a:stretch/>
        </p:blipFill>
        <p:spPr>
          <a:xfrm>
            <a:off x="6083280" y="3352680"/>
            <a:ext cx="3060720" cy="33530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9">
            <a:hlinkClick r:id="rId4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09480" y="2361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Носенко Л.Д. Числовые выражения. Интерактивный тест _x000b_(математика, 2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743200" y="3733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скучный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lash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-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рове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>
            <a:hlinkClick r:id="rId3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лон.mp3" descr=""/>
          <p:cNvPicPr/>
          <p:nvPr/>
        </p:nvPicPr>
        <p:blipFill>
          <a:blip r:embed="rId4"/>
          <a:stretch/>
        </p:blipFill>
        <p:spPr>
          <a:xfrm>
            <a:off x="137160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Копия 702cbec07df0 копия"/>
          <p:cNvPicPr/>
          <p:nvPr/>
        </p:nvPicPr>
        <p:blipFill>
          <a:blip r:embed="rId5"/>
          <a:stretch/>
        </p:blipFill>
        <p:spPr>
          <a:xfrm>
            <a:off x="-68400" y="3429000"/>
            <a:ext cx="3268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7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"/>
          <p:cNvSpPr/>
          <p:nvPr/>
        </p:nvSpPr>
        <p:spPr>
          <a:xfrm>
            <a:off x="533520" y="533520"/>
            <a:ext cx="8076960" cy="5790960"/>
          </a:xfrm>
          <a:prstGeom prst="roundRect">
            <a:avLst>
              <a:gd name="adj" fmla="val 16667"/>
            </a:avLst>
          </a:prstGeom>
          <a:solidFill>
            <a:srgbClr val="bbe0e3">
              <a:alpha val="63000"/>
            </a:srgbClr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allday.ru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upload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post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9"/>
              </a:rPr>
              <a:t>thumb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0"/>
              </a:rPr>
              <a:t>/1199880529_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3"/>
              </a:rPr>
              <a:t>static.novate.ru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5"/>
              </a:rPr>
              <a:t>files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7"/>
              </a:rPr>
              <a:t>masha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8"/>
              </a:rPr>
              <a:t>/fruit_bowls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аза с фрук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umkinazakaz.lpb.ru/product/sumka_sport_na_zakaz.jpg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у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babynote.ru/ECatalog/images/esys_20070909230737.jpg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оска шк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i027.radikal.ru/0710/cf/702cbec07df0.png  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ло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arkov3.narod.ru/givotnie.htm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лоник тру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505320" y="47386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ле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429000" y="321480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ние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звания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омпонентов и результат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арифметических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ействий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>
            <a:hlinkClick r:id="rId2" action="ppaction://hlinksldjump"/>
          </p:cNvPr>
          <p:cNvSpPr/>
          <p:nvPr/>
        </p:nvSpPr>
        <p:spPr>
          <a:xfrm>
            <a:off x="6477120" y="237636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>
            <a:hlinkClick r:id="rId3" action="ppaction://hlinksldjump"/>
          </p:cNvPr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>
            <a:hlinkClick r:id="rId4" action="ppaction://hlinksldjump"/>
          </p:cNvPr>
          <p:cNvSpPr/>
          <p:nvPr/>
        </p:nvSpPr>
        <p:spPr>
          <a:xfrm>
            <a:off x="8001000" y="31240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>
            <a:hlinkClick r:id="rId5" action="ppaction://hlinksldjump"/>
          </p:cNvPr>
          <p:cNvSpPr/>
          <p:nvPr/>
        </p:nvSpPr>
        <p:spPr>
          <a:xfrm>
            <a:off x="800100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>
            <a:hlinkClick r:id="rId6" action="ppaction://hlinksldjump"/>
          </p:cNvPr>
          <p:cNvSpPr/>
          <p:nvPr/>
        </p:nvSpPr>
        <p:spPr>
          <a:xfrm>
            <a:off x="8001000" y="4648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>
            <a:hlinkClick r:id="rId7" action="ppaction://hlinksldjump"/>
          </p:cNvPr>
          <p:cNvSpPr/>
          <p:nvPr/>
        </p:nvSpPr>
        <p:spPr>
          <a:xfrm>
            <a:off x="6477120" y="3886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>
            <a:hlinkClick r:id="rId8" action="ppaction://hlinksldjump"/>
          </p:cNvPr>
          <p:cNvSpPr/>
          <p:nvPr/>
        </p:nvSpPr>
        <p:spPr>
          <a:xfrm>
            <a:off x="6477120" y="4648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>
            <a:hlinkClick r:id="rId9" action="ppaction://hlinksldjump"/>
          </p:cNvPr>
          <p:cNvSpPr/>
          <p:nvPr/>
        </p:nvSpPr>
        <p:spPr>
          <a:xfrm>
            <a:off x="7238880" y="3886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6">
            <a:hlinkClick r:id="rId10" action="ppaction://hlinksldjump"/>
          </p:cNvPr>
          <p:cNvSpPr/>
          <p:nvPr/>
        </p:nvSpPr>
        <p:spPr>
          <a:xfrm>
            <a:off x="7238880" y="4648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3886200" y="23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962520" y="37479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1523880" y="1833480"/>
            <a:ext cx="838440" cy="1434600"/>
          </a:xfrm>
          <a:prstGeom prst="rect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 rot="20449800">
            <a:off x="836640" y="2057400"/>
            <a:ext cx="762120" cy="1434600"/>
          </a:xfrm>
          <a:prstGeom prst="rect">
            <a:avLst/>
          </a:prstGeom>
          <a:solidFill>
            <a:srgbClr val="ffcc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09680" y="2057400"/>
            <a:ext cx="838440" cy="1434600"/>
          </a:xfrm>
          <a:prstGeom prst="rect">
            <a:avLst/>
          </a:prstGeom>
          <a:solidFill>
            <a:srgbClr val="bbe0e3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 rot="961800">
            <a:off x="2820600" y="2061720"/>
            <a:ext cx="838080" cy="1434600"/>
          </a:xfrm>
          <a:prstGeom prst="rect">
            <a:avLst/>
          </a:prstGeom>
          <a:solidFill>
            <a:srgbClr val="ffff00">
              <a:alpha val="5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2">
            <a:hlinkClick r:id="rId11" action="ppaction://hlinksldjump"/>
          </p:cNvPr>
          <p:cNvSpPr/>
          <p:nvPr/>
        </p:nvSpPr>
        <p:spPr>
          <a:xfrm>
            <a:off x="7238880" y="23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3">
            <a:hlinkClick r:id="rId12" action="ppaction://hlinksldjump"/>
          </p:cNvPr>
          <p:cNvSpPr/>
          <p:nvPr/>
        </p:nvSpPr>
        <p:spPr>
          <a:xfrm>
            <a:off x="6477120" y="31384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4">
            <a:hlinkClick r:id="rId13" action="ppaction://hlinksldjump"/>
          </p:cNvPr>
          <p:cNvSpPr/>
          <p:nvPr/>
        </p:nvSpPr>
        <p:spPr>
          <a:xfrm>
            <a:off x="7238880" y="3138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лон.mp3" descr=""/>
          <p:cNvPicPr/>
          <p:nvPr/>
        </p:nvPicPr>
        <p:blipFill>
          <a:blip r:embed="rId14"/>
          <a:stretch/>
        </p:blipFill>
        <p:spPr>
          <a:xfrm>
            <a:off x="28195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Копия 702cbec07df0 копия"/>
          <p:cNvPicPr/>
          <p:nvPr/>
        </p:nvPicPr>
        <p:blipFill>
          <a:blip r:embed="rId15"/>
          <a:stretch/>
        </p:blipFill>
        <p:spPr>
          <a:xfrm>
            <a:off x="465120" y="3352680"/>
            <a:ext cx="3268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3376440" y="3253320"/>
            <a:ext cx="1593000" cy="1407240"/>
            <a:chOff x="3376440" y="3253320"/>
            <a:chExt cx="1593000" cy="1407240"/>
          </a:xfrm>
        </p:grpSpPr>
        <p:pic>
          <p:nvPicPr>
            <p:cNvPr id="80" name="Picture 6" descr="6104394_Bezuymyannuyy_banan копия"/>
            <p:cNvPicPr/>
            <p:nvPr/>
          </p:nvPicPr>
          <p:blipFill>
            <a:blip r:embed="rId2"/>
            <a:stretch/>
          </p:blipFill>
          <p:spPr>
            <a:xfrm rot="20670000">
              <a:off x="3467520" y="3390480"/>
              <a:ext cx="1143000" cy="8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7" descr="6104394_Bezuymyannuyy_banan копия"/>
            <p:cNvPicPr/>
            <p:nvPr/>
          </p:nvPicPr>
          <p:blipFill>
            <a:blip r:embed="rId3"/>
            <a:stretch/>
          </p:blipFill>
          <p:spPr>
            <a:xfrm rot="18956400">
              <a:off x="3696120" y="3543480"/>
              <a:ext cx="1143000" cy="83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8"/>
          <p:cNvGrpSpPr/>
          <p:nvPr/>
        </p:nvGrpSpPr>
        <p:grpSpPr>
          <a:xfrm>
            <a:off x="1978560" y="3192840"/>
            <a:ext cx="1332360" cy="1360080"/>
            <a:chOff x="1978560" y="3192840"/>
            <a:chExt cx="1332360" cy="1360080"/>
          </a:xfrm>
        </p:grpSpPr>
        <p:pic>
          <p:nvPicPr>
            <p:cNvPr id="83" name="Picture 9" descr="6104394_Bezuymyannuyy_banan копия"/>
            <p:cNvPicPr/>
            <p:nvPr/>
          </p:nvPicPr>
          <p:blipFill>
            <a:blip r:embed="rId4"/>
            <a:stretch/>
          </p:blipFill>
          <p:spPr>
            <a:xfrm rot="1998600">
              <a:off x="2117520" y="3422880"/>
              <a:ext cx="1069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0" descr="6104394_Bezuymyannuyy_banan копия"/>
            <p:cNvPicPr/>
            <p:nvPr/>
          </p:nvPicPr>
          <p:blipFill>
            <a:blip r:embed="rId5"/>
            <a:stretch/>
          </p:blipFill>
          <p:spPr>
            <a:xfrm rot="858600">
              <a:off x="2057040" y="3580560"/>
              <a:ext cx="1069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1" descr="6104394_Bezuymyannuyy_banan копия"/>
            <p:cNvPicPr/>
            <p:nvPr/>
          </p:nvPicPr>
          <p:blipFill>
            <a:blip r:embed="rId6"/>
            <a:stretch/>
          </p:blipFill>
          <p:spPr>
            <a:xfrm rot="21382200">
              <a:off x="2202840" y="3740040"/>
              <a:ext cx="1057680" cy="77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Text Box 14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5410080" y="2971800"/>
            <a:ext cx="2590920" cy="1623960"/>
            <a:chOff x="5410080" y="2971800"/>
            <a:chExt cx="2590920" cy="1623960"/>
          </a:xfrm>
        </p:grpSpPr>
        <p:sp>
          <p:nvSpPr>
            <p:cNvPr id="89" name="Rectangle 12"/>
            <p:cNvSpPr/>
            <p:nvPr/>
          </p:nvSpPr>
          <p:spPr>
            <a:xfrm>
              <a:off x="5562720" y="3505320"/>
              <a:ext cx="152388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6" descr="sumka_sport_na_zakaz копия"/>
            <p:cNvPicPr/>
            <p:nvPr/>
          </p:nvPicPr>
          <p:blipFill>
            <a:blip r:embed="rId7"/>
            <a:stretch/>
          </p:blipFill>
          <p:spPr>
            <a:xfrm>
              <a:off x="5410080" y="2971800"/>
              <a:ext cx="2590920" cy="16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7"/>
          <p:cNvSpPr/>
          <p:nvPr/>
        </p:nvSpPr>
        <p:spPr>
          <a:xfrm>
            <a:off x="594360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7816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708660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781680" y="13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67816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4">
            <a:hlinkClick r:id="rId8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лон.mp3" descr=""/>
          <p:cNvPicPr/>
          <p:nvPr/>
        </p:nvPicPr>
        <p:blipFill>
          <a:blip r:embed="rId9"/>
          <a:stretch/>
        </p:blipFill>
        <p:spPr>
          <a:xfrm>
            <a:off x="12193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Копия 702cbec07df0 копия"/>
          <p:cNvPicPr/>
          <p:nvPr/>
        </p:nvPicPr>
        <p:blipFill>
          <a:blip r:embed="rId10"/>
          <a:stretch/>
        </p:blipFill>
        <p:spPr>
          <a:xfrm>
            <a:off x="-152280" y="365760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88889E-006 -1.32948E-006 C 0.02726 -0.03098 0.05469 -0.06173 0.10469 -0.08462 C 0.15469 -0.10751 0.24549 -0.13179 0.30001 -0.13734 C 0.35452 -0.14289 0.40053 -0.13919 0.43178 -0.11838 C 0.46303 -0.09757 0.47813 -0.03075 0.48733 -0.01271 E">
                                      <p:cBhvr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2.08092E-006 C 0.02483 -0.03977 0.04966 -0.07931 0.08403 -0.09942 C 0.11841 -0.11954 0.17657 -0.13665 0.20625 -0.12046 C 0.23594 -0.10428 0.25261 -0.02173 0.26181 -0.00208 E">
                                      <p:cBhvr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0"/>
          <p:cNvSpPr/>
          <p:nvPr/>
        </p:nvSpPr>
        <p:spPr>
          <a:xfrm>
            <a:off x="3809880" y="175248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0574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32448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943600" y="13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78168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086600" y="1371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6781680" y="13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6781680" y="609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380988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791320" y="1676520"/>
            <a:ext cx="2590560" cy="1623960"/>
            <a:chOff x="5791320" y="1676520"/>
            <a:chExt cx="2590560" cy="1623960"/>
          </a:xfrm>
        </p:grpSpPr>
        <p:sp>
          <p:nvSpPr>
            <p:cNvPr id="124" name="Rectangle 14"/>
            <p:cNvSpPr/>
            <p:nvPr/>
          </p:nvSpPr>
          <p:spPr>
            <a:xfrm>
              <a:off x="5943600" y="2210040"/>
              <a:ext cx="152352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5" descr="sumka_sport_na_zakaz копия"/>
            <p:cNvPicPr/>
            <p:nvPr/>
          </p:nvPicPr>
          <p:blipFill>
            <a:blip r:embed="rId3"/>
            <a:stretch/>
          </p:blipFill>
          <p:spPr>
            <a:xfrm>
              <a:off x="5791320" y="1676520"/>
              <a:ext cx="2590560" cy="162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слон.mp3" descr=""/>
          <p:cNvPicPr/>
          <p:nvPr/>
        </p:nvPicPr>
        <p:blipFill>
          <a:blip r:embed="rId4"/>
          <a:stretch/>
        </p:blipFill>
        <p:spPr>
          <a:xfrm>
            <a:off x="109224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Копия 702cbec07df0 копия"/>
          <p:cNvPicPr/>
          <p:nvPr/>
        </p:nvPicPr>
        <p:blipFill>
          <a:blip r:embed="rId5"/>
          <a:stretch/>
        </p:blipFill>
        <p:spPr>
          <a:xfrm>
            <a:off x="-101520" y="35053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052E-007 C 0.02048 -0.02544 0.04097 -0.05087 0.08645 -0.06544 C 0.13194 -0.08 0.21666 -0.0881 0.27291 -0.0881 C 0.32916 -0.0881 0.39131 -0.08393 0.42378 -0.06544 C 0.45625 -0.04694 0.46197 -0.01226 0.46788 0.02242 E">
                                      <p:cBhvr>
                                        <p:cTn id="12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6.87861E-006 C 0.01094 -0.02174 0.02188 -0.04324 0.0389 -0.05642 C 0.05591 -0.0696 0.07518 -0.07631 0.10174 -0.07885 C 0.12831 -0.08139 0.16945 -0.08463 0.19827 -0.07214 C 0.22709 -0.05966 0.2507 -0.03214 0.27449 -0.0044 E">
                                      <p:cBhvr>
                                        <p:cTn id="13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90720" y="1371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5268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АГ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94360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9810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У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895480" y="1752480"/>
            <a:ext cx="83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+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лон.mp3" descr=""/>
          <p:cNvPicPr/>
          <p:nvPr/>
        </p:nvPicPr>
        <p:blipFill>
          <a:blip r:embed="rId3"/>
          <a:stretch/>
        </p:blipFill>
        <p:spPr>
          <a:xfrm>
            <a:off x="109224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Копия 702cbec07df0 копия"/>
          <p:cNvPicPr/>
          <p:nvPr/>
        </p:nvPicPr>
        <p:blipFill>
          <a:blip r:embed="rId4"/>
          <a:stretch/>
        </p:blipFill>
        <p:spPr>
          <a:xfrm>
            <a:off x="-101520" y="3505320"/>
            <a:ext cx="2921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352680" y="137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810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rId2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2" descr="6104394_Bezuymyannuyy_banan копия"/>
          <p:cNvPicPr/>
          <p:nvPr/>
        </p:nvPicPr>
        <p:blipFill>
          <a:blip r:embed="rId3"/>
          <a:stretch/>
        </p:blipFill>
        <p:spPr>
          <a:xfrm rot="18453000">
            <a:off x="1365120" y="357804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6104394_Bezuymyannuyy_banan копия"/>
          <p:cNvPicPr/>
          <p:nvPr/>
        </p:nvPicPr>
        <p:blipFill>
          <a:blip r:embed="rId4"/>
          <a:stretch/>
        </p:blipFill>
        <p:spPr>
          <a:xfrm rot="18453000">
            <a:off x="1517400" y="37303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6104394_Bezuymyannuyy_banan копия"/>
          <p:cNvPicPr/>
          <p:nvPr/>
        </p:nvPicPr>
        <p:blipFill>
          <a:blip r:embed="rId5"/>
          <a:stretch/>
        </p:blipFill>
        <p:spPr>
          <a:xfrm rot="18453000">
            <a:off x="1670040" y="388296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слон.mp3" descr=""/>
          <p:cNvPicPr/>
          <p:nvPr/>
        </p:nvPicPr>
        <p:blipFill>
          <a:blip r:embed="rId6"/>
          <a:stretch/>
        </p:blipFill>
        <p:spPr>
          <a:xfrm>
            <a:off x="7924680" y="586728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Копия 702cbec07df0 копия"/>
          <p:cNvPicPr/>
          <p:nvPr/>
        </p:nvPicPr>
        <p:blipFill>
          <a:blip r:embed="rId7"/>
          <a:stretch/>
        </p:blipFill>
        <p:spPr>
          <a:xfrm>
            <a:off x="6324480" y="3809880"/>
            <a:ext cx="2851200" cy="31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6" descr="6104394_Bezuymyannuyy_banan копия"/>
          <p:cNvPicPr/>
          <p:nvPr/>
        </p:nvPicPr>
        <p:blipFill>
          <a:blip r:embed="rId8"/>
          <a:stretch/>
        </p:blipFill>
        <p:spPr>
          <a:xfrm rot="18453000">
            <a:off x="1984320" y="4187520"/>
            <a:ext cx="106992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6104394_Bezuymyannuyy_banan копия"/>
          <p:cNvPicPr/>
          <p:nvPr/>
        </p:nvPicPr>
        <p:blipFill>
          <a:blip r:embed="rId9"/>
          <a:stretch/>
        </p:blipFill>
        <p:spPr>
          <a:xfrm rot="18453000">
            <a:off x="1831680" y="4035240"/>
            <a:ext cx="10699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4798E-006 L 0.48333 0.25526 E">
                                      <p:cBhvr>
                                        <p:cTn id="25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48333 0.25526 E">
                                      <p:cBhvr>
                                        <p:cTn id="258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167 0 E">
                                      <p:cBhvr>
                                        <p:cTn id="26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057400" y="24382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913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981080" y="3200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>
            <a:hlinkClick r:id="rId2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лон.mp3" descr=""/>
          <p:cNvPicPr/>
          <p:nvPr/>
        </p:nvPicPr>
        <p:blipFill>
          <a:blip r:embed="rId3"/>
          <a:stretch/>
        </p:blipFill>
        <p:spPr>
          <a:xfrm>
            <a:off x="7315200" y="571500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Копия 702cbec07df0 копия"/>
          <p:cNvPicPr/>
          <p:nvPr/>
        </p:nvPicPr>
        <p:blipFill>
          <a:blip r:embed="rId4"/>
          <a:stretch/>
        </p:blipFill>
        <p:spPr>
          <a:xfrm>
            <a:off x="5943600" y="3352680"/>
            <a:ext cx="3340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remove" presetClass="emph" presetID="4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9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7 -0.14428 E">
                                      <p:cBhvr>
                                        <p:cTn id="30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594360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6212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УМЕНЬШ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352680" y="1371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ЫЧИТА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1447920" y="1905120"/>
            <a:ext cx="3581280" cy="1218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3352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048120" y="1752480"/>
            <a:ext cx="83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–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лон.mp3" descr=""/>
          <p:cNvPicPr/>
          <p:nvPr/>
        </p:nvPicPr>
        <p:blipFill>
          <a:blip r:embed="rId2"/>
          <a:stretch/>
        </p:blipFill>
        <p:spPr>
          <a:xfrm>
            <a:off x="7162920" y="5486400"/>
            <a:ext cx="318960" cy="31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Копия 702cbec07df0 копия"/>
          <p:cNvPicPr/>
          <p:nvPr/>
        </p:nvPicPr>
        <p:blipFill>
          <a:blip r:embed="rId3"/>
          <a:stretch/>
        </p:blipFill>
        <p:spPr>
          <a:xfrm>
            <a:off x="5791320" y="3124080"/>
            <a:ext cx="3477960" cy="38102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0">
            <a:hlinkClick r:id="rId4" action="ppaction://hlinksldjump"/>
          </p:cNvPr>
          <p:cNvSpPr/>
          <p:nvPr/>
        </p:nvSpPr>
        <p:spPr>
          <a:xfrm>
            <a:off x="11430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esys_20070909230737 копия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27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5943600" y="175248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057400" y="17524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3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35268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НОЖ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7913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1447920" y="1828800"/>
            <a:ext cx="358128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7524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048120" y="1752480"/>
            <a:ext cx="838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·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809880" y="17668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5029200" y="175248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>
            <a:hlinkClick r:id="rId2" action="ppaction://hlinksldjump"/>
          </p:cNvPr>
          <p:cNvSpPr/>
          <p:nvPr/>
        </p:nvSpPr>
        <p:spPr>
          <a:xfrm>
            <a:off x="8381880" y="6248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Arial"/>
              </a:rPr>
              <a:t>из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5"/>
          <p:cNvGrpSpPr/>
          <p:nvPr/>
        </p:nvGrpSpPr>
        <p:grpSpPr>
          <a:xfrm>
            <a:off x="2374200" y="4519440"/>
            <a:ext cx="1612800" cy="1497240"/>
            <a:chOff x="2374200" y="4519440"/>
            <a:chExt cx="1612800" cy="1497240"/>
          </a:xfrm>
        </p:grpSpPr>
        <p:pic>
          <p:nvPicPr>
            <p:cNvPr id="207" name="Picture 16" descr="6104394_Bezuymyannuyy_banan копия"/>
            <p:cNvPicPr/>
            <p:nvPr/>
          </p:nvPicPr>
          <p:blipFill>
            <a:blip r:embed="rId3"/>
            <a:stretch/>
          </p:blipFill>
          <p:spPr>
            <a:xfrm rot="1042800">
              <a:off x="2453760" y="4701240"/>
              <a:ext cx="133056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7" descr="6104394_Bezuymyannuyy_banan копия"/>
            <p:cNvPicPr/>
            <p:nvPr/>
          </p:nvPicPr>
          <p:blipFill>
            <a:blip r:embed="rId4"/>
            <a:stretch/>
          </p:blipFill>
          <p:spPr>
            <a:xfrm rot="21502800">
              <a:off x="2458440" y="4874400"/>
              <a:ext cx="133056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8" descr="6104394_Bezuymyannuyy_banan копия"/>
            <p:cNvPicPr/>
            <p:nvPr/>
          </p:nvPicPr>
          <p:blipFill>
            <a:blip r:embed="rId5"/>
            <a:stretch/>
          </p:blipFill>
          <p:spPr>
            <a:xfrm rot="20426400">
              <a:off x="2843280" y="4905360"/>
              <a:ext cx="1010520" cy="9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Rectangle 19"/>
          <p:cNvSpPr/>
          <p:nvPr/>
        </p:nvSpPr>
        <p:spPr>
          <a:xfrm>
            <a:off x="1676520" y="3505320"/>
            <a:ext cx="5181480" cy="2390760"/>
          </a:xfrm>
          <a:prstGeom prst="rect">
            <a:avLst/>
          </a:prstGeom>
          <a:noFill/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0"/>
          <p:cNvGrpSpPr/>
          <p:nvPr/>
        </p:nvGrpSpPr>
        <p:grpSpPr>
          <a:xfrm>
            <a:off x="4209480" y="4294800"/>
            <a:ext cx="1852920" cy="1609560"/>
            <a:chOff x="4209480" y="4294800"/>
            <a:chExt cx="1852920" cy="1609560"/>
          </a:xfrm>
        </p:grpSpPr>
        <p:pic>
          <p:nvPicPr>
            <p:cNvPr id="212" name="Picture 21" descr="Копия 6104394_Bezuymyannuyy_banan копия"/>
            <p:cNvPicPr/>
            <p:nvPr/>
          </p:nvPicPr>
          <p:blipFill>
            <a:blip r:embed="rId6"/>
            <a:stretch/>
          </p:blipFill>
          <p:spPr>
            <a:xfrm rot="20697000">
              <a:off x="4532040" y="4465800"/>
              <a:ext cx="1438200" cy="89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2" descr="Копия 6104394_Bezuymyannuyy_banan копия"/>
            <p:cNvPicPr/>
            <p:nvPr/>
          </p:nvPicPr>
          <p:blipFill>
            <a:blip r:embed="rId7"/>
            <a:stretch/>
          </p:blipFill>
          <p:spPr>
            <a:xfrm rot="402600">
              <a:off x="4390920" y="4682880"/>
              <a:ext cx="14382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3" descr="Копия 6104394_Bezuymyannuyy_banan копия"/>
            <p:cNvPicPr/>
            <p:nvPr/>
          </p:nvPicPr>
          <p:blipFill>
            <a:blip r:embed="rId8"/>
            <a:stretch/>
          </p:blipFill>
          <p:spPr>
            <a:xfrm rot="1197600">
              <a:off x="4319640" y="4787280"/>
              <a:ext cx="1438200" cy="89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28"/>
          <p:cNvGrpSpPr/>
          <p:nvPr/>
        </p:nvGrpSpPr>
        <p:grpSpPr>
          <a:xfrm>
            <a:off x="4271400" y="3551400"/>
            <a:ext cx="1717920" cy="1637640"/>
            <a:chOff x="4271400" y="3551400"/>
            <a:chExt cx="1717920" cy="1637640"/>
          </a:xfrm>
        </p:grpSpPr>
        <p:pic>
          <p:nvPicPr>
            <p:cNvPr id="216" name="Picture 29" descr="Копия 6104394_Bezuymyannuyy_banan копия"/>
            <p:cNvPicPr/>
            <p:nvPr/>
          </p:nvPicPr>
          <p:blipFill>
            <a:blip r:embed="rId9"/>
            <a:stretch/>
          </p:blipFill>
          <p:spPr>
            <a:xfrm rot="19874400">
              <a:off x="4440960" y="3835440"/>
              <a:ext cx="14155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0" descr="Копия 6104394_Bezuymyannuyy_banan копия"/>
            <p:cNvPicPr/>
            <p:nvPr/>
          </p:nvPicPr>
          <p:blipFill>
            <a:blip r:embed="rId10"/>
            <a:stretch/>
          </p:blipFill>
          <p:spPr>
            <a:xfrm rot="21180000">
              <a:off x="4359960" y="4080960"/>
              <a:ext cx="141552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1" descr="Копия 6104394_Bezuymyannuyy_banan копия"/>
            <p:cNvPicPr/>
            <p:nvPr/>
          </p:nvPicPr>
          <p:blipFill>
            <a:blip r:embed="rId11"/>
            <a:stretch/>
          </p:blipFill>
          <p:spPr>
            <a:xfrm rot="375000">
              <a:off x="4317120" y="4200120"/>
              <a:ext cx="14155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"/>
          <p:cNvGrpSpPr/>
          <p:nvPr/>
        </p:nvGrpSpPr>
        <p:grpSpPr>
          <a:xfrm>
            <a:off x="1616040" y="3214800"/>
            <a:ext cx="1683000" cy="1452600"/>
            <a:chOff x="1616040" y="3214800"/>
            <a:chExt cx="1683000" cy="1452600"/>
          </a:xfrm>
        </p:grpSpPr>
        <p:pic>
          <p:nvPicPr>
            <p:cNvPr id="220" name="Picture 37" descr="6104394_Bezuymyannuyy_banan копия"/>
            <p:cNvPicPr/>
            <p:nvPr/>
          </p:nvPicPr>
          <p:blipFill>
            <a:blip r:embed="rId12"/>
            <a:stretch/>
          </p:blipFill>
          <p:spPr>
            <a:xfrm rot="600000">
              <a:off x="1671120" y="3326040"/>
              <a:ext cx="1347840" cy="75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8" descr="6104394_Bezuymyannuyy_banan копия"/>
            <p:cNvPicPr/>
            <p:nvPr/>
          </p:nvPicPr>
          <p:blipFill>
            <a:blip r:embed="rId13"/>
            <a:stretch/>
          </p:blipFill>
          <p:spPr>
            <a:xfrm rot="21060000">
              <a:off x="1697760" y="3500640"/>
              <a:ext cx="1347840" cy="75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9" descr="6104394_Bezuymyannuyy_banan копия"/>
            <p:cNvPicPr/>
            <p:nvPr/>
          </p:nvPicPr>
          <p:blipFill>
            <a:blip r:embed="rId14"/>
            <a:stretch/>
          </p:blipFill>
          <p:spPr>
            <a:xfrm rot="19983600">
              <a:off x="2100960" y="3504600"/>
              <a:ext cx="1031040" cy="98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32" descr="ваза с фруктами копия"/>
          <p:cNvPicPr/>
          <p:nvPr/>
        </p:nvPicPr>
        <p:blipFill>
          <a:blip r:embed="rId15"/>
          <a:stretch/>
        </p:blipFill>
        <p:spPr>
          <a:xfrm>
            <a:off x="2971800" y="3645000"/>
            <a:ext cx="2170080" cy="2070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3"/>
          <p:cNvSpPr/>
          <p:nvPr/>
        </p:nvSpPr>
        <p:spPr>
          <a:xfrm rot="20185800">
            <a:off x="3505680" y="4952160"/>
            <a:ext cx="439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РОИЗВЕДЕНИЕ</a:t>
            </a:r>
            <a:br>
              <a:rPr sz="24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слон.mp3" descr=""/>
          <p:cNvPicPr/>
          <p:nvPr/>
        </p:nvPicPr>
        <p:blipFill>
          <a:blip r:embed="rId16"/>
          <a:stretch/>
        </p:blipFill>
        <p:spPr>
          <a:xfrm>
            <a:off x="1295280" y="5889600"/>
            <a:ext cx="282600" cy="282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3" descr="Копия 702cbec07df0 копия"/>
          <p:cNvPicPr/>
          <p:nvPr/>
        </p:nvPicPr>
        <p:blipFill>
          <a:blip r:embed="rId17"/>
          <a:stretch/>
        </p:blipFill>
        <p:spPr>
          <a:xfrm>
            <a:off x="-139680" y="3886200"/>
            <a:ext cx="28512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35838E-007 L 0.0743 0.09087 E">
                                      <p:cBhvr>
                                        <p:cTn id="38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50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2-09-21T19:58:12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