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07D-219A-445B-94DE-304AB504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642-4065-47D6-B624-7AAE3EA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C0A-E611-4CC8-AA51-061F09B2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6C7-035F-4B4F-87AC-557306A2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BEF7-51D1-4215-9BCF-EFC1EC81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1B5-A630-4B04-B95D-F684C346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70B0-5BA1-4B3E-984C-657F2CEF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19DA-3E5D-4733-BAE1-E4D7CFD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C8C-302C-43A4-826E-9A67327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DB62-89B2-44E0-9A23-8BFCDC4C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18D8-0E0D-4908-BB9A-95B4595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A8A-9C07-4F14-A2CE-7110B370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002B-F0BF-45F9-93DB-AD6F5677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7823-2DB9-4A4E-85F5-55316EB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CE9-061A-4A03-8F5D-2350991B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02BC-EC77-4416-A236-CBC9ABEF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F900-5FE2-4040-A236-7DDC043C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7CF-75F1-4605-80F1-0A9A54B2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C11-C540-4D45-9101-8F07756B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D9D-2CE3-4CEE-9E4F-20573FF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B63-E301-4638-AB4C-18F60088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43E-3FBE-4B0A-A471-4955C049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E01-1329-4624-B251-D4AB3DD9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0CE-CD10-4888-AED7-92EAAB3D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E8E8-651B-41F1-9310-F97A72160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0F6E-D04C-4A07-BFF1-E2168B11D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8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6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7600" y="167292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Живые участники</a:t>
            </a: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круговорота веществ в прир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5561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88FA-BFD5-4BDB-8FC3-2B3D611A4F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620640"/>
            <a:ext cx="770400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ЕДОКИ - ПОТРЕБИТЕ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429000"/>
            <a:ext cx="309564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ТРАВОЯ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4292640"/>
            <a:ext cx="31687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ПЛОТОЯ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429000"/>
            <a:ext cx="266400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ХИЩ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590200">
            <a:off x="2246040" y="1604520"/>
            <a:ext cx="144360" cy="1871640"/>
          </a:xfrm>
          <a:prstGeom prst="downArrow">
            <a:avLst>
              <a:gd name="adj1" fmla="val 50000"/>
              <a:gd name="adj2" fmla="val 32412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1844640"/>
            <a:ext cx="144360" cy="2305080"/>
          </a:xfrm>
          <a:prstGeom prst="downArrow">
            <a:avLst>
              <a:gd name="adj1" fmla="val 50000"/>
              <a:gd name="adj2" fmla="val 39919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057800">
            <a:off x="6149520" y="1614240"/>
            <a:ext cx="176400" cy="1871640"/>
          </a:xfrm>
          <a:prstGeom prst="downArrow">
            <a:avLst>
              <a:gd name="adj1" fmla="val 50000"/>
              <a:gd name="adj2" fmla="val 26525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C46-FAE4-4E4F-8709-936C9DCAE5EE}" type="slidenum">
              <a:t>10</a:t>
            </a:fld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ЕДОКИ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(ПОТРЕБИТЕЛИ)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травояд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 rot="1597800">
            <a:off x="2437920" y="274320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1016280" cy="974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438280" y="5105520"/>
            <a:ext cx="1219320" cy="1030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781680" y="4800600"/>
            <a:ext cx="1617840" cy="1465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962520" y="5105520"/>
            <a:ext cx="1295280" cy="1055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7924680" y="4191120"/>
            <a:ext cx="1016280" cy="660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562720" y="5105520"/>
            <a:ext cx="1015920" cy="923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772200">
            <a:off x="3504960" y="320040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70400">
            <a:off x="4723920" y="335268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1264600">
            <a:off x="5867280" y="320004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605800">
            <a:off x="6705360" y="31240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501800">
            <a:off x="7620120" y="26668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F62-CC62-4A7E-AD3E-48211E6B76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ПЛОТОЯД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1981080" cy="1416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2540160" cy="1498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2082960" cy="1260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1597800">
            <a:off x="2819520" y="24382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575400">
            <a:off x="4876920" y="251424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240400">
            <a:off x="6781320" y="243792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93F-EBCE-4FA5-8FFA-E7972E321C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ХИЩ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 rot="1597800">
            <a:off x="3276360" y="236232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5000">
            <a:off x="4723920" y="243792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9148400">
            <a:off x="6477120" y="228564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156852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1752480" cy="1393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460520" cy="165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73C-AB2E-48E5-9B05-467EABA62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А </a:t>
            </a: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ЧЕЛОВЕК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886200" cy="36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4AC-34F7-43A0-9CB4-E5DC2917FBEF}" type="slidenum">
              <a:t>14</a:t>
            </a:fld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475920"/>
            <a:ext cx="7772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МУСОРЩИКИ (РАЗРУШИТЕЛИ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 rot="1597800">
            <a:off x="3123720" y="297180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">
            <a:off x="4952520" y="304776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224800">
            <a:off x="6857640" y="297144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487692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4952880"/>
            <a:ext cx="1574640" cy="1165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086600" y="4648320"/>
            <a:ext cx="1714680" cy="14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D1F-5A82-48CA-8A80-201BE95735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835200" cy="1460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738000" cy="1117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638680" y="2819520"/>
            <a:ext cx="984240" cy="1047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848720" y="3048120"/>
            <a:ext cx="663480" cy="812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886200" y="5486400"/>
            <a:ext cx="1905120" cy="62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572000" y="4800600"/>
            <a:ext cx="1447920" cy="590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rot="21399600">
            <a:off x="1619280" y="2491920"/>
            <a:ext cx="216000" cy="1146240"/>
          </a:xfrm>
          <a:prstGeom prst="downArrow">
            <a:avLst>
              <a:gd name="adj1" fmla="val 50000"/>
              <a:gd name="adj2" fmla="val 132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4329800">
            <a:off x="2895120" y="3200400"/>
            <a:ext cx="231840" cy="1146240"/>
          </a:xfrm>
          <a:prstGeom prst="downArrow">
            <a:avLst>
              <a:gd name="adj1" fmla="val 50000"/>
              <a:gd name="adj2" fmla="val 123602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4800">
            <a:off x="4952880" y="27410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324480" y="1143000"/>
            <a:ext cx="2159280" cy="550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55400">
            <a:off x="6804000" y="1557000"/>
            <a:ext cx="181080" cy="789120"/>
          </a:xfrm>
          <a:prstGeom prst="downArrow">
            <a:avLst>
              <a:gd name="adj1" fmla="val 61426"/>
              <a:gd name="adj2" fmla="val 7666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3691800">
            <a:off x="5366520" y="97632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9135000">
            <a:off x="4343040" y="396216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9210800">
            <a:off x="7010280" y="3733560"/>
            <a:ext cx="228600" cy="1676160"/>
          </a:xfrm>
          <a:prstGeom prst="downArrow">
            <a:avLst>
              <a:gd name="adj1" fmla="val 50000"/>
              <a:gd name="adj2" fmla="val 1833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21178200">
            <a:off x="8076960" y="3962160"/>
            <a:ext cx="237960" cy="1143000"/>
          </a:xfrm>
          <a:prstGeom prst="downArrow">
            <a:avLst>
              <a:gd name="adj1" fmla="val 50000"/>
              <a:gd name="adj2" fmla="val 12008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7979000">
            <a:off x="5994360" y="3014640"/>
            <a:ext cx="228600" cy="3200400"/>
          </a:xfrm>
          <a:prstGeom prst="downArrow">
            <a:avLst>
              <a:gd name="adj1" fmla="val 50000"/>
              <a:gd name="adj2" fmla="val 350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4251200">
            <a:off x="6743160" y="3695760"/>
            <a:ext cx="228600" cy="1676160"/>
          </a:xfrm>
          <a:prstGeom prst="downArrow">
            <a:avLst>
              <a:gd name="adj1" fmla="val 50000"/>
              <a:gd name="adj2" fmla="val 1833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3129200">
            <a:off x="5579280" y="393336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86600">
            <a:off x="6465600" y="5352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6710400">
            <a:off x="3063600" y="4911480"/>
            <a:ext cx="237960" cy="1371600"/>
          </a:xfrm>
          <a:prstGeom prst="downArrow">
            <a:avLst>
              <a:gd name="adj1" fmla="val 50000"/>
              <a:gd name="adj2" fmla="val 1441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257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ст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производител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220968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стительноядные (первичные потребител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21337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Хищ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вторичные потребител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1905120"/>
            <a:ext cx="16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Животные, питающиеся падаль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третичные потребители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55627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родукты выделения и остатки труп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4876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араз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6095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Бактер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разрушител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468360" y="1125360"/>
            <a:ext cx="1523880" cy="1159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95280" y="260280"/>
            <a:ext cx="8497800" cy="792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99ff99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ивые участники круговорота веществ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0FC-586E-48A2-981A-3A93642F6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332000" y="1125360"/>
            <a:ext cx="6048000" cy="5257440"/>
            <a:chOff x="1332000" y="1125360"/>
            <a:chExt cx="6048000" cy="5257440"/>
          </a:xfrm>
        </p:grpSpPr>
        <p:sp>
          <p:nvSpPr>
            <p:cNvPr id="101" name=""/>
            <p:cNvSpPr/>
            <p:nvPr/>
          </p:nvSpPr>
          <p:spPr>
            <a:xfrm>
              <a:off x="3968280" y="1125360"/>
              <a:ext cx="3411720" cy="3285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32000" y="1125360"/>
              <a:ext cx="3411720" cy="3285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82520" y="3097800"/>
              <a:ext cx="3412080" cy="3285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1920" y="2111400"/>
              <a:ext cx="1860840" cy="123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Атмосфер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53680" y="1864800"/>
              <a:ext cx="1706040" cy="9860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Литосфер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8320" y="4084200"/>
              <a:ext cx="1922040" cy="12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Гидросфер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84360" y="404640"/>
            <a:ext cx="799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асселить растения и животных в свою среду обит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BFD-B5F7-494F-BB43-86A6F90F71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4724280"/>
            <a:ext cx="266688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724280"/>
            <a:ext cx="266724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ЛИТ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24280"/>
            <a:ext cx="266688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10920" y="3500280"/>
            <a:ext cx="762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35002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350028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1773360"/>
            <a:ext cx="3097080" cy="167616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БИО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618-D8E7-4960-893C-9CF99F18359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620640"/>
            <a:ext cx="71294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РГАНИЧЕСКИЕ     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421000"/>
            <a:ext cx="71294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ИНЕРАЛЬН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437000"/>
            <a:ext cx="71294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660-865A-466C-885B-6D6DC8047F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тения –        часть прир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4437000"/>
            <a:ext cx="3200400" cy="762120"/>
          </a:xfrm>
          <a:prstGeom prst="leftArrowCallout">
            <a:avLst>
              <a:gd name="adj1" fmla="val 25002"/>
              <a:gd name="adj2" fmla="val 25000"/>
              <a:gd name="adj3" fmla="val 69989"/>
              <a:gd name="adj4" fmla="val 6667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в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924280"/>
            <a:ext cx="4191120" cy="1143000"/>
          </a:xfrm>
          <a:prstGeom prst="leftArrowCallout">
            <a:avLst>
              <a:gd name="adj1" fmla="val 25002"/>
              <a:gd name="adj2" fmla="val 25000"/>
              <a:gd name="adj3" fmla="val 61113"/>
              <a:gd name="adj4" fmla="val 6667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Минеральн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1628640"/>
            <a:ext cx="3276720" cy="838440"/>
          </a:xfrm>
          <a:prstGeom prst="leftArrowCallout">
            <a:avLst>
              <a:gd name="adj1" fmla="val 25002"/>
              <a:gd name="adj2" fmla="val 25000"/>
              <a:gd name="adj3" fmla="val 65135"/>
              <a:gd name="adj4" fmla="val 6667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ВОЗД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3C8-D844-41B3-8219-BD31B7300C4C}" type="slidenum">
              <a:t>5</a:t>
            </a:fld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РАСТЕНИЯ – КОРМИЛЬЦЫ                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        (ПРОИЗВОДИТЕЛИ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 rot="2384400">
            <a:off x="1905120" y="2361960"/>
            <a:ext cx="304560" cy="1295280"/>
          </a:xfrm>
          <a:prstGeom prst="downArrow">
            <a:avLst>
              <a:gd name="adj1" fmla="val 50000"/>
              <a:gd name="adj2" fmla="val 10632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2362320"/>
            <a:ext cx="304560" cy="1295280"/>
          </a:xfrm>
          <a:prstGeom prst="downArrow">
            <a:avLst>
              <a:gd name="adj1" fmla="val 50000"/>
              <a:gd name="adj2" fmla="val 10632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325000">
            <a:off x="7315200" y="2286000"/>
            <a:ext cx="304920" cy="1295280"/>
          </a:xfrm>
          <a:prstGeom prst="downArrow">
            <a:avLst>
              <a:gd name="adj1" fmla="val 50000"/>
              <a:gd name="adj2" fmla="val 10619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4200">
            <a:off x="4498920" y="2282040"/>
            <a:ext cx="762120" cy="8085240"/>
          </a:xfrm>
          <a:custGeom>
            <a:avLst/>
            <a:gdLst>
              <a:gd name="textAreaLeft" fmla="*/ 0 w 762120"/>
              <a:gd name="textAreaRight" fmla="*/ 275040 w 762120"/>
              <a:gd name="textAreaTop" fmla="*/ 210600 h 8085240"/>
              <a:gd name="textAreaBottom" fmla="*/ 7874640 h 808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19"/>
                </a:lnTo>
                <a:cubicBezTo>
                  <a:pt x="10800" y="9619"/>
                  <a:pt x="16200" y="10519"/>
                  <a:pt x="21600" y="10519"/>
                </a:cubicBezTo>
                <a:cubicBezTo>
                  <a:pt x="16200" y="10519"/>
                  <a:pt x="10800" y="11419"/>
                  <a:pt x="10800" y="1231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3832200"/>
            <a:ext cx="221004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4159080"/>
            <a:ext cx="2361960" cy="160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162920" y="4038480"/>
            <a:ext cx="1403280" cy="17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E09-3BD1-4403-925B-595862E6A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76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ЖИВОТНЫЕ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</a:rPr>
              <a:t>РАСТИТЕЛЬНОЯД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38520" y="3400560"/>
            <a:ext cx="66960" cy="56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824600">
            <a:off x="2285640" y="236232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243828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4382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494000">
            <a:off x="7238880" y="243792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2006640" cy="1444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124080" y="4267080"/>
            <a:ext cx="1879560" cy="1532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57800" y="44197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315200" y="4495680"/>
            <a:ext cx="182880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242-53B3-42B8-808A-9B46CF4C8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 Black"/>
              </a:rPr>
              <a:t>РАСТИТЕЛЬНОЯДНЫЕ ЖИВОТНЫЕ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Arial Black"/>
              </a:rPr>
              <a:t>ПИТАЮТС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21120" y="4532400"/>
            <a:ext cx="295416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ВОЗДУХ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958000">
            <a:off x="1868040" y="303516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068640"/>
            <a:ext cx="304920" cy="1308240"/>
          </a:xfrm>
          <a:prstGeom prst="downArrow">
            <a:avLst>
              <a:gd name="adj1" fmla="val 50000"/>
              <a:gd name="adj2" fmla="val 10726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677600">
            <a:off x="6732360" y="28522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4437000"/>
            <a:ext cx="347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ТЕНИЯМ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437000"/>
            <a:ext cx="23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ВОДО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C3B-7997-4DE6-B941-A2F7271C9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64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РАСТИТЕЛЬНОЯДНЫЕ ЖИВОТНЫЕ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 СЛУЖАТ ПИЩЕЙ ДЛЯ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ЖИВОТНЫХ ХИЩНИКОВ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 rot="1597800">
            <a:off x="2050560" y="299736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540160" cy="69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059280" y="4869000"/>
            <a:ext cx="2539800" cy="105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1795320" cy="2006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7086600" y="4267080"/>
            <a:ext cx="1828800" cy="1335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rot="25200">
            <a:off x="4356000" y="321300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365400">
            <a:off x="5867280" y="285264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17200">
            <a:off x="7740360" y="292392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0E5-AAA5-4937-A27A-4C676C8AC5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4:23:56Z</dcterms:created>
  <dc:creator>777</dc:creator>
  <dc:description/>
  <dc:language>en-US</dc:language>
  <cp:lastModifiedBy>Лена</cp:lastModifiedBy>
  <dcterms:modified xsi:type="dcterms:W3CDTF">2012-09-21T18:05:18Z</dcterms:modified>
  <cp:revision>13</cp:revision>
  <dc:subject/>
  <dc:title>Слайд 1</dc:title>
</cp:coreProperties>
</file>