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2B9-8D51-4917-897C-6BF43C2E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95B-DFCB-4AFC-8C17-61BDA8E2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9B6-EB06-4708-81F7-EEDD3150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D7F-4AEB-4B72-BF1B-9BD534B9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8FD0-F8E6-4EE1-8294-526F5A1E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21BE-BD8D-4073-BCD8-74B1CCCC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8BEA-A5A5-477C-9E0E-F0F79BF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1353-56AF-4341-B070-EE79E01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77F5-B63A-4781-891D-5B7A4E6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CE41-691A-4F9E-94F3-4CF2C84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A85B-A70F-4565-92A8-F0E9DC7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D61-B0E3-4EB6-B89E-BCE2A49D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3DBB-2401-47E8-9CBD-C05D747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45D5-D900-46BD-8A86-28126957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38A7-3F2E-462F-A0E8-49052DF4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59A-5023-4B6C-985B-18B26D7E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E670-E962-466B-ABCF-7A430AE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0E0-EDC8-421B-8F8F-ACB6B774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D2B-B3A3-4257-9481-3B83D830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989-8A69-484F-B4AD-28B071B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FB6-2A30-4746-AEEC-DD14EE3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7AA-1007-4FD1-80A6-8A5CAD2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530-5A7E-4F18-B231-F0C0865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C41-EFD2-4B98-8EBE-8EA96D6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B66-81D8-4F46-BF54-64E28B855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DBE-BB35-42D4-BA3C-1568D0194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7600" y="167292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Живые участники</a:t>
            </a:r>
            <a:br>
              <a:rPr sz="4800"/>
            </a:b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круговорота веществ в природ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55616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1340-E89F-4333-8235-A62BE6A4F2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620640"/>
            <a:ext cx="770400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ЕДОКИ - ПОТРЕБИТЕ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429000"/>
            <a:ext cx="309564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ТРАВОЯ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4292640"/>
            <a:ext cx="31687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ЛОТОЯД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429000"/>
            <a:ext cx="266400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ХИЩ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590200">
            <a:off x="2246040" y="1604520"/>
            <a:ext cx="144360" cy="1871640"/>
          </a:xfrm>
          <a:prstGeom prst="downArrow">
            <a:avLst>
              <a:gd name="adj1" fmla="val 50000"/>
              <a:gd name="adj2" fmla="val 32412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1844640"/>
            <a:ext cx="144360" cy="2305080"/>
          </a:xfrm>
          <a:prstGeom prst="downArrow">
            <a:avLst>
              <a:gd name="adj1" fmla="val 50000"/>
              <a:gd name="adj2" fmla="val 39919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057800">
            <a:off x="6149520" y="1614240"/>
            <a:ext cx="176400" cy="1871640"/>
          </a:xfrm>
          <a:prstGeom prst="downArrow">
            <a:avLst>
              <a:gd name="adj1" fmla="val 50000"/>
              <a:gd name="adj2" fmla="val 265255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4D6-1391-49A0-9B56-F996E2F36609}" type="slidenum">
              <a:t>10</a:t>
            </a:fld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ЕДОКИ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(ПОТРЕБИТЕЛИ)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трав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 rot="1597800">
            <a:off x="2437920" y="274320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1016280" cy="974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438280" y="5105520"/>
            <a:ext cx="1219320" cy="1030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81680" y="4800600"/>
            <a:ext cx="1617840" cy="1465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962520" y="5105520"/>
            <a:ext cx="1295280" cy="1055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924680" y="4191120"/>
            <a:ext cx="1016280" cy="660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562720" y="5105520"/>
            <a:ext cx="1015920" cy="923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772200">
            <a:off x="3504960" y="320040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70400">
            <a:off x="4723920" y="33526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1264600">
            <a:off x="5867280" y="320004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605800">
            <a:off x="6705360" y="31240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501800">
            <a:off x="7620120" y="26668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C80-B08B-46F8-84DE-EF70A7AF3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ПЛОТ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1981080" cy="1416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2540160" cy="1498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082960" cy="1260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1597800">
            <a:off x="2819520" y="2438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1575400">
            <a:off x="4876920" y="251424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240400">
            <a:off x="678132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B79-F080-417F-A5E9-38D9339A50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ХИЩ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 rot="1597800">
            <a:off x="3276360" y="236232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5000">
            <a:off x="472392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148400">
            <a:off x="6477120" y="228564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886200"/>
            <a:ext cx="156852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1752480" cy="1393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460520" cy="16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7E9-B1BE-437B-9281-A99FF3265A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А 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ЧЕЛОВЕК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886200" cy="36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336-74E2-454D-B150-A14EDA8B0161}" type="slidenum">
              <a:t>14</a:t>
            </a:fld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475920"/>
            <a:ext cx="7772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МУСОРЩИКИ (РАЗРУШИТЕЛИ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 rot="1597800">
            <a:off x="3123720" y="297180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">
            <a:off x="4952520" y="304776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224800">
            <a:off x="6857640" y="297144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81080" y="48769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0" y="4952880"/>
            <a:ext cx="1574640" cy="1165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086600" y="4648320"/>
            <a:ext cx="1714680" cy="14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040-AD8C-425D-BBD7-96DD4F7535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9ff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835200" cy="1460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738000" cy="1117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638680" y="2819520"/>
            <a:ext cx="984240" cy="1047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848720" y="3048120"/>
            <a:ext cx="663480" cy="812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886200" y="5486400"/>
            <a:ext cx="1905120" cy="628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572000" y="4800600"/>
            <a:ext cx="1447920" cy="590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rot="21399600">
            <a:off x="1619280" y="2491920"/>
            <a:ext cx="216000" cy="1146240"/>
          </a:xfrm>
          <a:prstGeom prst="downArrow">
            <a:avLst>
              <a:gd name="adj1" fmla="val 50000"/>
              <a:gd name="adj2" fmla="val 132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4329800">
            <a:off x="2895120" y="3200400"/>
            <a:ext cx="231840" cy="1146240"/>
          </a:xfrm>
          <a:prstGeom prst="downArrow">
            <a:avLst>
              <a:gd name="adj1" fmla="val 50000"/>
              <a:gd name="adj2" fmla="val 123602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4800">
            <a:off x="4952880" y="27410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324480" y="1143000"/>
            <a:ext cx="2159280" cy="550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55400">
            <a:off x="6804000" y="1557000"/>
            <a:ext cx="181080" cy="789120"/>
          </a:xfrm>
          <a:prstGeom prst="downArrow">
            <a:avLst>
              <a:gd name="adj1" fmla="val 61426"/>
              <a:gd name="adj2" fmla="val 7666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3691800">
            <a:off x="5366520" y="97632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9135000">
            <a:off x="4343040" y="396216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9210800">
            <a:off x="7010280" y="3733560"/>
            <a:ext cx="228600" cy="1676160"/>
          </a:xfrm>
          <a:prstGeom prst="downArrow">
            <a:avLst>
              <a:gd name="adj1" fmla="val 50000"/>
              <a:gd name="adj2" fmla="val 183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1178200">
            <a:off x="8076960" y="3962160"/>
            <a:ext cx="237960" cy="1143000"/>
          </a:xfrm>
          <a:prstGeom prst="downArrow">
            <a:avLst>
              <a:gd name="adj1" fmla="val 50000"/>
              <a:gd name="adj2" fmla="val 12008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7979000">
            <a:off x="5994360" y="3014640"/>
            <a:ext cx="228600" cy="3200400"/>
          </a:xfrm>
          <a:prstGeom prst="downArrow">
            <a:avLst>
              <a:gd name="adj1" fmla="val 50000"/>
              <a:gd name="adj2" fmla="val 350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4251200">
            <a:off x="6743160" y="3695760"/>
            <a:ext cx="228600" cy="1676160"/>
          </a:xfrm>
          <a:prstGeom prst="downArrow">
            <a:avLst>
              <a:gd name="adj1" fmla="val 50000"/>
              <a:gd name="adj2" fmla="val 18330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3129200">
            <a:off x="5579280" y="393336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86600">
            <a:off x="6465600" y="5352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6710400">
            <a:off x="3063600" y="4911480"/>
            <a:ext cx="237960" cy="1371600"/>
          </a:xfrm>
          <a:prstGeom prst="downArrow">
            <a:avLst>
              <a:gd name="adj1" fmla="val 50000"/>
              <a:gd name="adj2" fmla="val 1441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257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ст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производ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220968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стительноядные (первичные потребител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2133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Хищ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вторичные потреб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190512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Животные, питающиеся падал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третичные потребители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55627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родукты выделения и остатки труп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76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араз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6095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акте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разрушители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468360" y="1125360"/>
            <a:ext cx="1523880" cy="1159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95280" y="260280"/>
            <a:ext cx="849780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99ff99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ивые участники круговорота веществ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39E-661A-462A-AA3B-8C7F3AF11C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332000" y="1125360"/>
            <a:ext cx="6048000" cy="5257440"/>
            <a:chOff x="1332000" y="1125360"/>
            <a:chExt cx="6048000" cy="5257440"/>
          </a:xfrm>
        </p:grpSpPr>
        <p:sp>
          <p:nvSpPr>
            <p:cNvPr id="101" name=""/>
            <p:cNvSpPr/>
            <p:nvPr/>
          </p:nvSpPr>
          <p:spPr>
            <a:xfrm>
              <a:off x="3968280" y="1125360"/>
              <a:ext cx="3411720" cy="3285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32000" y="1125360"/>
              <a:ext cx="3411720" cy="3285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82520" y="3097800"/>
              <a:ext cx="3412080" cy="3285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1920" y="2111400"/>
              <a:ext cx="1860840" cy="123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Атм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53680" y="1864800"/>
              <a:ext cx="1706040" cy="9860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Лит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8320" y="4084200"/>
              <a:ext cx="1922040" cy="12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Гидросфер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4360" y="404640"/>
            <a:ext cx="799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сселить растения и животных в свою среду обит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C77-9BF2-4BC0-8FB1-40591C34E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4724280"/>
            <a:ext cx="266688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724280"/>
            <a:ext cx="266724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ЛИТ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266688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10920" y="3500280"/>
            <a:ext cx="762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35002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350028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1773360"/>
            <a:ext cx="3097080" cy="16761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C7C-AC1D-4836-B828-1B1BA71024E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62064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РГАНИЧЕСКИЕ     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42100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ИНЕРАЛЬН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437000"/>
            <a:ext cx="7129440" cy="1081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ABF-4899-43AD-92D2-63E812944D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тения –        часть прир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4437000"/>
            <a:ext cx="3200400" cy="762120"/>
          </a:xfrm>
          <a:prstGeom prst="leftArrowCallout">
            <a:avLst>
              <a:gd name="adj1" fmla="val 25002"/>
              <a:gd name="adj2" fmla="val 25000"/>
              <a:gd name="adj3" fmla="val 69989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924280"/>
            <a:ext cx="4191120" cy="1143000"/>
          </a:xfrm>
          <a:prstGeom prst="leftArrowCallout">
            <a:avLst>
              <a:gd name="adj1" fmla="val 25002"/>
              <a:gd name="adj2" fmla="val 25000"/>
              <a:gd name="adj3" fmla="val 61113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Минеральн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1628640"/>
            <a:ext cx="3276720" cy="838440"/>
          </a:xfrm>
          <a:prstGeom prst="leftArrowCallout">
            <a:avLst>
              <a:gd name="adj1" fmla="val 25002"/>
              <a:gd name="adj2" fmla="val 25000"/>
              <a:gd name="adj3" fmla="val 65135"/>
              <a:gd name="adj4" fmla="val 66673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ВОЗД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1FD-3929-464C-AD31-F257A069C776}" type="slidenum">
              <a:t>5</a:t>
            </a:fld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РАСТЕНИЯ – КОРМИЛЬЦЫ                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 Black"/>
              </a:rPr>
              <a:t>        (ПРОИЗВОДИТЕЛИ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 rot="2384400">
            <a:off x="1905120" y="2361960"/>
            <a:ext cx="304560" cy="1295280"/>
          </a:xfrm>
          <a:prstGeom prst="downArrow">
            <a:avLst>
              <a:gd name="adj1" fmla="val 50000"/>
              <a:gd name="adj2" fmla="val 10632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362320"/>
            <a:ext cx="304560" cy="1295280"/>
          </a:xfrm>
          <a:prstGeom prst="downArrow">
            <a:avLst>
              <a:gd name="adj1" fmla="val 50000"/>
              <a:gd name="adj2" fmla="val 10632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325000">
            <a:off x="7315200" y="22860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4200">
            <a:off x="4498920" y="2282040"/>
            <a:ext cx="762120" cy="8085240"/>
          </a:xfrm>
          <a:custGeom>
            <a:avLst/>
            <a:gdLst>
              <a:gd name="textAreaLeft" fmla="*/ 0 w 762120"/>
              <a:gd name="textAreaRight" fmla="*/ 275040 w 762120"/>
              <a:gd name="textAreaTop" fmla="*/ 210600 h 8085240"/>
              <a:gd name="textAreaBottom" fmla="*/ 7874640 h 808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19"/>
                </a:lnTo>
                <a:cubicBezTo>
                  <a:pt x="10800" y="9619"/>
                  <a:pt x="16200" y="10519"/>
                  <a:pt x="21600" y="10519"/>
                </a:cubicBezTo>
                <a:cubicBezTo>
                  <a:pt x="16200" y="10519"/>
                  <a:pt x="10800" y="11419"/>
                  <a:pt x="10800" y="1231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3832200"/>
            <a:ext cx="221004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4159080"/>
            <a:ext cx="2361960" cy="160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162920" y="4038480"/>
            <a:ext cx="1403280" cy="17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ED9-C3CF-438E-B3CA-B7E9EE97A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76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ЖИВОТНЫЕ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РАСТИТЕЛЬНОЯДНЫ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38520" y="3400560"/>
            <a:ext cx="66960" cy="56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1824600">
            <a:off x="2285640" y="236232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43828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438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494000">
            <a:off x="7238880" y="243792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2006640" cy="1444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124080" y="4267080"/>
            <a:ext cx="1879560" cy="1532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57800" y="44197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315200" y="4495680"/>
            <a:ext cx="182880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6D8-2579-4CD1-A7E5-28E471F93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РАСТИТЕЛЬНОЯДНЫЕ ЖИВОТНЫЕ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Arial Black"/>
              </a:rPr>
              <a:t>ПИТАЮТС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21120" y="4532400"/>
            <a:ext cx="295416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ВОЗДУХ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958000">
            <a:off x="1868040" y="303516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068640"/>
            <a:ext cx="304920" cy="1308240"/>
          </a:xfrm>
          <a:prstGeom prst="downArrow">
            <a:avLst>
              <a:gd name="adj1" fmla="val 50000"/>
              <a:gd name="adj2" fmla="val 10726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677600">
            <a:off x="6732360" y="2852280"/>
            <a:ext cx="304560" cy="152424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4437000"/>
            <a:ext cx="347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ТЕНИЯМ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437000"/>
            <a:ext cx="23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ВОДО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269-4C6B-4CA8-AF3A-D5FA5875E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64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РАСТИТЕЛЬНОЯДНЫЕ ЖИВОТНЫЕ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 СЛУЖАТ ПИЩЕЙ ДЛЯ 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ЖИВОТНЫХ ХИЩНИКОВ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 rot="1597800">
            <a:off x="2050560" y="2997360"/>
            <a:ext cx="304920" cy="1523880"/>
          </a:xfrm>
          <a:prstGeom prst="downArrow">
            <a:avLst>
              <a:gd name="adj1" fmla="val 50000"/>
              <a:gd name="adj2" fmla="val 12494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540160" cy="69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59280" y="4869000"/>
            <a:ext cx="2539800" cy="105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1795320" cy="200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086600" y="4267080"/>
            <a:ext cx="1828800" cy="1335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25200">
            <a:off x="4356000" y="321300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365400">
            <a:off x="5867280" y="2852640"/>
            <a:ext cx="304920" cy="1524240"/>
          </a:xfrm>
          <a:prstGeom prst="downArrow">
            <a:avLst>
              <a:gd name="adj1" fmla="val 50000"/>
              <a:gd name="adj2" fmla="val 12497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17200">
            <a:off x="7740360" y="2923920"/>
            <a:ext cx="304560" cy="1523880"/>
          </a:xfrm>
          <a:prstGeom prst="downArrow">
            <a:avLst>
              <a:gd name="adj1" fmla="val 50000"/>
              <a:gd name="adj2" fmla="val 12508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B30-A64D-4D3D-9222-531DF3C2B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4:23:56Z</dcterms:created>
  <dc:creator>777</dc:creator>
  <dc:description/>
  <dc:language>en-US</dc:language>
  <cp:lastModifiedBy>Лена</cp:lastModifiedBy>
  <dcterms:modified xsi:type="dcterms:W3CDTF">2012-09-21T18:05:18Z</dcterms:modified>
  <cp:revision>13</cp:revision>
  <dc:subject/>
  <dc:title>Слайд 1</dc:title>
</cp:coreProperties>
</file>