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7.jpeg" ContentType="image/jpeg"/>
  <Override PartName="/ppt/media/image13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691813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665-E335-4F18-8CC1-0F339A28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80E-05DA-4AD8-B75D-F992DE6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C3C-2D8C-4469-A9B4-7007F4A9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84F-DD1C-4B6A-B8B9-B7F90C9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CDE-CFD8-4224-98AA-74464BB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761-0D42-49BB-93F3-54672C7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AE4-28A3-4C93-ABA2-204511F4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772-C54C-4FC1-84A5-735C33F6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6AE-ABD8-4A46-8E33-D5F61E06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93F-7064-465F-BC04-A5EF669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4B1-E5FF-44EC-B0F1-A38B3E4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6A8-C0DE-43DC-B21E-7E0709FA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D86A-225A-48F8-9973-87985A7E1DF4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0" y="3552840"/>
            <a:ext cx="1045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sylbekM21Cooper.kz"/>
              </a:rPr>
              <a:t>ПУТЕШЕСТВИЕ</a:t>
            </a:r>
            <a:endParaRPr b="1" lang="en-US" sz="21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sylbekM21Cooper.kz"/>
              <a:ea typeface="AsylbekM21Cooper.kz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sylbekM21Cooper.kz"/>
              </a:rPr>
              <a:t> </a:t>
            </a:r>
            <a:r>
              <a:rPr b="1" lang="en-US" sz="21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sylbekM21Cooper.kz"/>
              </a:rPr>
              <a:t>В ИЗУМРУДНЫЙ ГОРОД</a:t>
            </a:r>
            <a:endParaRPr b="1" lang="en-US" sz="21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sylbekM21Cooper.kz"/>
              <a:ea typeface="AsylbekM21Cooper.kz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851040" y="103824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- ВИКТОРИНА</a:t>
            </a:r>
            <a:endParaRPr b="1" lang="en-US" sz="21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5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26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27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1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6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2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3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4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5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6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7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WordArt 48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23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24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7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4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2" name="WordArt 45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3" name="WordArt 46"/>
          <p:cNvSpPr txBox="1"/>
          <p:nvPr/>
        </p:nvSpPr>
        <p:spPr>
          <a:xfrm>
            <a:off x="393840" y="1266840"/>
            <a:ext cx="1714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отош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4" name="WordArt 47"/>
          <p:cNvSpPr txBox="1"/>
          <p:nvPr/>
        </p:nvSpPr>
        <p:spPr>
          <a:xfrm>
            <a:off x="469800" y="423864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рашил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WordArt 48"/>
          <p:cNvSpPr txBox="1"/>
          <p:nvPr/>
        </p:nvSpPr>
        <p:spPr>
          <a:xfrm>
            <a:off x="7937640" y="4314960"/>
            <a:ext cx="1714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ев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6" name="WordArt 49"/>
          <p:cNvSpPr txBox="1"/>
          <p:nvPr/>
        </p:nvSpPr>
        <p:spPr>
          <a:xfrm>
            <a:off x="3898800" y="423864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овосек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7" name="WordArt 50"/>
          <p:cNvSpPr txBox="1"/>
          <p:nvPr/>
        </p:nvSpPr>
        <p:spPr>
          <a:xfrm>
            <a:off x="7480440" y="195264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пасть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ой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WordArt 51"/>
          <p:cNvSpPr txBox="1"/>
          <p:nvPr/>
        </p:nvSpPr>
        <p:spPr>
          <a:xfrm>
            <a:off x="469800" y="5838840"/>
            <a:ext cx="2438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лучить 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зг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9" name="WordArt 52"/>
          <p:cNvSpPr txBox="1"/>
          <p:nvPr/>
        </p:nvSpPr>
        <p:spPr>
          <a:xfrm>
            <a:off x="3975120" y="591516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лучить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рдце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WordArt 53"/>
          <p:cNvSpPr txBox="1"/>
          <p:nvPr/>
        </p:nvSpPr>
        <p:spPr>
          <a:xfrm>
            <a:off x="7709040" y="591516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ть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рабрым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03320" y="58104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ЗГОВОЙ ШТУРМ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2" name="Picture 5" descr="stock-vector-schoolboy-with-homework-23006326"/>
          <p:cNvPicPr/>
          <p:nvPr/>
        </p:nvPicPr>
        <p:blipFill>
          <a:blip r:embed="rId1"/>
          <a:srcRect l="0" t="0" r="0" b="3644"/>
          <a:stretch/>
        </p:blipFill>
        <p:spPr>
          <a:xfrm>
            <a:off x="2527200" y="2562120"/>
            <a:ext cx="5257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003320" y="58104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ЗМИНУТ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Picture 5" descr="excrheadstand1"/>
          <p:cNvPicPr/>
          <p:nvPr/>
        </p:nvPicPr>
        <p:blipFill>
          <a:blip r:embed="rId1"/>
          <a:stretch/>
        </p:blipFill>
        <p:spPr>
          <a:xfrm>
            <a:off x="3365640" y="2181240"/>
            <a:ext cx="31525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003320" y="58104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гадай, кто это?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Picture 5" descr="32049-48267-thickbox"/>
          <p:cNvPicPr/>
          <p:nvPr/>
        </p:nvPicPr>
        <p:blipFill>
          <a:blip r:embed="rId1"/>
          <a:srcRect l="0" t="0" r="0" b="26671"/>
          <a:stretch/>
        </p:blipFill>
        <p:spPr>
          <a:xfrm>
            <a:off x="2451240" y="2409840"/>
            <a:ext cx="5715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ost-1259959008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2374920" y="20016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ОССВОРД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3840" y="11127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А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q52"/>
          <p:cNvPicPr/>
          <p:nvPr/>
        </p:nvPicPr>
        <p:blipFill>
          <a:blip r:embed="rId1"/>
          <a:stretch/>
        </p:blipFill>
        <p:spPr>
          <a:xfrm>
            <a:off x="698400" y="4238640"/>
            <a:ext cx="2551320" cy="312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q53"/>
          <p:cNvPicPr/>
          <p:nvPr/>
        </p:nvPicPr>
        <p:blipFill>
          <a:blip r:embed="rId2"/>
          <a:stretch/>
        </p:blipFill>
        <p:spPr>
          <a:xfrm>
            <a:off x="7023240" y="4238640"/>
            <a:ext cx="2774880" cy="306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q54"/>
          <p:cNvPicPr/>
          <p:nvPr/>
        </p:nvPicPr>
        <p:blipFill>
          <a:blip r:embed="rId3"/>
          <a:stretch/>
        </p:blipFill>
        <p:spPr>
          <a:xfrm>
            <a:off x="393840" y="504720"/>
            <a:ext cx="2361960" cy="367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7" descr="1_0-1"/>
          <p:cNvPicPr/>
          <p:nvPr/>
        </p:nvPicPr>
        <p:blipFill>
          <a:blip r:embed="rId4"/>
          <a:srcRect l="0" t="0" r="56801" b="0"/>
          <a:stretch/>
        </p:blipFill>
        <p:spPr>
          <a:xfrm>
            <a:off x="3594240" y="157176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9" descr="1_0-1"/>
          <p:cNvPicPr/>
          <p:nvPr/>
        </p:nvPicPr>
        <p:blipFill>
          <a:blip r:embed="rId5"/>
          <a:srcRect l="67202" t="39396" r="0" b="0"/>
          <a:stretch/>
        </p:blipFill>
        <p:spPr>
          <a:xfrm>
            <a:off x="6946920" y="134316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01"/>
          <p:cNvSpPr txBox="1"/>
          <p:nvPr/>
        </p:nvSpPr>
        <p:spPr>
          <a:xfrm>
            <a:off x="2374920" y="20016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ЗАИ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Рисунок11"/>
          <p:cNvPicPr/>
          <p:nvPr/>
        </p:nvPicPr>
        <p:blipFill>
          <a:blip r:embed="rId1"/>
          <a:stretch/>
        </p:blipFill>
        <p:spPr>
          <a:xfrm>
            <a:off x="2603520" y="581040"/>
            <a:ext cx="4800600" cy="60958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423720" y="1653120"/>
            <a:ext cx="10269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Сегодня на уроке у нас была викторина по сказк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___________________________________________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автором, которой является _________________________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Сказка нас учит _____________________________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____________________________________________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Главные герои этой сказки ________________________________________________.</a:t>
            </a:r>
            <a:r>
              <a:rPr b="0" lang="ru-RU" sz="29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2527200" y="42876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ФЛЕКСИ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276120"/>
            <a:ext cx="10693440" cy="67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6100" spc="-1" strike="noStrike" u="sng">
                <a:solidFill>
                  <a:srgbClr val="ffffff"/>
                </a:solidFill>
                <a:uFillTx/>
                <a:latin typeface="Arial"/>
              </a:rPr>
              <a:t>Цели и задачи:</a:t>
            </a:r>
            <a:r>
              <a:rPr b="1" lang="ru-RU" sz="6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Закрепить и расширить знания о произведении А. М. Волкова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2. Развивать умения давать характеристику героев произведения, учить краткому пересказу, развивать память, внимание, мышление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3. Воспитывать чувство товарищества, душевные качества: доброту, взаимовыручку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Рисунок28"/>
          <p:cNvPicPr/>
          <p:nvPr/>
        </p:nvPicPr>
        <p:blipFill>
          <a:blip r:embed="rId1"/>
          <a:stretch/>
        </p:blipFill>
        <p:spPr>
          <a:xfrm>
            <a:off x="46980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6"/>
          <p:cNvSpPr txBox="1"/>
          <p:nvPr/>
        </p:nvSpPr>
        <p:spPr>
          <a:xfrm>
            <a:off x="1155600" y="1190520"/>
            <a:ext cx="845820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50760">
                  <a:solidFill>
                    <a:srgbClr val="0000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sylbekM21Cooper.kz"/>
              </a:rPr>
              <a:t>СПАСИБО </a:t>
            </a:r>
            <a:endParaRPr b="1" lang="en-US" sz="2100" spc="1" strike="noStrike">
              <a:ln w="50760">
                <a:solidFill>
                  <a:srgbClr val="000066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sylbekM21Cooper.kz"/>
              <a:ea typeface="AsylbekM21Cooper.kz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50760">
                  <a:solidFill>
                    <a:srgbClr val="0000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sylbekM21Cooper.kz"/>
              </a:rPr>
              <a:t>ЗА ВНИМАНИЕ!</a:t>
            </a:r>
            <a:endParaRPr b="1" lang="en-US" sz="2100" spc="1" strike="noStrike">
              <a:ln w="50760">
                <a:solidFill>
                  <a:srgbClr val="000066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sylbekM21Cooper.kz"/>
              <a:ea typeface="AsylbekM21Cooper.k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774720" y="1876320"/>
            <a:ext cx="94489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sylbekM06Jikharev.kz"/>
              </a:rPr>
              <a:t>« </a:t>
            </a:r>
            <a:r>
              <a:rPr b="0" lang="ru-RU" sz="4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воей сказке я старался показать, что самое лучшее, самое дорогое на свете - это дружба и взаимная выручка.»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4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. Волков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462120" y="352440"/>
            <a:ext cx="37940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6100" spc="-1" strike="noStrike" u="sng">
                <a:solidFill>
                  <a:srgbClr val="ffffff"/>
                </a:solidFill>
                <a:uFillTx/>
                <a:latin typeface="Arial"/>
              </a:rPr>
              <a:t>Эпиграф 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4"/>
          <p:cNvPicPr/>
          <p:nvPr/>
        </p:nvPicPr>
        <p:blipFill>
          <a:blip r:embed="rId1"/>
          <a:stretch/>
        </p:blipFill>
        <p:spPr>
          <a:xfrm>
            <a:off x="3670200" y="276120"/>
            <a:ext cx="3516480" cy="4491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7" name="WordArt 5"/>
          <p:cNvSpPr txBox="1"/>
          <p:nvPr/>
        </p:nvSpPr>
        <p:spPr>
          <a:xfrm>
            <a:off x="927000" y="5000760"/>
            <a:ext cx="8991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ков 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ександр Мелентьевич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594240" y="6905520"/>
            <a:ext cx="3504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891 - 1977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_0-1"/>
          <p:cNvPicPr/>
          <p:nvPr/>
        </p:nvPicPr>
        <p:blipFill>
          <a:blip r:embed="rId1"/>
          <a:stretch/>
        </p:blipFill>
        <p:spPr>
          <a:xfrm>
            <a:off x="393840" y="504720"/>
            <a:ext cx="95248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1841400" y="568656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лли и Тотош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231920" y="88596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ГАДАЙ ЗАГАДК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2679840" y="2333520"/>
            <a:ext cx="46479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16080" y="429120"/>
            <a:ext cx="56214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Он на палочке вис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Из соломы состо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Кто же это отгадайте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Быстро руки поднимай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Рисунок1"/>
          <p:cNvPicPr/>
          <p:nvPr/>
        </p:nvPicPr>
        <p:blipFill>
          <a:blip r:embed="rId1"/>
          <a:stretch/>
        </p:blipFill>
        <p:spPr>
          <a:xfrm>
            <a:off x="3746520" y="2867040"/>
            <a:ext cx="62784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505080"/>
            <a:ext cx="6378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Раньше жил в лесу дремуче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Ноги скрючив, руки скрючи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Весь от ржавчины больн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Отгадайте кто такой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Рисунок2"/>
          <p:cNvPicPr/>
          <p:nvPr/>
        </p:nvPicPr>
        <p:blipFill>
          <a:blip r:embed="rId1"/>
          <a:stretch/>
        </p:blipFill>
        <p:spPr>
          <a:xfrm>
            <a:off x="6718320" y="2028960"/>
            <a:ext cx="3438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39760" y="276480"/>
            <a:ext cx="5473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Как осенний лист дрож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Очень жизнью дорож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Будет скоро он гер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Догадайся кто такой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нок3"/>
          <p:cNvPicPr/>
          <p:nvPr/>
        </p:nvPicPr>
        <p:blipFill>
          <a:blip r:embed="rId1"/>
          <a:stretch/>
        </p:blipFill>
        <p:spPr>
          <a:xfrm>
            <a:off x="3517920" y="3171960"/>
            <a:ext cx="6881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ляковы</cp:lastModifiedBy>
  <dcterms:modified xsi:type="dcterms:W3CDTF">2012-09-22T11:44:1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