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7.jpeg" ContentType="image/jpeg"/>
  <Override PartName="/ppt/media/image13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691813" cy="7559675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F99-A6DC-4459-A9AE-05BF7A18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2F0-739E-40CF-B374-226BD552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BB1-E495-4F8F-B0EF-4BA19669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DB1-F080-4795-ACA5-B8DACB05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E9A-553B-4544-AB21-2B433F45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780-1C77-4616-BFBE-EB1F4BFB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89B-ED9A-4593-8F41-026129C6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132-33E2-46A5-8DC3-7BE3263A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1C4-3ECA-4356-A289-DC7BC777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E5E5-7C1E-4578-B7DC-BCFDCC86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59C-0152-4C08-BF15-D0F6B21B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215-936F-4671-97F4-D751A3C4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2556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EDC7-0116-4E65-812A-D1F3F0B67968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0" y="3552840"/>
            <a:ext cx="104522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sylbekM21Cooper.kz"/>
              </a:rPr>
              <a:t>ПУТЕШЕСТВИЕ</a:t>
            </a:r>
            <a:endParaRPr b="1" lang="en-US" sz="21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sylbekM21Cooper.kz"/>
              <a:ea typeface="AsylbekM21Cooper.kz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sylbekM21Cooper.kz"/>
              </a:rPr>
              <a:t> </a:t>
            </a:r>
            <a:r>
              <a:rPr b="1" lang="en-US" sz="21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sylbekM21Cooper.kz"/>
              </a:rPr>
              <a:t>В ИЗУМРУДНЫЙ ГОРОД</a:t>
            </a:r>
            <a:endParaRPr b="1" lang="en-US" sz="21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sylbekM21Cooper.kz"/>
              <a:ea typeface="AsylbekM21Cooper.kz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851040" y="1038240"/>
            <a:ext cx="8915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 - ВИКТОРИНА</a:t>
            </a:r>
            <a:endParaRPr b="1" lang="en-US" sz="21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5"/>
          <p:cNvSpPr/>
          <p:nvPr/>
        </p:nvSpPr>
        <p:spPr>
          <a:xfrm>
            <a:off x="2984400" y="200160"/>
            <a:ext cx="4343400" cy="99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241200" y="4010040"/>
            <a:ext cx="289584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670200" y="4010040"/>
            <a:ext cx="289584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7404120" y="4010040"/>
            <a:ext cx="289548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241200" y="5533920"/>
            <a:ext cx="289584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3670200" y="5533920"/>
            <a:ext cx="289584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"/>
          <p:cNvSpPr/>
          <p:nvPr/>
        </p:nvSpPr>
        <p:spPr>
          <a:xfrm>
            <a:off x="7404120" y="5533920"/>
            <a:ext cx="2895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2755800" y="1800360"/>
            <a:ext cx="2895840" cy="990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7251840" y="1495440"/>
            <a:ext cx="2895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>
            <a:off x="3288960" y="1190520"/>
            <a:ext cx="76212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 flipH="1">
            <a:off x="1688760" y="2867040"/>
            <a:ext cx="1676520" cy="9907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4127400" y="2867040"/>
            <a:ext cx="762120" cy="10666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4965840" y="2867040"/>
            <a:ext cx="3657600" cy="10666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0"/>
          <p:cNvSpPr/>
          <p:nvPr/>
        </p:nvSpPr>
        <p:spPr>
          <a:xfrm>
            <a:off x="1612800" y="500076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1"/>
          <p:cNvSpPr/>
          <p:nvPr/>
        </p:nvSpPr>
        <p:spPr>
          <a:xfrm>
            <a:off x="5118120" y="507672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>
            <a:off x="8852040" y="507672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5727600" y="2257560"/>
            <a:ext cx="14479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4"/>
          <p:cNvSpPr/>
          <p:nvPr/>
        </p:nvSpPr>
        <p:spPr>
          <a:xfrm>
            <a:off x="165240" y="961920"/>
            <a:ext cx="222228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5"/>
          <p:cNvSpPr/>
          <p:nvPr/>
        </p:nvSpPr>
        <p:spPr>
          <a:xfrm flipH="1" flipV="1">
            <a:off x="2146320" y="2028960"/>
            <a:ext cx="533520" cy="3045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26"/>
          <p:cNvSpPr txBox="1"/>
          <p:nvPr/>
        </p:nvSpPr>
        <p:spPr>
          <a:xfrm>
            <a:off x="3975120" y="352440"/>
            <a:ext cx="214632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рузья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9" name="WordArt 27"/>
          <p:cNvSpPr txBox="1"/>
          <p:nvPr/>
        </p:nvSpPr>
        <p:spPr>
          <a:xfrm>
            <a:off x="3441600" y="2104920"/>
            <a:ext cx="1714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лли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AutoShape 28"/>
          <p:cNvSpPr/>
          <p:nvPr/>
        </p:nvSpPr>
        <p:spPr>
          <a:xfrm>
            <a:off x="2984400" y="200160"/>
            <a:ext cx="4343400" cy="99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9"/>
          <p:cNvSpPr/>
          <p:nvPr/>
        </p:nvSpPr>
        <p:spPr>
          <a:xfrm>
            <a:off x="241200" y="4010040"/>
            <a:ext cx="289584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0"/>
          <p:cNvSpPr/>
          <p:nvPr/>
        </p:nvSpPr>
        <p:spPr>
          <a:xfrm>
            <a:off x="3670200" y="4010040"/>
            <a:ext cx="289584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1"/>
          <p:cNvSpPr/>
          <p:nvPr/>
        </p:nvSpPr>
        <p:spPr>
          <a:xfrm>
            <a:off x="7404120" y="4010040"/>
            <a:ext cx="289548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2"/>
          <p:cNvSpPr/>
          <p:nvPr/>
        </p:nvSpPr>
        <p:spPr>
          <a:xfrm>
            <a:off x="241200" y="5533920"/>
            <a:ext cx="289584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3"/>
          <p:cNvSpPr/>
          <p:nvPr/>
        </p:nvSpPr>
        <p:spPr>
          <a:xfrm>
            <a:off x="3670200" y="5533920"/>
            <a:ext cx="289584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4"/>
          <p:cNvSpPr/>
          <p:nvPr/>
        </p:nvSpPr>
        <p:spPr>
          <a:xfrm>
            <a:off x="7404120" y="5533920"/>
            <a:ext cx="2895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2755800" y="1800360"/>
            <a:ext cx="2895840" cy="990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6"/>
          <p:cNvSpPr/>
          <p:nvPr/>
        </p:nvSpPr>
        <p:spPr>
          <a:xfrm>
            <a:off x="7251840" y="1495440"/>
            <a:ext cx="2895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 flipH="1">
            <a:off x="3288960" y="1190520"/>
            <a:ext cx="76212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 flipH="1">
            <a:off x="1688760" y="2867040"/>
            <a:ext cx="1676520" cy="9907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>
            <a:off x="4127400" y="2867040"/>
            <a:ext cx="762120" cy="10666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0"/>
          <p:cNvSpPr/>
          <p:nvPr/>
        </p:nvSpPr>
        <p:spPr>
          <a:xfrm>
            <a:off x="4965840" y="2867040"/>
            <a:ext cx="3657600" cy="10666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1"/>
          <p:cNvSpPr/>
          <p:nvPr/>
        </p:nvSpPr>
        <p:spPr>
          <a:xfrm>
            <a:off x="1612800" y="500076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2"/>
          <p:cNvSpPr/>
          <p:nvPr/>
        </p:nvSpPr>
        <p:spPr>
          <a:xfrm>
            <a:off x="5118120" y="507672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3"/>
          <p:cNvSpPr/>
          <p:nvPr/>
        </p:nvSpPr>
        <p:spPr>
          <a:xfrm>
            <a:off x="8852040" y="507672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4"/>
          <p:cNvSpPr/>
          <p:nvPr/>
        </p:nvSpPr>
        <p:spPr>
          <a:xfrm>
            <a:off x="5727600" y="2257560"/>
            <a:ext cx="14479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5"/>
          <p:cNvSpPr/>
          <p:nvPr/>
        </p:nvSpPr>
        <p:spPr>
          <a:xfrm>
            <a:off x="165240" y="961920"/>
            <a:ext cx="222228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6"/>
          <p:cNvSpPr/>
          <p:nvPr/>
        </p:nvSpPr>
        <p:spPr>
          <a:xfrm flipH="1" flipV="1">
            <a:off x="2146320" y="2028960"/>
            <a:ext cx="533520" cy="3045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7"/>
          <p:cNvSpPr txBox="1"/>
          <p:nvPr/>
        </p:nvSpPr>
        <p:spPr>
          <a:xfrm>
            <a:off x="3975120" y="352440"/>
            <a:ext cx="214632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рузья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0" name="WordArt 48"/>
          <p:cNvSpPr txBox="1"/>
          <p:nvPr/>
        </p:nvSpPr>
        <p:spPr>
          <a:xfrm>
            <a:off x="3441600" y="2104920"/>
            <a:ext cx="1714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лли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4"/>
          <p:cNvSpPr/>
          <p:nvPr/>
        </p:nvSpPr>
        <p:spPr>
          <a:xfrm>
            <a:off x="2984400" y="200160"/>
            <a:ext cx="4343400" cy="99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241200" y="4010040"/>
            <a:ext cx="289584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3670200" y="4010040"/>
            <a:ext cx="289584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7404120" y="4010040"/>
            <a:ext cx="289548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241200" y="5533920"/>
            <a:ext cx="289584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3670200" y="5533920"/>
            <a:ext cx="289584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7404120" y="5533920"/>
            <a:ext cx="2895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2755800" y="1800360"/>
            <a:ext cx="2895840" cy="990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7251840" y="1495440"/>
            <a:ext cx="2895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H="1">
            <a:off x="3288960" y="1190520"/>
            <a:ext cx="76212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H="1">
            <a:off x="1688760" y="2867040"/>
            <a:ext cx="1676520" cy="9907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4127400" y="2867040"/>
            <a:ext cx="762120" cy="10666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4965840" y="2867040"/>
            <a:ext cx="3657600" cy="10666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612800" y="500076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5118120" y="507672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8852040" y="507672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5727600" y="2257560"/>
            <a:ext cx="14479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65240" y="961920"/>
            <a:ext cx="222228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 flipH="1" flipV="1">
            <a:off x="2146320" y="2028960"/>
            <a:ext cx="533520" cy="3045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23"/>
          <p:cNvSpPr txBox="1"/>
          <p:nvPr/>
        </p:nvSpPr>
        <p:spPr>
          <a:xfrm>
            <a:off x="3975120" y="352440"/>
            <a:ext cx="214632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рузья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1" name="WordArt 24"/>
          <p:cNvSpPr txBox="1"/>
          <p:nvPr/>
        </p:nvSpPr>
        <p:spPr>
          <a:xfrm>
            <a:off x="3441600" y="2104920"/>
            <a:ext cx="1714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лли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2" name="AutoShape 25"/>
          <p:cNvSpPr/>
          <p:nvPr/>
        </p:nvSpPr>
        <p:spPr>
          <a:xfrm>
            <a:off x="2984400" y="200160"/>
            <a:ext cx="4343400" cy="99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6"/>
          <p:cNvSpPr/>
          <p:nvPr/>
        </p:nvSpPr>
        <p:spPr>
          <a:xfrm>
            <a:off x="241200" y="4010040"/>
            <a:ext cx="289584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7"/>
          <p:cNvSpPr/>
          <p:nvPr/>
        </p:nvSpPr>
        <p:spPr>
          <a:xfrm>
            <a:off x="3670200" y="4010040"/>
            <a:ext cx="289584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7404120" y="4010040"/>
            <a:ext cx="289548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9"/>
          <p:cNvSpPr/>
          <p:nvPr/>
        </p:nvSpPr>
        <p:spPr>
          <a:xfrm>
            <a:off x="241200" y="5533920"/>
            <a:ext cx="289584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0"/>
          <p:cNvSpPr/>
          <p:nvPr/>
        </p:nvSpPr>
        <p:spPr>
          <a:xfrm>
            <a:off x="3670200" y="5533920"/>
            <a:ext cx="289584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1"/>
          <p:cNvSpPr/>
          <p:nvPr/>
        </p:nvSpPr>
        <p:spPr>
          <a:xfrm>
            <a:off x="7404120" y="5533920"/>
            <a:ext cx="2895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2"/>
          <p:cNvSpPr/>
          <p:nvPr/>
        </p:nvSpPr>
        <p:spPr>
          <a:xfrm>
            <a:off x="2755800" y="1800360"/>
            <a:ext cx="2895840" cy="990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3"/>
          <p:cNvSpPr/>
          <p:nvPr/>
        </p:nvSpPr>
        <p:spPr>
          <a:xfrm>
            <a:off x="7251840" y="1495440"/>
            <a:ext cx="2895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H="1">
            <a:off x="3288960" y="1190520"/>
            <a:ext cx="76212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H="1">
            <a:off x="1688760" y="2867040"/>
            <a:ext cx="1676520" cy="9907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>
            <a:off x="4127400" y="2867040"/>
            <a:ext cx="762120" cy="10666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4965840" y="2867040"/>
            <a:ext cx="3657600" cy="10666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8"/>
          <p:cNvSpPr/>
          <p:nvPr/>
        </p:nvSpPr>
        <p:spPr>
          <a:xfrm>
            <a:off x="1612800" y="500076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5118120" y="507672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0"/>
          <p:cNvSpPr/>
          <p:nvPr/>
        </p:nvSpPr>
        <p:spPr>
          <a:xfrm>
            <a:off x="8852040" y="507672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5727600" y="2257560"/>
            <a:ext cx="14479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2"/>
          <p:cNvSpPr/>
          <p:nvPr/>
        </p:nvSpPr>
        <p:spPr>
          <a:xfrm>
            <a:off x="165240" y="961920"/>
            <a:ext cx="2222280" cy="99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H="1" flipV="1">
            <a:off x="2146320" y="2028960"/>
            <a:ext cx="533520" cy="3045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44"/>
          <p:cNvSpPr txBox="1"/>
          <p:nvPr/>
        </p:nvSpPr>
        <p:spPr>
          <a:xfrm>
            <a:off x="3975120" y="352440"/>
            <a:ext cx="214632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рузья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2" name="WordArt 45"/>
          <p:cNvSpPr txBox="1"/>
          <p:nvPr/>
        </p:nvSpPr>
        <p:spPr>
          <a:xfrm>
            <a:off x="3441600" y="2104920"/>
            <a:ext cx="1714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лли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3" name="WordArt 46"/>
          <p:cNvSpPr txBox="1"/>
          <p:nvPr/>
        </p:nvSpPr>
        <p:spPr>
          <a:xfrm>
            <a:off x="393840" y="1266840"/>
            <a:ext cx="17143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отошка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4" name="WordArt 47"/>
          <p:cNvSpPr txBox="1"/>
          <p:nvPr/>
        </p:nvSpPr>
        <p:spPr>
          <a:xfrm>
            <a:off x="469800" y="4238640"/>
            <a:ext cx="2438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рашила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5" name="WordArt 48"/>
          <p:cNvSpPr txBox="1"/>
          <p:nvPr/>
        </p:nvSpPr>
        <p:spPr>
          <a:xfrm>
            <a:off x="7937640" y="4314960"/>
            <a:ext cx="17143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ев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6" name="WordArt 49"/>
          <p:cNvSpPr txBox="1"/>
          <p:nvPr/>
        </p:nvSpPr>
        <p:spPr>
          <a:xfrm>
            <a:off x="3898800" y="4238640"/>
            <a:ext cx="2438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ровосек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7" name="WordArt 50"/>
          <p:cNvSpPr txBox="1"/>
          <p:nvPr/>
        </p:nvSpPr>
        <p:spPr>
          <a:xfrm>
            <a:off x="7480440" y="1952640"/>
            <a:ext cx="2438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пасть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мой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8" name="WordArt 51"/>
          <p:cNvSpPr txBox="1"/>
          <p:nvPr/>
        </p:nvSpPr>
        <p:spPr>
          <a:xfrm>
            <a:off x="469800" y="5838840"/>
            <a:ext cx="2438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лучить 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зги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9" name="WordArt 52"/>
          <p:cNvSpPr txBox="1"/>
          <p:nvPr/>
        </p:nvSpPr>
        <p:spPr>
          <a:xfrm>
            <a:off x="3975120" y="5915160"/>
            <a:ext cx="2438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лучить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ердце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0" name="WordArt 53"/>
          <p:cNvSpPr txBox="1"/>
          <p:nvPr/>
        </p:nvSpPr>
        <p:spPr>
          <a:xfrm>
            <a:off x="7709040" y="5915160"/>
            <a:ext cx="2438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ать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рабрым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003320" y="58104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ЗГОВОЙ ШТУРМ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2" name="Picture 5" descr="stock-vector-schoolboy-with-homework-23006326"/>
          <p:cNvPicPr/>
          <p:nvPr/>
        </p:nvPicPr>
        <p:blipFill>
          <a:blip r:embed="rId1"/>
          <a:srcRect l="0" t="0" r="0" b="3644"/>
          <a:stretch/>
        </p:blipFill>
        <p:spPr>
          <a:xfrm>
            <a:off x="2527200" y="2562120"/>
            <a:ext cx="5257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003320" y="58104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ЗМИНУТКА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4" name="Picture 5" descr="excrheadstand1"/>
          <p:cNvPicPr/>
          <p:nvPr/>
        </p:nvPicPr>
        <p:blipFill>
          <a:blip r:embed="rId1"/>
          <a:stretch/>
        </p:blipFill>
        <p:spPr>
          <a:xfrm>
            <a:off x="3365640" y="2181240"/>
            <a:ext cx="31525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1003320" y="58104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гадай, кто это?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Picture 5" descr="32049-48267-thickbox"/>
          <p:cNvPicPr/>
          <p:nvPr/>
        </p:nvPicPr>
        <p:blipFill>
          <a:blip r:embed="rId1"/>
          <a:srcRect l="0" t="0" r="0" b="26671"/>
          <a:stretch/>
        </p:blipFill>
        <p:spPr>
          <a:xfrm>
            <a:off x="2451240" y="2409840"/>
            <a:ext cx="5715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post-1259959008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2374920" y="200160"/>
            <a:ext cx="5410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ОССВОРД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93840" y="1112760"/>
          <a:ext cx="9470880" cy="6126120"/>
        </p:xfrm>
        <a:graphic>
          <a:graphicData uri="http://schemas.openxmlformats.org/drawingml/2006/table">
            <a:tbl>
              <a:tblPr/>
              <a:tblGrid>
                <a:gridCol w="860400"/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93840" y="1114560"/>
          <a:ext cx="9470880" cy="6126120"/>
        </p:xfrm>
        <a:graphic>
          <a:graphicData uri="http://schemas.openxmlformats.org/drawingml/2006/table">
            <a:tbl>
              <a:tblPr/>
              <a:tblGrid>
                <a:gridCol w="860400"/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6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</a:t>
                      </a:r>
                      <a:endParaRPr b="0" lang="en-US" sz="6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Н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93840" y="1114560"/>
          <a:ext cx="9470880" cy="6126120"/>
        </p:xfrm>
        <a:graphic>
          <a:graphicData uri="http://schemas.openxmlformats.org/drawingml/2006/table">
            <a:tbl>
              <a:tblPr/>
              <a:tblGrid>
                <a:gridCol w="860400"/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6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</a:t>
                      </a:r>
                      <a:endParaRPr b="0" lang="en-US" sz="6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Ш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Л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93840" y="1114560"/>
          <a:ext cx="9470880" cy="6126120"/>
        </p:xfrm>
        <a:graphic>
          <a:graphicData uri="http://schemas.openxmlformats.org/drawingml/2006/table">
            <a:tbl>
              <a:tblPr/>
              <a:tblGrid>
                <a:gridCol w="860400"/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6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</a:t>
                      </a:r>
                      <a:endParaRPr b="0" lang="en-US" sz="6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3840" y="1114560"/>
          <a:ext cx="9470880" cy="6126120"/>
        </p:xfrm>
        <a:graphic>
          <a:graphicData uri="http://schemas.openxmlformats.org/drawingml/2006/table">
            <a:tbl>
              <a:tblPr/>
              <a:tblGrid>
                <a:gridCol w="860400"/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6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Ж</a:t>
                      </a:r>
                      <a:endParaRPr b="0" lang="en-US" sz="6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Е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Л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Е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З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93840" y="1114560"/>
          <a:ext cx="9470880" cy="6126120"/>
        </p:xfrm>
        <a:graphic>
          <a:graphicData uri="http://schemas.openxmlformats.org/drawingml/2006/table">
            <a:tbl>
              <a:tblPr/>
              <a:tblGrid>
                <a:gridCol w="860400"/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6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Б</a:t>
                      </a:r>
                      <a:endParaRPr b="0" lang="en-US" sz="6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Н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93840" y="1114560"/>
          <a:ext cx="9470880" cy="6126120"/>
        </p:xfrm>
        <a:graphic>
          <a:graphicData uri="http://schemas.openxmlformats.org/drawingml/2006/table">
            <a:tbl>
              <a:tblPr/>
              <a:tblGrid>
                <a:gridCol w="860400"/>
                <a:gridCol w="860400"/>
                <a:gridCol w="861840"/>
                <a:gridCol w="860400"/>
                <a:gridCol w="862200"/>
                <a:gridCol w="860400"/>
                <a:gridCol w="860400"/>
                <a:gridCol w="861840"/>
                <a:gridCol w="860400"/>
                <a:gridCol w="862200"/>
                <a:gridCol w="86040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4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2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6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А</a:t>
                      </a:r>
                      <a:endParaRPr b="0" lang="en-US" sz="6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Н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З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ru-RU" sz="55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</a:t>
                      </a:r>
                      <a:endParaRPr b="0" lang="en-US" sz="5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q52"/>
          <p:cNvPicPr/>
          <p:nvPr/>
        </p:nvPicPr>
        <p:blipFill>
          <a:blip r:embed="rId1"/>
          <a:stretch/>
        </p:blipFill>
        <p:spPr>
          <a:xfrm>
            <a:off x="698400" y="4238640"/>
            <a:ext cx="2551320" cy="3124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q53"/>
          <p:cNvPicPr/>
          <p:nvPr/>
        </p:nvPicPr>
        <p:blipFill>
          <a:blip r:embed="rId2"/>
          <a:stretch/>
        </p:blipFill>
        <p:spPr>
          <a:xfrm>
            <a:off x="7023240" y="4238640"/>
            <a:ext cx="2774880" cy="306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q54"/>
          <p:cNvPicPr/>
          <p:nvPr/>
        </p:nvPicPr>
        <p:blipFill>
          <a:blip r:embed="rId3"/>
          <a:stretch/>
        </p:blipFill>
        <p:spPr>
          <a:xfrm>
            <a:off x="393840" y="504720"/>
            <a:ext cx="2361960" cy="367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7" descr="1_0-1"/>
          <p:cNvPicPr/>
          <p:nvPr/>
        </p:nvPicPr>
        <p:blipFill>
          <a:blip r:embed="rId4"/>
          <a:srcRect l="0" t="0" r="56801" b="0"/>
          <a:stretch/>
        </p:blipFill>
        <p:spPr>
          <a:xfrm>
            <a:off x="3594240" y="1571760"/>
            <a:ext cx="2971800" cy="3886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9" descr="1_0-1"/>
          <p:cNvPicPr/>
          <p:nvPr/>
        </p:nvPicPr>
        <p:blipFill>
          <a:blip r:embed="rId5"/>
          <a:srcRect l="67202" t="39396" r="0" b="0"/>
          <a:stretch/>
        </p:blipFill>
        <p:spPr>
          <a:xfrm>
            <a:off x="6946920" y="1343160"/>
            <a:ext cx="312408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WordArt 101"/>
          <p:cNvSpPr txBox="1"/>
          <p:nvPr/>
        </p:nvSpPr>
        <p:spPr>
          <a:xfrm>
            <a:off x="2374920" y="200160"/>
            <a:ext cx="5410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ЗАИКА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5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3000"/>
                            </p:stCondLst>
                            <p:childTnLst>
                              <p:par>
                                <p:cTn id="7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Рисунок11"/>
          <p:cNvPicPr/>
          <p:nvPr/>
        </p:nvPicPr>
        <p:blipFill>
          <a:blip r:embed="rId1"/>
          <a:stretch/>
        </p:blipFill>
        <p:spPr>
          <a:xfrm>
            <a:off x="2603520" y="581040"/>
            <a:ext cx="4800600" cy="6095880"/>
          </a:xfrm>
          <a:prstGeom prst="rect">
            <a:avLst/>
          </a:prstGeom>
          <a:ln w="7632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423720" y="1653120"/>
            <a:ext cx="1026972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Сегодня на уроке у нас была викторина по сказк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___________________________________________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автором, которой является _________________________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Сказка нас учит __________________________________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_________________________________________________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cc"/>
                </a:solidFill>
                <a:latin typeface="Arial"/>
              </a:rPr>
              <a:t>Главные герои этой сказки ________________________________________________.</a:t>
            </a:r>
            <a:r>
              <a:rPr b="0" lang="ru-RU" sz="29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5"/>
          <p:cNvSpPr txBox="1"/>
          <p:nvPr/>
        </p:nvSpPr>
        <p:spPr>
          <a:xfrm>
            <a:off x="2527200" y="428760"/>
            <a:ext cx="5410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ФЛЕКСИЯ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276120"/>
            <a:ext cx="10693440" cy="67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6100" spc="-1" strike="noStrike" u="sng">
                <a:solidFill>
                  <a:srgbClr val="ffffff"/>
                </a:solidFill>
                <a:uFillTx/>
                <a:latin typeface="Arial"/>
              </a:rPr>
              <a:t>Цели и задачи:</a:t>
            </a:r>
            <a:r>
              <a:rPr b="1" lang="ru-RU" sz="6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3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66"/>
                </a:solidFill>
                <a:latin typeface="Arial"/>
              </a:rPr>
              <a:t>Закрепить и расширить знания о произведении А. М. Волкова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3700" spc="-1" strike="noStrike">
                <a:solidFill>
                  <a:srgbClr val="000066"/>
                </a:solidFill>
                <a:latin typeface="Arial"/>
              </a:rPr>
              <a:t>2. Развивать умения давать характеристику героев произведения, учить краткому пересказу, развивать память, внимание, мышление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3700" spc="-1" strike="noStrike">
                <a:solidFill>
                  <a:srgbClr val="000066"/>
                </a:solidFill>
                <a:latin typeface="Arial"/>
              </a:rPr>
              <a:t>3. Воспитывать чувство товарищества, душевные качества: доброту, взаимовыручку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313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Рисунок28"/>
          <p:cNvPicPr/>
          <p:nvPr/>
        </p:nvPicPr>
        <p:blipFill>
          <a:blip r:embed="rId1"/>
          <a:stretch/>
        </p:blipFill>
        <p:spPr>
          <a:xfrm>
            <a:off x="469800" y="1224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6"/>
          <p:cNvSpPr txBox="1"/>
          <p:nvPr/>
        </p:nvSpPr>
        <p:spPr>
          <a:xfrm>
            <a:off x="1155600" y="1190520"/>
            <a:ext cx="845820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50760">
                  <a:solidFill>
                    <a:srgbClr val="000066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sylbekM21Cooper.kz"/>
              </a:rPr>
              <a:t>СПАСИБО </a:t>
            </a:r>
            <a:endParaRPr b="1" lang="en-US" sz="2100" spc="1" strike="noStrike">
              <a:ln w="50760">
                <a:solidFill>
                  <a:srgbClr val="000066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sylbekM21Cooper.kz"/>
              <a:ea typeface="AsylbekM21Cooper.kz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50760">
                  <a:solidFill>
                    <a:srgbClr val="00006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sylbekM21Cooper.kz"/>
              </a:rPr>
              <a:t>ЗА ВНИМАНИЕ!</a:t>
            </a:r>
            <a:endParaRPr b="1" lang="en-US" sz="2100" spc="1" strike="noStrike">
              <a:ln w="50760">
                <a:solidFill>
                  <a:srgbClr val="000066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sylbekM21Cooper.kz"/>
              <a:ea typeface="AsylbekM21Cooper.kz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774720" y="1876320"/>
            <a:ext cx="944892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sylbekM06Jikharev.kz"/>
              </a:rPr>
              <a:t>« </a:t>
            </a:r>
            <a:r>
              <a:rPr b="0" lang="ru-RU" sz="4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воей сказке я старался показать, что самое лучшее, самое дорогое на свете - это дружба и взаимная выручка.»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4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. Волков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462120" y="352440"/>
            <a:ext cx="37940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6100" spc="-1" strike="noStrike" u="sng">
                <a:solidFill>
                  <a:srgbClr val="ffffff"/>
                </a:solidFill>
                <a:uFillTx/>
                <a:latin typeface="Arial"/>
              </a:rPr>
              <a:t>Эпиграф 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4"/>
          <p:cNvPicPr/>
          <p:nvPr/>
        </p:nvPicPr>
        <p:blipFill>
          <a:blip r:embed="rId1"/>
          <a:stretch/>
        </p:blipFill>
        <p:spPr>
          <a:xfrm>
            <a:off x="3670200" y="276120"/>
            <a:ext cx="3516480" cy="4491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47" name="WordArt 5"/>
          <p:cNvSpPr txBox="1"/>
          <p:nvPr/>
        </p:nvSpPr>
        <p:spPr>
          <a:xfrm>
            <a:off x="927000" y="5000760"/>
            <a:ext cx="8991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лков 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лександр Мелентьевич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3594240" y="6905520"/>
            <a:ext cx="3504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891 - 1977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1_0-1"/>
          <p:cNvPicPr/>
          <p:nvPr/>
        </p:nvPicPr>
        <p:blipFill>
          <a:blip r:embed="rId1"/>
          <a:stretch/>
        </p:blipFill>
        <p:spPr>
          <a:xfrm>
            <a:off x="393840" y="504720"/>
            <a:ext cx="952488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1841400" y="568656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лли и Тотошка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1231920" y="88596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ГАДАЙ ЗАГАДКИ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2679840" y="2333520"/>
            <a:ext cx="46479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16080" y="429120"/>
            <a:ext cx="56214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Он на палочке виси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Из соломы состои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Кто же это отгадайте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Быстро руки поднимайт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Рисунок1"/>
          <p:cNvPicPr/>
          <p:nvPr/>
        </p:nvPicPr>
        <p:blipFill>
          <a:blip r:embed="rId1"/>
          <a:stretch/>
        </p:blipFill>
        <p:spPr>
          <a:xfrm>
            <a:off x="3746520" y="2867040"/>
            <a:ext cx="627840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95280" y="505080"/>
            <a:ext cx="6378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Раньше жил в лесу дремучем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Ноги скрючив, руки скрючи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Весь от ржавчины больно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Отгадайте кто такой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Рисунок2"/>
          <p:cNvPicPr/>
          <p:nvPr/>
        </p:nvPicPr>
        <p:blipFill>
          <a:blip r:embed="rId1"/>
          <a:stretch/>
        </p:blipFill>
        <p:spPr>
          <a:xfrm>
            <a:off x="6718320" y="2028960"/>
            <a:ext cx="34383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39760" y="276480"/>
            <a:ext cx="54734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Как осенний лист дрожи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Очень жизнью дорожи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Будет скоро он геро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66"/>
                </a:solidFill>
                <a:latin typeface="Arial"/>
              </a:rPr>
              <a:t>Догадайся кто такой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Рисунок3"/>
          <p:cNvPicPr/>
          <p:nvPr/>
        </p:nvPicPr>
        <p:blipFill>
          <a:blip r:embed="rId1"/>
          <a:stretch/>
        </p:blipFill>
        <p:spPr>
          <a:xfrm>
            <a:off x="3517920" y="3171960"/>
            <a:ext cx="6881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оляковы</cp:lastModifiedBy>
  <dcterms:modified xsi:type="dcterms:W3CDTF">2012-09-22T11:44:1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