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818-A60C-4B3E-8FDE-F7679AFB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143-7D90-48AD-95B8-707258F0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37E-9B47-48EA-A6B7-8910AA0B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2F8-D4C4-42FF-98B4-7408326E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2382-1275-4C0B-9126-CFA8F72D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B011-1A9F-4382-B6C1-8253B52B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CD12-8AC2-4BC8-AD9C-C3FBD39A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3846-438D-486F-87DD-CC67E719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0A22-D94A-4CA9-9F32-08C8BF98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2C2E-63BC-4E83-8BD6-7E75254A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9925-E9FF-4B66-9EFA-6D7D41E7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4F8-2F8C-4FCB-AA26-DD399DFB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F0EC-AED7-4B9A-AFC7-E94F61E3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5F7A-AE8B-4440-9DF1-71A8D51C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0E43-610A-4E8D-8E1A-2F7BBAD9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8271-1A6C-452A-BB9E-5B59A3C5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E313-670E-4DC5-9396-A9598091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BBFAA-40C0-4994-8E48-76556A87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AC6DC-2462-4E08-91C4-AEA67327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A9073-031C-4AA0-BE65-B56AFB58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F6EDE-D442-4D57-BB39-42C6A2A7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89AF1-8707-4759-9F74-CA32043A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DB2-CE83-449B-9C68-3A403FB6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EC002-0D47-41E9-BD64-D2B5E7B6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9DDF3-86DB-4084-AC17-2B4712F1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740AB-EE4C-433E-ABB7-6E95DFA9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E2CCF-B1F0-4F3B-B8CB-3C2D2066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56B9A-62ED-48F7-862B-4C64C654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BE0B9-9DDA-4F1C-8C02-765CAB30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0B24-AF2A-46F7-BE30-564B3564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A2100-A62A-43FF-A3F0-26A28529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F528C-00D5-4FB9-8E45-71FC2141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FE86D-19F2-4A49-80ED-275D0D78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279-18C2-4281-AEC0-876E682A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24E76-3936-4671-A266-EB7243DE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D50BD-A0A5-4F70-A537-0DAF79B1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4F434-3302-4664-A6B0-7FD9EEAC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F914E-BDA0-425A-A68D-89896941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70C12-B3D4-4781-AF4D-12E651D6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C00A6-8E67-4DA1-8A9C-BC0B4162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1CA91-A0DE-4D4C-ABAE-A95ED353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CA1C4-C03D-4241-8907-2C2505DD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FD739-6DD6-4176-95ED-68D187CD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83A3B-1968-4B3C-B4B4-A5240378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A97-8811-49E7-871E-0634F47F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DB572-33AC-45B9-B8DB-7CB4A05B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F39E9-B7F5-48E2-837E-A48CC5B1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AF039-89E9-4444-B561-89833530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BF5BB-7D45-4D13-9686-05E67BBB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28B0D-E2F9-48D7-97B3-1FA05600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1C6F1-34DD-4CF7-A6F3-2FD32E43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F52B9-8EFD-4242-8FDE-E6F33BD4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BB6B5-46AA-475A-B056-132DD300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23608-3746-4107-8078-85B9025B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A1B55-F62B-4ABE-87CE-F528078B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1B6-B38A-4A64-A50D-5487CD98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2555E-39E4-4418-A2D5-5C9095AB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49C-542E-4242-9CEC-25D0F1B4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093-5C17-4E6D-B7FC-D6DB99B4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584-16F8-43C2-AE2F-48F96047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B686-C9B1-4BFF-80EE-F2B1CED1EA8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6095-749F-46EF-844B-A91F052EC0B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D78D-7837-4FD3-BA77-C0112D718CF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FD5A-4E11-47B8-9BA2-2CC0A0A3E21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2D4B-AD31-4559-B659-96D4BA39241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571680"/>
            <a:ext cx="7989840" cy="30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f2936"/>
                </a:solidFill>
                <a:latin typeface="Times New Roman"/>
              </a:rPr>
              <a:t>ЗАКОНОДАТЕЛЬСТВО РОССИИ В ОБЛАСТИ БЕЗОПАСНОСТИ ЛИЧНОСТИ, ОБЩЕСТВА И ГОСУДАРСТВ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Содержимое 2"/>
          <p:cNvSpPr/>
          <p:nvPr/>
        </p:nvSpPr>
        <p:spPr>
          <a:xfrm>
            <a:off x="4500720" y="5000760"/>
            <a:ext cx="42116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Презентация подготов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преподавателем-организатором ОБ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Дягилевым Александром Людвигович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10 класс , ФГКОУ «СОШ №138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г. Трехгорный-1, Челябинской об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79280" y="189000"/>
            <a:ext cx="424836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Закон определяет правовые, экономические и социальные основы обеспечения безопасной эксплуатации опасных производственных объектов и направлен на предупреждение аварий на опасных производственных объектах и обеспечение готовности организаций, эксплуатирующих опасные производственные объекты, к локализации и ликвидации последствий указанных ава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4859280" y="189000"/>
            <a:ext cx="41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92360" y="274320"/>
            <a:ext cx="54007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Основными задачами обеспечения транспортной безопасности являются: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1) нормативное правовое регулирование;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2) определение угроз совершения актов незаконного вмешательства;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3) оценка уязвимости объектов транспортной инфраструктуры и транспортных средств;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4) категорирование объектов транспортной инфраструктуры и транспортных средств;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5) разработка и реализация требований по обеспечению транспортной безопасности;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6) разработка и реализация мер по обеспечению транспортной безопасности;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7) подготовка специалистов;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8) осуществление контроля и надзора;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9) информационное, материально-техническое и научно-техническое обеспечение.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34146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4572000" y="189000"/>
            <a:ext cx="439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Закон регулирует отношения, возникающие проектировании, строительстве, капитальном ремонте, вводе в эксплуатацию, эксплуатации, реконструкции, восстановлении, консервации и ликвидации ГТС, устанавливает обязанности органов государственной власти, собственников ГТС и эксплуатирующих организаций по обеспечению безопасности ГТ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4294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4422600" y="189000"/>
            <a:ext cx="4491360" cy="6480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250920" y="189000"/>
            <a:ext cx="3960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Настоящий Федеральный закон регулирует отношения в области обеспечения качества пищевых продуктов и их безопасности для здоровья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424400" cy="6480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4788000" y="189000"/>
            <a:ext cx="410508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Настоящий Федеральный закон устанавливает правовые основы государственной политики в сфере оборота наркотических средств, психотропных веществ и их прекурсоров, а также в области противодействия их незаконному обороту в целях охраны здоровья граждан, государственной и общественной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44760" cy="63374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4643280" y="260280"/>
            <a:ext cx="4176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Закон определяет правовые основы государственной политики в области охраны окружающей среды, обеспечивающие сбалансированное решение социально-экономических задач, сохранение благоприятной окружающей среды, биологического разнообразия и природных ресурсов для удовлетворения потребностей нынешнего и будущих поко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316400" cy="6597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4788000" y="260280"/>
            <a:ext cx="410508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Настоящий Федеральный закон определяет основные принципы и содержание деятельности по обеспечению безопасности государства, общественной безопасности, экологической безопасности, безопасности личности , иных видов безопасности, предусмотренных законодательством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788000" y="620640"/>
            <a:ext cx="4087800" cy="57610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179280" y="189000"/>
            <a:ext cx="439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Закон определяет основы и организацию обороны России, полномочия органов государственной власти, функции органов государственной власти субъектов РФ, организаций и их должностных лиц, права и обязанности граждан Российской Федерации в области обороны, силы и средства, привлекаемые для обороны, ответственность за нарушение законодательства в области обороны, а также другие нормы, касающиеся об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250920" y="189000"/>
            <a:ext cx="410508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Настоящий закон определяет общие для Российской Федерации организационно-правовые нормы в области защиты граждан России, всего земельного, водного, воздушного пространства в пределах РФ или её части, объектов производственного и социального назначения, а также окружающей природной среды от чрезвычайных ситуаций природного и техноген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rcRect l="4763" t="2552" r="3514" b="2919"/>
          <a:stretch/>
        </p:blipFill>
        <p:spPr>
          <a:xfrm>
            <a:off x="4429080" y="404640"/>
            <a:ext cx="4680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4178160" cy="54738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250920" y="189000"/>
            <a:ext cx="4825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Настоящий Федеральный закон определяет общие правовые, экономические и социальные основы обеспечения пожарной безопасности, регулирует в этой области отношения между органами государственной власти, органами местного самоуправления, учреждениями, организациями, общественными объединениями, индивидуальными предпринимателями, должностными лицами, гражданам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062240" cy="63374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7"/>
          <p:cNvSpPr/>
          <p:nvPr/>
        </p:nvSpPr>
        <p:spPr>
          <a:xfrm>
            <a:off x="4572000" y="189000"/>
            <a:ext cx="439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232"/>
                </a:solidFill>
                <a:latin typeface="Arial"/>
              </a:rPr>
              <a:t>Настоящий Федеральный закон определяет задачи, правовые основы их осуществления и полномочия органов государственной власти Российской Федерации, органов исполнительной власти субъектов Российской Федерации, органов местного самоуправления и организаций в области гражданской об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4788000" y="260280"/>
            <a:ext cx="410508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Закон определяет правовые основы обеспечения безопасности дорожного движения на территории Российской Федерации.</a:t>
            </a:r>
            <a:br>
              <a:rPr sz="2400"/>
            </a:b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 Задачами настоящего Федерального закона являются: охрана жизни, здоровья и имущества граждан, защита их прав и законных интересов, а также защита интересов общества и государства путем предупреждения ДТП, снижения тяжести их послед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4626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3971880" cy="6480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324000" y="189000"/>
            <a:ext cx="424944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Закон устанавливает основные принципы противодействия терроризму, правовые и организационные основы профилактики терроризма и борьбы с ним, минимизации и (или) ликвидации последствий проявлений терроризма, а также правовые и организационные основы применения Вооруженных Сил Российской Федерации в борьбе с террориз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271440" y="260280"/>
            <a:ext cx="4444920" cy="6286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32000" y="274320"/>
            <a:ext cx="3754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Настоящий Федеральный закон определяет правовые основы обеспечения радиационной безопасности населения в целях охраны его здоровья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7:11:50Z</dcterms:created>
  <dc:creator>XTreme</dc:creator>
  <dc:description/>
  <dc:language>en-US</dc:language>
  <cp:lastModifiedBy>XTreme</cp:lastModifiedBy>
  <dcterms:modified xsi:type="dcterms:W3CDTF">2012-09-21T16:07:18Z</dcterms:modified>
  <cp:revision>10</cp:revision>
  <dc:subject/>
  <dc:title>Слайд 1</dc:title>
</cp:coreProperties>
</file>