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D8C-6639-45B6-90DB-6B659191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005-E6EF-454B-ACA3-920C8F4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B19-013B-4C00-9162-4182072C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D14-59C2-4BDD-A9A2-FD690B13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340-3B41-4282-B536-56F39234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891B-65B1-40A3-B5B7-7C42BB4F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F4A-96EB-4D1B-AA6C-A3045B4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6415-D943-4AFE-B2C2-CD5D8970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307A-F3B5-4AC0-AE9E-3F4082AA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08A-0763-43A1-BE1D-C7F1E12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9573-FFDB-4723-B1C0-032BFA69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453-7CA9-40C1-8C57-6946984B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B5DF-D01E-427B-A814-869C468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9F5-2A25-47BE-82DA-6F54747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7C2E-BB35-4748-AD89-0C5D3954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714-9B43-4193-A6F8-24E37F1F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F5D3-B254-4FE1-8637-A0B2B543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0000-A694-4170-BD2F-21F6619E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4969-21D3-40B6-BD02-6AAB78D2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173E-CA29-4FED-BBD9-5DBA8717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99EB-7E55-44CD-BB6C-1AD7892B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6F40-D473-4640-B32B-06249F80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722-B665-44FB-B587-038C77BE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EC9A-D36A-4836-98A5-EA7E464E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3BF0-A41D-4FBA-A5A0-A523605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D616D-06C2-47C9-A31A-AB79A6B8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AC33-AB2A-40EF-A15A-D9715E9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3383-3064-48D9-BAD6-FD84B78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5426-21AC-4648-A745-BB22C824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AD39-8C94-447D-BB95-CFC06A31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99E35-3146-46E3-BA1A-78C52014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ECBA3-3337-4CF9-9ABF-1D25C5BB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35C2-F0A4-4612-A44C-B1F6D3A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DC0-1612-4BBE-87D1-633D9A9C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44B9-5BD4-461C-9033-951FB82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5C22-6062-438A-9F33-4E960B14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DD73-8679-4ADD-8CC6-BBD0C5C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05B9-4687-4D66-B0BD-F2E75DC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56A5-0C03-4940-8560-DA9CC75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6AD0-A80F-4D8C-8586-364FC90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68AD-010D-4CA7-AC34-6652C02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EF54-D1B0-4D61-B9A4-0FC91557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A096-F657-4838-A0E5-2F9BA118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C097-CF6D-45B5-A78F-ACB392F5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F5F-4F4F-4158-AE5A-DD8DA09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1201-5FEF-4593-AD84-2777F64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06B7-A23D-4E82-B738-549EEE2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AE51-D6E0-458C-9583-9D16904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79BD-52D0-452A-A757-758972F3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D158-5241-464C-B5BF-56E17AE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38C9-9BC3-47B7-BAAA-5188B87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8045-B19B-466D-BFF3-773C5B1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D551-D2C1-4D5B-BF13-BB204A2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5D81-8D36-4CA5-9BB6-9DBE93ED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7370-0D5A-430D-923E-73E41F56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EA0-174E-42BB-95F8-9A1CBD0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6CE9-BB47-4B7A-B6A7-DAB4579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C00-7DA9-4DEC-8DA0-C048699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189-5EDB-4787-8700-C375634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7B7-26BC-492A-BDD4-B9010A4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DE6-10CD-4624-B9F5-48DAFBA58A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C11-30F1-4D87-89D6-2000712200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E95-54CC-4D5A-8DD0-BFF035470D8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CC8D-FAFE-42BB-9E41-7954D48B133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05A-F669-4887-93C4-D395D90DE5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98984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f2936"/>
                </a:solidFill>
                <a:latin typeface="Times New Roman"/>
              </a:rPr>
              <a:t>ЗАКОНОДАТЕЛЬСТВО РОССИИ В ОБЛАСТИ БЕЗОПАСНОСТИ ЛИЧНОСТИ, ОБЩЕСТВА И ГОСУДАР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Содержимое 2"/>
          <p:cNvSpPr/>
          <p:nvPr/>
        </p:nvSpPr>
        <p:spPr>
          <a:xfrm>
            <a:off x="4500720" y="5000760"/>
            <a:ext cx="42116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Презентация подготов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преподавателем-организатором 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Дягилевым Александром Людвиго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10 класс , ФГКОУ «СОШ №138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г. Трехгорный-1, Челябин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79280" y="189000"/>
            <a:ext cx="4248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, экономические и социальные основы обеспечения безопасной эксплуатации опасных производственных объектов и направлен на предупреждение аварий на опасных производственных объектах и обеспечение готовности организаций, эксплуатирующих опасные производственные объекты, к локализации и ликвидации последствий указанных ав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92360" y="274320"/>
            <a:ext cx="5400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Основными задачами обеспечения транспортной безопасности являются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1) нормативное правовое регулирование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2) определение угроз совершения актов незаконного вмешательства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3) оценка уязвимости объектов транспортной инфраструктуры и транспортных средст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4) категорирование объектов транспортной инфраструктуры и транспортных средст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5) разработка и реализация требований по обеспечению транспортной безопасности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6) разработка и реализация мер по обеспечению транспортной безопасности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7) подготовка специалистов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8) осуществление контроля и надзора;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9) информационное, материально-техническое и научно-техническое обеспечение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3414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57200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регулирует отношения, возникающие проектировании, строительстве, капитальном ремонте, вводе в эксплуатацию, эксплуатации, реконструкции, восстановлении, консервации и ликвидации ГТС, устанавливает обязанности органов государственной власти, собственников ГТС и эксплуатирующих организаций по обеспечению безопасности ГТ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4294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4422600" y="189000"/>
            <a:ext cx="4491360" cy="6480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250920" y="189000"/>
            <a:ext cx="3960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регулирует отношения в области обеспечения качества пищевых продуктов и их безопасности для здоровь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24400" cy="6480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4788000" y="18900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устанавливает правовые основы государственной политики в сфере оборота наркотических средств, психотропных веществ и их прекурсоров, а также в области противодействия их незаконному обороту в целях охраны здоровья граждан, государственной и обществен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44760" cy="633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4643280" y="260280"/>
            <a:ext cx="4176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 основы государственной политики в области охраны окружающей среды, обеспечивающие сбалансированное решение социально-экономических задач, сохранение благоприятной окружающей среды, биологического разнообразия и природных ресурсов для удовлетворения потребностей нынешнего и будущих поко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16400" cy="6597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4788000" y="26028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основные принципы и содержание деятельности по обеспечению безопасности государства, общественной безопасности, экологической безопасности, безопасности личности , иных видов безопасности, предусмотренных законодательством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788000" y="620640"/>
            <a:ext cx="4087800" cy="5761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17928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основы и организацию обороны России, полномочия органов государственной власти, функции органов государственной власти субъектов РФ, организаций и их должностных лиц, права и обязанности граждан Российской Федерации в области обороны, силы и средства, привлекаемые для обороны, ответственность за нарушение законодательства в области обороны, а также другие нормы, касающиеся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250920" y="18900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закон определяет общие для Российской Федерации организационно-правовые нормы в области защиты граждан России, всего земельного, водного, воздушного пространства в пределах РФ или её части, объектов производственного и социального назначения, а также окружающей природной среды от чрезвычайных ситуаций природного и техноген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4763" t="2552" r="3514" b="2919"/>
          <a:stretch/>
        </p:blipFill>
        <p:spPr>
          <a:xfrm>
            <a:off x="4429080" y="404640"/>
            <a:ext cx="4680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178160" cy="5473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250920" y="189000"/>
            <a:ext cx="4825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общие правовые, экономические и социальные основы обеспечения пожарной безопасности, регулирует в этой области отношения между органами государственной власти, органами местного самоуправления, учреждениями, организациями, общественными объединениями, индивидуальными предпринимателями, должностными лицами, гражданам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62240" cy="6337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4572000" y="189000"/>
            <a:ext cx="439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232"/>
                </a:solidFill>
                <a:latin typeface="Arial"/>
              </a:rPr>
              <a:t>Настоящий Федеральный закон определяет задачи, правовые основы их осуществления и полномочия органов государственной власти Российской Федерации, органов исполнительной власти субъектов Российской Федерации, органов местного самоуправления и организаций в области гражданской об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4788000" y="260280"/>
            <a:ext cx="4105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определяет правовые основы обеспечения безопасности дорожного движения на территории Российской Федерации.</a:t>
            </a:r>
            <a:br>
              <a:rPr sz="2400"/>
            </a:b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 Задачами настоящего Федерального закона являются: охрана жизни, здоровья и имущества граждан, защита их прав и законных интересов, а также защита интересов общества и государства путем предупреждения ДТП, снижения тяжести и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62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971880" cy="6480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324000" y="189000"/>
            <a:ext cx="42494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кон устанавливает основные принципы противодействия терроризму, правовые и организационные основы профилактики терроризма и борьбы с ним, минимизации и (или) ликвидации последствий проявлений терроризма, а также правовые и организационные основы применения Вооруженных Сил Российской Федерации в борьбе с террор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71440" y="260280"/>
            <a:ext cx="4444920" cy="6286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Настоящий Федеральный закон определяет правовые основы обеспечения радиационной безопасности населения в целях охраны его здоровья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11:50Z</dcterms:created>
  <dc:creator>XTreme</dc:creator>
  <dc:description/>
  <dc:language>en-US</dc:language>
  <cp:lastModifiedBy>XTreme</cp:lastModifiedBy>
  <dcterms:modified xsi:type="dcterms:W3CDTF">2012-09-21T16:07:18Z</dcterms:modified>
  <cp:revision>10</cp:revision>
  <dc:subject/>
  <dc:title>Слайд 1</dc:title>
</cp:coreProperties>
</file>