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EED-EBF3-452C-B163-B438C6C2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DE5-158E-4FB1-A721-CB8E4428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664-2680-4699-8E59-898874A7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3F4-3B47-4351-8FFA-C1FE6AF5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212-959B-45AF-BBFD-F437B4A8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8AC-C11D-47FE-9ED7-0DC77ABB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F3F-3DE3-42ED-8C56-C261FF6D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E32-ECA9-40EB-B59A-0E917C56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F1C2-BD34-47AD-8CBD-6F6E4CB9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A36-829D-470A-B337-11736EE3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881-111C-42C9-AB54-40FB93C8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185-F836-4A95-8275-5D876875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7A89-E5CD-47D1-8E6A-5DF9953E5F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71800" y="285840"/>
            <a:ext cx="67579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урение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 и дых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7216920" y="2868840"/>
            <a:ext cx="3088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http://www.vitaminov.net/pics/1502439249.gif"/>
          <p:cNvPicPr/>
          <p:nvPr/>
        </p:nvPicPr>
        <p:blipFill>
          <a:blip r:embed="rId2"/>
          <a:stretch/>
        </p:blipFill>
        <p:spPr>
          <a:xfrm>
            <a:off x="2214720" y="1214280"/>
            <a:ext cx="2819160" cy="27864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7"/>
          <p:cNvSpPr/>
          <p:nvPr/>
        </p:nvSpPr>
        <p:spPr>
          <a:xfrm>
            <a:off x="2652840" y="407196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истые лёгк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800" y="-1194480"/>
            <a:ext cx="3088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75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.vitaminov.net/pics/456156975.gif"/>
          <p:cNvPicPr/>
          <p:nvPr/>
        </p:nvPicPr>
        <p:blipFill>
          <a:blip r:embed="rId3"/>
          <a:stretch/>
        </p:blipFill>
        <p:spPr>
          <a:xfrm>
            <a:off x="6215040" y="1143000"/>
            <a:ext cx="2381400" cy="27813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0"/>
          <p:cNvSpPr/>
          <p:nvPr/>
        </p:nvSpPr>
        <p:spPr>
          <a:xfrm>
            <a:off x="6229800" y="4000680"/>
            <a:ext cx="27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ёгкие курильщ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571680" y="478620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инято считать, что смертельная для человека доза никотина содержится в 20-25 сигаретах(!). Курильщики не умирают от такого или большего числа сигарет лишь потому, что выкуривание их растянуто во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уберкулез и ку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155520" y="-830160"/>
            <a:ext cx="1409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index кох.jpg"/>
          <p:cNvPicPr/>
          <p:nvPr/>
        </p:nvPicPr>
        <p:blipFill>
          <a:blip r:embed="rId1"/>
          <a:stretch/>
        </p:blipFill>
        <p:spPr>
          <a:xfrm>
            <a:off x="5364000" y="1413000"/>
            <a:ext cx="3587760" cy="4437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t3.gstatic.com/images?q=tbn:ANd9GcQwVn8g2l33JcUmZw77yjFWcsbZd-QcnRVOp_eJZ218T744V7Oz"/>
          <p:cNvPicPr/>
          <p:nvPr/>
        </p:nvPicPr>
        <p:blipFill>
          <a:blip r:embed="rId2"/>
          <a:stretch/>
        </p:blipFill>
        <p:spPr>
          <a:xfrm>
            <a:off x="395280" y="1413000"/>
            <a:ext cx="4718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4716360" y="1268280"/>
            <a:ext cx="4056120" cy="435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зультат воздействия никотина на организм - повышение кровяного давления, тахикардия, могут отмечаться экстрасистолия, пароксизмальная тахикардия и приступы стенокар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://t3.gstatic.com/images?q=tbn:ANd9GcTegLIqSYfr-STg323dT73CKUsH3vUipQx3xgjNgIxoR9OnOLDi"/>
          <p:cNvPicPr/>
          <p:nvPr/>
        </p:nvPicPr>
        <p:blipFill>
          <a:blip r:embed="rId1"/>
          <a:stretch/>
        </p:blipFill>
        <p:spPr>
          <a:xfrm>
            <a:off x="539640" y="476280"/>
            <a:ext cx="4173480" cy="331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://t1.gstatic.com/images?q=tbn:ANd9GcTnkG7ZGOao4HNvgt_r7jmYbO-4dvCB9Uzl9Cz39keLaWLzbHZy"/>
          <p:cNvPicPr/>
          <p:nvPr/>
        </p:nvPicPr>
        <p:blipFill>
          <a:blip r:embed="rId2"/>
          <a:stretch/>
        </p:blipFill>
        <p:spPr>
          <a:xfrm>
            <a:off x="395280" y="3933720"/>
            <a:ext cx="410544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йствие никот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250920" y="692280"/>
            <a:ext cx="864216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ммиак и табачный деготь (смолы) при сгорании табака попадают в трахею, бронхи и легкие. Аммиак растворяется во влажных слизистых оболочках верхних дыхательных путей, превращаясь в нашатырный спирт, раздражающий слизистую и вызывающий ее повышенную секре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t0.gstatic.com/images?q=tbn:ANd9GcSC2akc4_cfE4gwvfrIHIEg5PgMknRWNtYUORrjrdVJ1QjulQyA"/>
          <p:cNvPicPr/>
          <p:nvPr/>
        </p:nvPicPr>
        <p:blipFill>
          <a:blip r:embed="rId1"/>
          <a:stretch/>
        </p:blipFill>
        <p:spPr>
          <a:xfrm>
            <a:off x="1432080" y="2637000"/>
            <a:ext cx="674028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143680" y="142920"/>
            <a:ext cx="3709800" cy="28782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357120" y="2142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тог постоянного раздражения - кашель, бронхит, повышенная чувствительность к воспалительным инфекциям и аллергическим заболева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2928960"/>
          <a:ext cx="8858160" cy="3733920"/>
        </p:xfrm>
        <a:graphic>
          <a:graphicData uri="http://schemas.openxmlformats.org/drawingml/2006/table">
            <a:tbl>
              <a:tblPr/>
              <a:tblGrid>
                <a:gridCol w="222120"/>
                <a:gridCol w="8636040"/>
              </a:tblGrid>
              <a:tr h="637560">
                <a:tc>
                  <a:txBody>
                    <a:bodyPr lIns="88560" rIns="88560"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8560" rIns="88560" tIns="44280" bIns="442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обучении — на 4,42%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6200">
                <a:tc>
                  <a:txBody>
                    <a:bodyPr lIns="88560" rIns="88560"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8560" rIns="88560" tIns="44280" bIns="442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чности зачеркивания букв, включенных в эксперимент, — на 7,09%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560">
                <a:tc>
                  <a:txBody>
                    <a:bodyPr lIns="88560" rIns="88560"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8560" rIns="88560" tIns="44280" bIns="442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корости зачеркивания тех же букв — на 1,02%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560">
                <a:tc>
                  <a:txBody>
                    <a:bodyPr lIns="88560" rIns="88560"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8560" rIns="88560" tIns="44280" bIns="442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чности оперирования цифрами — на 5,55%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560">
                <a:tc>
                  <a:txBody>
                    <a:bodyPr lIns="88560" rIns="88560"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8560" rIns="88560" tIns="44280" bIns="442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запоминании—на 5,07%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3" descr="http://tmn.fio.ru/works/25x/310/pro10/BD10267_.GIF"/>
          <p:cNvPicPr/>
          <p:nvPr/>
        </p:nvPicPr>
        <p:blipFill>
          <a:blip r:embed="rId2"/>
          <a:stretch/>
        </p:blipFill>
        <p:spPr>
          <a:xfrm>
            <a:off x="0" y="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tmn.fio.ru/works/25x/310/pro10/BD10267_.GIF"/>
          <p:cNvPicPr/>
          <p:nvPr/>
        </p:nvPicPr>
        <p:blipFill>
          <a:blip r:embed="rId3"/>
          <a:stretch/>
        </p:blipFill>
        <p:spPr>
          <a:xfrm>
            <a:off x="0" y="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ttp://tmn.fio.ru/works/25x/310/pro10/BD10267_.GIF"/>
          <p:cNvPicPr/>
          <p:nvPr/>
        </p:nvPicPr>
        <p:blipFill>
          <a:blip r:embed="rId4"/>
          <a:stretch/>
        </p:blipFill>
        <p:spPr>
          <a:xfrm>
            <a:off x="0" y="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tmn.fio.ru/works/25x/310/pro10/BD10267_.GIF"/>
          <p:cNvPicPr/>
          <p:nvPr/>
        </p:nvPicPr>
        <p:blipFill>
          <a:blip r:embed="rId5"/>
          <a:stretch/>
        </p:blipFill>
        <p:spPr>
          <a:xfrm>
            <a:off x="0" y="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63" name="TextBox 8"/>
          <p:cNvSpPr/>
          <p:nvPr/>
        </p:nvSpPr>
        <p:spPr>
          <a:xfrm>
            <a:off x="357120" y="2071800"/>
            <a:ext cx="44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урящие подростки отстают от сверс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4"/>
          <p:cNvSpPr/>
          <p:nvPr/>
        </p:nvSpPr>
        <p:spPr>
          <a:xfrm>
            <a:off x="250920" y="4119480"/>
            <a:ext cx="864396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но в 85% случаев рака легкого обнаруживают  связь с курением. У курящих по 2 или более пачек сигарет в день в течение 20 лет риск рака легкого повышен на 60—70% по сравнению с некурящими. Риск рака легкого тем выше, чем больше сигарет выкуривают за день, чем дольше курят, чем больше количество вдыхаемого дыма, а также чем выше содержание смол и никотина в сигаре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57200" y="2016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урение и рак лёг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5552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15552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6" descr="index рак легко.jpg"/>
          <p:cNvPicPr/>
          <p:nvPr/>
        </p:nvPicPr>
        <p:blipFill>
          <a:blip r:embed="rId1"/>
          <a:stretch/>
        </p:blipFill>
        <p:spPr>
          <a:xfrm>
            <a:off x="4859280" y="907920"/>
            <a:ext cx="3097440" cy="3097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imagesррроооооооо.jpg"/>
          <p:cNvPicPr/>
          <p:nvPr/>
        </p:nvPicPr>
        <p:blipFill>
          <a:blip r:embed="rId2"/>
          <a:stretch/>
        </p:blipFill>
        <p:spPr>
          <a:xfrm>
            <a:off x="1547640" y="836640"/>
            <a:ext cx="28800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урение и рак лёгк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395280" y="1413000"/>
            <a:ext cx="403236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рентгеновском снимке в легком видно патологическое объемное образование (стрелка). Позже при биопсии доказано, что это рак легкого. Характерные симптомы: постоянный мучительный кашель, кровохарканье, повторные пневмония, бронхит или боль в гр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500720" y="1341360"/>
            <a:ext cx="4573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4286160" cy="32288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7"/>
          <p:cNvSpPr/>
          <p:nvPr/>
        </p:nvSpPr>
        <p:spPr>
          <a:xfrm>
            <a:off x="357120" y="364320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В Российской Федерации курит около 50% взрослого населения, а около 100.000 россиян ежегодно умирает от курения. Ученые полагают, что в настоящее время на нашей планете насчитывается около миллиарда курильщиков. Заболевания, которые прямо или косвенно связаны с курением, каждый год уносят три с половиной миллиона жизней. Через двадцать лет общая смертность от таких болезней достигнет десяти миллионов и превысит число жертв ВИЧ-инфек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072120" y="142920"/>
            <a:ext cx="2533680" cy="26240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61153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уберкулез и кур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2928960" y="1000080"/>
            <a:ext cx="2036880" cy="1428840"/>
          </a:xfrm>
          <a:prstGeom prst="rect">
            <a:avLst/>
          </a:prstGeom>
          <a:ln w="0">
            <a:noFill/>
          </a:ln>
        </p:spPr>
      </p:pic>
      <p:sp>
        <p:nvSpPr>
          <p:cNvPr id="78" name="Пятиугольник 4"/>
          <p:cNvSpPr/>
          <p:nvPr/>
        </p:nvSpPr>
        <p:spPr>
          <a:xfrm>
            <a:off x="5214960" y="1500120"/>
            <a:ext cx="642960" cy="285840"/>
          </a:xfrm>
          <a:custGeom>
            <a:avLst/>
            <a:gdLst>
              <a:gd name="textAreaLeft" fmla="*/ 0 w 642960"/>
              <a:gd name="textAreaRight" fmla="*/ 642960 w 6429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250920" y="2763720"/>
            <a:ext cx="87138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ЗБУДИТЕЛЬ туберкулёза — палочка Коха — передаётся воздушно-капельным путём. Один больной в день «награждает» микобактерией около двадцати здоровых людей. Личный контакт с носителем инфекции необязателен. Заполучить палочку Коха можно и в приличном ресторане, если выпить кофе из плохо вымытой чашки. Или в дорогом магазине — проведя по губам пробником губной помады, который до вас использовала больная туберкулёз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уберкулез и ку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468360" y="1413000"/>
            <a:ext cx="5040360" cy="39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беркулёз устойчив к холоду, теплу, влаге и свету. В уличной пыли, на страницах книг палочки Коха сохраняются живыми в течение трёх месяцев. Переносчиками туберкулёза могут быть мухи и тараканы, а также мясо и молоко больных живот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&amp;Rcy;&amp;ocy;&amp;bcy;&amp;iecy;&amp;rcy;&amp;tcy; &amp;Kcy;&amp;ocy;&amp;khcy;"/>
          <p:cNvPicPr/>
          <p:nvPr/>
        </p:nvPicPr>
        <p:blipFill>
          <a:blip r:embed="rId1"/>
          <a:stretch/>
        </p:blipFill>
        <p:spPr>
          <a:xfrm>
            <a:off x="6156360" y="1413000"/>
            <a:ext cx="2590920" cy="38098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6804720" y="5445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берт К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7:35:06Z</dcterms:created>
  <dc:creator>1</dc:creator>
  <dc:description/>
  <dc:language>en-US</dc:language>
  <cp:lastModifiedBy>user</cp:lastModifiedBy>
  <dcterms:modified xsi:type="dcterms:W3CDTF">2012-09-23T16:35:40Z</dcterms:modified>
  <cp:revision>8</cp:revision>
  <dc:subject/>
  <dc:title>Курение и дыхание</dc:title>
</cp:coreProperties>
</file>