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D26-FB8C-469C-AF8D-E7BB3247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9D3-1045-461D-90EF-BA931ED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DD1-F3F2-423A-984B-D565A804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CE3-C66E-4D41-9BE7-8D58A4C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024-0821-40D6-BE88-04483C9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90B-9707-4495-8BA3-26362158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C53-A5D0-45C1-952A-CC5432C9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033-B58F-4B57-8E13-756F327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540-2CE8-4694-A884-3B9A857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AEF-42E4-411E-8FC1-5BDBDCEE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40A-D3F8-4A82-87A4-5C12432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FD4-4334-445C-A769-71F01F9F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8CDD-8DD9-408C-A003-FE84E33F0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1800" y="285840"/>
            <a:ext cx="67579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урение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и 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216920" y="2868840"/>
            <a:ext cx="3088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www.vitaminov.net/pics/1502439249.gif"/>
          <p:cNvPicPr/>
          <p:nvPr/>
        </p:nvPicPr>
        <p:blipFill>
          <a:blip r:embed="rId2"/>
          <a:stretch/>
        </p:blipFill>
        <p:spPr>
          <a:xfrm>
            <a:off x="2214720" y="1214280"/>
            <a:ext cx="2819160" cy="2786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652840" y="407196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тые лёгк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800" y="-1194480"/>
            <a:ext cx="308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75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vitaminov.net/pics/456156975.gif"/>
          <p:cNvPicPr/>
          <p:nvPr/>
        </p:nvPicPr>
        <p:blipFill>
          <a:blip r:embed="rId3"/>
          <a:stretch/>
        </p:blipFill>
        <p:spPr>
          <a:xfrm>
            <a:off x="6215040" y="1143000"/>
            <a:ext cx="2381400" cy="2781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0"/>
          <p:cNvSpPr/>
          <p:nvPr/>
        </p:nvSpPr>
        <p:spPr>
          <a:xfrm>
            <a:off x="6229800" y="4000680"/>
            <a:ext cx="27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ёгкие курильщ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571680" y="47862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инято считать, что смертельная для человека доза никотина содержится в 20-25 сигаретах(!). Курильщики не умирают от такого или большего числа сигарет лишь потому, что выкуривание их растянуто во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830160"/>
            <a:ext cx="1409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index кох.jpg"/>
          <p:cNvPicPr/>
          <p:nvPr/>
        </p:nvPicPr>
        <p:blipFill>
          <a:blip r:embed="rId1"/>
          <a:stretch/>
        </p:blipFill>
        <p:spPr>
          <a:xfrm>
            <a:off x="5364000" y="1413000"/>
            <a:ext cx="3587760" cy="4437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3.gstatic.com/images?q=tbn:ANd9GcQwVn8g2l33JcUmZw77yjFWcsbZd-QcnRVOp_eJZ218T744V7Oz"/>
          <p:cNvPicPr/>
          <p:nvPr/>
        </p:nvPicPr>
        <p:blipFill>
          <a:blip r:embed="rId2"/>
          <a:stretch/>
        </p:blipFill>
        <p:spPr>
          <a:xfrm>
            <a:off x="395280" y="1413000"/>
            <a:ext cx="4718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716360" y="1268280"/>
            <a:ext cx="4056120" cy="435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ультат воздействия никотина на организм - повышение кровяного давления, тахикардия, могут отмечаться экстрасистолия, пароксизмальная тахикардия и приступы стенокар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t3.gstatic.com/images?q=tbn:ANd9GcTegLIqSYfr-STg323dT73CKUsH3vUipQx3xgjNgIxoR9OnOLDi"/>
          <p:cNvPicPr/>
          <p:nvPr/>
        </p:nvPicPr>
        <p:blipFill>
          <a:blip r:embed="rId1"/>
          <a:stretch/>
        </p:blipFill>
        <p:spPr>
          <a:xfrm>
            <a:off x="539640" y="476280"/>
            <a:ext cx="417348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t1.gstatic.com/images?q=tbn:ANd9GcTnkG7ZGOao4HNvgt_r7jmYbO-4dvCB9Uzl9Cz39keLaWLzbHZy"/>
          <p:cNvPicPr/>
          <p:nvPr/>
        </p:nvPicPr>
        <p:blipFill>
          <a:blip r:embed="rId2"/>
          <a:stretch/>
        </p:blipFill>
        <p:spPr>
          <a:xfrm>
            <a:off x="395280" y="3933720"/>
            <a:ext cx="410544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йствие никот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50920" y="692280"/>
            <a:ext cx="864216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ммиак и табачный деготь (смолы) при сгорании табака попадают в трахею, бронхи и легкие. Аммиак растворяется во влажных слизистых оболочках верхних дыхательных путей, превращаясь в нашатырный спирт, раздражающий слизистую и вызывающий ее повышенную секре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t0.gstatic.com/images?q=tbn:ANd9GcSC2akc4_cfE4gwvfrIHIEg5PgMknRWNtYUORrjrdVJ1QjulQyA"/>
          <p:cNvPicPr/>
          <p:nvPr/>
        </p:nvPicPr>
        <p:blipFill>
          <a:blip r:embed="rId1"/>
          <a:stretch/>
        </p:blipFill>
        <p:spPr>
          <a:xfrm>
            <a:off x="1432080" y="2637000"/>
            <a:ext cx="67402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143680" y="142920"/>
            <a:ext cx="3709800" cy="2878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тог постоянного раздражения - кашель, бронхит, повышенная чувствительность к воспалительным инфекциям и аллергически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928960"/>
          <a:ext cx="8858160" cy="3733920"/>
        </p:xfrm>
        <a:graphic>
          <a:graphicData uri="http://schemas.openxmlformats.org/drawingml/2006/table">
            <a:tbl>
              <a:tblPr/>
              <a:tblGrid>
                <a:gridCol w="222120"/>
                <a:gridCol w="8636040"/>
              </a:tblGrid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бучении — на 4,42%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620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чности зачеркивания букв, включенных в эксперимент, — на 7,09%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корости зачеркивания тех же букв — на 1,02%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чности оперирования цифрами — на 5,55%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88560" rIns="885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8560" rIns="88560" tIns="44280" bIns="4428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апоминании—на 5,07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http://tmn.fio.ru/works/25x/310/pro10/BD10267_.GIF"/>
          <p:cNvPicPr/>
          <p:nvPr/>
        </p:nvPicPr>
        <p:blipFill>
          <a:blip r:embed="rId2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tmn.fio.ru/works/25x/310/pro10/BD10267_.GIF"/>
          <p:cNvPicPr/>
          <p:nvPr/>
        </p:nvPicPr>
        <p:blipFill>
          <a:blip r:embed="rId3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ttp://tmn.fio.ru/works/25x/310/pro10/BD10267_.GIF"/>
          <p:cNvPicPr/>
          <p:nvPr/>
        </p:nvPicPr>
        <p:blipFill>
          <a:blip r:embed="rId4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mn.fio.ru/works/25x/310/pro10/BD10267_.GIF"/>
          <p:cNvPicPr/>
          <p:nvPr/>
        </p:nvPicPr>
        <p:blipFill>
          <a:blip r:embed="rId5"/>
          <a:stretch/>
        </p:blipFill>
        <p:spPr>
          <a:xfrm>
            <a:off x="0" y="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357120" y="207180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урящие подростки отстают от свер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250920" y="4119480"/>
            <a:ext cx="864396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но в 85% случаев рака легкого обнаруживают  связь с курением. У курящих по 2 или более пачек сигарет в день в течение 20 лет риск рака легкого повышен на 60—70% по сравнению с некурящими. Риск рака легкого тем выше, чем больше сигарет выкуривают за день, чем дольше курят, чем больше количество вдыхаемого дыма, а также чем выше содержание смол и никотина в сигар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57200" y="2016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рение и рак лёг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index рак легко.jpg"/>
          <p:cNvPicPr/>
          <p:nvPr/>
        </p:nvPicPr>
        <p:blipFill>
          <a:blip r:embed="rId1"/>
          <a:stretch/>
        </p:blipFill>
        <p:spPr>
          <a:xfrm>
            <a:off x="4859280" y="907920"/>
            <a:ext cx="3097440" cy="3097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imagesррроооооооо.jpg"/>
          <p:cNvPicPr/>
          <p:nvPr/>
        </p:nvPicPr>
        <p:blipFill>
          <a:blip r:embed="rId2"/>
          <a:stretch/>
        </p:blipFill>
        <p:spPr>
          <a:xfrm>
            <a:off x="1547640" y="836640"/>
            <a:ext cx="2880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рение и рак лёг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395280" y="1413000"/>
            <a:ext cx="403236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рентгеновском снимке в легком видно патологическое объемное образование (стрелка). Позже при биопсии доказано, что это рак легкого. Характерные симптомы: постоянный мучительный кашель, кровохарканье, повторные пневмония, бронхит или боль в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57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4286160" cy="3228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7"/>
          <p:cNvSpPr/>
          <p:nvPr/>
        </p:nvSpPr>
        <p:spPr>
          <a:xfrm>
            <a:off x="357120" y="364320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Российской Федерации курит около 50% взрослого населения, а около 100.000 россиян ежегодно умирает от курения. Ученые полагают, что в настоящее время на нашей планете насчитывается около миллиарда курильщиков. Заболевания, которые прямо или косвенно связаны с курением, каждый год уносят три с половиной миллиона жизней. Через двадцать лет общая смертность от таких болезней достигнет десяти миллионов и превысит число жертв ВИЧ-инфе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072120" y="142920"/>
            <a:ext cx="2533680" cy="26240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61153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928960" y="1000080"/>
            <a:ext cx="2036880" cy="1428840"/>
          </a:xfrm>
          <a:prstGeom prst="rect">
            <a:avLst/>
          </a:prstGeom>
          <a:ln w="0">
            <a:noFill/>
          </a:ln>
        </p:spPr>
      </p:pic>
      <p:sp>
        <p:nvSpPr>
          <p:cNvPr id="78" name="Пятиугольник 4"/>
          <p:cNvSpPr/>
          <p:nvPr/>
        </p:nvSpPr>
        <p:spPr>
          <a:xfrm>
            <a:off x="5214960" y="1500120"/>
            <a:ext cx="642960" cy="285840"/>
          </a:xfrm>
          <a:custGeom>
            <a:avLst/>
            <a:gdLst>
              <a:gd name="textAreaLeft" fmla="*/ 0 w 642960"/>
              <a:gd name="textAreaRight" fmla="*/ 642960 w 6429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50920" y="2763720"/>
            <a:ext cx="87138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БУДИТЕЛЬ туберкулёза — палочка Коха — передаётся воздушно-капельным путём. Один больной в день «награждает» микобактерией около двадцати здоровых людей. Личный контакт с носителем инфекции необязателен. Заполучить палочку Коха можно и в приличном ресторане, если выпить кофе из плохо вымытой чашки. Или в дорогом магазине — проведя по губам пробником губной помады, который до вас использовала больная туберкулё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уберкулез и ку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68360" y="1413000"/>
            <a:ext cx="5040360" cy="39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беркулёз устойчив к холоду, теплу, влаге и свету. В уличной пыли, на страницах книг палочки Коха сохраняются живыми в течение трёх месяцев. Переносчиками туберкулёза могут быть мухи и тараканы, а также мясо и молоко больных живо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&amp;Rcy;&amp;ocy;&amp;bcy;&amp;iecy;&amp;rcy;&amp;tcy; &amp;Kcy;&amp;ocy;&amp;khcy;"/>
          <p:cNvPicPr/>
          <p:nvPr/>
        </p:nvPicPr>
        <p:blipFill>
          <a:blip r:embed="rId1"/>
          <a:stretch/>
        </p:blipFill>
        <p:spPr>
          <a:xfrm>
            <a:off x="6156360" y="141300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804720" y="5445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7:35:06Z</dcterms:created>
  <dc:creator>1</dc:creator>
  <dc:description/>
  <dc:language>en-US</dc:language>
  <cp:lastModifiedBy>user</cp:lastModifiedBy>
  <dcterms:modified xsi:type="dcterms:W3CDTF">2012-09-23T16:35:40Z</dcterms:modified>
  <cp:revision>8</cp:revision>
  <dc:subject/>
  <dc:title>Курение и дыхание</dc:title>
</cp:coreProperties>
</file>