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0.png" ContentType="image/png"/>
  <Override PartName="/ppt/media/image9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2F47-C769-40B9-8912-82AC192E2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3110-A8A9-4D58-9263-5F23E1BE7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FF3E-B7B7-4759-9163-62D3499A5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1A4F-C329-47AA-ABB2-8AC109EFF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4380-8B3A-4F87-AE7B-A2C1BA8D6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301F-863C-4337-A6B8-46E683521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0E1F-EA3B-4A8B-98E9-36FDEDCCD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9F55-8B7B-463E-990B-CFEA90A9F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0FA8-1D85-48BC-84E7-69D28AB2D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E823-ADA0-4536-BC2C-593021BC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67B0-4DB0-4EE1-8D71-161EEDDA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6A12-A80C-405D-99AC-12A3F2D8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B94AF-1BE9-413F-B466-EC57B46FC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Ярославль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основан 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еке князем Ярославом Мудры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626436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Деревня Филимоновск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258920" y="2781360"/>
            <a:ext cx="3251160" cy="36734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572000" y="1197000"/>
            <a:ext cx="2857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Москв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основана на Москве-рек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Гусь-Хрустальны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Город Гусь-Хрустальный основан на реке Гусь и обязан своим происхождением и существованием хрустальной фабрике)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9280" y="1916280"/>
            <a:ext cx="6346800" cy="3921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724360" y="2276640"/>
            <a:ext cx="279108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Вологд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основана на реке Вологус-Вологд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6202440" cy="3411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932360" y="4292640"/>
            <a:ext cx="338472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Деревня Жосто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4546800" cy="3202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859280" y="2781360"/>
            <a:ext cx="39052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Село Хохло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3754440" cy="2625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427640" y="2486160"/>
            <a:ext cx="428616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Город Гж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059280" y="1413000"/>
            <a:ext cx="3438360" cy="51116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Посёлок Дымко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71640" y="3357720"/>
            <a:ext cx="3754440" cy="2984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859280" y="1197000"/>
            <a:ext cx="285768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Город Каргопо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00720" y="3500280"/>
            <a:ext cx="4286160" cy="3219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971640" y="1125360"/>
            <a:ext cx="4021200" cy="36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5T14:10:29Z</dcterms:created>
  <dc:creator>Администратор</dc:creator>
  <dc:description/>
  <dc:language>en-US</dc:language>
  <cp:lastModifiedBy>Администратор</cp:lastModifiedBy>
  <dcterms:modified xsi:type="dcterms:W3CDTF">2012-09-19T17:10:14Z</dcterms:modified>
  <cp:revision>5</cp:revision>
  <dc:subject/>
  <dc:title>Ярославль (основан в XI  веке князем Ярославом Мудрым)</dc:title>
</cp:coreProperties>
</file>