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025-DA68-4587-ADF4-BA9E2AF7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7B5-FF94-45A1-920B-9345FAD2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D04-AA3C-48B8-BE9C-75A85349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A5D-1BAF-4C14-8176-7474703E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B64-F6A9-44FA-8C9E-637878F0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AA5F-114F-4BD6-86E9-A2DA5A4F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CF6F-CFAE-4E2B-854B-132AEBDC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93D-168B-41DC-9B19-70D1C40D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AE3-61F7-407E-8652-3483B4BF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E22-19BC-427F-8ED3-9168DB59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FAD-BEE6-4734-BB56-46E10DB6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DD5-2043-4412-B0E9-51B1B9E1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6C03-32E7-4B30-8897-1E379B26A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Ярославл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снован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е князем Ярославом Мудры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еревня Филимонов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3251160" cy="3673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0" y="119700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Москв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основана на Москве-рек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Гусь-Хрустальны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Город Гусь-Хрустальный основан на реке Гусь и обязан своим происхождением и существованием хрустальной фабрике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6346800" cy="392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24360" y="2276640"/>
            <a:ext cx="27910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ологд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снована на реке Вологус-Вологд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202440" cy="3411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32360" y="4292640"/>
            <a:ext cx="33847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еревня Жост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546800" cy="3202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905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Село Хохл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754440" cy="2625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27640" y="2486160"/>
            <a:ext cx="42861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Город Гж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59280" y="1413000"/>
            <a:ext cx="3438360" cy="5111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Посёлок Дымк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71640" y="3357720"/>
            <a:ext cx="3754440" cy="298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28576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Город Каргоп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00720" y="350028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40212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4:10:29Z</dcterms:created>
  <dc:creator>Администратор</dc:creator>
  <dc:description/>
  <dc:language>en-US</dc:language>
  <cp:lastModifiedBy>Администратор</cp:lastModifiedBy>
  <dcterms:modified xsi:type="dcterms:W3CDTF">2012-09-19T17:10:14Z</dcterms:modified>
  <cp:revision>5</cp:revision>
  <dc:subject/>
  <dc:title>Ярославль (основан в XI  веке князем Ярославом Мудрым)</dc:title>
</cp:coreProperties>
</file>