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53DE7-3AAC-4851-B76F-19964242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21D1E-D55E-4F3A-B9B7-3EF47E0E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03D87-38FD-4E2B-A783-6C2506BC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70C4-E10D-4D2D-A18F-CF67BC5B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AFED-E717-4A48-83BA-8F733424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4D88-34D4-4AF8-862B-C5D7842A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7BCE-9FDF-48AD-848D-2A612C67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FD75-D619-4931-8796-D4B548F4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2284-6E46-4267-A43A-3F2995C3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5C77-484E-489F-93DB-48BE1D71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271B-034B-4FF6-ACAD-E3DF87A3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7FB97-EDB3-4369-8B2B-6D8B31B2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60F2-C46D-42FE-B24A-350B451F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D79C-6D66-429C-ABB2-6AA9EFED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8967-3BD7-4FAC-A055-5019D78C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7676-F24F-4433-ABC2-1BBE8E8F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9554-F668-4612-9629-1386E7B4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EA35F-030D-41D0-BFCA-15545126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203F6-FA5F-4868-8596-25E93A4B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B1FF-1956-4CAA-9539-039A6B48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9101-F5F4-469A-A6CA-20474C76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E0AF-4BA1-4E3D-9F60-5F9C32C4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9F19-0BDC-43BA-807B-87098A47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6024E-D140-4089-9599-FD6761A5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221D-B37A-4758-89E4-295AA33777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2C73-162F-4DB3-8B23-616B890C59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овторяем дроб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572000"/>
            <a:ext cx="4029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нова Л.Я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ОУ СОШ с. Лен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од десятичной дроби в обыкновенну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16 =          ;    0,0016 =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790571"/>
                </a:solidFill>
                <a:uFillTx/>
                <a:latin typeface="Arial"/>
              </a:rPr>
              <a:t>Не забудь прописные исти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цифр после запятой - столько нулей у единицы в знаменате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2160720" y="2924280"/>
                <a:ext cx="8157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5435640" y="2781360"/>
                <a:ext cx="13683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7524720" y="1052640"/>
            <a:ext cx="1633680" cy="4464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21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нимание!!!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облема при переводе обыкновенной дроби в десятичну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321300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о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ыкновенная дробь переводится в десятичную, если знаменатель раскладывается на простые множители </a:t>
            </a: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только 2 и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,1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т.к.   </a:t>
            </a:r>
            <a:r>
              <a:rPr b="1" lang="ru-RU" sz="3600" spc="-1" strike="noStrike">
                <a:solidFill>
                  <a:srgbClr val="790571"/>
                </a:solidFill>
                <a:latin typeface="Arial"/>
              </a:rPr>
              <a:t>200 = 2</a:t>
            </a:r>
            <a:r>
              <a:rPr b="1" lang="ru-RU" sz="3600" spc="-1" strike="noStrike">
                <a:solidFill>
                  <a:srgbClr val="790571"/>
                </a:solidFill>
                <a:latin typeface="Symbol"/>
                <a:ea typeface="Symbol"/>
              </a:rPr>
              <a:t></a:t>
            </a:r>
            <a:r>
              <a:rPr b="1" lang="ru-RU" sz="3600" spc="-1" strike="noStrike">
                <a:solidFill>
                  <a:srgbClr val="790571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790571"/>
                </a:solidFill>
                <a:latin typeface="Symbol"/>
                <a:ea typeface="Symbol"/>
              </a:rPr>
              <a:t></a:t>
            </a:r>
            <a:r>
              <a:rPr b="1" lang="ru-RU" sz="3600" spc="-1" strike="noStrike">
                <a:solidFill>
                  <a:srgbClr val="790571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790571"/>
                </a:solidFill>
                <a:latin typeface="Symbol"/>
                <a:ea typeface="Symbol"/>
              </a:rPr>
              <a:t></a:t>
            </a:r>
            <a:r>
              <a:rPr b="1" lang="ru-RU" sz="3600" spc="-1" strike="noStrike">
                <a:solidFill>
                  <a:srgbClr val="790571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790571"/>
                </a:solidFill>
                <a:latin typeface="Symbol"/>
                <a:ea typeface="Symbol"/>
              </a:rPr>
              <a:t></a:t>
            </a:r>
            <a:r>
              <a:rPr b="1" lang="ru-RU" sz="3600" spc="-1" strike="noStrike">
                <a:solidFill>
                  <a:srgbClr val="790571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1360440" y="5229360"/>
                <a:ext cx="10684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WordArt 6"/>
          <p:cNvSpPr txBox="1"/>
          <p:nvPr/>
        </p:nvSpPr>
        <p:spPr>
          <a:xfrm>
            <a:off x="7596360" y="1557360"/>
            <a:ext cx="140004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00  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0  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0    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5    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      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      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8532720" y="1341360"/>
            <a:ext cx="0" cy="3743280"/>
          </a:xfrm>
          <a:prstGeom prst="line">
            <a:avLst/>
          </a:prstGeom>
          <a:ln w="414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8"/>
          <p:cNvSpPr/>
          <p:nvPr/>
        </p:nvSpPr>
        <p:spPr>
          <a:xfrm>
            <a:off x="5580000" y="3933720"/>
            <a:ext cx="2592360" cy="2448000"/>
          </a:xfrm>
          <a:prstGeom prst="foldedCorner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од обыкновенной дроби в десятичну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 способ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приведение дроби к знаменателю 10,100,1000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мер: перевести в десятичную дроб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пом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4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25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8 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8317080" y="2781360"/>
                <a:ext cx="6746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324000" y="4862520"/>
                <a:ext cx="51847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од обыкновенной дроби в десятичну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способ: деление числителя на знаменатель «уголк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2          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20        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20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0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539640" y="3860640"/>
                <a:ext cx="273528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Line 8"/>
          <p:cNvSpPr/>
          <p:nvPr/>
        </p:nvSpPr>
        <p:spPr>
          <a:xfrm>
            <a:off x="5651640" y="299736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>
            <a:off x="5651640" y="3645000"/>
            <a:ext cx="129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4356000" y="364500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1"/>
          <p:cNvSpPr/>
          <p:nvPr/>
        </p:nvSpPr>
        <p:spPr>
          <a:xfrm>
            <a:off x="4356000" y="479736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4356000" y="602136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"/>
          <p:cNvSpPr/>
          <p:nvPr/>
        </p:nvSpPr>
        <p:spPr>
          <a:xfrm>
            <a:off x="414036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"/>
          <p:cNvSpPr/>
          <p:nvPr/>
        </p:nvSpPr>
        <p:spPr>
          <a:xfrm>
            <a:off x="421164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9"/>
          <p:cNvSpPr/>
          <p:nvPr/>
        </p:nvSpPr>
        <p:spPr>
          <a:xfrm>
            <a:off x="179280" y="0"/>
            <a:ext cx="8553600" cy="6308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Дро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ыкнов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сят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1,25;    2,3;    0,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H="1">
            <a:off x="2771280" y="1700280"/>
            <a:ext cx="1117800" cy="11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4859280" y="1700280"/>
            <a:ext cx="1297080" cy="11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1332000" y="3716280"/>
                <a:ext cx="28652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юбое целое число – дробь со знаменателем, равным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2124000" y="2637000"/>
                <a:ext cx="4100760" cy="30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6"/>
          <p:cNvSpPr/>
          <p:nvPr/>
        </p:nvSpPr>
        <p:spPr>
          <a:xfrm>
            <a:off x="1332000" y="1989000"/>
            <a:ext cx="1297080" cy="1944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вильные и неправильные дро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  взято до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черта дроб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ействие де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мена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акие это  до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дробь </a:t>
            </a:r>
            <a:r>
              <a:rPr b="0" i="1" lang="ru-RU" sz="3200" spc="-1" strike="noStrike">
                <a:solidFill>
                  <a:srgbClr val="790571"/>
                </a:solidFill>
                <a:latin typeface="Arial"/>
              </a:rPr>
              <a:t>правильна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дробь </a:t>
            </a:r>
            <a:r>
              <a:rPr b="0" i="1" lang="ru-RU" sz="3200" spc="-1" strike="noStrike">
                <a:solidFill>
                  <a:srgbClr val="790571"/>
                </a:solidFill>
                <a:latin typeface="Arial"/>
              </a:rPr>
              <a:t>неправильная</a:t>
            </a:r>
            <a:r>
              <a:rPr b="0" lang="ru-RU" sz="3200" spc="-1" strike="noStrike">
                <a:solidFill>
                  <a:srgbClr val="79057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1692360" y="2924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234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 flipH="1" flipV="1">
            <a:off x="2484360" y="2997360"/>
            <a:ext cx="71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H="1" flipV="1">
            <a:off x="2195640" y="342864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1"/>
              <p:cNvSpPr txBox="1"/>
              <p:nvPr/>
            </p:nvSpPr>
            <p:spPr>
              <a:xfrm>
                <a:off x="3924360" y="5229360"/>
                <a:ext cx="194292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: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24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бую неправильную дробь можно представить в виде смешанного числа и наобор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86064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авильная                         Смеша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бь                                        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419640" y="3284640"/>
                <a:ext cx="2447640" cy="21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12"/>
          <p:cNvSpPr/>
          <p:nvPr/>
        </p:nvSpPr>
        <p:spPr>
          <a:xfrm>
            <a:off x="2484360" y="3357720"/>
            <a:ext cx="4032360" cy="2881080"/>
          </a:xfrm>
          <a:prstGeom prst="octagon">
            <a:avLst>
              <a:gd name="adj" fmla="val 29287"/>
            </a:avLst>
          </a:prstGeom>
          <a:solidFill>
            <a:srgbClr val="ff66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1547640" y="1628640"/>
            <a:ext cx="6120000" cy="1656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од неправильной дроби в смешанное число -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 : 7 = 1 (остаток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2843280" y="3429000"/>
                <a:ext cx="3557520" cy="26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Line 7"/>
          <p:cNvSpPr/>
          <p:nvPr/>
        </p:nvSpPr>
        <p:spPr>
          <a:xfrm>
            <a:off x="1042920" y="3068640"/>
            <a:ext cx="1295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1042560" y="2565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 flipH="1">
            <a:off x="6659640" y="3213000"/>
            <a:ext cx="12952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7524720" y="270828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5148360" y="3500280"/>
            <a:ext cx="3671640" cy="19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324000" y="3068640"/>
            <a:ext cx="4535280" cy="3384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0044"/>
                </a:solidFill>
                <a:latin typeface="Bodoni MT Condensed"/>
              </a:rPr>
              <a:t>Сокращение дробей</a:t>
            </a:r>
            <a:r>
              <a:rPr b="0" lang="ru-RU" sz="28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doni MT Condensed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Bodoni MT Condensed"/>
              </a:rPr>
              <a:t> это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Bodoni MT Condensed"/>
              </a:rPr>
              <a:t>деление</a:t>
            </a:r>
            <a:r>
              <a:rPr b="0" lang="ru-RU" sz="2800" spc="-1" strike="noStrike">
                <a:solidFill>
                  <a:srgbClr val="000000"/>
                </a:solidFill>
                <a:latin typeface="Bodoni MT Condensed"/>
              </a:rPr>
              <a:t> числителя и знаменателя на одно и то же числ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0044"/>
                </a:solidFill>
                <a:latin typeface="Bodoni MT Condensed"/>
              </a:rPr>
              <a:t>Основное свойство дроби</a:t>
            </a:r>
            <a:r>
              <a:rPr b="0" lang="ru-RU" sz="2800" spc="-1" strike="noStrike">
                <a:solidFill>
                  <a:srgbClr val="000000"/>
                </a:solidFill>
                <a:latin typeface="Bodoni MT Condensed"/>
              </a:rPr>
              <a:t> - позволяет выполня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Bodoni MT Condensed"/>
              </a:rPr>
              <a:t>умножение или деление</a:t>
            </a:r>
            <a:r>
              <a:rPr b="0" lang="ru-RU" sz="2800" spc="-1" strike="noStrike">
                <a:solidFill>
                  <a:srgbClr val="000000"/>
                </a:solidFill>
                <a:latin typeface="Bodoni MT Condensed"/>
              </a:rPr>
              <a:t> числителя и знаменателя </a:t>
            </a:r>
            <a:r>
              <a:rPr b="0" lang="ru-RU" sz="2800" spc="-1" strike="noStrike">
                <a:solidFill>
                  <a:srgbClr val="790571"/>
                </a:solidFill>
                <a:latin typeface="Bodoni MT Condensed"/>
              </a:rPr>
              <a:t>на одно и то же число </a:t>
            </a:r>
            <a:r>
              <a:rPr b="0" lang="ru-RU" sz="2400" spc="-1" strike="noStrike">
                <a:solidFill>
                  <a:srgbClr val="000000"/>
                </a:solidFill>
                <a:latin typeface="Bodoni MT Condensed"/>
              </a:rPr>
              <a:t>(получить новый знамена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148360" y="3645000"/>
                <a:ext cx="36716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971640" y="3141720"/>
                <a:ext cx="3816360" cy="27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2195640" y="4076640"/>
            <a:ext cx="5689440" cy="64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хождение части (дроби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т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Дробь от числа хотим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Зачем же всех трево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Вам нужно дан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На эту дробь умн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 0,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 200 кг  (40% от 200 к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00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,4 = 8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e44c1"/>
                </a:solidFill>
                <a:latin typeface="Arial"/>
              </a:rPr>
              <a:t>Не забывай, что 40% = 40:100 = 0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419640" y="2133720"/>
            <a:ext cx="3958920" cy="1514520"/>
          </a:xfrm>
          <a:prstGeom prst="rect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сятичная дроб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35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писи десятич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би знамена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6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ые д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тые д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ячные д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908000" y="2060640"/>
                <a:ext cx="8445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6"/>
              <p:cNvSpPr txBox="1"/>
              <p:nvPr/>
            </p:nvSpPr>
            <p:spPr>
              <a:xfrm>
                <a:off x="1763640" y="2997360"/>
                <a:ext cx="712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WordArt 9"/>
          <p:cNvSpPr txBox="1"/>
          <p:nvPr/>
        </p:nvSpPr>
        <p:spPr>
          <a:xfrm>
            <a:off x="1619280" y="5013360"/>
            <a:ext cx="18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0,35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Line 11"/>
          <p:cNvSpPr/>
          <p:nvPr/>
        </p:nvSpPr>
        <p:spPr>
          <a:xfrm flipH="1">
            <a:off x="1907640" y="429264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3"/>
          <p:cNvSpPr/>
          <p:nvPr/>
        </p:nvSpPr>
        <p:spPr>
          <a:xfrm flipH="1">
            <a:off x="2050920" y="400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 flipH="1">
            <a:off x="2843280" y="4365720"/>
            <a:ext cx="792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 flipH="1">
            <a:off x="2556000" y="4653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 flipH="1" flipV="1">
            <a:off x="3059280" y="4797000"/>
            <a:ext cx="792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 flipH="1">
            <a:off x="3276720" y="5589720"/>
            <a:ext cx="1079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H="1">
            <a:off x="2916000" y="4797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0"/>
          <p:cNvSpPr/>
          <p:nvPr/>
        </p:nvSpPr>
        <p:spPr>
          <a:xfrm flipV="1">
            <a:off x="327672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8:10:02Z</dcterms:created>
  <dc:creator>Admin</dc:creator>
  <dc:description/>
  <dc:language>en-US</dc:language>
  <cp:lastModifiedBy>Admin</cp:lastModifiedBy>
  <dcterms:modified xsi:type="dcterms:W3CDTF">2012-09-23T08:19:40Z</dcterms:modified>
  <cp:revision>31</cp:revision>
  <dc:subject/>
  <dc:title>Повторяем дроби</dc:title>
</cp:coreProperties>
</file>