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0833-4F1F-468B-8976-53DFF9C6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425-9631-4E7C-99F7-EABDFCD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09B-B28B-4A99-9C91-551CFA35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6B5-BDDA-4963-AE18-7F4AB614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873-9700-4B75-A3DE-6C9B4ED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FF30-A042-4B17-A954-2B0E973B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6F8-7288-483E-8CBF-B5853DCE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367-BE00-4EF9-A63D-21F9A037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C1A-A46E-422A-8794-BA15AF04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5D0-7830-4470-B4A4-DCF48D0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4D5-BA85-4325-91C5-5D186F2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BFE-DCF2-4D34-8EBB-1542CF73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A253-4628-45AE-8549-F46D8EAF1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304920"/>
            <a:ext cx="582912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БДОУ д/с №39 общеразвивающего ви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приоритетным осуществлением деятельност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физическому развитию дете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асносельского района Санкт-Петербур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2641680"/>
            <a:ext cx="4800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УГЛЫЙ СТОЛ ДЛЯ РОД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Адаптация ребенка в условиях детского сад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рупп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е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3962520"/>
            <a:ext cx="152424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формляя ребенка в детский сад, родители часто переживают: как встретят ребенка? Будет ли ему хорошо в детском саду? Как его будут кормить, поить, укладывать спать? Волнение это вполне объяснимо: родители впервые оставляют ребенка с незнакомыми людьми. До этого все происходило на их глазах. Было внимание, любовь всех близких. А будут ли любить ребенка в детском са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Это волнение усугубляется, если ребенок не хочет расставаться с привычным и близким, отказывается порой идти в группу. Мамы или проникаются еще большим сочувствием к ребенку, порой в ущерб интересам воспитателей, или, стараясь не реагировать на слезы и просьбы сына, дочери, молча ведут их в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5791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520" y="4038480"/>
            <a:ext cx="61722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ети, у которых уже имеется положительный опыт общения со взрослыми и сверстниками, составляют самую благоприятную группу по характеру поведения, и привыкают они к детскому саду сравнительно быстро. В процессе общения ребенок познает окружающее, узнает, как действовать в той или иной обстановке, учится устанавливать взаимоотношения со взрослыми и детьми. А главное, в общении он узнает себя, границы своих возможностей. Поэтому чем шире у ребенка практика общения, тем легче он входит в детский коллектив, и наоборот, чем меньше опыт ребенка, тем ему труд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34290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617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 подготовить ребёнка к детскому са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кажите ребёнку, что такое детский сад,зачем туда ходят дети, почему Вы хотите, чтобы малыш пошёл в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ходя мимо детского сада,   с радостью напоминайте ребёнку, как ему повезло скоро он сможет ходить в детский сад. Рассказывайте родным и знакомым в присутствии малыша о своей радости, гордитесь своим ребёнком, ведь он уже большой и скоро будет ходить в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робно расскажите ребёнку о режиме детского сада: что, как и в какой последовательности, он будет делать. Чем подробнее будет ваш рассказ и чем чаще вы будете его повторять, тем спокойнее и увереннее будет чувствовать себя ваш ребёнок, когда пойдёт в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5257800"/>
            <a:ext cx="3981240" cy="31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2-10-04T15:21:4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