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421CD-D220-4AE7-AE8F-F8EEA635D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06339-B266-4EF2-AC9E-38CCF6004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1EC32-E696-49B2-9FF5-A623BC41E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AE947-EAA1-4930-BEB2-A54A242FE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36554-BCB8-46AA-8B24-132945CBD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B3A69-1BEF-4F48-9243-8ADDCD50E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A9B1A-70AC-4151-B612-661F0DD9F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A0CB3-52F3-4D30-BB30-4D485EF41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0BB93-45EF-484A-A9BE-931EF51E9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FF7B0-3D7D-4C93-9A07-1D850EF29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B96C7-FE41-4C5E-83C1-03D454403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39D63-A238-430A-B5FE-9F3D5EA78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5A4E8-D966-4DD6-BA30-1A05438CBF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71680" y="304920"/>
            <a:ext cx="5829120" cy="152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ГБДОУ д/с №39 общеразвивающего вида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 приоритетным осуществлением деятельности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о физическому развитию детей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Красносельского района Санкт-Петербург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28520" y="2641680"/>
            <a:ext cx="48006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КРУГЛЫЙ СТОЛ ДЛЯ РОДИТЕЛЕ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а тему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«Адаптация ребенка в условиях детского сада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одготовила и провел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оспитатель группы №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оловков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Елена Владимиров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666880" y="3962520"/>
            <a:ext cx="1524240" cy="1244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380520" y="685440"/>
            <a:ext cx="6172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Оформляя ребенка в детский сад, родители часто переживают: как встретят ребенка? Будет ли ему хорошо в детском саду? Как его будут кормить, поить, укладывать спать? Волнение это вполне объяснимо: родители впервые оставляют ребенка с незнакомыми людьми. До этого все происходило на их глазах. Было внимание, любовь всех близких. А будут ли любить ребенка в детском саду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Это волнение усугубляется, если ребенок не хочет расставаться с привычным и близким, отказывается порой идти в группу. Мамы или проникаются еще большим сочувствием к ребенку, порой в ущерб интересам воспитателей, или, стараясь не реагировать на слезы и просьбы сына, дочери, молча ведут их в детский са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209680" y="5791320"/>
            <a:ext cx="2210040" cy="220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380520" y="4038480"/>
            <a:ext cx="6172200" cy="60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Дети, у которых уже имеется положительный опыт общения со взрослыми и сверстниками, составляют самую благоприятную группу по характеру поведения, и привыкают они к детскому саду сравнительно быстро. В процессе общения ребенок познает окружающее, узнает, как действовать в той или иной обстановке, учится устанавливать взаимоотношения со взрослыми и детьми. А главное, в общении он узнает себя, границы своих возможностей. Поэтому чем шире у ребенка практика общения, тем легче он входит в детский коллектив, и наоборот, чем меньше опыт ребенка, тем ему трудне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676520" y="762120"/>
            <a:ext cx="3429000" cy="2600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80520" y="838080"/>
            <a:ext cx="61722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Как подготовить ребёнка к детскому саду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Расскажите ребёнку, что такое детский сад,зачем туда ходят дети, почему Вы хотите, чтобы малыш пошёл в са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Проходя мимо детского сада,   с радостью напоминайте ребёнку, как ему повезло скоро он сможет ходить в детский сад. Рассказывайте родным и знакомым в присутствии малыша о своей радости, гордитесь своим ребёнком, ведь он уже большой и скоро будет ходить в детский са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Подробно расскажите ребёнку о режиме детского сада: что, как и в какой последовательности, он будет делать. Чем подробнее будет ваш рассказ и чем чаще вы будете его повторять, тем спокойнее и увереннее будет чувствовать себя ваш ребёнок, когда пойдёт в са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447920" y="5257800"/>
            <a:ext cx="3981240" cy="3186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lena</cp:lastModifiedBy>
  <dcterms:modified xsi:type="dcterms:W3CDTF">2012-10-04T15:21:42Z</dcterms:modified>
  <cp:revision>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