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1374-3EC9-414A-8D2E-00CE85999F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AB87-72B5-4FED-A5D7-7A94E63C1F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FFF6-C175-4B0B-A277-197A2000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CCE1-711B-472C-8565-D06EEE0D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CFF-8BF2-44D1-91D3-9A83E09E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3365-C247-41F7-85EC-F286E022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E5FA-92B8-4768-AE82-CE7DF8BB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C116-9F33-4E68-BDF2-333A5F5F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9D41-6010-4CA9-85EA-CEC9E27B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1052-36A5-4146-BC31-0F55579E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4A25-CC87-4B46-9D3A-28295994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4597-72D2-479B-BF99-4E43280F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2AC4-1E2F-492C-8B01-AAF984C8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9533-1AB4-40D9-9D77-651CC9DD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A6B2-E21B-4014-8207-07037E5D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70A2-EBC4-4F69-9F66-83FC320B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C284-5E1C-4ECB-AD45-7E0641E9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A09C-AB1B-4EBF-9FE6-8FC455C6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B648-A230-474E-A802-E9400B39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F2420-05BE-4C20-A235-DFBF05A4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94C2A-44D4-4CE2-9FB9-7B5494F3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3CFE8-EFC5-4021-A0BB-7D6F1EC9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CCF7B-B885-4C18-835B-612CF940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22D19-2F93-42FE-85FB-7570581E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EAE-3FC8-4577-B56C-1B492D75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E53F6-D813-4F74-9545-A0442B96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E4DBA-4A2B-410A-97E7-8E3EF545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BAC10-AE8C-4D94-9012-0C2ECAB6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10052-C3EB-4D1D-80A8-A5C771D4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AFC52-F61F-463B-851B-05D06C1A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F0EC7-7A63-4542-94CB-01F63055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8EDAF-DA09-4792-9863-8C360DD0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E93D7-34A3-4C71-8EF7-5AC5EEEB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E1D76-23B5-433E-9A45-CAC26B23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CCBB6-EAC5-47B0-92F2-A3598EF7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B1D3-234C-4FBB-9508-A041D82B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28FA9-462C-43F8-BD23-052DBDAA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EC59A-C52A-4AE4-B935-573F35BB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1C231-FF43-4DDC-A02B-A61327D6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77C66-4669-44F8-913A-43E624D6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166C7-ED5C-4FBA-9AD0-27380345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C2842-C460-42CA-B2C6-A59BA314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44F4C-5403-4D13-82C7-438ED534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73FB8-DC6D-466D-AD16-9BFE0A82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67535-782B-4363-9A62-79D78D38D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AE13-0E2C-48D3-B55B-DC076F64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C1C0-1A1C-48C7-9EC4-32CE9496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F80-CAD1-4BE1-A93F-F574C74F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620E-D9C6-40A2-84F4-FE7F7E25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B8F4-BB30-4AAE-8429-F9828815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A00B-F9CA-43F8-B090-245F40B2788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76BD-060E-4D51-855E-7AB28803501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1802-2164-429A-9590-511B9EF98A9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E261-25AC-4C91-87C5-B0F3A15E001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festival.1september.ru/articles/579832/pril2.doc" TargetMode="External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171360" y="1047600"/>
            <a:ext cx="9051840" cy="2360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2285640" y="388620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ила:  Денисова Г.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 физик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БОУ СОШ  п.Коммунар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Rectangle 2" descr=""/>
          <p:cNvPicPr/>
          <p:nvPr/>
        </p:nvPicPr>
        <p:blipFill>
          <a:blip r:embed="rId1"/>
          <a:stretch/>
        </p:blipFill>
        <p:spPr>
          <a:xfrm>
            <a:off x="328680" y="73080"/>
            <a:ext cx="8418600" cy="1609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457200" y="159984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Благоприятный настрой на урок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Соблюдение гигиенических требова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Построение урока с учетом динамичности учащих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Строгая дозировка време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Нормирование домашнего здоровь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 На всех этапах урока необходимо использовать элементы здоровьесбереж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"/>
          <p:cNvGraphicFramePr/>
          <p:nvPr/>
        </p:nvGraphicFramePr>
        <p:xfrm>
          <a:off x="457200" y="1600200"/>
          <a:ext cx="8229600" cy="4694400"/>
        </p:xfrm>
        <a:graphic>
          <a:graphicData uri="http://schemas.openxmlformats.org/drawingml/2006/table">
            <a:tbl>
              <a:tblPr/>
              <a:tblGrid>
                <a:gridCol w="946080"/>
                <a:gridCol w="2376720"/>
                <a:gridCol w="4906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вое содерж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л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опасная работа с режущими и колющими инструмент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ы предосторожности при гололед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опасный спуск по канат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я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ль заземления. Поведение во время гроз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з. Очк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фекты зрения. Гимнастика для глаз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уковые волн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лосовой аппарат человека. Ультразвук. Применение его в медицин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жность воздух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ияние на здоровье и самочувствие человека. Баня и саун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диоактивност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за облуч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ссу мы легко найдем , умножим плотность на объ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слово «БАЦ» запомнишь, формулу объема вспомнишь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v=b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лезь в воду глубоко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воде давленье велик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давит сверху РО-ЖЕ-А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вдруг концы свои отдаш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упражнение для глаз: движение глазами вверх-вниз, вправо-влево, вращение, закрыть глаза и представить поочередно цвета радуги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Потягивание за мочки уха, потирание мочек уха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Упражнения для рук: поглаживание ладоней, сгибание-разгибание пальцев, «ножницы» прямыми руками, вращение плечами назад-вперед, руки в стороны сгибаем-разгибаем локти, вращение кистей рук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 Упражнение для шеи: вправо-влево, вперед-назад, круговые вращения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Rectangle 2" descr=""/>
          <p:cNvPicPr/>
          <p:nvPr/>
        </p:nvPicPr>
        <p:blipFill>
          <a:blip r:embed="rId1"/>
          <a:stretch/>
        </p:blipFill>
        <p:spPr>
          <a:xfrm>
            <a:off x="285840" y="96840"/>
            <a:ext cx="8656560" cy="1330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83808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ассажир движущегося автобуса отвлек разговором внимание водителя на 5 секунд. Почему «Правилами дорожного движения» запрещено это делать? Какой путь пройдет за это время автобус, если его скорость была 60 км/ч? (Разговаривать с водителем во время движения автобуса нельзя, т. к. создается вполне реальная аварийная ситуация; Автобус проехал за это время путь, равный 83 метрам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Почему при поворотах машинист, шофер, велосипедист снижает скорость движения машин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414360" y="542880"/>
            <a:ext cx="8242200" cy="14144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1989000"/>
            <a:ext cx="83534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Изменение отношения к ЗОЖ.(положительная динамик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Формирование негативного отношения к вредным привычк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Понимание влияния физических законов на живой организ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Умение пользоваться измерительными прибор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9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 Смирнов, Н. К. Здоровьесберегающие образовательные технологии и     психология здоровья в школе/ М.: АРКТИ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Тихомирова Л. Ф. Деятельность учреждений образования по охране и     укреплению здоровья детей.- Учебно-методическое пособие.- Ярославль: ИПКРО, 2000.-112с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festival.1septembar.ru/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icles/579832/pril2 .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410082"/>
                </a:solidFill>
                <a:uFillTx/>
                <a:latin typeface="Times New Roman"/>
                <a:ea typeface="Times New Roman"/>
                <a:hlinkClick r:id="rId2"/>
              </a:rPr>
              <a:t>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9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                                                                                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 Третьяков П.И. Здоровьесберегающая деятельность учителя// Естествознание в школе.-2005.-№5.-С.50-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Закон РФ «Об образовании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1680" indent="-30168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Прямоугольник 1" descr=""/>
          <p:cNvPicPr/>
          <p:nvPr/>
        </p:nvPicPr>
        <p:blipFill>
          <a:blip r:embed="rId2"/>
          <a:stretch/>
        </p:blipFill>
        <p:spPr>
          <a:xfrm>
            <a:off x="1189080" y="2335320"/>
            <a:ext cx="6248520" cy="1955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C:\Users\Коммунарская СОШ\Desktop\флешка 9 августа\Папка кл рук\анимашки\анимашки\ученик.gif"/>
          <p:cNvPicPr/>
          <p:nvPr/>
        </p:nvPicPr>
        <p:blipFill>
          <a:blip r:embed="rId3"/>
          <a:stretch/>
        </p:blipFill>
        <p:spPr>
          <a:xfrm>
            <a:off x="3276720" y="4495680"/>
            <a:ext cx="25016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457200" y="114300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абота о человеческом здоровье, 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м более здоровье ребенка - 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… это, прежде всего, забота 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 гармонической полноте 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сех физических и духовных сил, 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венцом этой гармонии является радость творч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.А. Сухомлин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1155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Концепции модернизации Российского образования отмечено: “..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еобходимо провести оптимизацию учебной, психологической и физической нагрузки учащихся и создать в общеобразовательных учреждениях условия для сохранения и укрепления здоровья обучающихся”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Законе РФ “Об образовании” сказан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татья 2: “Государственная политика в области образования основывается на следующих принципах: гуманистический характер образования, приоритет общечеловеческих ценностей, жизни и здоровья человека..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татья 51: “Образовательное учреждение создаёт условия, гарантирующие охрану и укрепление здоровья обучающихся и воспитанников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533520" y="17524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подавание  физики  позволяет органично вписывать принципы здоровьесбережения в темы уроков, в различные задания как  на уроках, так и во время подготовки домашнего зад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оки  физики могут воспитывать в ребенке сознание великой ценности здоровь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Заголовок 3" descr=""/>
          <p:cNvPicPr/>
          <p:nvPr/>
        </p:nvPicPr>
        <p:blipFill>
          <a:blip r:embed="rId1"/>
          <a:stretch/>
        </p:blipFill>
        <p:spPr>
          <a:xfrm>
            <a:off x="450720" y="665280"/>
            <a:ext cx="8242560" cy="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сутствие оптимальных условий для сохранения и укрепления здоровья в школ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Rectangle 2" descr=""/>
          <p:cNvPicPr/>
          <p:nvPr/>
        </p:nvPicPr>
        <p:blipFill>
          <a:blip r:embed="rId2"/>
          <a:stretch/>
        </p:blipFill>
        <p:spPr>
          <a:xfrm>
            <a:off x="378000" y="2755800"/>
            <a:ext cx="8242200" cy="74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380880" y="32767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здание условий  для сохранения здоровья обучающихся в образовательном процессе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57200" y="9140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229680" indent="-172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Создать целевую программу 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172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Оптимизировать   уровень образовательной нагрузки каждого ученика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172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Реализовывать профилактические мероприят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172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Сформировать благоприятный морально - психологический климат на уроке.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Научить использовать полученные знания в практической деятельност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Rectangle 2" descr=""/>
          <p:cNvPicPr/>
          <p:nvPr/>
        </p:nvPicPr>
        <p:blipFill>
          <a:blip r:embed="rId1"/>
          <a:stretch/>
        </p:blipFill>
        <p:spPr>
          <a:xfrm>
            <a:off x="530280" y="603360"/>
            <a:ext cx="8302680" cy="12747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53352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пространство, окружающее учащихся во время их пребывания в школе:  экологическое, эмоционально – поведенческое, воспитательное, открытое информационно-образовательное пространств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становка и гигиенические условия в кабинет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ичество видов учебной деятельности (норма 4-7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ичество видов преподавания (норма не менее 3-х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редование видов преподавания (норма 6 не позже через 10-15 минут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сто и длительность применения ТС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редование позы учащих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, место, содержание и продолжительность оздоровительных моментов на уроке(норма: по 1 минуте из 3-х легких упражнений с 3-4 повторениями каждого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в содержательной части урока вопросов, связанных со здоровьем и ЗОЖ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мотивации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сихологический климат на урок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спользование эмоциональных разрядо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мп окончания урока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457200" y="1218960"/>
            <a:ext cx="82296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орные конспекты или СЛ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монстрационный экспериме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ронтальный лабораторный экспериме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ение задач практической направленности, в том числе связанные со  здоровьесбережени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гровые момен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зкультминут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уди и видеоаппаратуру для демонстрации интересных материа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ользование творческих работ учащихся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е это не только повышает активность учащихся, но еще позволяют менять виды деятельности на уроке, что способствует снижению утомляемости, а значит и сбережению здоровья учащихс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10-05T12:17:45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