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709-7E88-4E16-AEDA-2A81C1E5F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C52D-376F-4B26-9226-67D60F068C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08D-4F75-4466-8A49-55AF4DBD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575-5B6C-4A6B-8E6A-34DA0AB2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732-F3B8-40AC-8321-43F2D4CD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39D-9F2C-4FC0-9883-B7BA53B6A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C49A-245A-4906-861A-8E02E4D5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64E2-7514-4D2B-9126-B8BE018D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C07E-497A-465B-9C41-6D1E56BF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D46B-B085-44DD-853C-0994835E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9030-EF84-4CA9-8C04-199E59DE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7DA-A59C-46C3-9C04-4005D573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3764-B43C-400A-B7C5-198CE070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570-A972-4BBF-A71D-3DC1B935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BE9A-5359-4D2C-ADCB-D9386B71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79C3-EE4F-4B94-9D09-AB5446AE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E78-DAED-4B7C-9039-2D27B88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D480-D279-4BE1-BF8C-841E12E1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1142-F618-40C8-9CB5-70195812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25A7-0CB0-433B-8DFA-01AFD144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43A14-D562-4590-A861-5B068CDD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0AD4-A9FA-4D00-B52E-716B1B67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B7B3-EAAC-4869-9491-3C2B197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0AE92-62A5-4914-A7BA-055448C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C016-95DB-43C3-92A8-3EF0CBE9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7BEE-47E5-4C74-A339-7D0FE2F6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C251-4E6A-4C7D-A719-ABA83738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0850-3810-4C0A-B237-6E202F07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4163-1B1A-49EA-99FB-81746A3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F2B7-74C2-47B6-8CEB-D611B188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542F-FE25-4B23-9925-F0016DE9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0174-99CA-4882-89DD-AC396085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62A8-399E-48C6-98F5-A4BDDFCC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E942-4022-4882-B15B-5B563681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76BA-B2E2-4969-A6A1-F99CC5F6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C54-7163-43D6-9E6E-B330E440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5226E-60A7-409C-AB67-AAE50874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7E69-F082-4126-B6BC-26B4E442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3CC6-E7A3-4AE8-A2AC-2BEC252A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818D-B3F3-48A0-9592-4D38FD9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0DCE-FFF1-43C6-B5B8-C94CEDE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28A70-0416-4E27-9DA9-A2E3BCC7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FFE89-366A-4E91-BA23-E50BFA42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521D-8124-4F0E-A0FA-9B76BDF8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0AD3-E0A5-46C7-ABD3-39EEAEA7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652-9494-40EC-84F9-8BE4921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6706-026D-461E-AA6F-1F6BFACE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A05D-E4B5-4D83-AEA7-86E0849B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B5D-CC70-4A53-86CD-F9E9E8CA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C4B-0EAB-4770-A5DF-355475A5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BBF2-A8F6-4F12-A479-A1658362506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CD46-18A3-4F8A-B3DB-E4F5F4EFAA5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1A23-3C82-4348-B812-59316422413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D659-7F74-40D3-A108-0F89847233F2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festival.1september.ru/articles/579832/pril2.doc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171360" y="1047600"/>
            <a:ext cx="9051840" cy="2360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2285640" y="38862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ила:  Денисова Г.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физ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БОУ СОШ  п.Коммунар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2" descr=""/>
          <p:cNvPicPr/>
          <p:nvPr/>
        </p:nvPicPr>
        <p:blipFill>
          <a:blip r:embed="rId1"/>
          <a:stretch/>
        </p:blipFill>
        <p:spPr>
          <a:xfrm>
            <a:off x="328680" y="73080"/>
            <a:ext cx="8418600" cy="1609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57200" y="15998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Благоприятный настрой на урок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облюдение гигиенических требов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Построение урока с учетом динамич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Строгая дозировка време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Нормирование домашнего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. На всех этапах урока необходимо использовать элементы здоровьесбереж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457200" y="1600200"/>
          <a:ext cx="8229600" cy="4694400"/>
        </p:xfrm>
        <a:graphic>
          <a:graphicData uri="http://schemas.openxmlformats.org/drawingml/2006/table">
            <a:tbl>
              <a:tblPr/>
              <a:tblGrid>
                <a:gridCol w="946080"/>
                <a:gridCol w="2376720"/>
                <a:gridCol w="49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в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ая работа с режущими и колющими инструмен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предосторожности при гололед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опасный спуск по канат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яж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ль заземления. Поведение во время гроз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. Очк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екты зрения. Гимнастика для гла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овые волн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лосовой аппарат человека. Ультразвук. Применение его в медици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ажность воздух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на здоровье и самочувствие человека. Баня и саун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иоактивность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за облуч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5a3a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ссу мы легко найдем , умножим плотность на объ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слово «БАЦ» запомнишь, формулу объема вспомнишь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=b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лезь в воду глубоко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воде давленье велик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давит сверху РО-ЖЕ-А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вдруг концы свои отдаш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упражнение для глаз: движение глазами вверх-вниз, вправо-влево, вращение, закрыть глаза и представить поочередно цвета радуги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отягивание за мочки уха, потирание мочек ух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Упражнения для рук: поглаживание ладоней, сгибание-разгибание пальцев, «ножницы» прямыми руками, вращение плечами назад-вперед, руки в стороны сгибаем-разгибаем локти, вращение кистей ру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Упражнение для шеи: вправо-влево, вперед-назад, круговые вращени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285840" y="96840"/>
            <a:ext cx="8656560" cy="1330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83808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ассажир движущегося автобуса отвлек разговором внимание водителя на 5 секунд. Почему «Правилами дорожного движения» запрещено это делать? Какой путь пройдет за это время автобус, если его скорость была 60 км/ч? (Разговаривать с водителем во время движения автобуса нельзя, т. к. создается вполне реальная аварийная ситуация; Автобус проехал за это время путь, равный 83 метрам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Почему при поворотах машинист, шофер, велосипедист снижает скорость движения машин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14360" y="5428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198900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Изменение отношения к ЗОЖ.(положительная динами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Формирование негативного отношения к вредным привыч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онимание влияния физических законов на живой организ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Умение пользоваться измерительными прибо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 Смирнов, Н. К. Здоровьесберегающие образовательные технологии и     психология здоровья в школе/ М.: АРКТИ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Тихомирова Л. Ф. Деятельность учреждений образования по охране и     укреплению здоровья детей.- Учебно-методическое пособие.- Ярославль: ИПКРО, 2000.-112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festival.1septembar.ru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icles/579832/pril2 .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2"/>
              </a:rPr>
              <a:t>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 Третьяков П.И. Здоровьесберегающая деятельность учителя// Естествознание в школе.-2005.-№5.-С.50-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Закон РФ «Об образовании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1680" indent="-301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Прямоугольник 1" descr=""/>
          <p:cNvPicPr/>
          <p:nvPr/>
        </p:nvPicPr>
        <p:blipFill>
          <a:blip r:embed="rId2"/>
          <a:stretch/>
        </p:blipFill>
        <p:spPr>
          <a:xfrm>
            <a:off x="1189080" y="2335320"/>
            <a:ext cx="6248520" cy="1955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C:\Users\Коммунарская СОШ\Desktop\флешка 9 августа\Папка кл рук\анимашки\анимашки\ученик.gif"/>
          <p:cNvPicPr/>
          <p:nvPr/>
        </p:nvPicPr>
        <p:blipFill>
          <a:blip r:embed="rId3"/>
          <a:stretch/>
        </p:blipFill>
        <p:spPr>
          <a:xfrm>
            <a:off x="3276720" y="4495680"/>
            <a:ext cx="25016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3"/>
          <p:cNvSpPr/>
          <p:nvPr/>
        </p:nvSpPr>
        <p:spPr>
          <a:xfrm>
            <a:off x="457200" y="11430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Забота о человеческом здоровье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 более здоровье ребенка -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… это, прежде всего, забота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 гармонической полноте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ех физических и духовных сил, 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 венцом этой гармонии является радость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.А. Сухомлин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11556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Концепции модернизации Российского образования отмечено: “..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еобходимо провести оптимизацию учебной, психологической и физической нагрузки учащихся и создать в общеобразовательных учреждениях условия для сохранения и укрепления здоровья обучающихся”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Законе РФ “Об образовании” сказа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2: “Государственная политика в области образования основывается на следующих принципах: гуманистический характер образования, приоритет общечеловеческих ценностей, жизни и здоровья человека..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86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татья 51: “Образовательное учреждение создаёт условия, гарантирующие охрану и укрепление здоровья обучающихся и воспитанников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17524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ние  физики  позволяет органично вписывать принципы здоровьесбережения в темы уроков, в различные задания как  на уроках, так и во время подготовки домашнего зад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роки  физики могут воспитывать в ребенке сознание великой ценности здоровь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Заголовок 3" descr=""/>
          <p:cNvPicPr/>
          <p:nvPr/>
        </p:nvPicPr>
        <p:blipFill>
          <a:blip r:embed="rId1"/>
          <a:stretch/>
        </p:blipFill>
        <p:spPr>
          <a:xfrm>
            <a:off x="450720" y="665280"/>
            <a:ext cx="824256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ие оптимальных условий для сохранения и укрепления здоровья в школ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Rectangle 2" descr=""/>
          <p:cNvPicPr/>
          <p:nvPr/>
        </p:nvPicPr>
        <p:blipFill>
          <a:blip r:embed="rId2"/>
          <a:stretch/>
        </p:blipFill>
        <p:spPr>
          <a:xfrm>
            <a:off x="378000" y="2755800"/>
            <a:ext cx="824220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380880" y="32767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условий  для сохранения здоровья обучающихся в образовательном процесс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9140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229680" indent="-17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Создать целевую программу 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Оптимизировать   уровень образовательной нагрузки каждого ученика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Реализовывать профилактические мероприят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Сформировать благоприятный морально - психологический климат на уроке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17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Научить использовать полученные знания в практической деятельност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530280" y="603360"/>
            <a:ext cx="8302680" cy="12747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53352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пространство, окружающее учащихся во время их пребывания в школе:  экологическое, эмоционально – поведенческое, воспитательное, открытое информационно-образовательное пространст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становка и гигиенические условия в кабине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учебной деятельности (норма 4-7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о видов преподавания (норма не менее 3-х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видов преподавания (норма 6 не позже через 10-15 минут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о и длительность применения ТС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редование позы учащих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, место, содержание и продолжительность оздоровительных моментов на уроке(норма: по 1 минуте из 3-х легких упражнений с 3-4 повторениями каждого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в содержательной части урока вопросов, связанных со здоровьем и ЗОЖ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мотивации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сихологический климат на уро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спользование эмоциональных разрядо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емп окончания урока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218960"/>
            <a:ext cx="82296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орные конспекты или СЛ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монстрацион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ронтальный лабораторный эксперимен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шение задач практической направленности, в том числе связанные со  здоровьесбереж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гровые момен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культминут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ди и видеоаппаратуру для демонстрации интересных матери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творческих работ учащихся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се это не только повышает активность учащихся, но еще позволяют менять виды деятельности на уроке, что способствует снижению утомляемости, а значит и сбережению здоровья учащихс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10-05T12:17:45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