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gif" ContentType="image/gif"/>
  <Override PartName="/ppt/media/image5.png" ContentType="image/png"/>
  <Override PartName="/ppt/media/image1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3CE9-FE7E-4C85-A757-7C41491C9F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0624-02DA-41B8-A973-8F3F672D28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972F-79C8-4B7C-8E9F-B9E1017F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936C-EABC-4231-B051-6AC97090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14C9-44B2-43A5-8CFC-3D6D7686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127C-8A98-46F7-9D26-13BF4F56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1588-6FE1-4121-9B12-FC234497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B162-BACE-460D-B4F8-40069535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FAF2-C110-4580-9F08-EFE57145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3914-8883-4489-B673-AEC86026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05DE-F17A-44CD-86A6-FDBA216B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F363-9516-4286-AF7C-AA06DF23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9D74-64CE-40B4-9899-A0054D48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C984-0F2B-4120-B74D-839878A0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5599-F577-4620-B905-35C65D50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E2EA-7EE6-4191-9CE3-A901C4AC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BA27-2360-4FF2-BA8D-28B64F24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951E-5ABE-4C1E-811F-DBFACCB8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3BCE-D914-482A-9B05-82661B71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96A29-E631-42C2-8CAC-F5E6E1A4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535BB-38D7-4F3D-BD26-2703C924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A283C-C13D-44FE-A668-2186755E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1FD0A-E566-4BB5-8BED-6FC64D8F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8AFCF-AF3F-4EAE-B6E9-7F957919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6709-27A8-42F1-9EE0-D719351B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247C1-B307-4E76-BF23-B43D8AF7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C384A-D173-41EB-BF5E-87B05F85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04628-34B9-4E61-AEAD-89B1E954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B0DC9-2FA2-41EC-8310-8F622335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97DAF-C9C0-4CCA-9D84-CCC73503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44473-BAFC-4180-9004-7A7B0168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50A02-AC40-4ED1-A3CF-6CD23FD3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749E4-D30E-4B62-82CF-6CCC8F65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665D2-9CD8-4341-98D3-7347DCF2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173F4-7051-44DC-A4E9-C39A42C1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34AD-B8B4-4338-87CB-0C22B7DA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2A1B8-10F2-4206-BA61-D79667EA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2AF7B-58D9-4C62-967E-4A2394FF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0A6EE-242B-4FF9-AA96-6338796C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E6D3C-9752-4EB2-B267-06958F0B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CF473-D831-4B02-95A4-0506354F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76B6F-9CA2-43E1-A3B7-FB7872E2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CDAFB-8F7F-4A82-9A23-95E3B4A4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E60E9-B5D2-48D3-B9FE-82DA9D62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7411A-E195-4B22-998A-E8650A0B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FBB4-FE7E-436D-AAEB-4E119275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6C70-18F6-45FA-BB3F-B5F45CB9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87A9-3228-43DB-9BA1-476154D5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F8AE-AF09-4BD5-A906-56389A98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AA96-9008-44D6-9225-E45C895B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BA04-6E8E-42FC-8F16-C90DB3E689D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93F3-3BEF-4E42-914E-37FE7F56806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9F06-7595-4C90-B87C-9AD203914F2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EA57-749D-4B11-990A-C28BF5C9C91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festival.1september.ru/articles/579832/pril2.doc" TargetMode="External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171360" y="1047600"/>
            <a:ext cx="9051840" cy="2360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2285640" y="388620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ила:  Денисова Г.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ь физик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БОУ СОШ  п.Коммунарск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Rectangle 2" descr=""/>
          <p:cNvPicPr/>
          <p:nvPr/>
        </p:nvPicPr>
        <p:blipFill>
          <a:blip r:embed="rId1"/>
          <a:stretch/>
        </p:blipFill>
        <p:spPr>
          <a:xfrm>
            <a:off x="328680" y="73080"/>
            <a:ext cx="8418600" cy="1609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457200" y="159984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Благоприятный настрой на урок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Соблюдение гигиенических требова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Построение урока с учетом динамичности учащих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Строгая дозировка време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Нормирование домашнего здоровь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. На всех этапах урока необходимо использовать элементы здоровьесбереж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"/>
          <p:cNvGraphicFramePr/>
          <p:nvPr/>
        </p:nvGraphicFramePr>
        <p:xfrm>
          <a:off x="457200" y="1600200"/>
          <a:ext cx="8229600" cy="4694400"/>
        </p:xfrm>
        <a:graphic>
          <a:graphicData uri="http://schemas.openxmlformats.org/drawingml/2006/table">
            <a:tbl>
              <a:tblPr/>
              <a:tblGrid>
                <a:gridCol w="946080"/>
                <a:gridCol w="2376720"/>
                <a:gridCol w="4906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вое содерж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вл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опасная работа с режущими и колющими инструмент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ы предосторожности при гололед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опасный спуск по канат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я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ль заземления. Поведение во время гроз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з. Очк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фекты зрения. Гимнастика для глаз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уковые волн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лосовой аппарат человека. Ультразвук. Применение его в медицин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жность воздух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ияние на здоровье и самочувствие человека. Баня и саун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диоактивност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за облуче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ссу мы легко найдем , умножим плотность на объе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слово «БАЦ» запомнишь, формулу объема вспомнишь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v=b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лезь в воду глубоко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воде давленье велик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давит сверху РО-ЖЕ-АШ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вдруг концы свои отдаш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упражнение для глаз: движение глазами вверх-вниз, вправо-влево, вращение, закрыть глаза и представить поочередно цвета радуги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Потягивание за мочки уха, потирание мочек уха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Упражнения для рук: поглаживание ладоней, сгибание-разгибание пальцев, «ножницы» прямыми руками, вращение плечами назад-вперед, руки в стороны сгибаем-разгибаем локти, вращение кистей рук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. Упражнение для шеи: вправо-влево, вперед-назад, круговые вращения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Rectangle 2" descr=""/>
          <p:cNvPicPr/>
          <p:nvPr/>
        </p:nvPicPr>
        <p:blipFill>
          <a:blip r:embed="rId1"/>
          <a:stretch/>
        </p:blipFill>
        <p:spPr>
          <a:xfrm>
            <a:off x="285840" y="96840"/>
            <a:ext cx="8656560" cy="13302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83808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ассажир движущегося автобуса отвлек разговором внимание водителя на 5 секунд. Почему «Правилами дорожного движения» запрещено это делать? Какой путь пройдет за это время автобус, если его скорость была 60 км/ч? (Разговаривать с водителем во время движения автобуса нельзя, т. к. создается вполне реальная аварийная ситуация; Автобус проехал за это время путь, равный 83 метрам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Почему при поворотах машинист, шофер, велосипедист снижает скорость движения машин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1" descr=""/>
          <p:cNvPicPr/>
          <p:nvPr/>
        </p:nvPicPr>
        <p:blipFill>
          <a:blip r:embed="rId1"/>
          <a:stretch/>
        </p:blipFill>
        <p:spPr>
          <a:xfrm>
            <a:off x="414360" y="542880"/>
            <a:ext cx="8242200" cy="14144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1989000"/>
            <a:ext cx="83534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Изменение отношения к ЗОЖ.(положительная динамик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Формирование негативного отношения к вредным привычка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Понимание влияния физических законов на живой организ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Умение пользоваться измерительными прибор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9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 Смирнов, Н. К. Здоровьесберегающие образовательные технологии и     психология здоровья в школе/ М.: АРКТИ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Тихомирова Л. Ф. Деятельность учреждений образования по охране и     укреплению здоровья детей.- Учебно-методическое пособие.- Ярославль: ИПКРО, 2000.-112с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festival.1septembar.ru/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icles/579832/pril2 .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410082"/>
                </a:solidFill>
                <a:uFillTx/>
                <a:latin typeface="Times New Roman"/>
                <a:ea typeface="Times New Roman"/>
                <a:hlinkClick r:id="rId2"/>
              </a:rPr>
              <a:t>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9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                                                                                   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 Третьяков П.И. Здоровьесберегающая деятельность учителя// Естествознание в школе.-2005.-№5.-С.50-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Закон РФ «Об образовании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1680" indent="-30168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Прямоугольник 1" descr=""/>
          <p:cNvPicPr/>
          <p:nvPr/>
        </p:nvPicPr>
        <p:blipFill>
          <a:blip r:embed="rId2"/>
          <a:stretch/>
        </p:blipFill>
        <p:spPr>
          <a:xfrm>
            <a:off x="1189080" y="2335320"/>
            <a:ext cx="6248520" cy="1955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C:\Users\Коммунарская СОШ\Desktop\флешка 9 августа\Папка кл рук\анимашки\анимашки\ученик.gif"/>
          <p:cNvPicPr/>
          <p:nvPr/>
        </p:nvPicPr>
        <p:blipFill>
          <a:blip r:embed="rId3"/>
          <a:stretch/>
        </p:blipFill>
        <p:spPr>
          <a:xfrm>
            <a:off x="3276720" y="4495680"/>
            <a:ext cx="25016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3"/>
          <p:cNvSpPr/>
          <p:nvPr/>
        </p:nvSpPr>
        <p:spPr>
          <a:xfrm>
            <a:off x="457200" y="1143000"/>
            <a:ext cx="815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Забота о человеческом здоровье, 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ем более здоровье ребенка - 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… это, прежде всего, забота 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 гармонической полноте 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сех физических и духовных сил, 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венцом этой гармонии является радость творче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.А. Сухомлин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11556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 Концепции модернизации Российского образования отмечено: “..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еобходимо провести оптимизацию учебной, психологической и физической нагрузки учащихся и создать в общеобразовательных учреждениях условия для сохранения и укрепления здоровья обучающихся”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 Законе РФ “Об образовании” сказан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татья 2: “Государственная политика в области образования основывается на следующих принципах: гуманистический характер образования, приоритет общечеловеческих ценностей, жизни и здоровья человека..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татья 51: “Образовательное учреждение создаёт условия, гарантирующие охрану и укрепление здоровья обучающихся и воспитанников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533520" y="17524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подавание  физики  позволяет органично вписывать принципы здоровьесбережения в темы уроков, в различные задания как  на уроках, так и во время подготовки домашнего зад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оки  физики могут воспитывать в ребенке сознание великой ценности здоровь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Заголовок 3" descr=""/>
          <p:cNvPicPr/>
          <p:nvPr/>
        </p:nvPicPr>
        <p:blipFill>
          <a:blip r:embed="rId1"/>
          <a:stretch/>
        </p:blipFill>
        <p:spPr>
          <a:xfrm>
            <a:off x="450720" y="665280"/>
            <a:ext cx="8242560" cy="8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сутствие оптимальных условий для сохранения и укрепления здоровья в школ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Rectangle 2" descr=""/>
          <p:cNvPicPr/>
          <p:nvPr/>
        </p:nvPicPr>
        <p:blipFill>
          <a:blip r:embed="rId2"/>
          <a:stretch/>
        </p:blipFill>
        <p:spPr>
          <a:xfrm>
            <a:off x="378000" y="2755800"/>
            <a:ext cx="8242200" cy="74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380880" y="32767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здание условий  для сохранения здоровья обучающихся в образовательном процессе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57200" y="9140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229680" indent="-172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Создать целевую программу 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172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Оптимизировать   уровень образовательной нагрузки каждого ученика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172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Реализовывать профилактические мероприят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172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Сформировать благоприятный морально - психологический климат на уроке.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17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Научить использовать полученные знания в практической деятельност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Rectangle 2" descr=""/>
          <p:cNvPicPr/>
          <p:nvPr/>
        </p:nvPicPr>
        <p:blipFill>
          <a:blip r:embed="rId1"/>
          <a:stretch/>
        </p:blipFill>
        <p:spPr>
          <a:xfrm>
            <a:off x="530280" y="603360"/>
            <a:ext cx="8302680" cy="12747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53352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пространство, окружающее учащихся во время их пребывания в школе:  экологическое, эмоционально – поведенческое, воспитательное, открытое информационно-образовательное пространств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становка и гигиенические условия в кабинет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личество видов учебной деятельности (норма 4-7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личество видов преподавания (норма не менее 3-х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ередование видов преподавания (норма 6 не позже через 10-15 минут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сто и длительность применения ТС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ередование позы учащих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, место, содержание и продолжительность оздоровительных моментов на уроке(норма: по 1 минуте из 3-х легких упражнений с 3-4 повторениями каждого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в содержательной части урока вопросов, связанных со здоровьем и ЗОЖ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мотивации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сихологический климат на урок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спользование эмоциональных разрядо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мп окончания урока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457200" y="1218960"/>
            <a:ext cx="822960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орные конспекты или СЛ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монстрационный экспериме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ронтальный лабораторный экспериме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ение задач практической направленности, в том числе связанные со  здоровьесбережени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гровые момен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зкультминут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уди и видеоаппаратуру для демонстрации интересных материа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пользование творческих работ учащихся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е это не только повышает активность учащихся, но еще позволяют менять виды деятельности на уроке, что способствует снижению утомляемости, а значит и сбережению здоровья учащихс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10-05T12:17:45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