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FEC3-2687-4601-B631-AC73D0F11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DB47-4759-4560-AECD-9B584EBCB6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7B0-72F1-4B8A-BBE3-80D69CC1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029-DAEF-484D-9098-114C646E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01C-5A8B-4BD4-B930-AF89FFBA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4C2-5053-4F7A-9250-BEE39BF7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1BC3-8918-4033-AFDD-0559C7C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1800-DA7E-42FD-8551-C9997872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0C86-AA9A-49E2-8F72-1DAB02A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D44D-DBF7-4631-A0FF-CB4F6318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F01-641D-4C28-8F89-5F6DC2C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4728-D7ED-4EA5-BB86-83CB19C7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212-8C00-41A7-B168-EC18A1ED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457-751E-4BDD-BC15-67182EC9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07EC-68E1-4025-A48C-E91B2EF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C39-E68C-433B-BBFF-2D77FD42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CCDB-DDE4-4B8A-9821-573937D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C95-9C0C-4843-A6E9-7E931FE7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4F6-4C49-4A19-BA43-5A0F9CBF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49FE-281A-4081-8B85-BDFF14CE0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31CC-9DEF-40AB-9345-64A9E05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BC475-C174-4333-B337-9331C3FF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DA5ED-01AE-4DFE-8288-D7256513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2E32-D093-494A-8FE2-DF432E79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E8E2-1461-45EE-8D8B-07BBDE76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C913-D359-4314-9C82-7A65BF8C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72B1-366C-432E-85A0-4EBC5322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53CF-81C1-472A-8F52-328A7037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F162-5BAE-4F37-B88A-C11B66A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21501-2053-443A-87B9-4CDD369F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24D2-D975-44AC-AE4F-20DA44D1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36BB-AAB8-4826-9E2F-EC2BB014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C9B2-0B1B-4A74-BF1A-51B739CC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95EDD-91FF-4F3E-AC95-1DC32891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8BD9-61A5-4882-944C-ED191A4C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7F4-D380-42BF-971E-2BD69A63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F536-3F76-47CF-BAE3-41D84F48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FE44-52C0-4660-A052-2B61621B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4354-83DC-4C1D-B112-A17868F6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44B4-41A4-4F7B-8E4D-D479577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79B31-A936-410A-9257-6E72441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1E63-6687-43E8-B0AC-191CF436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F0F47-6420-420D-BE20-30584CC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5C444-C6BF-488B-942D-237EB26A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6225-AD22-41DB-81BE-3BE7482E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95F-396D-493F-8BE8-28AAFE3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AA6-6C3A-4632-B555-EABF7107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839-9CFF-4ABC-A9B2-8DE5A89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714-4B02-45E0-8B07-604B686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0D1-A15B-4A30-977E-F372391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9DA-E1D4-40E9-B53F-321ED4774CE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EC7B-5A3B-4E2B-8ACA-664B8DEF9D3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A68-AC27-422E-B7A7-D6C9968E4BE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68BC-05C8-4A2B-A9FE-EEE63A9DB26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estival.1september.ru/articles/579832/pril2.doc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1360" y="1047600"/>
            <a:ext cx="9051840" cy="236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:  Денисова Г.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СОШ  п.Коммунар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328680" y="73080"/>
            <a:ext cx="8418600" cy="160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946080"/>
                <a:gridCol w="2376720"/>
                <a:gridCol w="49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в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ая работа с режущими и колющими инструме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предосторожности при гололед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ый спуск по кана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ь заземления. Поведение во время гроз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. Оч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ы зрения. Гимнастика для гла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овые вол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ой аппарат человека. Ультразвук. Применение его в медиц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на здоровье и самочувствие человека. Баня и сау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актив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за облуч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у мы легко найдем , умножим плотность на объ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слово «БАЦ» запомнишь, формулу объема вспомнишь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=b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лезь в воду глубо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де давленье вели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авит сверху РО-ЖЕ-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друг концы свои отда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отягивание за мочки уха, поти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56560" cy="133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ассажир движущегося автобуса отвлек разговором внимание водителя на 5 секунд. Почему «Правилами дорожного движения» запрещено это делать? Какой путь пройдет за это время автобус, если его скорость была 60 км/ч? (Разговаривать с водителем во время движения автобуса нельзя, т. к. создается вполне реальная аварийная ситуация; Автобус проехал за это время путь, равный 83 метрам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чему при поворотах машинист, шофер, велосипедист снижает скорость движения маши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14360" y="5428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зменение отношения к ЗОЖ.(положительная динам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Формирование негативного отношения к вредным привыч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онимание влияния физических законов на живой орга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Умение пользоваться измерительными прибо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Смирнов, Н. К. Здоровьесберегающие образовательные технологии и     психология здоровья в школе/ М.: АРКТИ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Тихомирова Л. Ф. Деятельность учреждений образования по охране и     укреплению здоровья детей.- Учебно-методическое пособие.- Ярославль: ИПКРО, 2000.-112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festival.1septembar.ru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/579832/pril2 .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 Третьяков П.И. Здоровьесберегающая деятельность учителя// Естествознание в школе.-2005.-№5.-С.50-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Закон РФ «Об образован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2335320"/>
            <a:ext cx="6248520" cy="195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оммунарская СОШ\Desktop\флешка 9 августа\Папка кл рук\анимашки\анимашки\ученик.gif"/>
          <p:cNvPicPr/>
          <p:nvPr/>
        </p:nvPicPr>
        <p:blipFill>
          <a:blip r:embed="rId3"/>
          <a:stretch/>
        </p:blipFill>
        <p:spPr>
          <a:xfrm>
            <a:off x="3276720" y="4495680"/>
            <a:ext cx="25016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45720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бота о человеческом здоровье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 более здоровье ребенка -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 это, прежде всего, забота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 гармонической полноте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х физических и духовных сил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енцом этой гармонии является радость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55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онцепции модернизации Российского образования отмечено: “..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провести оптимизацию учебной, психологической и физической нагрузки учащихся и создать в общеобразовательных учреждениях условия для сохранения и укрепления здоровья обучающихся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Законе РФ “Об образовании” сказа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2: “Государственная политика в области образования основывается на следующих принципах: гуманистический характер образования, приоритет общечеловеческих ценностей, жизни и здоровья человека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51: “Образовательное учреждение создаёт условия, гарантирующие охрану и укрепление здоровья обучающихся и воспитанников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ние  физики 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Заголовок 3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24256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оптимальных условий для сохранения и укрепления здоровья в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2"/>
          <a:stretch/>
        </p:blipFill>
        <p:spPr>
          <a:xfrm>
            <a:off x="378000" y="2755800"/>
            <a:ext cx="824220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380880" y="3276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условий  для сохранения здоровья обучающихся в образовательном процесс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9140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29680" indent="-17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здать целевую программу 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птимизировать   уровень образовательной нагрузки каждого ученик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Реализовывать профилактически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Сформировать благоприятный морально - психологический климат на уроке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Научить использовать полученные знания в практической дея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302680" cy="1274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, окружающее учащихся во время их пребывания в школе:  экологическое, эмоционально – поведенческое, воспитательное, открытое информационно-образовательное пространст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тановка и гигиенические условия в кабине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учебной деятельности (норма 4-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преподавания (норма не менее 3-х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видов преподавания (норма 6 не позже через 10-15 минут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 и длительность применения ТС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позы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в содержательной части урока вопросов, связанных со здоровьем и ЗО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мотивац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ический климат на уро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эмоциональных разряд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п окончания урока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21896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орные конспекты или СЛ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монстрацион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онтальный лаборатор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 задач практической направленности, в том числе связанные со  здоровьесбереж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ые мо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культмину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ди и видеоаппаратуру для демонстрации интересных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творческих работ учащихс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05T12:17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