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350-AC61-42F3-9548-CE8E8FC0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1A4-544A-4DF7-8BCF-614596A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683-85D6-48F1-B618-398A6E68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A11-21E0-44DC-9AEA-CD3A09CD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565B-606F-4C09-B090-BA2DF031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C712-69E4-4E06-9DFE-42BC321C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3BED-AC99-491E-8087-D2E1F647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3566-CD8D-41B1-8F6B-E13792F1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0140-7503-4645-B784-CF972D60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470A-C95A-4E06-B697-0B001C50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ECD0-68CC-4F31-861B-2F764F3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064-989A-4C72-AF4B-8F8F04D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01FD-D0B9-48B0-95B9-54D32EC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FAA6-44E3-439F-BEDC-8A6EEFD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17AA-A586-4E4E-A6D4-3F60364A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5E1C-0B09-42AB-9AA7-C5C06501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2998-DDF8-4A9C-9FD4-F3B7AE03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D04-378A-4627-B200-6CE312E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B13-ADAB-4FD2-8B57-5B682F1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BFA-0493-47C7-98B0-6387158A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83D-2678-457C-89B8-6BD24667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E34-06CF-415F-B66A-B32941F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E83-457A-4993-8791-454A60B7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1BA-4615-49CE-B6FE-B97E537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F5FC-1A50-4DA2-82E4-97CFFCF639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4A6A-2638-4AC5-B8F1-4AAFC46E75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Нахождение неизвестных компонентов сложения и вычитания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лтанова Е.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бота уст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чебник: № 19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рифметическая минутка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.Т., часть 1, № 56 (б,  в)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из карточек ответы на вопрос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азываются числа при сложен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они связаны между соб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азываются числа при вычитан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они связаны между соб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Формирование ум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0578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йдите неизвестное чис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 – 24 = 9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45 – х =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 + 213 = 65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риём «маленький приме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йдите неизвестное чис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 + Х = 8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– 34 =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8 - в = 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4076640"/>
            <a:ext cx="3457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= 5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 = 86 –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 = 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57336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285264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202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Мягкая посад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22 – 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4 –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4 + 1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8 + 1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27+3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2 + 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8 + 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60–1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0 – 2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33-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42 – 37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61 – 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7 + 5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7 + 4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995640" y="1125360"/>
            <a:ext cx="438624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 вариан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000 – х = 5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81 + х = 27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 вариан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749 + а = 165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906 – а = 18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число задумано, если к задуманному числу прибавили 15, а затем ещё 24 и получили 76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076640"/>
            <a:ext cx="93672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4076640"/>
            <a:ext cx="93672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4076640"/>
            <a:ext cx="93672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2" idx="0"/>
            <a:endCxn id="173" idx="0"/>
          </p:cNvCxnSpPr>
          <p:nvPr/>
        </p:nvCxnSpPr>
        <p:spPr>
          <a:xfrm flipH="1" rot="16200000">
            <a:off x="3779640" y="3103920"/>
            <a:ext cx="2520" cy="194544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 flipH="1" rot="16200000">
            <a:off x="5830560" y="3103920"/>
            <a:ext cx="2520" cy="194544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6048360" y="3897000"/>
            <a:ext cx="2160" cy="1945440"/>
          </a:xfrm>
          <a:prstGeom prst="curvedConnector5">
            <a:avLst>
              <a:gd name="adj1" fmla="val 23800000"/>
              <a:gd name="adj2" fmla="val 49990"/>
              <a:gd name="adj3" fmla="val 23800000"/>
            </a:avLst>
          </a:prstGeom>
          <a:ln w="57240">
            <a:solidFill>
              <a:srgbClr val="000000"/>
            </a:solidFill>
            <a:miter/>
            <a:headEnd len="med" type="stealth" w="med"/>
          </a:ln>
        </p:spPr>
      </p:cxnSp>
      <p:cxnSp>
        <p:nvCxnSpPr>
          <p:cNvPr id="178" name=""/>
          <p:cNvCxnSpPr/>
          <p:nvPr/>
        </p:nvCxnSpPr>
        <p:spPr>
          <a:xfrm flipH="1" rot="16200000">
            <a:off x="3743280" y="3897000"/>
            <a:ext cx="2160" cy="1945440"/>
          </a:xfrm>
          <a:prstGeom prst="curvedConnector5">
            <a:avLst>
              <a:gd name="adj1" fmla="val 23800000"/>
              <a:gd name="adj2" fmla="val 49990"/>
              <a:gd name="adj3" fmla="val 23800000"/>
            </a:avLst>
          </a:prstGeom>
          <a:ln w="5724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179" name=""/>
          <p:cNvSpPr/>
          <p:nvPr/>
        </p:nvSpPr>
        <p:spPr>
          <a:xfrm>
            <a:off x="658800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32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64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373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5373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ебник: №195 (в, г, ж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8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1:27:25Z</dcterms:created>
  <dc:creator>Андрей</dc:creator>
  <dc:description/>
  <dc:language>en-US</dc:language>
  <cp:lastModifiedBy>Андрей</cp:lastModifiedBy>
  <dcterms:modified xsi:type="dcterms:W3CDTF">2012-10-05T02:17:52Z</dcterms:modified>
  <cp:revision>2</cp:revision>
  <dc:subject/>
  <dc:title>Нахождение неизвестных компонентов сложения и вычитания</dc:title>
</cp:coreProperties>
</file>