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6EC-EADF-48E9-BB40-197523A9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458-E2D6-4FA9-AFDD-80AE1DCF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020-FCAC-4B8D-B1ED-7F809BB2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5AF-9B8B-47EC-A759-A5FF65B6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2A29-07E2-4ED5-A10D-5B53D8C0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4C1C-0FDA-4030-9F33-FEE8C7E9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1967-95A4-4FEE-9932-D69598E6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C060-FDC3-42D2-8317-ED8210AE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D822-9844-43B3-B900-4DF3D15B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6566-4537-4670-B23E-6533A20A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F4E7-4C9E-4C77-B842-1D25D035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AF2-A14D-4FEB-8A7B-1FBEE909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F1FA-FFD8-4B06-B3C4-CED56F56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ACE1-2B93-4C3F-A3C5-6544741B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99F0-4613-4502-B36C-86B38C3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B0BA-5B86-41FA-BEB7-AB0F120A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A630-0958-44EB-B66A-40316182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E93-5B0C-4DF8-9057-A67D87C7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01A-D791-4D3A-B744-FD8658F4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F44-CACD-4091-9217-763CDECD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DE7-A7E9-4F5B-891D-CA15F7A3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197-1353-4AEB-9B47-71E21156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7AD-3D9E-4E69-88AE-651F9500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E7B-63B5-4156-A419-FE5C9756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00D7-A0AC-4ECE-A587-F83083F1A5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96B8-874B-4D8C-9522-A982EABF0C4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Нахождение неизвестных компонентов сложения и вычитания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лтанова Е.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абота уст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чебник: № 19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рифметическая минутка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.Т., часть 1, № 56 (б,  в)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Актуализация зна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ставьте из карточек ответы на вопросы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называются числа при сложен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они связаны между собо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называются числа при вычитан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они связаны между собо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Формирование ум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0578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йдите неизвестное числ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 – 24 = 9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45 – х =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Х + 213 = 65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Приём «маленький пример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йдите неизвестное числ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3 + Х = 8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– 34 =7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8 - в = 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4076640"/>
            <a:ext cx="3457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+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= 5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 = 86 –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 = 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357336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2852640"/>
            <a:ext cx="31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2026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Мягкая посад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22 – 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4 – 7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4 + 1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8 + 1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27+3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2 + 9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8 + 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60–18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30 – 2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33-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42 – 37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61 – 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7 + 5      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17 + 4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3995640" y="1125360"/>
            <a:ext cx="438624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 вариан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1000 – х = 54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181 + х = 27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1 вариан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749 + а = 165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omic Sans MS"/>
              </a:rPr>
              <a:t>906 – а = 18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Решение зада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число задумано, если к задуманному числу прибавили 15, а затем ещё 24 и получили 76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4076640"/>
            <a:ext cx="93672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4076640"/>
            <a:ext cx="93672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3640" y="4076640"/>
            <a:ext cx="936720" cy="792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72" idx="0"/>
            <a:endCxn id="173" idx="0"/>
          </p:cNvCxnSpPr>
          <p:nvPr/>
        </p:nvCxnSpPr>
        <p:spPr>
          <a:xfrm flipH="1" rot="16200000">
            <a:off x="3779640" y="3103920"/>
            <a:ext cx="2520" cy="194544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/>
          <p:nvPr/>
        </p:nvCxnSpPr>
        <p:spPr>
          <a:xfrm flipH="1" rot="16200000">
            <a:off x="5830560" y="3103920"/>
            <a:ext cx="2520" cy="194544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6048360" y="3897000"/>
            <a:ext cx="2160" cy="1945440"/>
          </a:xfrm>
          <a:prstGeom prst="curvedConnector5">
            <a:avLst>
              <a:gd name="adj1" fmla="val 23800000"/>
              <a:gd name="adj2" fmla="val 49990"/>
              <a:gd name="adj3" fmla="val 23800000"/>
            </a:avLst>
          </a:prstGeom>
          <a:ln w="57240">
            <a:solidFill>
              <a:srgbClr val="000000"/>
            </a:solidFill>
            <a:miter/>
            <a:headEnd len="med" type="stealth" w="med"/>
          </a:ln>
        </p:spPr>
      </p:cxnSp>
      <p:cxnSp>
        <p:nvCxnSpPr>
          <p:cNvPr id="178" name=""/>
          <p:cNvCxnSpPr/>
          <p:nvPr/>
        </p:nvCxnSpPr>
        <p:spPr>
          <a:xfrm flipH="1" rot="16200000">
            <a:off x="3743280" y="3897000"/>
            <a:ext cx="2160" cy="1945440"/>
          </a:xfrm>
          <a:prstGeom prst="curvedConnector5">
            <a:avLst>
              <a:gd name="adj1" fmla="val 23800000"/>
              <a:gd name="adj2" fmla="val 49990"/>
              <a:gd name="adj3" fmla="val 23800000"/>
            </a:avLst>
          </a:prstGeom>
          <a:ln w="57240">
            <a:solidFill>
              <a:srgbClr val="000000"/>
            </a:solidFill>
            <a:miter/>
            <a:headEnd len="med" type="stealth" w="med"/>
          </a:ln>
        </p:spPr>
      </p:cxnSp>
      <p:sp>
        <p:nvSpPr>
          <p:cNvPr id="179" name=""/>
          <p:cNvSpPr/>
          <p:nvPr/>
        </p:nvSpPr>
        <p:spPr>
          <a:xfrm>
            <a:off x="6588000" y="429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321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6400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373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5373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ебник: №195 (в, г, ж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8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09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№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1:27:25Z</dcterms:created>
  <dc:creator>Андрей</dc:creator>
  <dc:description/>
  <dc:language>en-US</dc:language>
  <cp:lastModifiedBy>Андрей</cp:lastModifiedBy>
  <dcterms:modified xsi:type="dcterms:W3CDTF">2012-10-05T02:17:52Z</dcterms:modified>
  <cp:revision>2</cp:revision>
  <dc:subject/>
  <dc:title>Нахождение неизвестных компонентов сложения и вычитания</dc:title>
</cp:coreProperties>
</file>