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406-923D-491D-A24A-32289979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FF46-D3E3-4123-B2FF-FC77ECFC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F1F-0D0A-44E0-B3C3-590B82E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E8C-ADEC-4F29-B1F4-094942F1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B55-A063-4627-8FF1-9849DE10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B68-F74D-446E-BFA3-292FC9B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21E-9686-41CD-BE4E-6E6049A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E4E-1EDE-4A20-9337-D7BB165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0A5-0D98-4DFD-8281-2DD17EFE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316-624D-47BC-BB74-8CA08B1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63A-08BF-4FD1-9604-934AA643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C6D-D5AD-4BF4-9D9A-C18BEE2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D848-FC66-48A1-BE55-2CA9C2742F7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атистическая сводка и группировка материалов статистического наблюд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построения табл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52280"/>
            <a:ext cx="8686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аблица должна содержать текущий номер и название с четким указанием места и времени исследова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одлежащие должны располагаться слева, сказуемое  вверх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аблица не должна содержать лишних линий, линии должны четко отделять заголовки граф, цифровые данные и п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Заготовки граф должны содержать названия показателей, их единицы измерен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тоговая строка располагается в конце таблиц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ифровые данные должны быть записаны с одной и той же степенью точ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таблице не должно быть пустых клеток, если данные отсутствуют, то ставят знак «-», если данные неизвестны, то делается запись «сведений нет (НС)» или ставят знак «…», может применятся цифра ноль («0»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165240" y="42840"/>
            <a:ext cx="881352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ипологическ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лежит разделение качественно разнородных совокупностей на однородные группы единиц, социально-экономические типы, отдельные классы в соответствии с определенными правил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и группировки позволяют выявить различные социально-экономические типы и дать их характерист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к, по которому осуществляется разделение единиц изучаемой совокупности на группы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ировочным признак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анием группир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Группа 10"/>
          <p:cNvGrpSpPr/>
          <p:nvPr/>
        </p:nvGrpSpPr>
        <p:grpSpPr>
          <a:xfrm>
            <a:off x="71280" y="3141720"/>
            <a:ext cx="9072720" cy="2374920"/>
            <a:chOff x="71280" y="3141720"/>
            <a:chExt cx="9072720" cy="2374920"/>
          </a:xfrm>
        </p:grpSpPr>
        <p:sp>
          <p:nvSpPr>
            <p:cNvPr id="71" name="Скругленный прямоугольник 5"/>
            <p:cNvSpPr/>
            <p:nvPr/>
          </p:nvSpPr>
          <p:spPr>
            <a:xfrm>
              <a:off x="71280" y="3451320"/>
              <a:ext cx="2521080" cy="82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Призна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кругленный прямоугольник 6"/>
            <p:cNvSpPr/>
            <p:nvPr/>
          </p:nvSpPr>
          <p:spPr>
            <a:xfrm>
              <a:off x="6551640" y="3451320"/>
              <a:ext cx="2592360" cy="8254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alibri"/>
                </a:rPr>
                <a:t>Осн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трелка вправо 7"/>
            <p:cNvSpPr/>
            <p:nvPr/>
          </p:nvSpPr>
          <p:spPr>
            <a:xfrm>
              <a:off x="2734920" y="3141720"/>
              <a:ext cx="3745080" cy="1446120"/>
            </a:xfrm>
            <a:prstGeom prst="rightArrow">
              <a:avLst>
                <a:gd name="adj1" fmla="val 50000"/>
                <a:gd name="adj2" fmla="val 3486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Изменение в зависимости от условий, места и време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Выгнутая вниз стрелка 9"/>
            <p:cNvSpPr/>
            <p:nvPr/>
          </p:nvSpPr>
          <p:spPr>
            <a:xfrm>
              <a:off x="1726920" y="4276800"/>
              <a:ext cx="5832720" cy="1239840"/>
            </a:xfrm>
            <a:custGeom>
              <a:avLst/>
              <a:gdLst>
                <a:gd name="textAreaLeft" fmla="*/ 1377000 w 5832720"/>
                <a:gd name="textAreaRight" fmla="*/ 4347720 w 5832720"/>
                <a:gd name="textAreaTop" fmla="*/ 165960 h 1239840"/>
                <a:gd name="textAreaBottom" fmla="*/ 1073880 h 123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00" hR="21600" stAng="10800000" swAng="-5400000"/>
                  <a:lnTo>
                    <a:pt x="11001" y="21600"/>
                  </a:lnTo>
                  <a:arcTo wR="10200" hR="21600" stAng="5400000" swAng="-3679807"/>
                  <a:lnTo>
                    <a:pt x="21276" y="5400"/>
                  </a:lnTo>
                  <a:lnTo>
                    <a:pt x="20800" y="0"/>
                  </a:lnTo>
                  <a:lnTo>
                    <a:pt x="19675" y="5400"/>
                  </a:lnTo>
                  <a:lnTo>
                    <a:pt x="20075" y="5400"/>
                  </a:lnTo>
                  <a:arcTo wR="10200" hR="21600" stAng="1720193" swAng="3616024"/>
                  <a:lnTo>
                    <a:pt x="10600" y="21583"/>
                  </a:lnTo>
                  <a:arcTo wR="10200" hR="21600" stAng="5463783" swAng="5336217"/>
                  <a:close/>
                </a:path>
                <a:path fill="darkenLess" w="21600" h="21600">
                  <a:moveTo>
                    <a:pt x="0" y="0"/>
                  </a:moveTo>
                  <a:arcTo wR="10200" hR="21600" stAng="10800000" swAng="-5400000"/>
                  <a:lnTo>
                    <a:pt x="11001" y="21600"/>
                  </a:lnTo>
                  <a:arcTo wR="10200" hR="21600" stAng="5400000" swAng="63783"/>
                  <a:lnTo>
                    <a:pt x="10600" y="21583"/>
                  </a:lnTo>
                  <a:arcTo wR="10200" hR="21600" stAng="5463783" swAng="533621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alibri"/>
                </a:rPr>
                <a:t>Четко сформулировать цели и задачи группировки, проанализировать возможные тип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6280" y="274680"/>
            <a:ext cx="8686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 типологической группировки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уппировка предприятий торговли г. Орла в 200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628640"/>
          <a:ext cx="8229600" cy="4295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3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пред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аз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я розничной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я оптовой торгов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иятия общественного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50920" y="260280"/>
            <a:ext cx="8713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ировочный при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6240" y="1125360"/>
            <a:ext cx="403848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трибутивный призна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арактеризует некоторое свойство или состояние единицы совокупности, его наличие или отсутствие (форма собственности, отраслевая подчиненность, территориальное расположение, пол, национальность, уровень образования и т.д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ет ограниченное число состоя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определяются в зависимости от  наличия у признака этого состоя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125000"/>
            <a:ext cx="41716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иче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зна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ается в результате измерения, счета и выражается в виде числовых характеристик (объем товарооборота, численность работающих, трудовой стаж, производственные или торговые площади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уппы определяются с учетом перехода признаков в иное значение, в другой тип я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руктурн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новой для выделения групп выступают структурные характеристики совокупности по какому-либо варьирующемуся призна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рименяются пр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и товарооборота по группам товаров, поставщиками или формам организации торговл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ализе структуры торговой сети по специализации, формам собственности и территориальному расположению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сследовании состава работников предприятия по профессиям, возрасту, стажу работы, уровню образования и пр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структурной группировки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руппировка экономически активного населения по уровню образования, 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268280"/>
          <a:ext cx="8229600" cy="523260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6280"/>
                <a:gridCol w="16462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ровень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ющие по най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ющие не по най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работ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 активное население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ое высш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-специ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 об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ое 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52720" y="274320"/>
            <a:ext cx="968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налитическая (факторная) группир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учения связей и зависимостей между отдельными признаками изучаемого явления, в основе лежат факторные призн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выделенных группах указываются значения результативных при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аналитической группировки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чество продукции и продолжительность договорных отношений поставщиков с торговыми предприят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8360" y="1773360"/>
          <a:ext cx="8229600" cy="3962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олжительность связей  торговых предприятий с поставщиками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поставщ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 нестандартной и бракованной продукци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3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олютн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ыше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атистическая сво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ованная обработка материалов наблюдения, включающая систематизацию первичных материалов статистического наблюдения, группировку данных, составление таблиц, подсчет групповых и общих итогов, других показ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ая групп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 основе образования групп лежит один признак (распределение населения по возрастным группам, семей – по уровню доход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ложная группиро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в основе образования групп лежит два или более при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ожет бы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бинационной и многомер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омбинационн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принцип вложенности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ы, образованные по одному признаку, делятся на подгруппы по второму, а последние – на подгруппы по третьему и т.д. признакам, т.е. в основании группировки лежат несколько признаков, взятых в комбинации (2-4 признака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распределение населения по возрастным группам дополнить группировкой по пол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комбинационной группировки</a:t>
            </a:r>
            <a:br>
              <a:rPr sz="40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пределение студентов третьего курса ЕПЭ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112760"/>
          <a:ext cx="8785440" cy="5546880"/>
        </p:xfrm>
        <a:graphic>
          <a:graphicData uri="http://schemas.openxmlformats.org/drawingml/2006/table">
            <a:tbl>
              <a:tblPr/>
              <a:tblGrid>
                <a:gridCol w="1757520"/>
                <a:gridCol w="2081160"/>
                <a:gridCol w="1432080"/>
                <a:gridCol w="1757160"/>
                <a:gridCol w="1757520"/>
              </a:tblGrid>
              <a:tr h="39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студентов по форме об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студентов по специ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студ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вуш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но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ное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 и архи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4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чное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дж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и бух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я машиностро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мерная групп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а разделения на группы служат совокупность характеризующих признаков и одновременное выполнение всех услов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ана на измерении сходства или различия между единицами совокуп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помощью В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: распределение совокупности ВУЗов по статусу (университет, академия, институт: уровень остепененности, объемы научных исследований, количество выпущенных учебников и пособий, наличие соцобеспечения студентов, кол-во ПК и пр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трибутивная группировка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– основой разделения на группы является атрибутивный признак. Количество групп определяется числом разновидностей атрибутивного признака.</a:t>
            </a:r>
            <a:br>
              <a:rPr sz="2900"/>
            </a:b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 распределение населения по полу, семейному положению, образованию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99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личественная группировка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- основой разделения на группы является  количественный варьирующийся признак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ществляется в соответствии со специально разработанным алгоритмом расче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: распределение населения по уровню доходов, потреблению отдельных продуктов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ыполнение группировки по количественному признак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истическая сводка позволяе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йти от описания отдельных единиц наблюдения к характеристике всей совокупности в цел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исать объект исследования с помощью системы статистических показа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явить его существенные черты и особенности дать их количественную характеристи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ести анализ свойств и направления из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статистической сво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"/>
          <p:cNvPicPr/>
          <p:nvPr/>
        </p:nvPicPr>
        <p:blipFill>
          <a:blip r:embed="rId1"/>
          <a:stretch/>
        </p:blipFill>
        <p:spPr>
          <a:xfrm>
            <a:off x="438120" y="1122480"/>
            <a:ext cx="82677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апы проведения свод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варительный контроль материалов, т.е. проверка исходных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ировка данных по заданным признакам, определение производных показател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формление результатов сводки для удобства восприятия информации (построение статистических таблиц, статистических рядов, график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уппировка данных </a:t>
            </a: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ая операция свод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динение единиц совокупности в определенные  группы, имеющие свои характерные особенности, общие черты и сходные размеры изучаемого признака, в соответствии с выбранными критер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042920" y="4724280"/>
            <a:ext cx="7345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группировки  оформляются в виде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руппировочных таб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ировочная табл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ет, который отражает сводную числовую характеристику исследуемой совокупности по одному или нескольким признакам, взаимосвязанным логикой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заголовков любой группировочной таблиц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205000"/>
          <a:ext cx="8229600" cy="3960720"/>
        </p:xfrm>
        <a:graphic>
          <a:graphicData uri="http://schemas.openxmlformats.org/drawingml/2006/table">
            <a:tbl>
              <a:tblPr/>
              <a:tblGrid>
                <a:gridCol w="2143080"/>
                <a:gridCol w="880920"/>
                <a:gridCol w="1008360"/>
                <a:gridCol w="1008000"/>
                <a:gridCol w="936360"/>
                <a:gridCol w="1076400"/>
                <a:gridCol w="1176480"/>
              </a:tblGrid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граф (верхние загол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головки сказуе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овая гра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строк (боковые загол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головки подлежащ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вая 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" name="TextBox 4"/>
          <p:cNvSpPr/>
          <p:nvPr/>
        </p:nvSpPr>
        <p:spPr>
          <a:xfrm>
            <a:off x="250920" y="1557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таблицы (основной или общий  заголов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ая прямоугольная выноска 5"/>
          <p:cNvSpPr/>
          <p:nvPr/>
        </p:nvSpPr>
        <p:spPr>
          <a:xfrm>
            <a:off x="3635280" y="2421000"/>
            <a:ext cx="5113440" cy="1368360"/>
          </a:xfrm>
          <a:prstGeom prst="wedgeRoundRectCallout">
            <a:avLst>
              <a:gd name="adj1" fmla="val 17912"/>
              <a:gd name="adj2" fmla="val -773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ажает содержание всей таблицы с указанием времени и местоположения информационных све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асполагается над макетом по цент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ая прямоугольная выноска 6"/>
          <p:cNvSpPr/>
          <p:nvPr/>
        </p:nvSpPr>
        <p:spPr>
          <a:xfrm>
            <a:off x="2411280" y="4005360"/>
            <a:ext cx="2521080" cy="2303280"/>
          </a:xfrm>
          <a:prstGeom prst="wedgeRoundRectCallout">
            <a:avLst>
              <a:gd name="adj1" fmla="val -68319"/>
              <a:gd name="adj2" fmla="val -235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казывают о чем идет речь в таблице, содержание ст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Подлежаще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дает характеристику исследуемого объекта циф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ая прямоугольная выноска 7"/>
          <p:cNvSpPr/>
          <p:nvPr/>
        </p:nvSpPr>
        <p:spPr>
          <a:xfrm>
            <a:off x="3492360" y="3716280"/>
            <a:ext cx="5112000" cy="1657440"/>
          </a:xfrm>
          <a:prstGeom prst="wedgeRoundRectCallout">
            <a:avLst>
              <a:gd name="adj1" fmla="val -22203"/>
              <a:gd name="adj2" fmla="val -9136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арактеризуют содержание граф-столбцов, показывают какими признаками характеризуется подлежащ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казуемо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ражает систему показателей, которыми описывается объект из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руппы статистических таблиц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100" spc="-1" strike="noStrike">
                <a:solidFill>
                  <a:srgbClr val="000000"/>
                </a:solidFill>
                <a:latin typeface="Calibri"/>
              </a:rPr>
              <a:t>в зависимости от структуры подлежащег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ые или перечне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бинацио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4:17:52Z</dcterms:created>
  <dc:creator>USER</dc:creator>
  <dc:description/>
  <dc:language>en-US</dc:language>
  <cp:lastModifiedBy>USER</cp:lastModifiedBy>
  <dcterms:modified xsi:type="dcterms:W3CDTF">2011-02-17T17:40:45Z</dcterms:modified>
  <cp:revision>28</cp:revision>
  <dc:subject/>
  <dc:title>Статистическая сводка и группировка материалов статистического наблюдения</dc:title>
</cp:coreProperties>
</file>