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4B3F-3700-44E9-A3E6-9616803C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4AA-E856-44D7-85D4-3EB8CC53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9223-C492-4A4F-ABAC-1922FFF4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CFB0-33C9-49E2-91D1-042B7AC8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346-D782-4489-935A-6A73CBC9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958-1002-4272-81D8-8341C3E1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BC4-7ECB-488F-A548-AE0A041E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62B-F2DF-4608-B71E-E03EA9EA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C80F-B1A3-448F-B4D0-CE08DA5E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8EFB-9B56-457E-98BC-A2D0CDE5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FB5-39FB-4CAE-A64E-02B801E3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26F-0521-4199-81A6-919B970F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F11E-E9F4-4233-9219-D8BD1AADCE2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татистическая сводка и группировка материалов статистического наблюде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вила построения табли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052280"/>
            <a:ext cx="8686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Таблица должна содержать текущий номер и название с четким указанием места и времени исследован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одлежащие должны располагаться слева, сказуемое  вверх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Таблица не должна содержать лишних линий, линии должны четко отделять заголовки граф, цифровые данные и пр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Заготовки граф должны содержать названия показателей, их единицы измерен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Итоговая строка располагается в конце таблиц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Цифровые данные должны быть записаны с одной и той же степенью точност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 таблице не должно быть пустых клеток, если данные отсутствуют, то ставят знак «-», если данные неизвестны, то делается запись «сведений нет (НС)» или ставят знак «…», может применятся цифра ноль («0»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3" descr=""/>
          <p:cNvPicPr/>
          <p:nvPr/>
        </p:nvPicPr>
        <p:blipFill>
          <a:blip r:embed="rId1"/>
          <a:stretch/>
        </p:blipFill>
        <p:spPr>
          <a:xfrm>
            <a:off x="165240" y="42840"/>
            <a:ext cx="881352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ипологическая группи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лежит разделение качественно разнородных совокупностей на однородные группы единиц, социально-экономические типы, отдельные классы в соответствии с определенными правил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и группировки позволяют выявить различные социально-экономические типы и дать их характерист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знак, по которому осуществляется разделение единиц изучаемой совокупности на группы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уппировочным признак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анием группир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Группа 10"/>
          <p:cNvGrpSpPr/>
          <p:nvPr/>
        </p:nvGrpSpPr>
        <p:grpSpPr>
          <a:xfrm>
            <a:off x="71280" y="3141720"/>
            <a:ext cx="9072720" cy="2374920"/>
            <a:chOff x="71280" y="3141720"/>
            <a:chExt cx="9072720" cy="2374920"/>
          </a:xfrm>
        </p:grpSpPr>
        <p:sp>
          <p:nvSpPr>
            <p:cNvPr id="71" name="Скругленный прямоугольник 5"/>
            <p:cNvSpPr/>
            <p:nvPr/>
          </p:nvSpPr>
          <p:spPr>
            <a:xfrm>
              <a:off x="71280" y="3451320"/>
              <a:ext cx="2521080" cy="82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Призна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Скругленный прямоугольник 6"/>
            <p:cNvSpPr/>
            <p:nvPr/>
          </p:nvSpPr>
          <p:spPr>
            <a:xfrm>
              <a:off x="6551640" y="3451320"/>
              <a:ext cx="2592360" cy="82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Осн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Стрелка вправо 7"/>
            <p:cNvSpPr/>
            <p:nvPr/>
          </p:nvSpPr>
          <p:spPr>
            <a:xfrm>
              <a:off x="2734920" y="3141720"/>
              <a:ext cx="3745080" cy="1446120"/>
            </a:xfrm>
            <a:prstGeom prst="rightArrow">
              <a:avLst>
                <a:gd name="adj1" fmla="val 50000"/>
                <a:gd name="adj2" fmla="val 3486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Изменение в зависимости от условий, места и време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Выгнутая вниз стрелка 9"/>
            <p:cNvSpPr/>
            <p:nvPr/>
          </p:nvSpPr>
          <p:spPr>
            <a:xfrm>
              <a:off x="1726920" y="4276800"/>
              <a:ext cx="5832720" cy="1239840"/>
            </a:xfrm>
            <a:custGeom>
              <a:avLst/>
              <a:gdLst>
                <a:gd name="textAreaLeft" fmla="*/ 1377000 w 5832720"/>
                <a:gd name="textAreaRight" fmla="*/ 4347720 w 5832720"/>
                <a:gd name="textAreaTop" fmla="*/ 165960 h 1239840"/>
                <a:gd name="textAreaBottom" fmla="*/ 1073880 h 123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00" hR="21600" stAng="10800000" swAng="-5400000"/>
                  <a:lnTo>
                    <a:pt x="11001" y="21600"/>
                  </a:lnTo>
                  <a:arcTo wR="10200" hR="21600" stAng="5400000" swAng="-3679807"/>
                  <a:lnTo>
                    <a:pt x="21276" y="5400"/>
                  </a:lnTo>
                  <a:lnTo>
                    <a:pt x="20800" y="0"/>
                  </a:lnTo>
                  <a:lnTo>
                    <a:pt x="19675" y="5400"/>
                  </a:lnTo>
                  <a:lnTo>
                    <a:pt x="20075" y="5400"/>
                  </a:lnTo>
                  <a:arcTo wR="10200" hR="21600" stAng="1720193" swAng="3616024"/>
                  <a:lnTo>
                    <a:pt x="10600" y="21583"/>
                  </a:lnTo>
                  <a:arcTo wR="10200" hR="21600" stAng="5463783" swAng="5336217"/>
                  <a:close/>
                </a:path>
                <a:path fill="darkenLess" w="21600" h="21600">
                  <a:moveTo>
                    <a:pt x="0" y="0"/>
                  </a:moveTo>
                  <a:arcTo wR="10200" hR="21600" stAng="10800000" swAng="-5400000"/>
                  <a:lnTo>
                    <a:pt x="11001" y="21600"/>
                  </a:lnTo>
                  <a:arcTo wR="10200" hR="21600" stAng="5400000" swAng="63783"/>
                  <a:lnTo>
                    <a:pt x="10600" y="21583"/>
                  </a:lnTo>
                  <a:arcTo wR="10200" hR="21600" stAng="5463783" swAng="533621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Четко сформулировать цели и задачи группировки, проанализировать возможные тип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6280" y="274680"/>
            <a:ext cx="8686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  типологической группировки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уппировка предприятий торговли г. Орла в 200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95280" y="1628640"/>
          <a:ext cx="8229600" cy="4295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3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ы пред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пред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к ит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газ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риятия розничной торгов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риятия оптовой торгов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риятия общественного 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250920" y="260280"/>
            <a:ext cx="8713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руппировочный призн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46240" y="1125360"/>
            <a:ext cx="403848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трибутивный призна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арактеризует некоторое свойство или состояние единицы совокупности, его наличие или отсутствие (форма собственности, отраслевая подчиненность, территориальное расположение, пол, национальность, уровень образования и т.д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ет ограниченное число состоя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уппы определяются в зависимости от  наличия у признака этого состоя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125000"/>
            <a:ext cx="417168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личественны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зна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ается в результате измерения, счета и выражается в виде числовых характеристик (объем товарооборота, численность работающих, трудовой стаж, производственные или торговые площади и т.д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уппы определяются с учетом перехода признаков в иное значение, в другой тип я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руктурная группи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новой для выделения групп выступают структурные характеристики совокупности по какому-либо варьирующемуся признак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рименяются пр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учении товарооборота по группам товаров, поставщиками или формам организации торговл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нализе структуры торговой сети по специализации, формам собственности и территориальному расположению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сследовании состава работников предприятия по профессиям, возрасту, стажу работы, уровню образования и п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 структурной группировки</a:t>
            </a:r>
            <a:br>
              <a:rPr sz="40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Группировка экономически активного населения по уровню образования, %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68360" y="1268280"/>
          <a:ext cx="8229600" cy="5232600"/>
        </p:xfrm>
        <a:graphic>
          <a:graphicData uri="http://schemas.openxmlformats.org/drawingml/2006/table">
            <a:tbl>
              <a:tblPr/>
              <a:tblGrid>
                <a:gridCol w="1644480"/>
                <a:gridCol w="1646280"/>
                <a:gridCol w="1646280"/>
                <a:gridCol w="1646280"/>
                <a:gridCol w="16462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ботающие по най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ботающие не по най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зработ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ономически активное население,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ш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олное высш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-специа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е общ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олное сред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а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252720" y="274320"/>
            <a:ext cx="968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налитическая (факторная) группиров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изучения связей и зависимостей между отдельными признаками изучаемого явления, в основе лежат факторные призна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выделенных группах указываются значения результативных призна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 аналитической группировки</a:t>
            </a:r>
            <a:br>
              <a:rPr sz="40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чество продукции и продолжительность договорных отношений поставщиков с торговыми предприятия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68360" y="1773360"/>
          <a:ext cx="8229600" cy="3962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олжительность связей  торговых предприятий с поставщиками,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ло поставщ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ля нестандартной и бракованной продукци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солютная 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к ит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ыше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тистическая свод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ованная обработка материалов наблюдения, включающая систематизацию первичных материалов статистического наблюдения, группировку данных, составление таблиц, подсчет групповых и общих итогов, других показ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стая группиров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в основе образования групп лежит один признак (распределение населения по возрастным группам, семей – по уровню доход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ожная группиров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 основе образования групп лежит два или более призна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ожет бы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бинационной и многомер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омбинационная группи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ется принцип вложенности груп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ппы, образованные по одному признаку, делятся на подгруппы по второму, а последние – на подгруппы по третьему и т.д. признакам, т.е. в основании группировки лежат несколько признаков, взятых в комбинации (2-4 признак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распределение населения по возрастным группам дополнить группировкой по пол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252720" y="-3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 комбинационной группировки</a:t>
            </a:r>
            <a:br>
              <a:rPr sz="40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пределение студентов третьего курса ЕПЭК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9280" y="1112760"/>
          <a:ext cx="8785440" cy="5546880"/>
        </p:xfrm>
        <a:graphic>
          <a:graphicData uri="http://schemas.openxmlformats.org/drawingml/2006/table">
            <a:tbl>
              <a:tblPr/>
              <a:tblGrid>
                <a:gridCol w="1757520"/>
                <a:gridCol w="2081160"/>
                <a:gridCol w="1432080"/>
                <a:gridCol w="1757160"/>
                <a:gridCol w="1757520"/>
              </a:tblGrid>
              <a:tr h="395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ы студентов по форме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ы студентов по специ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ло студ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том чис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вуш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нош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ное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едж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У и архив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4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очное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едж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и буху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ология машиностро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ногомерная группи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снова разделения на группы служат совокупность характеризующих признаков и одновременное выполнение всех услов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снована на измерении сходства или различия между единицами совокупнос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 помощью В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Пример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распределение совокупности ВУЗов по статусу (университет, академия, институт: уровень остепененности, объемы научных исследований, количество выпущенных учебников и пособий, наличие соцобеспечения студентов, кол-во ПК и пр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трибутивная группировка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– основой разделения на группы является атрибутивный признак. Количество групп определяется числом разновидностей атрибутивного признака.</a:t>
            </a:r>
            <a:br>
              <a:rPr sz="2900"/>
            </a:b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Пример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: распределение населения по полу, семейному положению, образованию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997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Количественная группировка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основой разделения на группы является  количественный варьирующийся признак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ществляется в соответствии со специально разработанным алгоритмом расчет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Пример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: распределение населения по уровню доходов, потреблению отдельных продуктов пита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ыполнение группировки по количественному признак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атистическая сводка позволяе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йти от описания отдельных единиц наблюдения к характеристике всей совокупности в цел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исать объект исследования с помощью системы статистических показа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ить его существенные черты и особенности дать их количественную характеристи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звести анализ свойств и направления изме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статистической свод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4" descr=""/>
          <p:cNvPicPr/>
          <p:nvPr/>
        </p:nvPicPr>
        <p:blipFill>
          <a:blip r:embed="rId1"/>
          <a:stretch/>
        </p:blipFill>
        <p:spPr>
          <a:xfrm>
            <a:off x="438120" y="1122480"/>
            <a:ext cx="82677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тапы проведения свод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варительный контроль материалов, т.е. проверка исходных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ппировка данных по заданным признакам, определение производных показател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формление результатов сводки для удобства восприятия информации (построение статистических таблиц, статистических рядов, график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руппировка данных </a:t>
            </a: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сновная операция сводк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динение единиц совокупности в определенные  группы, имеющие свои характерные особенности, общие черты и сходные размеры изучаемого признака, в соответствии с выбранными критер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042920" y="4724280"/>
            <a:ext cx="73454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ы группировки  оформляются в виде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руппировочных табл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руппировочная табл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кет, который отражает сводную числовую характеристику исследуемой совокупности по одному или нескольким признакам, взаимосвязанным логикой анали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иды заголовков любой группировочной табл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2205000"/>
          <a:ext cx="8229600" cy="3960720"/>
        </p:xfrm>
        <a:graphic>
          <a:graphicData uri="http://schemas.openxmlformats.org/drawingml/2006/table">
            <a:tbl>
              <a:tblPr/>
              <a:tblGrid>
                <a:gridCol w="2143080"/>
                <a:gridCol w="880920"/>
                <a:gridCol w="1008360"/>
                <a:gridCol w="1008000"/>
                <a:gridCol w="936360"/>
                <a:gridCol w="1076400"/>
                <a:gridCol w="1176480"/>
              </a:tblGrid>
              <a:tr h="15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граф (верхние заголов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головки сказуем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тоговая граф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9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строк (боковые заголов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головки подлежащ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вая ст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" name="TextBox 4"/>
          <p:cNvSpPr/>
          <p:nvPr/>
        </p:nvSpPr>
        <p:spPr>
          <a:xfrm>
            <a:off x="250920" y="155736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таблицы (основной или общий  заголов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ая прямоугольная выноска 5"/>
          <p:cNvSpPr/>
          <p:nvPr/>
        </p:nvSpPr>
        <p:spPr>
          <a:xfrm>
            <a:off x="3635280" y="2421000"/>
            <a:ext cx="5113440" cy="1368360"/>
          </a:xfrm>
          <a:prstGeom prst="wedgeRoundRectCallout">
            <a:avLst>
              <a:gd name="adj1" fmla="val 17912"/>
              <a:gd name="adj2" fmla="val -77375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тражает содержание всей таблицы с указанием времени и местоположения информационных с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сполагается над макетом по центр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ая прямоугольная выноска 6"/>
          <p:cNvSpPr/>
          <p:nvPr/>
        </p:nvSpPr>
        <p:spPr>
          <a:xfrm>
            <a:off x="2411280" y="4005360"/>
            <a:ext cx="2521080" cy="2303280"/>
          </a:xfrm>
          <a:prstGeom prst="wedgeRoundRectCallout">
            <a:avLst>
              <a:gd name="adj1" fmla="val -68319"/>
              <a:gd name="adj2" fmla="val -2355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казывают о чем идет речь в таблице, содержание ст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Подлежаще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дает характеристику исследуемого объекта циф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ая прямоугольная выноска 7"/>
          <p:cNvSpPr/>
          <p:nvPr/>
        </p:nvSpPr>
        <p:spPr>
          <a:xfrm>
            <a:off x="3492360" y="3716280"/>
            <a:ext cx="5112000" cy="1657440"/>
          </a:xfrm>
          <a:prstGeom prst="wedgeRoundRectCallout">
            <a:avLst>
              <a:gd name="adj1" fmla="val -22203"/>
              <a:gd name="adj2" fmla="val -91365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Характеризуют содержание граф-столбцов, показывают какими признаками характеризуется подлежащ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Сказуемо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тражает систему показателей, которыми описывается объект из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руппы статистических таблиц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3100" spc="-1" strike="noStrike">
                <a:solidFill>
                  <a:srgbClr val="000000"/>
                </a:solidFill>
                <a:latin typeface="Calibri"/>
              </a:rPr>
              <a:t>в зависимости от структуры подлежащег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тые или перечнев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ппов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бинацио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4:17:52Z</dcterms:created>
  <dc:creator>USER</dc:creator>
  <dc:description/>
  <dc:language>en-US</dc:language>
  <cp:lastModifiedBy>USER</cp:lastModifiedBy>
  <dcterms:modified xsi:type="dcterms:W3CDTF">2011-02-17T17:40:45Z</dcterms:modified>
  <cp:revision>28</cp:revision>
  <dc:subject/>
  <dc:title>Статистическая сводка и группировка материалов статистического наблюдения</dc:title>
</cp:coreProperties>
</file>