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62B-842B-4ABD-80C3-DB4D750B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30A-45F2-4F51-9E04-E088B7D9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B8F-28E8-4808-A84D-0D1B859B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704-0B61-46CF-BCFE-C9CD6E38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DBF-783C-4A16-B053-79A139F9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EC9-3ADF-45E8-9302-707684E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4A6-A1AE-4401-98B9-658FD3AB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B91-2560-497F-8171-14E6E92D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2FC-1B26-4037-9CC9-C42C3E7F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A0E-008D-4173-A50F-212364E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61A-80CE-4D4E-82D0-5EE609F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074-23C1-4446-853F-5815395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D188-3928-4582-B8D1-BC928F5FB0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татистические показате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величины вычисляются как отношение двух чис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15920"/>
            <a:ext cx="822960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итель называю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равниваемой (текущей) величин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менатель называют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азой относительного сравнения (предшествующая величи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1979640" y="5300640"/>
            <a:ext cx="1368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С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6"/>
          <p:cNvSpPr/>
          <p:nvPr/>
        </p:nvSpPr>
        <p:spPr>
          <a:xfrm>
            <a:off x="4643280" y="4724280"/>
            <a:ext cx="201636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сравниваемая 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7"/>
          <p:cNvSpPr/>
          <p:nvPr/>
        </p:nvSpPr>
        <p:spPr>
          <a:xfrm>
            <a:off x="4643280" y="5877000"/>
            <a:ext cx="201636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Calibri"/>
              </a:rPr>
              <a:t>база относительного с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9"/>
          <p:cNvSpPr/>
          <p:nvPr/>
        </p:nvSpPr>
        <p:spPr>
          <a:xfrm>
            <a:off x="4392720" y="5661000"/>
            <a:ext cx="251928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3564000" y="5445000"/>
            <a:ext cx="64764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2"/>
          <p:cNvSpPr/>
          <p:nvPr/>
        </p:nvSpPr>
        <p:spPr>
          <a:xfrm>
            <a:off x="3564000" y="5805360"/>
            <a:ext cx="647640" cy="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П измеряютс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эффици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милле (десятая часть процен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продецемилле (сотая часть процен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менованных числах (км, кг, га 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формы ОСП определяется задачами статистического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ОСП по содержанию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ового задания и выполнения пл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тенс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планового задания (ОППЗ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ются для планирования деятельности, а также для сравнения достигнутых результатов с ранее намеченн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изуют отношение планируемого уровня показателя к фактически достигнутому уровню того периода по сравнению с которым намечается увеличение или уменьшение показа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выражаются в процент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395280" y="4581360"/>
                <a:ext cx="8569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П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я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планирован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стоя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я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стигнутый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едыдуще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е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П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январе отчетного года валовой доход фирмы составил 1500 тыс. руб., в феврале планируется товарооборот в 1800 тыс. руб. Определить ОПП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О. в феврале планируется увеличение планового валового дохода фирмы на 2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1042920" y="3716280"/>
                <a:ext cx="4537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ПЗ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выполнения плана (ОПВП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ются для контроля за ходом выполнения пла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ют соотношение между фактическими и плановыми уровнями показат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ются в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428760" y="4363920"/>
                <a:ext cx="8501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ВП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фактическ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остигрутый</m:t>
                        </m:r>
                        <m:r>
                          <m:t xml:space="preserve"> 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че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ровен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запланирован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че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ериод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В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ловой доход фирмы, в феврале отчетного года составил 2055, 5 тыс. руб. при плане 1800 тыс. руб. Определить степень выполнения плана по валовому доходу фирмы в феврале текущего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О. план по валовому доходу выполнен на 114,2%, т.е. перевыполнение плана составляет 14,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971640" y="4221000"/>
                <a:ext cx="5113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ВП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55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4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динамики (ОПД) – темпы р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зуют изменение величины общественных явлений в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в планировании, анализе и статист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ется в коэффициентах или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1030320" y="3933720"/>
                <a:ext cx="72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Теку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Предшествую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базис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периодов при расчете темпов р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зисные темпы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56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ываются по отношению к одной постоянной базе сравнения, т.е. к первоначальному уровн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700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пные темпы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93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читываются по отношению к  переменной базе сравнения, т.е. в каждом периоде по отношению к предыдуще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108000" y="4784760"/>
                <a:ext cx="5184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оказател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аждого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иод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Первоначалный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остоянна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база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равнения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3627360" y="5589720"/>
                <a:ext cx="53467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оказател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аждого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иод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Предшествующий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уровень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еменна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база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равнения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ба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дин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Стрелка вниз 11"/>
          <p:cNvSpPr/>
          <p:nvPr/>
        </p:nvSpPr>
        <p:spPr>
          <a:xfrm>
            <a:off x="1258920" y="4076640"/>
            <a:ext cx="360360" cy="5763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низ 12"/>
          <p:cNvSpPr/>
          <p:nvPr/>
        </p:nvSpPr>
        <p:spPr>
          <a:xfrm>
            <a:off x="6659640" y="4581360"/>
            <a:ext cx="360360" cy="5763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йте цепные и базисные относительные величины динамики численности работников торгового предприятия за 2007-2010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намика численности работников предприятия за 2007-2010 г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4797360"/>
          <a:ext cx="7704000" cy="1285920"/>
        </p:xfrm>
        <a:graphic>
          <a:graphicData uri="http://schemas.openxmlformats.org/drawingml/2006/table">
            <a:tbl>
              <a:tblPr/>
              <a:tblGrid>
                <a:gridCol w="1541160"/>
                <a:gridCol w="1540080"/>
                <a:gridCol w="1541520"/>
                <a:gridCol w="1541520"/>
                <a:gridCol w="153972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7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 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енность работников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ий показатель (СП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количественная характеристика социально-экономического явления и процесса в условиях качественной определ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Качественная определеннос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оказывает, что показатель непосредственно связан с внутренним содержанием изучаемого явления или процес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Система статистических показателей (ССП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это взаимосвязанная совокупность показателей нацеленная на решение конкретной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зисные и цепные показатели динамики численности работников предприя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360" y="1484280"/>
          <a:ext cx="8893440" cy="3844800"/>
        </p:xfrm>
        <a:graphic>
          <a:graphicData uri="http://schemas.openxmlformats.org/drawingml/2006/table">
            <a:tbl>
              <a:tblPr/>
              <a:tblGrid>
                <a:gridCol w="611280"/>
                <a:gridCol w="1611360"/>
                <a:gridCol w="1112760"/>
                <a:gridCol w="1111320"/>
                <a:gridCol w="1111320"/>
                <a:gridCol w="1111320"/>
                <a:gridCol w="1110960"/>
                <a:gridCol w="1113120"/>
              </a:tblGrid>
              <a:tr h="36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енность работников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Д (темп роста)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и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п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п рост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п рост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5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7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5/1857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/128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0/3345*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8" name="TextBox 9"/>
          <p:cNvSpPr/>
          <p:nvPr/>
        </p:nvSpPr>
        <p:spPr>
          <a:xfrm>
            <a:off x="684360" y="5732640"/>
            <a:ext cx="77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данных показывает, что за период с 2007 по 2010 г. наблюдался постепенный рост численности работников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структуры (ОПС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зуют составные части изучаемой совокуп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ются при изучении сложных явлений, распадающихся на ряд групп или частей, для характеристики удельного веса каждой группы в общем ит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ются в процент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1187280" y="4653000"/>
                <a:ext cx="468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П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Часть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овокупности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или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групп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Вся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овокупность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ся следующая группировка магазинов в городе ___ по размеру товарообор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читать относительные показатели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2708280"/>
          <a:ext cx="7777080" cy="267192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магазинов по размерам товарооборота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магазинов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ий товарооборот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-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4000" y="1197000"/>
          <a:ext cx="8362800" cy="3956040"/>
        </p:xfrm>
        <a:graphic>
          <a:graphicData uri="http://schemas.openxmlformats.org/drawingml/2006/table">
            <a:tbl>
              <a:tblPr/>
              <a:tblGrid>
                <a:gridCol w="1800000"/>
                <a:gridCol w="1368360"/>
                <a:gridCol w="1727280"/>
                <a:gridCol w="1795680"/>
                <a:gridCol w="16714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ы магазинов по размерам товарооборота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магазинов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ий товарооборот, млрд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к итогу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3/674,4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- 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/674,4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,3/674,4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7" name="Прямоугольник 4"/>
          <p:cNvSpPr/>
          <p:nvPr/>
        </p:nvSpPr>
        <p:spPr>
          <a:xfrm>
            <a:off x="468360" y="537372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данных показывает, что наибольшая доля в фактическом товарообороте магазинов принадлежит магазинам из группы «от 50 и вы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носительные показатели сравнения (ОПСр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аются в результате деления одноименных абсолютных величин, соответствующих одному и тому же периоду или моменту времени, но относящихся к различным объектам или территор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ычно выражается в процентах или кратных отнош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468360" y="4724280"/>
                <a:ext cx="8496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ПСр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Абсолю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характеризую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ъект</m:t>
                        </m:r>
                        <m:r>
                          <m:t xml:space="preserve"> </m:t>
                        </m:r>
                        <m:r>
                          <m:t xml:space="preserve">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бсолют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оказатель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характеризующи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бъект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расчета ОПС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енность населения РФ в 2002 г. составила 145,2 млн. человек, в том числе: городского – 106,4 млн. чел., сельского – 38,7 млн. чел. Сравнить численность городского и сельского населения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Ср=106,4 : 38,7 = 2,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2002 г. численность городского населения превышала численность сельского в 2,7 р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татистическом изучении общественных явлений абсолютные и относительные показатели дополняют друг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П – характеризуют статику 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 – позволяют изучить степень, динамику, интенсивность развития 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отличие от признака статистический показатель, чаще всего, получается путем расч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лича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нкретные статистические показате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КСП) – характеризуют размер, величину изучаемого явления (процесса) в данном месте и в дан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казатель-категор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П-К) – отражает общие отличительные свойства КСП без указания места и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"/>
          <p:cNvPicPr/>
          <p:nvPr/>
        </p:nvPicPr>
        <p:blipFill>
          <a:blip r:embed="rId1"/>
          <a:stretch/>
        </p:blipFill>
        <p:spPr>
          <a:xfrm>
            <a:off x="158760" y="-6480"/>
            <a:ext cx="899172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П – характеризуют отдельный объект или единицу совокуп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П – характеризуют группу единиц совокуп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П – получаются путем сложения значений признака отдельных единиц совокуп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П – вычисляются по формулам и служат для решения статистических зада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П – показатель, представленный в виде частного двух абсолютных показател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П – показатели, отражающие объем (размер) изучаемого явл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П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бсолютные статистические показатели (АС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суммарный обобщающий показатель, характеризующий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размеры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зучаемых явлений в конкретных условиях места и време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исходная,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первична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амая большая форма выражения СП; числа, взятые из таблиц без преобраз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именованные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еличины, выраженные через единицы измер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ВП, денежные доходы населения, объемы промышленного производства, объем выпуска различных видов продукции, численность населения, оборот розничной торговли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Содержимое 14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016840" cy="309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94920" y="3284280"/>
            <a:ext cx="8280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АСП – характеризует размеры признака отдельных единиц совокупности (размер зарплаты отдельного работника, вклад в банке конкретного человек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СП – характеризует итоговое значение признака по отдельной совокупности (сумма издержек обращения фирмы, численность торгово-оперативных работников магаз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диницы измерения (ЕИ) АС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435880" cy="4865760"/>
        </p:xfrm>
        <a:graphic>
          <a:graphicData uri="http://schemas.openxmlformats.org/drawingml/2006/table">
            <a:tbl>
              <a:tblPr/>
              <a:tblGrid>
                <a:gridCol w="4070520"/>
                <a:gridCol w="436536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ы Е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туральные , прос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; шт; м;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; 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туральные , сло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ооборот т/км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электроэнергии КВт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но-натура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ное топливо;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овные денежные единицы (у.д.е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б; валю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траты труда (чел/час; чел/дн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носительные статистические показатели (ОСП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еличины, которые выражают меру количественных соотношений, присущих конкретным явлениям или статистическим объек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 позволяют провести сравнение различных показателей и делают такое сравнение наглядны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вторичные, вычисляемые да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5:52:32Z</dcterms:created>
  <dc:creator>USER</dc:creator>
  <dc:description/>
  <dc:language>en-US</dc:language>
  <cp:lastModifiedBy>USER</cp:lastModifiedBy>
  <dcterms:modified xsi:type="dcterms:W3CDTF">2011-03-27T12:14:58Z</dcterms:modified>
  <cp:revision>46</cp:revision>
  <dc:subject/>
  <dc:title>Статистические показатели</dc:title>
</cp:coreProperties>
</file>