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599A-4218-42C6-AA18-630FC07F3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D976-A683-48B3-B657-0E2518960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2B78-F46E-46FE-8368-2B0495ADF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1EF3-6CE2-4677-A493-126A05062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3BE1-927A-459F-8145-16D1766C5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29C6-16C9-40F5-8721-6FC703BF3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B01A-CE75-42DD-927D-D95C8AD45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A3AF-D55E-4598-99F7-B5DA8F59A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C882-8413-4A2E-9FCA-F38D67168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ACF2-A7C9-433D-A0E7-4CC16791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9A79-1283-4124-A032-48751BD1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7269-90DF-4BC6-8950-EA713675E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5A0FA-8391-412B-9994-9C1C545836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28280"/>
            <a:ext cx="7772400" cy="19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Статистические показател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носительные величины вычисляются как отношение двух чисе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915920"/>
            <a:ext cx="8229600" cy="26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ислитель называют 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сравниваемой (текущей) величин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наменатель называют 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базой относительного сравнения (предшествующая величин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Скругленный прямоугольник 5"/>
          <p:cNvSpPr/>
          <p:nvPr/>
        </p:nvSpPr>
        <p:spPr>
          <a:xfrm>
            <a:off x="1979640" y="5300640"/>
            <a:ext cx="1368360" cy="792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ОС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6"/>
          <p:cNvSpPr/>
          <p:nvPr/>
        </p:nvSpPr>
        <p:spPr>
          <a:xfrm>
            <a:off x="4643280" y="4724280"/>
            <a:ext cx="2016360" cy="792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alibri"/>
              </a:rPr>
              <a:t>сравниваемая велич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кругленный прямоугольник 7"/>
          <p:cNvSpPr/>
          <p:nvPr/>
        </p:nvSpPr>
        <p:spPr>
          <a:xfrm>
            <a:off x="4643280" y="5877000"/>
            <a:ext cx="2016360" cy="792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alibri"/>
              </a:rPr>
              <a:t>база относительного срав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9"/>
          <p:cNvSpPr/>
          <p:nvPr/>
        </p:nvSpPr>
        <p:spPr>
          <a:xfrm>
            <a:off x="4392720" y="5661000"/>
            <a:ext cx="2519280" cy="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ая соединительная линия 11"/>
          <p:cNvSpPr/>
          <p:nvPr/>
        </p:nvSpPr>
        <p:spPr>
          <a:xfrm>
            <a:off x="3564000" y="5445000"/>
            <a:ext cx="647640" cy="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ая соединительная линия 12"/>
          <p:cNvSpPr/>
          <p:nvPr/>
        </p:nvSpPr>
        <p:spPr>
          <a:xfrm>
            <a:off x="3564000" y="5805360"/>
            <a:ext cx="647640" cy="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П измеряютс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коэффициент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процент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промилле (десятая часть процент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продецемилле (сотая часть процент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именованных числах (км, кг, га …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бор формы ОСП определяется задачами статистического исследов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иды ОСП по содержанию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ланового задания и выполнения пла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инам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руктур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ордин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тенсив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равн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носительные показатели планового задания (ОППЗ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34136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пользуются для планирования деятельности, а также для сравнения достигнутых результатов с ранее намеч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арактеризуют отношение планируемого уровня показателя к фактически достигнутому уровню того периода по сравнению с которым намечается увеличение или уменьшение показател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ычно выражаются в процента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2"/>
              <p:cNvSpPr txBox="1"/>
              <p:nvPr/>
            </p:nvSpPr>
            <p:spPr>
              <a:xfrm>
                <a:off x="395280" y="4581360"/>
                <a:ext cx="856944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ОППЗ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Уровень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оказателя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запланированный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на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редстоящий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ериод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Уровень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оказателя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достигнутый</m:t>
                        </m:r>
                        <m:r>
                          <m:t xml:space="preserve"> </m:t>
                        </m:r>
                        <m:r>
                          <m:t xml:space="preserve">в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редыдущем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ериоде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мер расчета ОПП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январе отчетного года валовой доход фирмы составил 1500 тыс. руб., в феврале планируется товарооборот в 1800 тыс. руб. Определить ОППЗ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.О. в феврале планируется увеличение планового валового дохода фирмы на 2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2"/>
              <p:cNvSpPr txBox="1"/>
              <p:nvPr/>
            </p:nvSpPr>
            <p:spPr>
              <a:xfrm>
                <a:off x="1042920" y="3716280"/>
                <a:ext cx="453708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ОППЗ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00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носительные показатели выполнения плана (ОПВП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пользуются для контроля за ходом выполнения план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казывают соотношение между фактическими и плановыми уровнями показател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ычно выражаются в процент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3"/>
              <p:cNvSpPr txBox="1"/>
              <p:nvPr/>
            </p:nvSpPr>
            <p:spPr>
              <a:xfrm>
                <a:off x="428760" y="4363920"/>
                <a:ext cx="85010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ОПВП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Уровень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фактически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достигрутый</m:t>
                        </m:r>
                        <m:r>
                          <m:t xml:space="preserve"> </m:t>
                        </m:r>
                        <m:r>
                          <m:t xml:space="preserve">в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отчетный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ериоде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Уровень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запланированный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на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отчетный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ериод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мер расчета ОПВ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аловой доход фирмы, в феврале отчетного года составил 2055, 5 тыс. руб. при плане 1800 тыс. руб. Определить степень выполнения плана по валовому доходу фирмы в феврале текущего го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.О. план по валовому доходу выполнен на 114,2%, т.е. перевыполнение плана составляет 14,2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2"/>
              <p:cNvSpPr txBox="1"/>
              <p:nvPr/>
            </p:nvSpPr>
            <p:spPr>
              <a:xfrm>
                <a:off x="971640" y="4221000"/>
                <a:ext cx="51130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ОПВП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55</m:t>
                        </m:r>
                        <m:r>
                          <m:t xml:space="preserve">,</m:t>
                        </m:r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00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4</m:t>
                    </m:r>
                    <m:r>
                      <m:t xml:space="preserve">,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носительные показатели динамики (ОПД) – темпы ро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арактеризуют изменение величины общественных явлений во време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пользуется в планировании, анализе и статисти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ычно выражается в коэффициентах или процент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2"/>
              <p:cNvSpPr txBox="1"/>
              <p:nvPr/>
            </p:nvSpPr>
            <p:spPr>
              <a:xfrm>
                <a:off x="1030320" y="3933720"/>
                <a:ext cx="72277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ОПД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Текущий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оказатель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Предшествующий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или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базисный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оказатель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иды периодов при расчете темпов ро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892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азисные темпы рос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456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считываются по отношению к одной постоянной базе сравнения, т.е. к первоначальному уровн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700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Цепные темпы рос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9939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считываются по отношению к  переменной базе сравнения, т.е. в каждом периоде по отношению к предыдущем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2"/>
              <p:cNvSpPr txBox="1"/>
              <p:nvPr/>
            </p:nvSpPr>
            <p:spPr>
              <a:xfrm>
                <a:off x="108000" y="4784760"/>
                <a:ext cx="518472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баз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дин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Уровень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показателя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каждого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периода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Первоначалный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уровень</m:t>
                            </m:r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постоянная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база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сравнения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баз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дин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2"/>
              <p:cNvSpPr txBox="1"/>
              <p:nvPr/>
            </p:nvSpPr>
            <p:spPr>
              <a:xfrm>
                <a:off x="3627360" y="5589720"/>
                <a:ext cx="534672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баз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дин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Уровень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показателя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каждого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периода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Предшествующий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уровень</m:t>
                            </m:r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переменная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база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сравнения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баз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дин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1" name="Стрелка вниз 11"/>
          <p:cNvSpPr/>
          <p:nvPr/>
        </p:nvSpPr>
        <p:spPr>
          <a:xfrm>
            <a:off x="1258920" y="4076640"/>
            <a:ext cx="360360" cy="5763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трелка вниз 12"/>
          <p:cNvSpPr/>
          <p:nvPr/>
        </p:nvSpPr>
        <p:spPr>
          <a:xfrm>
            <a:off x="6659640" y="4581360"/>
            <a:ext cx="360360" cy="5763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мер расчета ОП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считайте цепные и базисные относительные величины динамики численности работников торгового предприятия за 2007-2010 г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инамика численности работников предприятия за 2007-2010 г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84360" y="4797360"/>
          <a:ext cx="7704000" cy="1285920"/>
        </p:xfrm>
        <a:graphic>
          <a:graphicData uri="http://schemas.openxmlformats.org/drawingml/2006/table">
            <a:tbl>
              <a:tblPr/>
              <a:tblGrid>
                <a:gridCol w="1541160"/>
                <a:gridCol w="1540080"/>
                <a:gridCol w="1541520"/>
                <a:gridCol w="1541520"/>
                <a:gridCol w="1539720"/>
              </a:tblGrid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7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8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9 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0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енность работников, 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пределени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Статистический показатель (СП)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– это количественная характеристика социально-экономического явления и процесса в условиях качественной определенност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Качественная определенность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– показывает, что показатель непосредственно связан с внутренним содержанием изучаемого явления или процесс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Система статистических показателей (ССП)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– это взаимосвязанная совокупность показателей нацеленная на решение конкретной задач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0752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Базисные и цепные показатели динамики численности работников предприят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44360" y="1484280"/>
          <a:ext cx="8893440" cy="3844800"/>
        </p:xfrm>
        <a:graphic>
          <a:graphicData uri="http://schemas.openxmlformats.org/drawingml/2006/table">
            <a:tbl>
              <a:tblPr/>
              <a:tblGrid>
                <a:gridCol w="611280"/>
                <a:gridCol w="1611360"/>
                <a:gridCol w="1112760"/>
                <a:gridCol w="1111320"/>
                <a:gridCol w="1111320"/>
                <a:gridCol w="1111320"/>
                <a:gridCol w="1110960"/>
                <a:gridCol w="1113120"/>
              </a:tblGrid>
              <a:tr h="3682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Численность работников, 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ПД (темп роста)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азис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пн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ч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тог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мп роста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ч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тог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мп роста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85/1285*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85/1285*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57/1285*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57/1285*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45/1285*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0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45/1857*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30/1285*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4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4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30/3345*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5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98" name="TextBox 9"/>
          <p:cNvSpPr/>
          <p:nvPr/>
        </p:nvSpPr>
        <p:spPr>
          <a:xfrm>
            <a:off x="684360" y="5732640"/>
            <a:ext cx="770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 данных показывает, что за период с 2007 по 2010 г. наблюдался постепенный рост численности работников пред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носительные показатели структуры (ОПС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арактеризуют составные части изучаемой совокуп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пользуются при изучении сложных явлений, распадающихся на ряд групп или частей, для характеристики удельного веса каждой группы в общем итог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ычно выражаются в процент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2"/>
              <p:cNvSpPr txBox="1"/>
              <p:nvPr/>
            </p:nvSpPr>
            <p:spPr>
              <a:xfrm>
                <a:off x="1187280" y="4653000"/>
                <a:ext cx="46800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ОПС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Часть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совокупности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или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группа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Вся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совокупность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мер расчета ОП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меется следующая группировка магазинов в городе ___ по размеру товарооборо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считать относительные показатели структур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755640" y="2708280"/>
          <a:ext cx="7777080" cy="2671920"/>
        </p:xfrm>
        <a:graphic>
          <a:graphicData uri="http://schemas.openxmlformats.org/drawingml/2006/table">
            <a:tbl>
              <a:tblPr/>
              <a:tblGrid>
                <a:gridCol w="2592360"/>
                <a:gridCol w="2592360"/>
                <a:gridCol w="25923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руппы магазинов по размерам товарооборота, млрд.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личество магазинов, ш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актический товарооборот, млрд.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 - 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 50 и выш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того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324000" y="1197000"/>
          <a:ext cx="8362800" cy="3956040"/>
        </p:xfrm>
        <a:graphic>
          <a:graphicData uri="http://schemas.openxmlformats.org/drawingml/2006/table">
            <a:tbl>
              <a:tblPr/>
              <a:tblGrid>
                <a:gridCol w="1800000"/>
                <a:gridCol w="1368360"/>
                <a:gridCol w="1727280"/>
                <a:gridCol w="1795680"/>
                <a:gridCol w="1671480"/>
              </a:tblGrid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руппы магазинов по размерам товарооборота, млрд.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личество магазинов, ш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актический товарооборот, млрд.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асч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цент к итогу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5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,3/674,4*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5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 - 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6,8/674,4*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5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 50 и выш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2,3/674,4*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5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того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4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07" name="Прямоугольник 4"/>
          <p:cNvSpPr/>
          <p:nvPr/>
        </p:nvSpPr>
        <p:spPr>
          <a:xfrm>
            <a:off x="468360" y="5373720"/>
            <a:ext cx="799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 данных показывает, что наибольшая доля в фактическом товарообороте магазинов принадлежит магазинам из группы «от 50 и выш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носительные показатели сравнения (ОПСр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лучаются в результате деления одноименных абсолютных величин, соответствующих одному и тому же периоду или моменту времени, но относящихся к различным объектам или территория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ычно выражается в процентах или кратных отношен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2"/>
              <p:cNvSpPr txBox="1"/>
              <p:nvPr/>
            </p:nvSpPr>
            <p:spPr>
              <a:xfrm>
                <a:off x="468360" y="4724280"/>
                <a:ext cx="849636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ОПСр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Абсолютный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оказатель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характеризующий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объект</m:t>
                        </m:r>
                        <m:r>
                          <m:t xml:space="preserve"> </m:t>
                        </m:r>
                        <m:r>
                          <m:t xml:space="preserve">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бсолютный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оказатель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характеризующий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объект</m:t>
                        </m:r>
                        <m:r>
                          <m:t xml:space="preserve"> </m:t>
                        </m:r>
                        <m:r>
                          <m:t xml:space="preserve">Б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мер расчета ОПС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исленность населения РФ в 2002 г. составила 145,2 млн. человек, в том числе: городского – 106,4 млн. чел., сельского – 38,7 млн. чел. Сравнить численность городского и сельского населения стран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Ср=106,4 : 38,7 = 2,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2002 г. численность городского населения превышала численность сельского в 2,7 ра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зюм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статистическом изучении общественных явлений абсолютные и относительные показатели дополняют друг дру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СП – характеризуют статику явл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П – позволяют изучить степень, динамику, интенсивность развития явл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 отличие от признака статистический показатель, чаще всего, получается путем расче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личают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Конкретные статистические показатели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КСП) – характеризуют размер, величину изучаемого явления (процесса) в данном месте и в данное врем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Показатель-категория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П-К) – отражает общие отличительные свойства КСП без указания места и време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Содержимое 3" descr=""/>
          <p:cNvPicPr/>
          <p:nvPr/>
        </p:nvPicPr>
        <p:blipFill>
          <a:blip r:embed="rId1"/>
          <a:stretch/>
        </p:blipFill>
        <p:spPr>
          <a:xfrm>
            <a:off x="158760" y="-6480"/>
            <a:ext cx="8991720" cy="687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189000"/>
            <a:ext cx="82296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П – характеризуют отдельный объект или единицу совокупност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вП – характеризуют группу единиц совокупност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бП – получаются путем сложения значений признака отдельных единиц совокупност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П – вычисляются по формулам и служат для решения статистических зада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П – показатель, представленный в виде частного двух абсолютных показателе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П – показатели, отражающие объем (размер) изучаемого явлен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П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бсолютные статистические показатели (АСП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Это суммарный обобщающий показатель, характеризующий 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размеры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изучаемых явлений в конкретных условиях места и времен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Это исходная, 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первичная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, самая большая форма выражения СП; числа, взятые из таблиц без преобразовани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Это 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именованные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величины, выраженные через единицы измерен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ВВП, денежные доходы населения, объемы промышленного производства, объем выпуска различных видов продукции, численность населения, оборот розничной торговли и т.д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Содержимое 14" descr=""/>
          <p:cNvPicPr/>
          <p:nvPr/>
        </p:nvPicPr>
        <p:blipFill>
          <a:blip r:embed="rId1"/>
          <a:stretch/>
        </p:blipFill>
        <p:spPr>
          <a:xfrm>
            <a:off x="450720" y="60480"/>
            <a:ext cx="8016840" cy="3097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394920" y="3284280"/>
            <a:ext cx="828036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АСП – характеризует размеры признака отдельных единиц совокупности (размер зарплаты отдельного работника, вклад в банке конкретного человека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АСП – характеризует итоговое значение признака по отдельной совокупности (сумма издержек обращения фирмы, численность торгово-оперативных работников магазин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Единицы измерения (ЕИ) АС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1600200"/>
          <a:ext cx="8435880" cy="4865760"/>
        </p:xfrm>
        <a:graphic>
          <a:graphicData uri="http://schemas.openxmlformats.org/drawingml/2006/table">
            <a:tbl>
              <a:tblPr/>
              <a:tblGrid>
                <a:gridCol w="4070520"/>
                <a:gridCol w="4365360"/>
              </a:tblGrid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иды Е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7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туральные , прост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; шт; м; м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; 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туральные , слож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узооборот т/км; </a:t>
                      </a:r>
                      <a:br>
                        <a:rPr sz="2400"/>
                      </a:b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ъем электроэнергии КВт/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словно-натураль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словное топливо; </a:t>
                      </a:r>
                      <a:br>
                        <a:rPr sz="2400"/>
                      </a:b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словные денежные единицы (у.д.е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оимост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уб; валю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удов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траты труда (чел/час; чел/дни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тносительные статистические показатели (ОСП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 величины, которые выражают меру количественных соотношений, присущих конкретным явлениям или статистическим объект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П позволяют провести сравнение различных показателей и делают такое сравнение наглядным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 вторичные, вычисляемые данн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4T15:52:32Z</dcterms:created>
  <dc:creator>USER</dc:creator>
  <dc:description/>
  <dc:language>en-US</dc:language>
  <cp:lastModifiedBy>USER</cp:lastModifiedBy>
  <dcterms:modified xsi:type="dcterms:W3CDTF">2011-03-27T12:14:58Z</dcterms:modified>
  <cp:revision>46</cp:revision>
  <dc:subject/>
  <dc:title>Статистические показатели</dc:title>
</cp:coreProperties>
</file>