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62A-EC05-41C5-A6AF-736FF26B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0CE-AA35-449C-B7A1-25842EF8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34F-4095-4C35-8441-CFF69058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B7E-3730-4696-8C54-0315A4D2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72B-5865-4E39-9988-5D71DD23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FCC-4C40-40BA-A366-24979C97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F6C-F64C-464C-BED4-CCD0A78A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D9A-A135-4C7B-BF1A-52849A21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BD2-6EB1-4460-9689-D35C08B0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D1E-B131-40A7-8D6C-735D537F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A82-E69D-4C44-A841-0E330F26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D948-6ADA-494F-828A-247D4382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4EEA-AD9B-4D1E-8A5A-B443CE999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Технический диктант № 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. К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личественная характеристика социально-экономического явления и процесса в условиях качественной определенности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2. Суммарный обобщающий показатель, характеризующий размеры изучаемых явлений в конкретных условиях места и времени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3. Величины, которые выражают меру количественных соотношений, присущих конкретным явлениям или статистическим объектам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4. Именованные величины, которые выражаются через единицы измерения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5. Величины, которые измеряются в коэффициентах, в процентах, в промилле, называются 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95280" y="189000"/>
            <a:ext cx="82915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6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7.  Величины, которые х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рактеризуют отношение планируемого уровня показателя к фактически достигнутому уровню того периода по сравнению с которым намечается увеличение или уменьшение показателя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Группа 3"/>
          <p:cNvGrpSpPr/>
          <p:nvPr/>
        </p:nvGrpSpPr>
        <p:grpSpPr>
          <a:xfrm>
            <a:off x="1763640" y="333360"/>
            <a:ext cx="4932360" cy="1943280"/>
            <a:chOff x="1763640" y="333360"/>
            <a:chExt cx="4932360" cy="1943280"/>
          </a:xfrm>
        </p:grpSpPr>
        <p:sp>
          <p:nvSpPr>
            <p:cNvPr id="55" name="Скругленный прямоугольник 4"/>
            <p:cNvSpPr/>
            <p:nvPr/>
          </p:nvSpPr>
          <p:spPr>
            <a:xfrm>
              <a:off x="1763640" y="909000"/>
              <a:ext cx="1368360" cy="79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alibri"/>
                </a:rPr>
                <a:t>ОСП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Скругленный прямоугольник 5"/>
            <p:cNvSpPr/>
            <p:nvPr/>
          </p:nvSpPr>
          <p:spPr>
            <a:xfrm>
              <a:off x="4427640" y="333360"/>
              <a:ext cx="2016000" cy="79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Скругленный прямоугольник 6"/>
            <p:cNvSpPr/>
            <p:nvPr/>
          </p:nvSpPr>
          <p:spPr>
            <a:xfrm>
              <a:off x="4427640" y="1485000"/>
              <a:ext cx="2016000" cy="7916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Прямая соединительная линия 7"/>
            <p:cNvSpPr/>
            <p:nvPr/>
          </p:nvSpPr>
          <p:spPr>
            <a:xfrm>
              <a:off x="4176720" y="1269360"/>
              <a:ext cx="251928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Прямая соединительная линия 8"/>
            <p:cNvSpPr/>
            <p:nvPr/>
          </p:nvSpPr>
          <p:spPr>
            <a:xfrm>
              <a:off x="3348000" y="1053720"/>
              <a:ext cx="64764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Прямая соединительная линия 9"/>
            <p:cNvSpPr/>
            <p:nvPr/>
          </p:nvSpPr>
          <p:spPr>
            <a:xfrm>
              <a:off x="3348000" y="1413720"/>
              <a:ext cx="64764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89000"/>
            <a:ext cx="84358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8. Величины, которые характеризуют изменение величины общественных явлений во времени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9. Темпы роста, которые рассчитываются по отношению к одной постоянной базе сравнения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0. Темпы роста, которые рассчитываются по отношению к  переменной базе сравнения, т.е. в каждом периоде по отношению к предыдущему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1. Величины, которые характеризуют составные части изучаемой совокупности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2. Величины, которые получаются в результате деления одноименных абсолютных величин, соответствующих одному и тому же периоду или моменту времени, но относящихся к различным объектам или территориям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89000"/>
            <a:ext cx="40384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истический ряд распред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трибутивный 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ционный 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риа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или 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скретный вариационный 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вальный вариационный ря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нжиров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г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истограм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мул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аф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е граф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сштабные ориенти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транственные ориенти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пликация граф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ейные диа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лбиковые диа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88640"/>
            <a:ext cx="40384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истический показа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бсолютные статистические показ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статистические показ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бсолютные статистические показ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статистические показат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сравниваемая величина, 2 -  база относительного с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показатели планового зад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показатели динам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зисные темпы ро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пные темпы ро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показатели струк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ые показатели срав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- 15 – «2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6-22 – «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3 –28 – «4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9-32 – «5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Упорядоченное распределение единиц совокупности на группы по определенному варьирующемуся признаку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 Ряд построенный по следующим признакам пол, занятость, национальность, профессия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8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Ряд построенный по количественному признаку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. Числовые значения количественного признака в вариационном ряду распределения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. Числа, показывающие насколько часто встречаются те или иные варианты в ряду распределения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6. Частоты, выраженные в виде относительных величин (долях или процентах),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7. Сумма частостей равна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8. В основе этого ряда лежит прерывный признак, т.е. имеющий только целые зна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9. В основе этого ряда лежит непрерывный признак, который может принимать любые зна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115560"/>
            <a:ext cx="8856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10. Расположение всех вариантов в возрастающем или убывающем порядке, называется 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11. Графическое изображение вариационных дискретных рядов, называется 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12. Графическое изображение вариационных интервальных рядов, называется 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13. Для изображения ряда накопленных частот используют графическое изображение, которое называется 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глядное изображение статистических величин в виде различных линий, геометрических фигур или географических картосхем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5. Место, на котором выполняется график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6. Эти ориентиры придают графическим образам количественную значимость, которая передается с помощью системы масштабных шка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7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и ориентиры задаются координатной сеткой (чаще всего используется прямоугольная система координат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8. Пояснение содержания графика, включающее в себя заголовок, объяснение масштабных шкал (с указанием единиц измерения), пояснение отдельных элементов графического образа, называе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9. Для характеристики динамики явлений и при изучении связей между явлениями используют диаграммы, которые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0. Для наглядного сравнения объемов изучаемых явлений во времени или пространстве, а также для изображения структуры явлений используют диаграммы, которые называются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19:48Z</dcterms:created>
  <dc:creator>USER</dc:creator>
  <dc:description/>
  <dc:language>en-US</dc:language>
  <cp:lastModifiedBy>USER</cp:lastModifiedBy>
  <dcterms:modified xsi:type="dcterms:W3CDTF">2011-04-04T16:14:44Z</dcterms:modified>
  <cp:revision>8</cp:revision>
  <dc:subject/>
  <dc:title>Технический диктант № 3</dc:title>
</cp:coreProperties>
</file>