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CCA3-4EDB-47E7-AECE-D335EC91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0149-4978-4BC6-A407-41168A98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DE48-0A40-4E06-8777-0EE38ADF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C7F-ED69-4AFC-B520-A9AEE024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EACC-3DF9-4967-BD64-963B55C8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5B7A-4531-49FE-AD8C-F57BCD02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6C05-5101-4779-953F-D57B25CC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8B27-58C5-4337-B306-2A87923C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3DFB-049A-4C79-8301-E28FDD6F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DC1D-3922-4700-8B18-2A8AA7F0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979A-2B1B-495E-9EF8-6FB5D2DB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D035-263B-489E-B51A-572DCBDE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01C9-85FD-4DE4-9081-019F9132F0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Технический диктант №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1. К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личественная характеристика социально-экономического явления и процесса в условиях качественной определенности, называе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2. Суммарный обобщающий показатель, характеризующий размеры изучаемых явлений в конкретных условиях места и времени, называе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333000"/>
            <a:ext cx="8507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3. Величины, которые выражают меру количественных соотношений, присущих конкретным явлениям или статистическим объектам, называю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4. Именованные величины, которые выражаются через единицы измерения, называю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5. Величины, которые измеряются в коэффициентах, в процентах, в промилле, называются …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95280" y="189000"/>
            <a:ext cx="829152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6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7.  Величины, которые х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рактеризуют отношение планируемого уровня показателя к фактически достигнутому уровню того периода по сравнению с которым намечается увеличение или уменьшение показателя, называю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Группа 3"/>
          <p:cNvGrpSpPr/>
          <p:nvPr/>
        </p:nvGrpSpPr>
        <p:grpSpPr>
          <a:xfrm>
            <a:off x="1763640" y="333360"/>
            <a:ext cx="4932360" cy="1943280"/>
            <a:chOff x="1763640" y="333360"/>
            <a:chExt cx="4932360" cy="1943280"/>
          </a:xfrm>
        </p:grpSpPr>
        <p:sp>
          <p:nvSpPr>
            <p:cNvPr id="55" name="Скругленный прямоугольник 4"/>
            <p:cNvSpPr/>
            <p:nvPr/>
          </p:nvSpPr>
          <p:spPr>
            <a:xfrm>
              <a:off x="1763640" y="909000"/>
              <a:ext cx="1368360" cy="7916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alibri"/>
                </a:rPr>
                <a:t>ОСП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Скругленный прямоугольник 5"/>
            <p:cNvSpPr/>
            <p:nvPr/>
          </p:nvSpPr>
          <p:spPr>
            <a:xfrm>
              <a:off x="4427640" y="333360"/>
              <a:ext cx="2016000" cy="7916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Скругленный прямоугольник 6"/>
            <p:cNvSpPr/>
            <p:nvPr/>
          </p:nvSpPr>
          <p:spPr>
            <a:xfrm>
              <a:off x="4427640" y="1485000"/>
              <a:ext cx="2016000" cy="7916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Прямая соединительная линия 7"/>
            <p:cNvSpPr/>
            <p:nvPr/>
          </p:nvSpPr>
          <p:spPr>
            <a:xfrm>
              <a:off x="4176720" y="1269360"/>
              <a:ext cx="2519280" cy="0"/>
            </a:xfrm>
            <a:prstGeom prst="line">
              <a:avLst/>
            </a:prstGeom>
            <a:ln w="57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Прямая соединительная линия 8"/>
            <p:cNvSpPr/>
            <p:nvPr/>
          </p:nvSpPr>
          <p:spPr>
            <a:xfrm>
              <a:off x="3348000" y="1053720"/>
              <a:ext cx="647640" cy="0"/>
            </a:xfrm>
            <a:prstGeom prst="line">
              <a:avLst/>
            </a:prstGeom>
            <a:ln w="57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Прямая соединительная линия 9"/>
            <p:cNvSpPr/>
            <p:nvPr/>
          </p:nvSpPr>
          <p:spPr>
            <a:xfrm>
              <a:off x="3348000" y="1413720"/>
              <a:ext cx="647640" cy="0"/>
            </a:xfrm>
            <a:prstGeom prst="line">
              <a:avLst/>
            </a:prstGeom>
            <a:ln w="57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6840" y="189000"/>
            <a:ext cx="84358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8. Величины, которые характеризуют изменение величины общественных явлений во времени, называю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9. Темпы роста, которые рассчитываются по отношению к одной постоянной базе сравнения, называю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0. Темпы роста, которые рассчитываются по отношению к  переменной базе сравнения, т.е. в каждом периоде по отношению к предыдущему, называю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1. Величины, которые характеризуют составные части изучаемой совокупности, называю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2. Величины, которые получаются в результате деления одноименных абсолютных величин, соответствующих одному и тому же периоду или моменту времени, но относящихся к различным объектам или территориям, называю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8900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тистический ряд распреде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трибутивный ря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риационный ря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риан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или 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скретный вариационный ря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тервальный вариационный ря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нжиров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иг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истограм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муля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аф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е граф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сштабные ориенти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странственные ориенти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спликация граф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ейные диаграм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олбиковые диаграм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88640"/>
            <a:ext cx="40384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тистический показа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бсолютные статистические показате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носительные статистические показате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бсолютные статистические показате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носительные статистические показате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– сравниваемая величина, 2 -  база относительного срав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носительные показатели планового зад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носительные показатели динам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зисные темпы ро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пные темпы ро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носительные показатели струк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носительные показатели срав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- 15 – «2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6-22 – «3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3 –28 – «4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9-32 – «5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 Упорядоченное распределение единиц совокупности на группы по определенному варьирующемуся признаку, называе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 Ряд построенный по следующим признакам пол, занятость, национальность, профессия, называе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8900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. Ряд построенный по количественному признаку, называе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. Числовые значения количественного признака в вариационном ряду распределения, называю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. Числа, показывающие насколько часто встречаются те или иные варианты в ряду распределения, называю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6. Частоты, выраженные в виде относительных величин (долях или процентах), называю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. Сумма частостей равна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8. В основе этого ряда лежит прерывный признак, т.е. имеющий только целые зна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9. В основе этого ряда лежит непрерывный признак, который может принимать любые зна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9280" y="115560"/>
            <a:ext cx="88567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10. Расположение всех вариантов в возрастающем или убывающем порядке, называется …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11. Графическое изображение вариационных дискретных рядов, называется …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12. Графическое изображение вариационных интервальных рядов, называется …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13. Для изображения ряда накопленных частот используют графическое изображение, которое называется …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5992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4.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глядное изображение статистических величин в виде различных линий, геометрических фигур или географических картосхем, называе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5. Место, на котором выполняется график, называе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6. Эти ориентиры придают графическим образам количественную значимость, которая передается с помощью системы масштабных шка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7.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и ориентиры задаются координатной сеткой (чаще всего используется прямоугольная система координат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8. Пояснение содержания графика, включающее в себя заголовок, объяснение масштабных шкал (с указанием единиц измерения), пояснение отдельных элементов графического образа, называе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9. Для характеристики динамики явлений и при изучении связей между явлениями используют диаграммы, которые называю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0. Для наглядного сравнения объемов изучаемых явлений во времени или пространстве, а также для изображения структуры явлений используют диаграммы, которые называю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5:19:48Z</dcterms:created>
  <dc:creator>USER</dc:creator>
  <dc:description/>
  <dc:language>en-US</dc:language>
  <cp:lastModifiedBy>USER</cp:lastModifiedBy>
  <dcterms:modified xsi:type="dcterms:W3CDTF">2011-04-04T16:14:44Z</dcterms:modified>
  <cp:revision>8</cp:revision>
  <dc:subject/>
  <dc:title>Технический диктант № 3</dc:title>
</cp:coreProperties>
</file>