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B32-DD24-44EC-99EC-C913585A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52E-11B1-494D-85F3-26EEA119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17D-99E6-4ABF-9974-9426906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0CD-E4B9-493B-A10C-4F2DDC24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6418-233F-4426-810E-464B78E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1461-0C86-4D57-911B-8E07FE82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5F4F-396C-4573-9D91-219F892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509F-4BF7-4E2D-8131-B8A545B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1B87-51A3-4575-9350-63B00E4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DAC1-3A44-4258-9D89-469B6820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3380-4D28-4431-9F8D-27F9E804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CB8-36E3-4D7A-80A4-8B63F5FF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2A95-CD94-4D6C-B1A2-17E4B2D2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0D3-2545-4E97-8E82-BD527552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EC52-057A-4C6E-AEDD-1A35E050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9D5-CFB5-4A3B-BFDD-8037999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024C-8476-4472-AF17-CC2E529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249F8-A9E8-4895-BE38-F5057B66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D247-1B16-4A60-A224-2B6490A4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492C-6567-439C-AAD2-AA402BAE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BC3A-918D-4B4F-BC12-B9DCC132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D448-5056-4CF6-9883-DB352E8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022-5EE0-4F92-ADFB-0476299A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BA910-9219-4046-9593-FA5A20C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9287-C4A9-4DA5-81ED-B4B28047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FE1F-11AC-417E-83A0-BE6CA3CE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BE07E-2159-4930-A378-225CE6D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E678-18C2-4849-9ED0-6B8099B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036E-6BFC-4E0E-9CEC-E6F8BE09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2F83E-5D22-4D93-97D6-20958B40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A46-F7DA-4398-9D5E-93F052B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44E-1CE5-4542-8F0A-3249B68E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5C4-3268-48D5-BBD3-BE0C5EB7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95D-A980-4F8C-A67A-9770820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99C-D953-47AB-9A62-22B90180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D32-0FF5-4A63-8F6B-282624E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28F2-9D46-4D31-9D51-6DB3FB24E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96F3-440C-440F-AB34-CD5B1C32BB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457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5736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7F09-8CF0-4AF8-BAB9-FED112F46A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519280" cy="2565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755640" y="2271600"/>
            <a:ext cx="4643280" cy="4586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ализация здоровьесберегающих технологий в условиях информат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Человеку необходимо пита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j0316873"/>
          <p:cNvPicPr/>
          <p:nvPr/>
        </p:nvPicPr>
        <p:blipFill>
          <a:blip r:embed="rId1"/>
          <a:stretch/>
        </p:blipFill>
        <p:spPr>
          <a:xfrm>
            <a:off x="1928880" y="2571840"/>
            <a:ext cx="2309760" cy="3494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7" descr="i6.jpg"/>
          <p:cNvPicPr/>
          <p:nvPr/>
        </p:nvPicPr>
        <p:blipFill>
          <a:blip r:embed="rId2"/>
          <a:stretch/>
        </p:blipFill>
        <p:spPr>
          <a:xfrm>
            <a:off x="5148360" y="2565360"/>
            <a:ext cx="2547720" cy="34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Кроссворд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11280" y="0"/>
            <a:ext cx="8532720" cy="6937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405080" y="83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981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629800" y="83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13344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3781800" y="836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286160" y="836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78144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781800" y="17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781440" y="2133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710160" y="256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3781440" y="2997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781440" y="342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15852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664236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7145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7794720" y="208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8369640" y="208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4195080" y="2584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543744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608652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1386000" y="344808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1818000" y="34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465280" y="34480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3042000" y="3448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621072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4236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0"/>
          <p:cNvSpPr/>
          <p:nvPr/>
        </p:nvSpPr>
        <p:spPr>
          <a:xfrm>
            <a:off x="7218360" y="38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7794720" y="3881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505800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3"/>
          <p:cNvSpPr/>
          <p:nvPr/>
        </p:nvSpPr>
        <p:spPr>
          <a:xfrm>
            <a:off x="541836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599472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656928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6"/>
          <p:cNvSpPr/>
          <p:nvPr/>
        </p:nvSpPr>
        <p:spPr>
          <a:xfrm>
            <a:off x="7218360" y="5608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7"/>
          <p:cNvSpPr/>
          <p:nvPr/>
        </p:nvSpPr>
        <p:spPr>
          <a:xfrm>
            <a:off x="779472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8"/>
          <p:cNvSpPr/>
          <p:nvPr/>
        </p:nvSpPr>
        <p:spPr>
          <a:xfrm>
            <a:off x="2537640" y="30160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9"/>
          <p:cNvSpPr/>
          <p:nvPr/>
        </p:nvSpPr>
        <p:spPr>
          <a:xfrm>
            <a:off x="2537280" y="38815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0"/>
          <p:cNvSpPr/>
          <p:nvPr/>
        </p:nvSpPr>
        <p:spPr>
          <a:xfrm>
            <a:off x="608688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608652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6086520" y="2997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3"/>
          <p:cNvSpPr/>
          <p:nvPr/>
        </p:nvSpPr>
        <p:spPr>
          <a:xfrm>
            <a:off x="6137280" y="3448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4"/>
          <p:cNvSpPr/>
          <p:nvPr/>
        </p:nvSpPr>
        <p:spPr>
          <a:xfrm>
            <a:off x="73108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5"/>
          <p:cNvSpPr/>
          <p:nvPr/>
        </p:nvSpPr>
        <p:spPr>
          <a:xfrm>
            <a:off x="7290000" y="43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6"/>
          <p:cNvSpPr/>
          <p:nvPr/>
        </p:nvSpPr>
        <p:spPr>
          <a:xfrm>
            <a:off x="7290360" y="47451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7"/>
          <p:cNvSpPr/>
          <p:nvPr/>
        </p:nvSpPr>
        <p:spPr>
          <a:xfrm>
            <a:off x="7290360" y="52484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8"/>
          <p:cNvSpPr/>
          <p:nvPr/>
        </p:nvSpPr>
        <p:spPr>
          <a:xfrm>
            <a:off x="7866360" y="78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9"/>
          <p:cNvSpPr/>
          <p:nvPr/>
        </p:nvSpPr>
        <p:spPr>
          <a:xfrm>
            <a:off x="7886880" y="119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0"/>
          <p:cNvSpPr/>
          <p:nvPr/>
        </p:nvSpPr>
        <p:spPr>
          <a:xfrm>
            <a:off x="7886880" y="162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7166520" y="4869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я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3645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мясо"/>
          <p:cNvPicPr/>
          <p:nvPr/>
        </p:nvPicPr>
        <p:blipFill>
          <a:blip r:embed="rId1"/>
          <a:stretch/>
        </p:blipFill>
        <p:spPr>
          <a:xfrm>
            <a:off x="6300720" y="3357720"/>
            <a:ext cx="2195640" cy="1222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орех"/>
          <p:cNvPicPr/>
          <p:nvPr/>
        </p:nvPicPr>
        <p:blipFill>
          <a:blip r:embed="rId2"/>
          <a:stretch/>
        </p:blipFill>
        <p:spPr>
          <a:xfrm>
            <a:off x="3995640" y="1773360"/>
            <a:ext cx="1773360" cy="1800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творог"/>
          <p:cNvPicPr/>
          <p:nvPr/>
        </p:nvPicPr>
        <p:blipFill>
          <a:blip r:embed="rId3"/>
          <a:stretch/>
        </p:blipFill>
        <p:spPr>
          <a:xfrm>
            <a:off x="1187280" y="3213000"/>
            <a:ext cx="2160720" cy="1503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2"/>
          <p:cNvSpPr/>
          <p:nvPr/>
        </p:nvSpPr>
        <p:spPr>
          <a:xfrm>
            <a:off x="1837800" y="494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4" descr="вещества"/>
          <p:cNvPicPr/>
          <p:nvPr/>
        </p:nvPicPr>
        <p:blipFill>
          <a:blip r:embed="rId4">
            <a:lum contrast="60000"/>
          </a:blip>
          <a:stretch/>
        </p:blipFill>
        <p:spPr>
          <a:xfrm>
            <a:off x="574560" y="5877000"/>
            <a:ext cx="8569440" cy="679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остав некоторых продуктов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акие продукты растительного происхождения, а какие – животного происхождения?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280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57365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уре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672480" y="2606760"/>
            <a:ext cx="2864520" cy="764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живот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5426640" y="2589120"/>
            <a:ext cx="3417840" cy="7642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укты растительно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жд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25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5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75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4750"/>
                            </p:stCondLst>
                            <p:childTnLst>
                              <p:par>
                                <p:cTn id="5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250"/>
                            </p:stCondLst>
                            <p:childTnLst>
                              <p:par>
                                <p:cTn id="5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хоч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могу быть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буду здоров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3" descr="i9.jpg"/>
          <p:cNvPicPr/>
          <p:nvPr/>
        </p:nvPicPr>
        <p:blipFill>
          <a:blip r:embed="rId1"/>
          <a:stretch/>
        </p:blipFill>
        <p:spPr>
          <a:xfrm>
            <a:off x="5857920" y="4071960"/>
            <a:ext cx="2392200" cy="1785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i5.jpg"/>
          <p:cNvPicPr/>
          <p:nvPr/>
        </p:nvPicPr>
        <p:blipFill>
          <a:blip r:embed="rId2"/>
          <a:stretch/>
        </p:blipFill>
        <p:spPr>
          <a:xfrm>
            <a:off x="1428840" y="4071960"/>
            <a:ext cx="2381040" cy="178596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i23.jpg"/>
          <p:cNvPicPr/>
          <p:nvPr/>
        </p:nvPicPr>
        <p:blipFill>
          <a:blip r:embed="rId3"/>
          <a:stretch/>
        </p:blipFill>
        <p:spPr>
          <a:xfrm>
            <a:off x="3929040" y="5626080"/>
            <a:ext cx="1854360" cy="1231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60"/>
                            </p:stCondLst>
                            <p:childTnLst>
                              <p:par>
                                <p:cTn id="5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583" dur="2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760"/>
                            </p:stCondLst>
                            <p:childTnLst>
                              <p:par>
                                <p:cTn id="58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600"/>
                            </p:stCondLst>
                            <p:childTnLst>
                              <p:par>
                                <p:cTn id="5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360"/>
                            </p:stCondLst>
                            <p:childTnLst>
                              <p:par>
                                <p:cTn id="596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597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360"/>
                            </p:stCondLst>
                            <p:childTnLst>
                              <p:par>
                                <p:cTn id="59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20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7800"/>
                            </p:stCondLst>
                            <p:childTnLst>
                              <p:par>
                                <p:cTn id="6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611" dur="2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9800"/>
                            </p:stCondLst>
                            <p:childTnLst>
                              <p:par>
                                <p:cTn id="613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2560"/>
                            </p:stCondLst>
                            <p:childTnLst>
                              <p:par>
                                <p:cTn id="6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4560"/>
                            </p:stCondLst>
                            <p:childTnLst>
                              <p:par>
                                <p:cTn id="6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900000" y="-316080"/>
            <a:ext cx="7398000" cy="6826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"/>
          <p:cNvPicPr/>
          <p:nvPr/>
        </p:nvPicPr>
        <p:blipFill>
          <a:blip r:embed="rId2"/>
          <a:stretch/>
        </p:blipFill>
        <p:spPr>
          <a:xfrm>
            <a:off x="900000" y="0"/>
            <a:ext cx="743292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6897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00000" y="0"/>
            <a:ext cx="743292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00000" y="0"/>
            <a:ext cx="7432920" cy="231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900000" y="0"/>
            <a:ext cx="741708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417080" cy="688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351000"/>
            <a:ext cx="9144000" cy="63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5040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1943280" y="1844640"/>
            <a:ext cx="720072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чем человек ес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j0345946"/>
          <p:cNvPicPr/>
          <p:nvPr/>
        </p:nvPicPr>
        <p:blipFill>
          <a:blip r:embed="rId1"/>
          <a:stretch/>
        </p:blipFill>
        <p:spPr>
          <a:xfrm>
            <a:off x="1619280" y="2133720"/>
            <a:ext cx="2786040" cy="348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j0316874"/>
          <p:cNvPicPr/>
          <p:nvPr/>
        </p:nvPicPr>
        <p:blipFill>
          <a:blip r:embed="rId2"/>
          <a:stretch/>
        </p:blipFill>
        <p:spPr>
          <a:xfrm>
            <a:off x="5508720" y="2133720"/>
            <a:ext cx="2408040" cy="34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3:51:54Z</dcterms:created>
  <dc:creator>usser</dc:creator>
  <dc:description/>
  <dc:language>en-US</dc:language>
  <cp:lastModifiedBy>USER</cp:lastModifiedBy>
  <dcterms:modified xsi:type="dcterms:W3CDTF">2012-10-06T18:47:37Z</dcterms:modified>
  <cp:revision>19</cp:revision>
  <dc:subject/>
  <dc:title>Слайд 1</dc:title>
</cp:coreProperties>
</file>