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EC0-6425-4FC0-8BC9-D2AA9698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C9B-B509-4334-889C-D29A3F4A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899-D6A9-4E40-B8EF-20E1F71D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B3F-142C-408D-B118-5BD841F2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96A1-2926-4077-A7CC-947F1166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3080-830F-4A9A-8C7A-151A6755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7CCA-0054-4505-9532-B06F5C4A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FD11-C5AC-40B4-AF90-0092CA1A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C7CD-47D2-44F8-9F03-FEA77F08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B3C7-981E-4A79-908E-FD97C8DC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B01F-616E-40D5-9B7C-A4B9035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4AB-7C74-4396-8247-4493367F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0AD9-E044-402B-AE16-4118AEDE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8703-2C88-4EB4-AA24-48950452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A38D-D5B2-4C83-8543-D1839944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7A4A-84E4-4B34-9152-D707A232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016F-E3B7-4F74-978E-E2325D69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F6A9-9E54-4A92-8576-6E8C4D6A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DD860-A6DF-4D47-A585-A832F40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880D-098B-44BB-AD92-6BEB7E0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3195-8940-4D40-A789-47BF7DB0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80B94-592D-4358-B747-7878101E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49B-CE41-42C5-A7DB-E208C230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73CE-4876-4E1A-89FC-4785A4F4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9914-A0DA-413A-8CB5-E220A559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81DD-2B69-4014-8856-DC52E4BB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3334-F04E-4A97-88EC-89737E3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1AB1-CB50-4D60-AD98-931B5B9C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9C0A-4B38-4B11-8EB5-966AEC51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0B04-3582-4FA0-BCDC-393ACF24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3AD-FA6A-4314-9E69-3EEDA364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50B-EFCF-4DA1-8DC7-F2BCD9B8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E67-2B86-4AAD-B538-4D030B7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434-7489-47DE-AB69-B111AAD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F2A-0469-403A-B82B-4BB3C91B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368-A04F-4022-85CB-5BFC417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5E11-DCAF-4305-86F1-BC5221E00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D5F3-25C4-4205-8779-CF531495E1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3C9E-5B7F-419A-9F3F-3AE0BE34EC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519280" cy="256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755640" y="2271600"/>
            <a:ext cx="4643280" cy="4586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ализация здоровьесберегающих технологий в условиях информат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Человеку необходимо пит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j0316873"/>
          <p:cNvPicPr/>
          <p:nvPr/>
        </p:nvPicPr>
        <p:blipFill>
          <a:blip r:embed="rId1"/>
          <a:stretch/>
        </p:blipFill>
        <p:spPr>
          <a:xfrm>
            <a:off x="1928880" y="2571840"/>
            <a:ext cx="2309760" cy="3494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7" descr="i6.jpg"/>
          <p:cNvPicPr/>
          <p:nvPr/>
        </p:nvPicPr>
        <p:blipFill>
          <a:blip r:embed="rId2"/>
          <a:stretch/>
        </p:blipFill>
        <p:spPr>
          <a:xfrm>
            <a:off x="5148360" y="2565360"/>
            <a:ext cx="254772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Кроссворд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0"/>
            <a:ext cx="8532720" cy="6937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405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981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9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13344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781800" y="836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28616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78144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781800" y="17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781440" y="2133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71016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781440" y="29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378144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5852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64236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7145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779472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8369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4195080" y="2584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476928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543744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608652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1386000" y="3448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1818000" y="344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2465280" y="3448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3042000" y="3448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621072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4236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721836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779472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5058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541836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599472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656928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721836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779472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2537640" y="3016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253728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0"/>
          <p:cNvSpPr/>
          <p:nvPr/>
        </p:nvSpPr>
        <p:spPr>
          <a:xfrm>
            <a:off x="608688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1"/>
          <p:cNvSpPr/>
          <p:nvPr/>
        </p:nvSpPr>
        <p:spPr>
          <a:xfrm>
            <a:off x="608652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2"/>
          <p:cNvSpPr/>
          <p:nvPr/>
        </p:nvSpPr>
        <p:spPr>
          <a:xfrm>
            <a:off x="608652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3"/>
          <p:cNvSpPr/>
          <p:nvPr/>
        </p:nvSpPr>
        <p:spPr>
          <a:xfrm>
            <a:off x="6137280" y="3448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4"/>
          <p:cNvSpPr/>
          <p:nvPr/>
        </p:nvSpPr>
        <p:spPr>
          <a:xfrm>
            <a:off x="73108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5"/>
          <p:cNvSpPr/>
          <p:nvPr/>
        </p:nvSpPr>
        <p:spPr>
          <a:xfrm>
            <a:off x="7290000" y="43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6"/>
          <p:cNvSpPr/>
          <p:nvPr/>
        </p:nvSpPr>
        <p:spPr>
          <a:xfrm>
            <a:off x="7290360" y="47451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7"/>
          <p:cNvSpPr/>
          <p:nvPr/>
        </p:nvSpPr>
        <p:spPr>
          <a:xfrm>
            <a:off x="7290360" y="5248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8"/>
          <p:cNvSpPr/>
          <p:nvPr/>
        </p:nvSpPr>
        <p:spPr>
          <a:xfrm>
            <a:off x="7866360" y="78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9"/>
          <p:cNvSpPr/>
          <p:nvPr/>
        </p:nvSpPr>
        <p:spPr>
          <a:xfrm>
            <a:off x="788688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0"/>
          <p:cNvSpPr/>
          <p:nvPr/>
        </p:nvSpPr>
        <p:spPr>
          <a:xfrm>
            <a:off x="7886880" y="162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7166520" y="48690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45080" y="364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мясо"/>
          <p:cNvPicPr/>
          <p:nvPr/>
        </p:nvPicPr>
        <p:blipFill>
          <a:blip r:embed="rId1"/>
          <a:stretch/>
        </p:blipFill>
        <p:spPr>
          <a:xfrm>
            <a:off x="6300720" y="3357720"/>
            <a:ext cx="2195640" cy="1222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орех"/>
          <p:cNvPicPr/>
          <p:nvPr/>
        </p:nvPicPr>
        <p:blipFill>
          <a:blip r:embed="rId2"/>
          <a:stretch/>
        </p:blipFill>
        <p:spPr>
          <a:xfrm>
            <a:off x="3995640" y="1773360"/>
            <a:ext cx="1773360" cy="1800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творог"/>
          <p:cNvPicPr/>
          <p:nvPr/>
        </p:nvPicPr>
        <p:blipFill>
          <a:blip r:embed="rId3"/>
          <a:stretch/>
        </p:blipFill>
        <p:spPr>
          <a:xfrm>
            <a:off x="1187280" y="3213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2"/>
          <p:cNvSpPr/>
          <p:nvPr/>
        </p:nvSpPr>
        <p:spPr>
          <a:xfrm>
            <a:off x="1837800" y="494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4" descr="вещества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акие продукты растительного происхождения, а какие – животного происхождения?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ур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72480" y="2606760"/>
            <a:ext cx="28645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живот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426640" y="2589120"/>
            <a:ext cx="3417840" cy="764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раст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25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5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75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475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250"/>
                            </p:stCondLst>
                            <p:childTnLst>
                              <p:par>
                                <p:cTn id="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быть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могу быть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буду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60"/>
                            </p:stCondLst>
                            <p:childTnLst>
                              <p:par>
                                <p:cTn id="582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58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760"/>
                            </p:stCondLst>
                            <p:childTnLst>
                              <p:par>
                                <p:cTn id="58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60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360"/>
                            </p:stCondLst>
                            <p:childTnLst>
                              <p:par>
                                <p:cTn id="596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597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60"/>
                            </p:stCondLst>
                            <p:childTnLst>
                              <p:par>
                                <p:cTn id="59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20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800"/>
                            </p:stCondLst>
                            <p:childTnLst>
                              <p:par>
                                <p:cTn id="6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611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800"/>
                            </p:stCondLst>
                            <p:childTnLst>
                              <p:par>
                                <p:cTn id="61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2560"/>
                            </p:stCondLst>
                            <p:childTnLst>
                              <p:par>
                                <p:cTn id="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4560"/>
                            </p:stCondLst>
                            <p:childTnLst>
                              <p:par>
                                <p:cTn id="6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900000" y="-316080"/>
            <a:ext cx="7398000" cy="6826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900000" y="0"/>
            <a:ext cx="74329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689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00000" y="0"/>
            <a:ext cx="743292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0"/>
            <a:ext cx="7432920" cy="231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900000" y="0"/>
            <a:ext cx="741708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351000"/>
            <a:ext cx="9144000" cy="63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504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1943280" y="1844640"/>
            <a:ext cx="720072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чем человек ес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j0345946"/>
          <p:cNvPicPr/>
          <p:nvPr/>
        </p:nvPicPr>
        <p:blipFill>
          <a:blip r:embed="rId1"/>
          <a:stretch/>
        </p:blipFill>
        <p:spPr>
          <a:xfrm>
            <a:off x="1619280" y="2133720"/>
            <a:ext cx="2786040" cy="348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j0316874"/>
          <p:cNvPicPr/>
          <p:nvPr/>
        </p:nvPicPr>
        <p:blipFill>
          <a:blip r:embed="rId2"/>
          <a:stretch/>
        </p:blipFill>
        <p:spPr>
          <a:xfrm>
            <a:off x="5508720" y="2133720"/>
            <a:ext cx="2408040" cy="34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3:51:54Z</dcterms:created>
  <dc:creator>usser</dc:creator>
  <dc:description/>
  <dc:language>en-US</dc:language>
  <cp:lastModifiedBy>USER</cp:lastModifiedBy>
  <dcterms:modified xsi:type="dcterms:W3CDTF">2012-10-06T18:47:37Z</dcterms:modified>
  <cp:revision>19</cp:revision>
  <dc:subject/>
  <dc:title>Слайд 1</dc:title>
</cp:coreProperties>
</file>