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2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E3E-EECE-428F-A02C-9F3D7A7C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BB44-0F9B-459B-8D07-8B805BAF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0F0-E855-48E8-B6BC-D599793B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876-58E6-44B8-99D7-0AD45940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4C09-01F9-4F2C-9B90-6841D5DF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7608-9D5C-4F49-B870-516A150F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BC24-2C11-4093-8607-22377B2B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B6BB-B2CC-42B2-991A-12E479D0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9017-09C5-4BAA-8D64-9935810A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DAEC-F6EF-468C-AB2E-ECF2B162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CD77-55BD-4CE2-AACB-F714D706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AF8-9EE2-4EA3-81F7-6EFB32F0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F00D-C1B2-4609-919A-413B3A9E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C23A-1269-4867-A1C2-7DD7B6D7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56E2-18E0-45A1-A8F8-77B992EF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0968-609D-4B61-BF41-211FEAE7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D4F4-B018-4AD9-8BC0-5B5C54D4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E1983-5E69-4E29-A819-40BB2ABD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2530A-46BF-4CB0-96D4-7DA34DE6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E49E8-6D4C-410A-A18D-11A30D27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A1B8B-A352-42E6-8D87-538926BA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234B4-EA03-4D7D-AB54-F02D4C60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E86-772C-49E1-A631-093B34C5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8EBC8-BB8F-4824-8BEF-6F6D2469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A1DE3-2769-44E4-8DF1-71DD16D1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7BE7E-26B3-4BFE-A427-8AE90420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CEDA3-1959-457C-AA7F-F4EFB70B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A194C-7029-49C6-91DF-7E17F7A2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E06A8-B6D3-458E-832A-1CBC9BD6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927D5-4ED3-4F8F-97E2-4983A9CB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F1A93-8E89-4073-ABDD-983B5C80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6FD2A-26CF-4463-A131-5055101B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5C1A0-7E88-4C04-88C2-CA6021FE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640-D2C4-4D20-8443-3D9B6714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5EA60-718C-4D5D-82A5-024EC8BB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4A043-A18B-499F-B88F-D3AC0A7F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99F07-E772-4EF4-84A2-4C8674F4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C610B-C915-4FBA-A1AF-037B13E4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0EA0A-1790-47E7-97A2-8AC02EC7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2CC6A-B4FA-454C-AF62-BC5C112D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A28A6-A17E-45EA-9331-9A4CD4DF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FA110-7B04-4091-8E16-DA97F65A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E84C6-25C9-44BF-8D78-B28A33A4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E97F3-2EB9-434E-A2F6-68245D30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6B00-B7E3-4898-AA8E-9B2928DB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1C31E-FD37-4BDE-A08E-CD8364C2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434A2-079C-4990-AEDF-95E391F7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BE589-A80B-4480-976E-076A2092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49708-2476-4E95-B4F0-14A88A4B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B6F34-968F-44D3-8EA9-0A392768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4B308-D2A6-4262-887B-4B8D48B2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06D5B-CBCD-4481-AFF1-7F9E3C79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DBCC9-3AC9-4495-BA0A-DD61659E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72F6A-29A0-42B4-8D79-9DC392E3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DDC8F-C0B8-4839-8B2A-D4DB7049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4BE-050A-4709-BBCF-A9F0511E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EB28B-DA8E-40E7-B776-A3DE4576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954-9F4C-4ABB-BD3B-CA7D27D0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AD1A-5BE2-4D53-A670-142E75A5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3FFB-5FDC-4E4C-BC15-060B9CB9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C812-F71C-450F-96C7-52C270C3836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39CA-7756-4D95-8C87-DE1C79D8EDE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02DB-B9D1-4610-A452-CA1280819D0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A887-9E38-43CB-9A14-42D79EC200F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2973-1E35-46B3-BB21-39773D96105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: Абросимова Ольга Викторов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900000" y="85716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ок окружающе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1 клас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 Наши пернатые друзья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6d6d6"/>
              </a:solidFill>
              <a:latin typeface="Verdana"/>
            </a:endParaRPr>
          </a:p>
        </p:txBody>
      </p:sp>
      <p:sp>
        <p:nvSpPr>
          <p:cNvPr id="225" name="Двойная волна 3"/>
          <p:cNvSpPr/>
          <p:nvPr/>
        </p:nvSpPr>
        <p:spPr>
          <a:xfrm>
            <a:off x="857160" y="428760"/>
            <a:ext cx="7715520" cy="1342800"/>
          </a:xfrm>
          <a:custGeom>
            <a:avLst/>
            <a:gdLst>
              <a:gd name="textAreaLeft" fmla="*/ 0 w 7715520"/>
              <a:gd name="textAreaRight" fmla="*/ 7715880 w 7715520"/>
              <a:gd name="textAreaTop" fmla="*/ 167760 h 1342800"/>
              <a:gd name="textAreaBottom" fmla="*/ 1175040 h 134280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Наши пернатые друз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с двумя скругленными соседними углами 5"/>
          <p:cNvSpPr/>
          <p:nvPr/>
        </p:nvSpPr>
        <p:spPr>
          <a:xfrm>
            <a:off x="1285920" y="2143080"/>
            <a:ext cx="6858000" cy="3786120"/>
          </a:xfrm>
          <a:prstGeom prst="pie">
            <a:avLst/>
          </a:prstGeom>
          <a:solidFill>
            <a:srgbClr val="d6d6d6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Каких друзей мы называем пернаты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На какие три группы можно разделить птиц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Почему птицы улетают осенью на юг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D:\МОИ ДОКУМЕНТЫ\папа\электрика\Новая папка\Архивы\dоg5.gif"/>
          <p:cNvPicPr/>
          <p:nvPr/>
        </p:nvPicPr>
        <p:blipFill>
          <a:blip r:embed="rId1"/>
          <a:stretch/>
        </p:blipFill>
        <p:spPr>
          <a:xfrm>
            <a:off x="7929720" y="5214960"/>
            <a:ext cx="10000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Волна 1"/>
          <p:cNvSpPr/>
          <p:nvPr/>
        </p:nvSpPr>
        <p:spPr>
          <a:xfrm>
            <a:off x="642960" y="214200"/>
            <a:ext cx="7358040" cy="2143080"/>
          </a:xfrm>
          <a:custGeom>
            <a:avLst/>
            <a:gdLst>
              <a:gd name="textAreaLeft" fmla="*/ 501120 w 7358040"/>
              <a:gd name="textAreaRight" fmla="*/ 6856920 w 7358040"/>
              <a:gd name="textAreaTop" fmla="*/ 535680 h 2143080"/>
              <a:gd name="textAreaBottom" fmla="*/ 160740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6464" y="-6865"/>
                  <a:pt x="13664" y="12265"/>
                  <a:pt x="20128" y="2700"/>
                </a:cubicBezTo>
                <a:lnTo>
                  <a:pt x="21600" y="18900"/>
                </a:lnTo>
                <a:cubicBezTo>
                  <a:pt x="15136" y="28465"/>
                  <a:pt x="7936" y="9335"/>
                  <a:pt x="1472" y="18900"/>
                </a:cubicBez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 самом начале осени птицы собираются в ста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с двумя скругленными соседними углами 2"/>
          <p:cNvSpPr/>
          <p:nvPr/>
        </p:nvSpPr>
        <p:spPr>
          <a:xfrm>
            <a:off x="1071720" y="2643120"/>
            <a:ext cx="7500960" cy="3857760"/>
          </a:xfrm>
          <a:prstGeom prst="pie">
            <a:avLst/>
          </a:prstGeom>
          <a:solidFill>
            <a:srgbClr val="d6d6d6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17760" y="2870280"/>
          <a:ext cx="6108480" cy="111744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111744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1357200" y="2786040"/>
            <a:ext cx="6929640" cy="35719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D:\МОИ ДОКУМЕНТЫ\папа\электрика\Новая папка\Архивы\dog4.gif"/>
          <p:cNvPicPr/>
          <p:nvPr/>
        </p:nvPicPr>
        <p:blipFill>
          <a:blip r:embed="rId2"/>
          <a:stretch/>
        </p:blipFill>
        <p:spPr>
          <a:xfrm>
            <a:off x="7643880" y="5643720"/>
            <a:ext cx="11142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Волна 1"/>
          <p:cNvSpPr/>
          <p:nvPr/>
        </p:nvSpPr>
        <p:spPr>
          <a:xfrm>
            <a:off x="928800" y="285840"/>
            <a:ext cx="7786440" cy="1700280"/>
          </a:xfrm>
          <a:custGeom>
            <a:avLst/>
            <a:gdLst>
              <a:gd name="textAreaLeft" fmla="*/ 0 w 7786440"/>
              <a:gd name="textAreaRight" fmla="*/ 7786800 w 7786440"/>
              <a:gd name="textAreaTop" fmla="*/ 425160 h 1700280"/>
              <a:gd name="textAreaBottom" fmla="*/ 1275480 h 1700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070c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Зимующие  пт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17760" y="2590920"/>
          <a:ext cx="6108480" cy="167472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167472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4411440" y="394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8" descr="Птица снегирь"/>
          <p:cNvPicPr/>
          <p:nvPr/>
        </p:nvPicPr>
        <p:blipFill>
          <a:blip r:embed="rId1"/>
          <a:stretch/>
        </p:blipFill>
        <p:spPr>
          <a:xfrm>
            <a:off x="3714840" y="2428920"/>
            <a:ext cx="2500200" cy="1876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" descr=""/>
          <p:cNvPicPr/>
          <p:nvPr/>
        </p:nvPicPr>
        <p:blipFill>
          <a:blip r:embed="rId2"/>
          <a:stretch/>
        </p:blipFill>
        <p:spPr>
          <a:xfrm>
            <a:off x="6643800" y="2428920"/>
            <a:ext cx="2286000" cy="18572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0" descr="http://club-edu.tambov.ru/vjpusk/vjp073/rabot/15/images/21.jpg"/>
          <p:cNvPicPr/>
          <p:nvPr/>
        </p:nvPicPr>
        <p:blipFill>
          <a:blip r:embed="rId3"/>
          <a:stretch/>
        </p:blipFill>
        <p:spPr>
          <a:xfrm>
            <a:off x="3714840" y="4572000"/>
            <a:ext cx="2714400" cy="20192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1" descr="http://club-edu.tambov.ru/vjpusk/vjp073/rabot/15/images/25.jpg"/>
          <p:cNvPicPr/>
          <p:nvPr/>
        </p:nvPicPr>
        <p:blipFill>
          <a:blip r:embed="rId4"/>
          <a:stretch/>
        </p:blipFill>
        <p:spPr>
          <a:xfrm>
            <a:off x="6500880" y="4572000"/>
            <a:ext cx="2428920" cy="20001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2" descr="http://club-edu.tambov.ru/vjpusk/vjp073/rabot/15/images/22.jpg"/>
          <p:cNvPicPr/>
          <p:nvPr/>
        </p:nvPicPr>
        <p:blipFill>
          <a:blip r:embed="rId5"/>
          <a:stretch/>
        </p:blipFill>
        <p:spPr>
          <a:xfrm>
            <a:off x="357120" y="242892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3" descr="http://club-edu.tambov.ru/vjpusk/vjp073/rabot/15/images/23.jpg"/>
          <p:cNvPicPr/>
          <p:nvPr/>
        </p:nvPicPr>
        <p:blipFill>
          <a:blip r:embed="rId6"/>
          <a:stretch/>
        </p:blipFill>
        <p:spPr>
          <a:xfrm>
            <a:off x="357120" y="4572000"/>
            <a:ext cx="28576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Волна 1"/>
          <p:cNvSpPr/>
          <p:nvPr/>
        </p:nvSpPr>
        <p:spPr>
          <a:xfrm>
            <a:off x="428760" y="357120"/>
            <a:ext cx="7715160" cy="1557360"/>
          </a:xfrm>
          <a:custGeom>
            <a:avLst/>
            <a:gdLst>
              <a:gd name="textAreaLeft" fmla="*/ 0 w 7715160"/>
              <a:gd name="textAreaRight" fmla="*/ 7715520 w 7715160"/>
              <a:gd name="textAreaTop" fmla="*/ 389160 h 1557360"/>
              <a:gd name="textAreaBottom" fmla="*/ 1168200 h 15573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Перелетные пт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517760" y="2422440"/>
          <a:ext cx="6108480" cy="201456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201456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500040" y="2214720"/>
            <a:ext cx="2071800" cy="20192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17760" y="2541600"/>
          <a:ext cx="6108480" cy="177480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177480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2928960" y="2286000"/>
            <a:ext cx="2500200" cy="18572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4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6000840" y="2428920"/>
            <a:ext cx="2214360" cy="19810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7"/>
          <p:cNvSpPr/>
          <p:nvPr/>
        </p:nvSpPr>
        <p:spPr>
          <a:xfrm>
            <a:off x="0" y="401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357200" y="3214800"/>
          <a:ext cx="6108840" cy="268452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268452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6" name="Picture 8" descr=""/>
          <p:cNvPicPr/>
          <p:nvPr/>
        </p:nvPicPr>
        <p:blipFill>
          <a:blip r:embed="rId4"/>
          <a:stretch/>
        </p:blipFill>
        <p:spPr>
          <a:xfrm>
            <a:off x="857160" y="4643280"/>
            <a:ext cx="2185920" cy="17146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9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"/>
          <p:cNvPicPr/>
          <p:nvPr/>
        </p:nvPicPr>
        <p:blipFill>
          <a:blip r:embed="rId5"/>
          <a:stretch/>
        </p:blipFill>
        <p:spPr>
          <a:xfrm>
            <a:off x="6357960" y="4857840"/>
            <a:ext cx="1928880" cy="164304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15" descr="Зяблик"/>
          <p:cNvPicPr/>
          <p:nvPr/>
        </p:nvPicPr>
        <p:blipFill>
          <a:blip r:embed="rId6"/>
          <a:stretch/>
        </p:blipFill>
        <p:spPr>
          <a:xfrm>
            <a:off x="3357720" y="4643280"/>
            <a:ext cx="25714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Волна 3"/>
          <p:cNvSpPr/>
          <p:nvPr/>
        </p:nvSpPr>
        <p:spPr>
          <a:xfrm>
            <a:off x="1143000" y="285840"/>
            <a:ext cx="6715080" cy="1628640"/>
          </a:xfrm>
          <a:custGeom>
            <a:avLst/>
            <a:gdLst>
              <a:gd name="textAreaLeft" fmla="*/ 0 w 6715080"/>
              <a:gd name="textAreaRight" fmla="*/ 6715440 w 6715080"/>
              <a:gd name="textAreaTop" fmla="*/ 407160 h 1628640"/>
              <a:gd name="textAreaBottom" fmla="*/ 122148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Оседлые пт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517760" y="3094200"/>
          <a:ext cx="6108480" cy="66960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66960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714240" y="2571840"/>
            <a:ext cx="1714680" cy="147636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517760" y="3035160"/>
          <a:ext cx="6108480" cy="78768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78768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3286080" y="2428920"/>
            <a:ext cx="2095560" cy="15811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517760" y="2970360"/>
          <a:ext cx="6108480" cy="91908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91908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8" name="Picture 7" descr=""/>
          <p:cNvPicPr/>
          <p:nvPr/>
        </p:nvPicPr>
        <p:blipFill>
          <a:blip r:embed="rId3"/>
          <a:stretch/>
        </p:blipFill>
        <p:spPr>
          <a:xfrm>
            <a:off x="5857920" y="2357280"/>
            <a:ext cx="2333520" cy="18576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8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517760" y="3209760"/>
          <a:ext cx="6108480" cy="43992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43992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1" name="Picture 9" descr=""/>
          <p:cNvPicPr/>
          <p:nvPr/>
        </p:nvPicPr>
        <p:blipFill>
          <a:blip r:embed="rId4"/>
          <a:stretch/>
        </p:blipFill>
        <p:spPr>
          <a:xfrm>
            <a:off x="3214800" y="4572000"/>
            <a:ext cx="3143160" cy="15001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0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Волна 1"/>
          <p:cNvSpPr/>
          <p:nvPr/>
        </p:nvSpPr>
        <p:spPr>
          <a:xfrm>
            <a:off x="285840" y="214200"/>
            <a:ext cx="8643960" cy="1343160"/>
          </a:xfrm>
          <a:custGeom>
            <a:avLst/>
            <a:gdLst>
              <a:gd name="textAreaLeft" fmla="*/ 0 w 8643960"/>
              <a:gd name="textAreaRight" fmla="*/ 8643960 w 8643960"/>
              <a:gd name="textAreaTop" fmla="*/ 335880 h 1343160"/>
              <a:gd name="textAreaBottom" fmla="*/ 1007640 h 13431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Подумай и отве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с двумя скругленными соседними углами 2"/>
          <p:cNvSpPr/>
          <p:nvPr/>
        </p:nvSpPr>
        <p:spPr>
          <a:xfrm>
            <a:off x="642960" y="2286000"/>
            <a:ext cx="7858080" cy="4071960"/>
          </a:xfrm>
          <a:prstGeom prst="pie">
            <a:avLst/>
          </a:prstGeom>
          <a:solidFill>
            <a:srgbClr val="d6d6d6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d6d6"/>
                </a:solidFill>
                <a:latin typeface="Verdana"/>
              </a:rPr>
              <a:t>Жж</a:t>
            </a:r>
            <a:r>
              <a:rPr b="0" lang="ru-RU" sz="3600" spc="-1" strike="noStrike">
                <a:solidFill>
                  <a:srgbClr val="d6d6d6"/>
                </a:solidFill>
                <a:latin typeface="Verdana"/>
              </a:rPr>
              <a:t>11.еороллдд.по1.1л1.ролл</a:t>
            </a:r>
            <a:r>
              <a:rPr b="0" lang="ru-RU" sz="1800" spc="-1" strike="noStrike">
                <a:solidFill>
                  <a:srgbClr val="d6d6d6"/>
                </a:solidFill>
                <a:latin typeface="Verdana"/>
              </a:rPr>
              <a:t>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99980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1. Что страшнее для птиц – голод или холод?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Как мы можем помочь птицам перезимовать?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3. Как нужно вести себя в лесу?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4. Почему нельзя трогать птичьи гнезда и брать яйца или птенцов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622680"/>
            <a:ext cx="640080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Какую пользу приносят птицы?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2. Как мы должны относиться к птицам?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 Как вы думаете, что будет, если исчезнут птицы?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95280" y="11444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настроение вызвал у вас этот ур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ерите рисунок, который соответствует вашему настро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1" descr="D:\МОИ ДОКУМЕНТЫ\папа\электрика\Новая папка\Архивы\dog2.gif"/>
          <p:cNvPicPr/>
          <p:nvPr/>
        </p:nvPicPr>
        <p:blipFill>
          <a:blip r:embed="rId1"/>
          <a:stretch/>
        </p:blipFill>
        <p:spPr>
          <a:xfrm>
            <a:off x="7072200" y="2571840"/>
            <a:ext cx="1143000" cy="1338120"/>
          </a:xfrm>
          <a:prstGeom prst="rect">
            <a:avLst/>
          </a:prstGeom>
          <a:ln w="0">
            <a:noFill/>
          </a:ln>
        </p:spPr>
      </p:pic>
      <p:sp>
        <p:nvSpPr>
          <p:cNvPr id="282" name="Ink 5"/>
          <p:cNvSpPr/>
          <p:nvPr/>
        </p:nvSpPr>
        <p:spPr>
          <a:xfrm>
            <a:off x="1133640" y="4786200"/>
            <a:ext cx="223560" cy="223920"/>
          </a:xfrm>
          <a:custGeom>
            <a:avLst/>
            <a:gdLst/>
            <a:ahLst/>
            <a:rect l="l" t="t" r="r" b="b"/>
            <a:pathLst>
              <a:path w="621" h="621">
                <a:moveTo>
                  <a:pt x="3597" y="13345"/>
                </a:moveTo>
                <a:cubicBezTo>
                  <a:pt x="3551" y="13345"/>
                  <a:pt x="3538" y="13325"/>
                  <a:pt x="3497" y="13320"/>
                </a:cubicBezTo>
                <a:cubicBezTo>
                  <a:pt x="3457" y="13315"/>
                  <a:pt x="3444" y="13295"/>
                  <a:pt x="3398" y="13295"/>
                </a:cubicBezTo>
                <a:cubicBezTo>
                  <a:pt x="3362" y="13295"/>
                  <a:pt x="3326" y="13302"/>
                  <a:pt x="3299" y="13320"/>
                </a:cubicBezTo>
                <a:cubicBezTo>
                  <a:pt x="3278" y="13334"/>
                  <a:pt x="3210" y="13376"/>
                  <a:pt x="3200" y="13395"/>
                </a:cubicBezTo>
                <a:cubicBezTo>
                  <a:pt x="3187" y="13420"/>
                  <a:pt x="3177" y="13450"/>
                  <a:pt x="3175" y="13469"/>
                </a:cubicBezTo>
                <a:cubicBezTo>
                  <a:pt x="3169" y="13520"/>
                  <a:pt x="3155" y="13506"/>
                  <a:pt x="3150" y="13543"/>
                </a:cubicBezTo>
                <a:cubicBezTo>
                  <a:pt x="3143" y="13599"/>
                  <a:pt x="3144" y="13670"/>
                  <a:pt x="3175" y="13717"/>
                </a:cubicBezTo>
                <a:cubicBezTo>
                  <a:pt x="3207" y="13765"/>
                  <a:pt x="3210" y="13814"/>
                  <a:pt x="3249" y="13866"/>
                </a:cubicBezTo>
                <a:cubicBezTo>
                  <a:pt x="3268" y="13891"/>
                  <a:pt x="3304" y="13913"/>
                  <a:pt x="3324" y="13915"/>
                </a:cubicBezTo>
                <a:cubicBezTo>
                  <a:pt x="3379" y="13922"/>
                  <a:pt x="3404" y="13905"/>
                  <a:pt x="3448" y="13891"/>
                </a:cubicBezTo>
                <a:cubicBezTo>
                  <a:pt x="3483" y="13880"/>
                  <a:pt x="3479" y="13865"/>
                  <a:pt x="3522" y="13841"/>
                </a:cubicBezTo>
                <a:cubicBezTo>
                  <a:pt x="3558" y="13821"/>
                  <a:pt x="3599" y="13794"/>
                  <a:pt x="3621" y="13791"/>
                </a:cubicBezTo>
                <a:cubicBezTo>
                  <a:pt x="3675" y="13784"/>
                  <a:pt x="3656" y="13747"/>
                  <a:pt x="3696" y="13742"/>
                </a:cubicBezTo>
                <a:cubicBezTo>
                  <a:pt x="3739" y="13737"/>
                  <a:pt x="3765" y="13710"/>
                  <a:pt x="3770" y="13667"/>
                </a:cubicBezTo>
                <a:cubicBezTo>
                  <a:pt x="3774" y="13632"/>
                  <a:pt x="3783" y="13562"/>
                  <a:pt x="3746" y="13543"/>
                </a:cubicBezTo>
                <a:cubicBezTo>
                  <a:pt x="3728" y="13534"/>
                  <a:pt x="3686" y="13524"/>
                  <a:pt x="3671" y="13494"/>
                </a:cubicBezTo>
                <a:cubicBezTo>
                  <a:pt x="3660" y="13471"/>
                  <a:pt x="3634" y="13426"/>
                  <a:pt x="3621" y="13419"/>
                </a:cubicBezTo>
                <a:cubicBezTo>
                  <a:pt x="3590" y="13403"/>
                  <a:pt x="3597" y="13415"/>
                  <a:pt x="3597" y="13370"/>
                </a:cubicBezTo>
              </a:path>
              <a:path w="621" h="621">
                <a:moveTo>
                  <a:pt x="3423" y="13345"/>
                </a:moveTo>
                <a:cubicBezTo>
                  <a:pt x="3423" y="13535"/>
                  <a:pt x="3423" y="13725"/>
                  <a:pt x="3423" y="13915"/>
                </a:cubicBezTo>
                <a:cubicBezTo>
                  <a:pt x="3423" y="13862"/>
                  <a:pt x="3439" y="13841"/>
                  <a:pt x="3448" y="13791"/>
                </a:cubicBezTo>
                <a:cubicBezTo>
                  <a:pt x="3457" y="13739"/>
                  <a:pt x="3494" y="13714"/>
                  <a:pt x="3497" y="13667"/>
                </a:cubicBezTo>
                <a:cubicBezTo>
                  <a:pt x="3503" y="13584"/>
                  <a:pt x="3476" y="13606"/>
                  <a:pt x="3448" y="13543"/>
                </a:cubicBezTo>
                <a:cubicBezTo>
                  <a:pt x="3430" y="13504"/>
                  <a:pt x="3448" y="13414"/>
                  <a:pt x="3448" y="13370"/>
                </a:cubicBezTo>
                <a:cubicBezTo>
                  <a:pt x="3448" y="13428"/>
                  <a:pt x="3473" y="13743"/>
                  <a:pt x="3473" y="13742"/>
                </a:cubicBezTo>
                <a:cubicBezTo>
                  <a:pt x="3495" y="13712"/>
                  <a:pt x="3556" y="13627"/>
                  <a:pt x="3572" y="13593"/>
                </a:cubicBezTo>
                <a:cubicBezTo>
                  <a:pt x="3590" y="13555"/>
                  <a:pt x="3572" y="13462"/>
                  <a:pt x="3572" y="13419"/>
                </a:cubicBezTo>
                <a:cubicBezTo>
                  <a:pt x="3572" y="13411"/>
                  <a:pt x="3572" y="13403"/>
                  <a:pt x="3572" y="13395"/>
                </a:cubicBezTo>
                <a:cubicBezTo>
                  <a:pt x="3572" y="13327"/>
                  <a:pt x="3572" y="13480"/>
                  <a:pt x="3572" y="13494"/>
                </a:cubicBezTo>
                <a:cubicBezTo>
                  <a:pt x="3572" y="13601"/>
                  <a:pt x="3572" y="13709"/>
                  <a:pt x="3572" y="13816"/>
                </a:cubicBezTo>
                <a:cubicBezTo>
                  <a:pt x="3572" y="13840"/>
                  <a:pt x="3572" y="13958"/>
                  <a:pt x="3572" y="13841"/>
                </a:cubicBezTo>
                <a:cubicBezTo>
                  <a:pt x="3572" y="13795"/>
                  <a:pt x="3592" y="13783"/>
                  <a:pt x="3597" y="13742"/>
                </a:cubicBezTo>
                <a:cubicBezTo>
                  <a:pt x="3603" y="13686"/>
                  <a:pt x="3597" y="13624"/>
                  <a:pt x="3597" y="13568"/>
                </a:cubicBezTo>
                <a:cubicBezTo>
                  <a:pt x="3597" y="13526"/>
                  <a:pt x="3597" y="13601"/>
                  <a:pt x="3597" y="13643"/>
                </a:cubicBezTo>
                <a:cubicBezTo>
                  <a:pt x="3597" y="13660"/>
                  <a:pt x="3597" y="13781"/>
                  <a:pt x="3597" y="13717"/>
                </a:cubicBezTo>
                <a:cubicBezTo>
                  <a:pt x="3597" y="13678"/>
                  <a:pt x="3621" y="13696"/>
                  <a:pt x="3621" y="13643"/>
                </a:cubicBezTo>
                <a:cubicBezTo>
                  <a:pt x="3621" y="13604"/>
                  <a:pt x="3639" y="13515"/>
                  <a:pt x="3597" y="13494"/>
                </a:cubicBezTo>
                <a:cubicBezTo>
                  <a:pt x="3561" y="13476"/>
                  <a:pt x="3569" y="13447"/>
                  <a:pt x="3547" y="13419"/>
                </a:cubicBezTo>
                <a:cubicBezTo>
                  <a:pt x="3524" y="13397"/>
                  <a:pt x="3513" y="13389"/>
                  <a:pt x="3547" y="13395"/>
                </a:cubicBezTo>
                <a:cubicBezTo>
                  <a:pt x="3581" y="13420"/>
                  <a:pt x="3607" y="13426"/>
                  <a:pt x="3621" y="13469"/>
                </a:cubicBezTo>
                <a:cubicBezTo>
                  <a:pt x="3648" y="13554"/>
                  <a:pt x="3628" y="13798"/>
                  <a:pt x="3597" y="13841"/>
                </a:cubicBezTo>
                <a:cubicBezTo>
                  <a:pt x="3551" y="13905"/>
                  <a:pt x="3572" y="13896"/>
                  <a:pt x="3572" y="13841"/>
                </a:cubicBezTo>
                <a:cubicBezTo>
                  <a:pt x="3604" y="13809"/>
                  <a:pt x="3623" y="13784"/>
                  <a:pt x="3646" y="13767"/>
                </a:cubicBezTo>
                <a:cubicBezTo>
                  <a:pt x="3682" y="13740"/>
                  <a:pt x="3671" y="13707"/>
                  <a:pt x="3671" y="13667"/>
                </a:cubicBezTo>
                <a:cubicBezTo>
                  <a:pt x="3671" y="13595"/>
                  <a:pt x="3688" y="13507"/>
                  <a:pt x="3646" y="13444"/>
                </a:cubicBezTo>
                <a:cubicBezTo>
                  <a:pt x="3624" y="13422"/>
                  <a:pt x="3619" y="13413"/>
                  <a:pt x="3597" y="13419"/>
                </a:cubicBezTo>
                <a:cubicBezTo>
                  <a:pt x="3581" y="13357"/>
                  <a:pt x="3591" y="13362"/>
                  <a:pt x="3597" y="13419"/>
                </a:cubicBezTo>
                <a:cubicBezTo>
                  <a:pt x="3602" y="13461"/>
                  <a:pt x="3638" y="13483"/>
                  <a:pt x="3646" y="13519"/>
                </a:cubicBezTo>
                <a:cubicBezTo>
                  <a:pt x="3661" y="13588"/>
                  <a:pt x="3664" y="13766"/>
                  <a:pt x="3621" y="13816"/>
                </a:cubicBezTo>
                <a:cubicBezTo>
                  <a:pt x="3613" y="13825"/>
                  <a:pt x="3531" y="13907"/>
                  <a:pt x="3597" y="13841"/>
                </a:cubicBezTo>
                <a:cubicBezTo>
                  <a:pt x="3607" y="13809"/>
                  <a:pt x="3653" y="13786"/>
                  <a:pt x="3671" y="13742"/>
                </a:cubicBezTo>
                <a:cubicBezTo>
                  <a:pt x="3689" y="13698"/>
                  <a:pt x="3664" y="13680"/>
                  <a:pt x="3646" y="13667"/>
                </a:cubicBezTo>
                <a:cubicBezTo>
                  <a:pt x="3604" y="13637"/>
                  <a:pt x="3602" y="13602"/>
                  <a:pt x="3572" y="13568"/>
                </a:cubicBezTo>
                <a:cubicBezTo>
                  <a:pt x="3541" y="13533"/>
                  <a:pt x="3547" y="13515"/>
                  <a:pt x="3547" y="13469"/>
                </a:cubicBezTo>
                <a:cubicBezTo>
                  <a:pt x="3547" y="13414"/>
                  <a:pt x="3547" y="13414"/>
                  <a:pt x="3547" y="13469"/>
                </a:cubicBezTo>
                <a:cubicBezTo>
                  <a:pt x="3547" y="13542"/>
                  <a:pt x="3542" y="13604"/>
                  <a:pt x="3522" y="13643"/>
                </a:cubicBezTo>
                <a:cubicBezTo>
                  <a:pt x="3493" y="13698"/>
                  <a:pt x="3520" y="13678"/>
                  <a:pt x="3547" y="136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Ink 6"/>
          <p:cNvSpPr/>
          <p:nvPr/>
        </p:nvSpPr>
        <p:spPr>
          <a:xfrm>
            <a:off x="1812960" y="4803840"/>
            <a:ext cx="196920" cy="241200"/>
          </a:xfrm>
          <a:custGeom>
            <a:avLst/>
            <a:gdLst/>
            <a:ahLst/>
            <a:rect l="l" t="t" r="r" b="b"/>
            <a:pathLst>
              <a:path w="547" h="671">
                <a:moveTo>
                  <a:pt x="5457" y="13370"/>
                </a:moveTo>
                <a:cubicBezTo>
                  <a:pt x="5419" y="13341"/>
                  <a:pt x="5406" y="13345"/>
                  <a:pt x="5358" y="13345"/>
                </a:cubicBezTo>
                <a:cubicBezTo>
                  <a:pt x="5322" y="13345"/>
                  <a:pt x="5286" y="13352"/>
                  <a:pt x="5259" y="13370"/>
                </a:cubicBezTo>
                <a:cubicBezTo>
                  <a:pt x="5239" y="13384"/>
                  <a:pt x="5188" y="13411"/>
                  <a:pt x="5184" y="13419"/>
                </a:cubicBezTo>
                <a:cubicBezTo>
                  <a:pt x="5169" y="13449"/>
                  <a:pt x="5143" y="13457"/>
                  <a:pt x="5110" y="13494"/>
                </a:cubicBezTo>
                <a:cubicBezTo>
                  <a:pt x="5076" y="13532"/>
                  <a:pt x="5086" y="13580"/>
                  <a:pt x="5060" y="13618"/>
                </a:cubicBezTo>
                <a:cubicBezTo>
                  <a:pt x="5033" y="13658"/>
                  <a:pt x="5035" y="13667"/>
                  <a:pt x="5035" y="13717"/>
                </a:cubicBezTo>
                <a:cubicBezTo>
                  <a:pt x="5035" y="13780"/>
                  <a:pt x="5043" y="13814"/>
                  <a:pt x="5060" y="13866"/>
                </a:cubicBezTo>
                <a:cubicBezTo>
                  <a:pt x="5076" y="13915"/>
                  <a:pt x="5067" y="13922"/>
                  <a:pt x="5110" y="13965"/>
                </a:cubicBezTo>
                <a:cubicBezTo>
                  <a:pt x="5159" y="14014"/>
                  <a:pt x="5163" y="14015"/>
                  <a:pt x="5234" y="14015"/>
                </a:cubicBezTo>
                <a:cubicBezTo>
                  <a:pt x="5283" y="14015"/>
                  <a:pt x="5371" y="14032"/>
                  <a:pt x="5407" y="13990"/>
                </a:cubicBezTo>
                <a:cubicBezTo>
                  <a:pt x="5430" y="13963"/>
                  <a:pt x="5455" y="13961"/>
                  <a:pt x="5482" y="13940"/>
                </a:cubicBezTo>
                <a:cubicBezTo>
                  <a:pt x="5497" y="13929"/>
                  <a:pt x="5549" y="13881"/>
                  <a:pt x="5556" y="13866"/>
                </a:cubicBezTo>
                <a:cubicBezTo>
                  <a:pt x="5566" y="13845"/>
                  <a:pt x="5579" y="13789"/>
                  <a:pt x="5581" y="13767"/>
                </a:cubicBezTo>
                <a:cubicBezTo>
                  <a:pt x="5591" y="13681"/>
                  <a:pt x="5581" y="13568"/>
                  <a:pt x="5556" y="13519"/>
                </a:cubicBezTo>
                <a:cubicBezTo>
                  <a:pt x="5537" y="13481"/>
                  <a:pt x="5517" y="13454"/>
                  <a:pt x="5482" y="13419"/>
                </a:cubicBezTo>
                <a:cubicBezTo>
                  <a:pt x="5446" y="13383"/>
                  <a:pt x="5471" y="13383"/>
                  <a:pt x="5432" y="13370"/>
                </a:cubicBezTo>
              </a:path>
              <a:path w="547" h="671">
                <a:moveTo>
                  <a:pt x="5432" y="13370"/>
                </a:moveTo>
                <a:cubicBezTo>
                  <a:pt x="5414" y="13376"/>
                  <a:pt x="5372" y="13413"/>
                  <a:pt x="5358" y="13444"/>
                </a:cubicBezTo>
                <a:cubicBezTo>
                  <a:pt x="5342" y="13480"/>
                  <a:pt x="5312" y="13489"/>
                  <a:pt x="5308" y="13519"/>
                </a:cubicBezTo>
                <a:cubicBezTo>
                  <a:pt x="5298" y="13598"/>
                  <a:pt x="5269" y="13832"/>
                  <a:pt x="5283" y="13891"/>
                </a:cubicBezTo>
                <a:cubicBezTo>
                  <a:pt x="5290" y="13920"/>
                  <a:pt x="5315" y="13934"/>
                  <a:pt x="5333" y="13940"/>
                </a:cubicBezTo>
                <a:cubicBezTo>
                  <a:pt x="5371" y="13902"/>
                  <a:pt x="5383" y="13894"/>
                  <a:pt x="5383" y="13841"/>
                </a:cubicBezTo>
                <a:cubicBezTo>
                  <a:pt x="5383" y="13701"/>
                  <a:pt x="5325" y="13330"/>
                  <a:pt x="5407" y="13444"/>
                </a:cubicBezTo>
                <a:cubicBezTo>
                  <a:pt x="5437" y="13486"/>
                  <a:pt x="5407" y="13686"/>
                  <a:pt x="5407" y="13742"/>
                </a:cubicBezTo>
                <a:cubicBezTo>
                  <a:pt x="5407" y="13750"/>
                  <a:pt x="5407" y="13759"/>
                  <a:pt x="5407" y="13767"/>
                </a:cubicBezTo>
                <a:cubicBezTo>
                  <a:pt x="5407" y="13821"/>
                  <a:pt x="5407" y="13821"/>
                  <a:pt x="5407" y="13767"/>
                </a:cubicBezTo>
                <a:cubicBezTo>
                  <a:pt x="5407" y="13684"/>
                  <a:pt x="5407" y="13602"/>
                  <a:pt x="5407" y="13519"/>
                </a:cubicBezTo>
                <a:cubicBezTo>
                  <a:pt x="5407" y="13464"/>
                  <a:pt x="5407" y="13464"/>
                  <a:pt x="5407" y="13519"/>
                </a:cubicBezTo>
                <a:cubicBezTo>
                  <a:pt x="5407" y="13630"/>
                  <a:pt x="5414" y="13744"/>
                  <a:pt x="5383" y="13841"/>
                </a:cubicBezTo>
                <a:cubicBezTo>
                  <a:pt x="5377" y="13860"/>
                  <a:pt x="5383" y="13895"/>
                  <a:pt x="5383" y="13915"/>
                </a:cubicBezTo>
                <a:cubicBezTo>
                  <a:pt x="5402" y="13896"/>
                  <a:pt x="5476" y="13851"/>
                  <a:pt x="5482" y="13841"/>
                </a:cubicBezTo>
                <a:cubicBezTo>
                  <a:pt x="5496" y="13820"/>
                  <a:pt x="5544" y="13769"/>
                  <a:pt x="5556" y="13742"/>
                </a:cubicBezTo>
                <a:cubicBezTo>
                  <a:pt x="5578" y="13693"/>
                  <a:pt x="5561" y="13553"/>
                  <a:pt x="5531" y="13519"/>
                </a:cubicBezTo>
                <a:cubicBezTo>
                  <a:pt x="5523" y="13511"/>
                  <a:pt x="5515" y="13502"/>
                  <a:pt x="5507" y="13494"/>
                </a:cubicBezTo>
                <a:cubicBezTo>
                  <a:pt x="5507" y="13560"/>
                  <a:pt x="5475" y="13606"/>
                  <a:pt x="5457" y="13667"/>
                </a:cubicBezTo>
                <a:cubicBezTo>
                  <a:pt x="5435" y="13743"/>
                  <a:pt x="5413" y="13742"/>
                  <a:pt x="5383" y="13816"/>
                </a:cubicBezTo>
                <a:cubicBezTo>
                  <a:pt x="5370" y="13848"/>
                  <a:pt x="5344" y="13884"/>
                  <a:pt x="5333" y="13915"/>
                </a:cubicBezTo>
                <a:cubicBezTo>
                  <a:pt x="5333" y="13923"/>
                  <a:pt x="5333" y="13932"/>
                  <a:pt x="5333" y="13940"/>
                </a:cubicBezTo>
                <a:cubicBezTo>
                  <a:pt x="5333" y="13888"/>
                  <a:pt x="5358" y="13853"/>
                  <a:pt x="5383" y="13816"/>
                </a:cubicBezTo>
                <a:cubicBezTo>
                  <a:pt x="5403" y="13786"/>
                  <a:pt x="5417" y="13732"/>
                  <a:pt x="5432" y="13717"/>
                </a:cubicBezTo>
                <a:cubicBezTo>
                  <a:pt x="5456" y="13693"/>
                  <a:pt x="5457" y="13697"/>
                  <a:pt x="5457" y="13643"/>
                </a:cubicBezTo>
                <a:cubicBezTo>
                  <a:pt x="5457" y="13588"/>
                  <a:pt x="5457" y="13588"/>
                  <a:pt x="5457" y="13643"/>
                </a:cubicBezTo>
                <a:cubicBezTo>
                  <a:pt x="5457" y="13717"/>
                  <a:pt x="5423" y="13815"/>
                  <a:pt x="5482" y="13742"/>
                </a:cubicBezTo>
                <a:cubicBezTo>
                  <a:pt x="5518" y="13697"/>
                  <a:pt x="5541" y="13641"/>
                  <a:pt x="5556" y="13593"/>
                </a:cubicBezTo>
                <a:cubicBezTo>
                  <a:pt x="5556" y="13568"/>
                  <a:pt x="5556" y="13560"/>
                  <a:pt x="5556" y="13543"/>
                </a:cubicBezTo>
                <a:cubicBezTo>
                  <a:pt x="5556" y="13605"/>
                  <a:pt x="5546" y="13642"/>
                  <a:pt x="5531" y="13692"/>
                </a:cubicBezTo>
                <a:cubicBezTo>
                  <a:pt x="5516" y="13742"/>
                  <a:pt x="5487" y="13709"/>
                  <a:pt x="5482" y="13667"/>
                </a:cubicBezTo>
                <a:cubicBezTo>
                  <a:pt x="5474" y="13600"/>
                  <a:pt x="5495" y="13514"/>
                  <a:pt x="5482" y="13519"/>
                </a:cubicBezTo>
                <a:cubicBezTo>
                  <a:pt x="5432" y="13539"/>
                  <a:pt x="5440" y="13535"/>
                  <a:pt x="5407" y="135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Ink 7"/>
          <p:cNvSpPr/>
          <p:nvPr/>
        </p:nvSpPr>
        <p:spPr>
          <a:xfrm>
            <a:off x="1330200" y="4973760"/>
            <a:ext cx="554040" cy="590400"/>
          </a:xfrm>
          <a:custGeom>
            <a:avLst/>
            <a:gdLst/>
            <a:ahLst/>
            <a:rect l="l" t="t" r="r" b="b"/>
            <a:pathLst>
              <a:path w="1539" h="1638">
                <a:moveTo>
                  <a:pt x="4440" y="13816"/>
                </a:moveTo>
                <a:cubicBezTo>
                  <a:pt x="4430" y="13855"/>
                  <a:pt x="4415" y="13871"/>
                  <a:pt x="4415" y="13915"/>
                </a:cubicBezTo>
                <a:cubicBezTo>
                  <a:pt x="4415" y="14047"/>
                  <a:pt x="4415" y="14180"/>
                  <a:pt x="4415" y="14312"/>
                </a:cubicBezTo>
                <a:cubicBezTo>
                  <a:pt x="4380" y="14324"/>
                  <a:pt x="4390" y="14319"/>
                  <a:pt x="4390" y="14362"/>
                </a:cubicBezTo>
                <a:cubicBezTo>
                  <a:pt x="4362" y="14372"/>
                  <a:pt x="4361" y="14401"/>
                  <a:pt x="4341" y="14436"/>
                </a:cubicBezTo>
                <a:cubicBezTo>
                  <a:pt x="4321" y="14477"/>
                  <a:pt x="4323" y="14493"/>
                  <a:pt x="4291" y="14486"/>
                </a:cubicBezTo>
                <a:cubicBezTo>
                  <a:pt x="4291" y="14519"/>
                  <a:pt x="4291" y="14552"/>
                  <a:pt x="4291" y="14585"/>
                </a:cubicBezTo>
                <a:cubicBezTo>
                  <a:pt x="4257" y="14596"/>
                  <a:pt x="4268" y="14598"/>
                  <a:pt x="4242" y="14635"/>
                </a:cubicBezTo>
                <a:cubicBezTo>
                  <a:pt x="4358" y="14635"/>
                  <a:pt x="4473" y="14635"/>
                  <a:pt x="4589" y="14635"/>
                </a:cubicBezTo>
              </a:path>
              <a:path w="1539" h="1638">
                <a:moveTo>
                  <a:pt x="3770" y="15304"/>
                </a:moveTo>
                <a:cubicBezTo>
                  <a:pt x="4055" y="15304"/>
                  <a:pt x="4948" y="15448"/>
                  <a:pt x="5159" y="15280"/>
                </a:cubicBezTo>
                <a:cubicBezTo>
                  <a:pt x="5196" y="15250"/>
                  <a:pt x="5182" y="15222"/>
                  <a:pt x="5184" y="15180"/>
                </a:cubicBezTo>
                <a:cubicBezTo>
                  <a:pt x="5184" y="15156"/>
                  <a:pt x="5184" y="15147"/>
                  <a:pt x="5184" y="15131"/>
                </a:cubicBezTo>
                <a:cubicBezTo>
                  <a:pt x="5184" y="15221"/>
                  <a:pt x="5160" y="15351"/>
                  <a:pt x="5209" y="15429"/>
                </a:cubicBezTo>
                <a:cubicBezTo>
                  <a:pt x="5217" y="15437"/>
                  <a:pt x="5226" y="15445"/>
                  <a:pt x="5234" y="15453"/>
                </a:cubicBezTo>
              </a:path>
              <a:path w="1539" h="1638">
                <a:moveTo>
                  <a:pt x="3746" y="15205"/>
                </a:moveTo>
                <a:cubicBezTo>
                  <a:pt x="3795" y="15218"/>
                  <a:pt x="3795" y="15230"/>
                  <a:pt x="3795" y="15280"/>
                </a:cubicBezTo>
                <a:cubicBezTo>
                  <a:pt x="3760" y="15291"/>
                  <a:pt x="3770" y="15287"/>
                  <a:pt x="3770" y="15329"/>
                </a:cubicBezTo>
                <a:cubicBezTo>
                  <a:pt x="3740" y="15344"/>
                  <a:pt x="3709" y="15391"/>
                  <a:pt x="3696" y="15429"/>
                </a:cubicBezTo>
                <a:cubicBezTo>
                  <a:pt x="3696" y="15437"/>
                  <a:pt x="3696" y="15445"/>
                  <a:pt x="3696" y="154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Ink 8"/>
          <p:cNvSpPr/>
          <p:nvPr/>
        </p:nvSpPr>
        <p:spPr>
          <a:xfrm>
            <a:off x="1384200" y="6000840"/>
            <a:ext cx="196920" cy="322200"/>
          </a:xfrm>
          <a:custGeom>
            <a:avLst/>
            <a:gdLst/>
            <a:ahLst/>
            <a:rect l="l" t="t" r="r" b="b"/>
            <a:pathLst>
              <a:path w="546" h="894">
                <a:moveTo>
                  <a:pt x="3845" y="17066"/>
                </a:moveTo>
                <a:lnTo>
                  <a:pt x="3872" y="17029"/>
                </a:lnTo>
                <a:lnTo>
                  <a:pt x="3875" y="17016"/>
                </a:lnTo>
                <a:lnTo>
                  <a:pt x="3894" y="16991"/>
                </a:lnTo>
                <a:lnTo>
                  <a:pt x="3922" y="16954"/>
                </a:lnTo>
                <a:lnTo>
                  <a:pt x="3997" y="16974"/>
                </a:lnTo>
                <a:lnTo>
                  <a:pt x="4018" y="16942"/>
                </a:lnTo>
                <a:lnTo>
                  <a:pt x="4029" y="16925"/>
                </a:lnTo>
                <a:lnTo>
                  <a:pt x="4059" y="16882"/>
                </a:lnTo>
                <a:lnTo>
                  <a:pt x="4093" y="16867"/>
                </a:lnTo>
                <a:lnTo>
                  <a:pt x="4126" y="16852"/>
                </a:lnTo>
                <a:lnTo>
                  <a:pt x="4190" y="16840"/>
                </a:lnTo>
                <a:lnTo>
                  <a:pt x="4217" y="16818"/>
                </a:lnTo>
                <a:lnTo>
                  <a:pt x="4265" y="16780"/>
                </a:lnTo>
                <a:lnTo>
                  <a:pt x="4304" y="16701"/>
                </a:lnTo>
                <a:lnTo>
                  <a:pt x="4366" y="16694"/>
                </a:lnTo>
                <a:lnTo>
                  <a:pt x="4374" y="16694"/>
                </a:lnTo>
                <a:lnTo>
                  <a:pt x="4382" y="16694"/>
                </a:lnTo>
                <a:lnTo>
                  <a:pt x="4390" y="16694"/>
                </a:lnTo>
                <a:lnTo>
                  <a:pt x="4371" y="16635"/>
                </a:lnTo>
                <a:lnTo>
                  <a:pt x="4357" y="16686"/>
                </a:lnTo>
                <a:lnTo>
                  <a:pt x="4341" y="16694"/>
                </a:lnTo>
                <a:lnTo>
                  <a:pt x="4301" y="16714"/>
                </a:lnTo>
                <a:lnTo>
                  <a:pt x="4262" y="16742"/>
                </a:lnTo>
                <a:lnTo>
                  <a:pt x="4242" y="16793"/>
                </a:lnTo>
                <a:lnTo>
                  <a:pt x="4225" y="16838"/>
                </a:lnTo>
                <a:lnTo>
                  <a:pt x="4215" y="16877"/>
                </a:lnTo>
                <a:lnTo>
                  <a:pt x="4192" y="16917"/>
                </a:lnTo>
                <a:lnTo>
                  <a:pt x="4164" y="16965"/>
                </a:lnTo>
                <a:lnTo>
                  <a:pt x="4167" y="16990"/>
                </a:lnTo>
                <a:lnTo>
                  <a:pt x="4167" y="17041"/>
                </a:lnTo>
                <a:lnTo>
                  <a:pt x="4167" y="17155"/>
                </a:lnTo>
                <a:lnTo>
                  <a:pt x="4119" y="17455"/>
                </a:lnTo>
                <a:lnTo>
                  <a:pt x="4192" y="17537"/>
                </a:lnTo>
                <a:lnTo>
                  <a:pt x="4200" y="17545"/>
                </a:lnTo>
                <a:lnTo>
                  <a:pt x="4209" y="17554"/>
                </a:lnTo>
                <a:lnTo>
                  <a:pt x="4217" y="17562"/>
                </a:lnTo>
                <a:close/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Ink 9"/>
          <p:cNvSpPr/>
          <p:nvPr/>
        </p:nvSpPr>
        <p:spPr>
          <a:xfrm>
            <a:off x="3768840" y="4705200"/>
            <a:ext cx="196560" cy="189000"/>
          </a:xfrm>
          <a:custGeom>
            <a:avLst/>
            <a:gdLst/>
            <a:ahLst/>
            <a:rect l="l" t="t" r="r" b="b"/>
            <a:pathLst>
              <a:path w="546" h="522">
                <a:moveTo>
                  <a:pt x="10889" y="13271"/>
                </a:moveTo>
                <a:cubicBezTo>
                  <a:pt x="10870" y="13251"/>
                  <a:pt x="10818" y="13202"/>
                  <a:pt x="10815" y="13196"/>
                </a:cubicBezTo>
                <a:cubicBezTo>
                  <a:pt x="10809" y="13184"/>
                  <a:pt x="10763" y="13134"/>
                  <a:pt x="10740" y="13122"/>
                </a:cubicBezTo>
                <a:cubicBezTo>
                  <a:pt x="10730" y="13117"/>
                  <a:pt x="10657" y="13077"/>
                  <a:pt x="10641" y="13097"/>
                </a:cubicBezTo>
                <a:cubicBezTo>
                  <a:pt x="10619" y="13125"/>
                  <a:pt x="10596" y="13125"/>
                  <a:pt x="10567" y="13146"/>
                </a:cubicBezTo>
                <a:cubicBezTo>
                  <a:pt x="10528" y="13175"/>
                  <a:pt x="10513" y="13213"/>
                  <a:pt x="10492" y="13246"/>
                </a:cubicBezTo>
                <a:cubicBezTo>
                  <a:pt x="10467" y="13285"/>
                  <a:pt x="10468" y="13296"/>
                  <a:pt x="10468" y="13345"/>
                </a:cubicBezTo>
                <a:cubicBezTo>
                  <a:pt x="10468" y="13390"/>
                  <a:pt x="10488" y="13404"/>
                  <a:pt x="10492" y="13444"/>
                </a:cubicBezTo>
                <a:cubicBezTo>
                  <a:pt x="10499" y="13507"/>
                  <a:pt x="10506" y="13478"/>
                  <a:pt x="10517" y="13543"/>
                </a:cubicBezTo>
                <a:cubicBezTo>
                  <a:pt x="10575" y="13543"/>
                  <a:pt x="10582" y="13564"/>
                  <a:pt x="10616" y="13568"/>
                </a:cubicBezTo>
                <a:cubicBezTo>
                  <a:pt x="10698" y="13578"/>
                  <a:pt x="10905" y="13595"/>
                  <a:pt x="10964" y="13543"/>
                </a:cubicBezTo>
                <a:cubicBezTo>
                  <a:pt x="11003" y="13508"/>
                  <a:pt x="11013" y="13495"/>
                  <a:pt x="11013" y="13444"/>
                </a:cubicBezTo>
                <a:cubicBezTo>
                  <a:pt x="11013" y="13371"/>
                  <a:pt x="11008" y="13310"/>
                  <a:pt x="10988" y="13271"/>
                </a:cubicBezTo>
                <a:cubicBezTo>
                  <a:pt x="10974" y="13244"/>
                  <a:pt x="10988" y="13208"/>
                  <a:pt x="10964" y="13196"/>
                </a:cubicBezTo>
                <a:cubicBezTo>
                  <a:pt x="10940" y="13184"/>
                  <a:pt x="10898" y="13124"/>
                  <a:pt x="10889" y="13122"/>
                </a:cubicBezTo>
                <a:cubicBezTo>
                  <a:pt x="10838" y="13108"/>
                  <a:pt x="10811" y="13087"/>
                  <a:pt x="10765" y="13072"/>
                </a:cubicBezTo>
                <a:cubicBezTo>
                  <a:pt x="10732" y="13061"/>
                  <a:pt x="10664" y="13083"/>
                  <a:pt x="10641" y="13097"/>
                </a:cubicBezTo>
                <a:cubicBezTo>
                  <a:pt x="10633" y="13105"/>
                  <a:pt x="10624" y="13114"/>
                  <a:pt x="10616" y="13122"/>
                </a:cubicBezTo>
              </a:path>
              <a:path w="546" h="522">
                <a:moveTo>
                  <a:pt x="10740" y="13072"/>
                </a:moveTo>
                <a:cubicBezTo>
                  <a:pt x="10691" y="13085"/>
                  <a:pt x="10691" y="13096"/>
                  <a:pt x="10691" y="13146"/>
                </a:cubicBezTo>
                <a:cubicBezTo>
                  <a:pt x="10691" y="13192"/>
                  <a:pt x="10671" y="13205"/>
                  <a:pt x="10666" y="13246"/>
                </a:cubicBezTo>
                <a:cubicBezTo>
                  <a:pt x="10661" y="13287"/>
                  <a:pt x="10641" y="13264"/>
                  <a:pt x="10641" y="13320"/>
                </a:cubicBezTo>
                <a:cubicBezTo>
                  <a:pt x="10641" y="13378"/>
                  <a:pt x="10641" y="13436"/>
                  <a:pt x="10641" y="13494"/>
                </a:cubicBezTo>
                <a:cubicBezTo>
                  <a:pt x="10654" y="13520"/>
                  <a:pt x="10682" y="13488"/>
                  <a:pt x="10691" y="13469"/>
                </a:cubicBezTo>
                <a:cubicBezTo>
                  <a:pt x="10705" y="13441"/>
                  <a:pt x="10732" y="13407"/>
                  <a:pt x="10765" y="13370"/>
                </a:cubicBezTo>
                <a:cubicBezTo>
                  <a:pt x="10796" y="13335"/>
                  <a:pt x="10790" y="13317"/>
                  <a:pt x="10790" y="13271"/>
                </a:cubicBezTo>
                <a:cubicBezTo>
                  <a:pt x="10790" y="13207"/>
                  <a:pt x="10756" y="13224"/>
                  <a:pt x="10740" y="13271"/>
                </a:cubicBezTo>
                <a:cubicBezTo>
                  <a:pt x="10731" y="13297"/>
                  <a:pt x="10740" y="13343"/>
                  <a:pt x="10740" y="13370"/>
                </a:cubicBezTo>
                <a:cubicBezTo>
                  <a:pt x="10671" y="13346"/>
                  <a:pt x="10754" y="13337"/>
                  <a:pt x="10765" y="13320"/>
                </a:cubicBezTo>
                <a:cubicBezTo>
                  <a:pt x="10798" y="13271"/>
                  <a:pt x="10790" y="13359"/>
                  <a:pt x="10790" y="13395"/>
                </a:cubicBezTo>
                <a:cubicBezTo>
                  <a:pt x="10790" y="13444"/>
                  <a:pt x="10790" y="13494"/>
                  <a:pt x="10790" y="13543"/>
                </a:cubicBezTo>
                <a:cubicBezTo>
                  <a:pt x="10752" y="13556"/>
                  <a:pt x="10748" y="13566"/>
                  <a:pt x="10790" y="13519"/>
                </a:cubicBezTo>
                <a:cubicBezTo>
                  <a:pt x="10821" y="13485"/>
                  <a:pt x="10843" y="13450"/>
                  <a:pt x="10864" y="13419"/>
                </a:cubicBezTo>
                <a:cubicBezTo>
                  <a:pt x="10899" y="13368"/>
                  <a:pt x="10864" y="13312"/>
                  <a:pt x="10914" y="13345"/>
                </a:cubicBezTo>
                <a:cubicBezTo>
                  <a:pt x="10914" y="13428"/>
                  <a:pt x="10930" y="13526"/>
                  <a:pt x="10889" y="13593"/>
                </a:cubicBezTo>
                <a:cubicBezTo>
                  <a:pt x="10889" y="13502"/>
                  <a:pt x="10889" y="13411"/>
                  <a:pt x="10889" y="13320"/>
                </a:cubicBezTo>
                <a:cubicBezTo>
                  <a:pt x="10889" y="13253"/>
                  <a:pt x="10889" y="13359"/>
                  <a:pt x="10889" y="13370"/>
                </a:cubicBezTo>
                <a:cubicBezTo>
                  <a:pt x="10889" y="13428"/>
                  <a:pt x="10889" y="13485"/>
                  <a:pt x="10889" y="13543"/>
                </a:cubicBezTo>
                <a:cubicBezTo>
                  <a:pt x="10926" y="13519"/>
                  <a:pt x="10914" y="13477"/>
                  <a:pt x="10914" y="13419"/>
                </a:cubicBezTo>
                <a:cubicBezTo>
                  <a:pt x="10914" y="13362"/>
                  <a:pt x="10915" y="13344"/>
                  <a:pt x="10864" y="133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Ink 10"/>
          <p:cNvSpPr/>
          <p:nvPr/>
        </p:nvSpPr>
        <p:spPr>
          <a:xfrm>
            <a:off x="4394160" y="4680000"/>
            <a:ext cx="160200" cy="18720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12353" y="13072"/>
                </a:moveTo>
                <a:cubicBezTo>
                  <a:pt x="12304" y="13084"/>
                  <a:pt x="12276" y="13131"/>
                  <a:pt x="12229" y="13146"/>
                </a:cubicBezTo>
                <a:cubicBezTo>
                  <a:pt x="12191" y="13158"/>
                  <a:pt x="12204" y="13176"/>
                  <a:pt x="12204" y="13221"/>
                </a:cubicBezTo>
                <a:cubicBezTo>
                  <a:pt x="12204" y="13304"/>
                  <a:pt x="12214" y="13374"/>
                  <a:pt x="12229" y="13444"/>
                </a:cubicBezTo>
                <a:cubicBezTo>
                  <a:pt x="12229" y="13486"/>
                  <a:pt x="12229" y="13494"/>
                  <a:pt x="12229" y="13519"/>
                </a:cubicBezTo>
                <a:cubicBezTo>
                  <a:pt x="12294" y="13519"/>
                  <a:pt x="12378" y="13538"/>
                  <a:pt x="12427" y="13494"/>
                </a:cubicBezTo>
                <a:cubicBezTo>
                  <a:pt x="12466" y="13459"/>
                  <a:pt x="12506" y="13441"/>
                  <a:pt x="12526" y="13419"/>
                </a:cubicBezTo>
                <a:cubicBezTo>
                  <a:pt x="12556" y="13386"/>
                  <a:pt x="12577" y="13388"/>
                  <a:pt x="12601" y="13370"/>
                </a:cubicBezTo>
                <a:cubicBezTo>
                  <a:pt x="12642" y="13339"/>
                  <a:pt x="12650" y="13319"/>
                  <a:pt x="12650" y="13271"/>
                </a:cubicBezTo>
                <a:cubicBezTo>
                  <a:pt x="12650" y="13230"/>
                  <a:pt x="12641" y="13205"/>
                  <a:pt x="12626" y="13171"/>
                </a:cubicBezTo>
                <a:cubicBezTo>
                  <a:pt x="12604" y="13119"/>
                  <a:pt x="12563" y="13064"/>
                  <a:pt x="12526" y="13022"/>
                </a:cubicBezTo>
                <a:cubicBezTo>
                  <a:pt x="12496" y="12989"/>
                  <a:pt x="12469" y="12998"/>
                  <a:pt x="12427" y="12998"/>
                </a:cubicBezTo>
                <a:cubicBezTo>
                  <a:pt x="12378" y="12998"/>
                  <a:pt x="12347" y="13062"/>
                  <a:pt x="12328" y="13072"/>
                </a:cubicBezTo>
                <a:cubicBezTo>
                  <a:pt x="12297" y="13087"/>
                  <a:pt x="12283" y="13092"/>
                  <a:pt x="12254" y="13122"/>
                </a:cubicBezTo>
              </a:path>
              <a:path w="447" h="522">
                <a:moveTo>
                  <a:pt x="12378" y="13047"/>
                </a:moveTo>
                <a:cubicBezTo>
                  <a:pt x="12405" y="13085"/>
                  <a:pt x="12402" y="13099"/>
                  <a:pt x="12402" y="13146"/>
                </a:cubicBezTo>
                <a:cubicBezTo>
                  <a:pt x="12402" y="13245"/>
                  <a:pt x="12402" y="13345"/>
                  <a:pt x="12402" y="13444"/>
                </a:cubicBezTo>
                <a:cubicBezTo>
                  <a:pt x="12427" y="13386"/>
                  <a:pt x="12427" y="13359"/>
                  <a:pt x="12427" y="13295"/>
                </a:cubicBezTo>
                <a:cubicBezTo>
                  <a:pt x="12427" y="13242"/>
                  <a:pt x="12408" y="13136"/>
                  <a:pt x="12452" y="13122"/>
                </a:cubicBezTo>
                <a:cubicBezTo>
                  <a:pt x="12468" y="13167"/>
                  <a:pt x="12477" y="13145"/>
                  <a:pt x="12477" y="13221"/>
                </a:cubicBezTo>
                <a:cubicBezTo>
                  <a:pt x="12477" y="13267"/>
                  <a:pt x="12491" y="13228"/>
                  <a:pt x="12502" y="13295"/>
                </a:cubicBezTo>
                <a:cubicBezTo>
                  <a:pt x="12502" y="13212"/>
                  <a:pt x="12502" y="13130"/>
                  <a:pt x="12502" y="13047"/>
                </a:cubicBezTo>
                <a:cubicBezTo>
                  <a:pt x="12502" y="12980"/>
                  <a:pt x="12502" y="13086"/>
                  <a:pt x="12502" y="13097"/>
                </a:cubicBezTo>
                <a:cubicBezTo>
                  <a:pt x="12502" y="13180"/>
                  <a:pt x="12502" y="13262"/>
                  <a:pt x="12502" y="13345"/>
                </a:cubicBezTo>
                <a:cubicBezTo>
                  <a:pt x="12425" y="13396"/>
                  <a:pt x="12517" y="13315"/>
                  <a:pt x="12526" y="13295"/>
                </a:cubicBezTo>
                <a:cubicBezTo>
                  <a:pt x="12535" y="13275"/>
                  <a:pt x="12526" y="13112"/>
                  <a:pt x="12526" y="13171"/>
                </a:cubicBezTo>
                <a:cubicBezTo>
                  <a:pt x="12526" y="13215"/>
                  <a:pt x="12505" y="13296"/>
                  <a:pt x="12526" y="13271"/>
                </a:cubicBezTo>
                <a:cubicBezTo>
                  <a:pt x="12561" y="13229"/>
                  <a:pt x="12576" y="13227"/>
                  <a:pt x="12576" y="13171"/>
                </a:cubicBezTo>
                <a:cubicBezTo>
                  <a:pt x="12634" y="13190"/>
                  <a:pt x="12566" y="13218"/>
                  <a:pt x="12601" y="13246"/>
                </a:cubicBezTo>
                <a:cubicBezTo>
                  <a:pt x="12651" y="13286"/>
                  <a:pt x="12608" y="13253"/>
                  <a:pt x="12576" y="132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Ink 11"/>
          <p:cNvSpPr/>
          <p:nvPr/>
        </p:nvSpPr>
        <p:spPr>
          <a:xfrm>
            <a:off x="3821040" y="4822920"/>
            <a:ext cx="957240" cy="561960"/>
          </a:xfrm>
          <a:custGeom>
            <a:avLst/>
            <a:gdLst/>
            <a:ahLst/>
            <a:rect l="l" t="t" r="r" b="b"/>
            <a:pathLst>
              <a:path w="2656" h="1563">
                <a:moveTo>
                  <a:pt x="11633" y="13395"/>
                </a:moveTo>
                <a:cubicBezTo>
                  <a:pt x="11633" y="13467"/>
                  <a:pt x="11657" y="13590"/>
                  <a:pt x="11609" y="13643"/>
                </a:cubicBezTo>
                <a:cubicBezTo>
                  <a:pt x="11580" y="13675"/>
                  <a:pt x="11584" y="13675"/>
                  <a:pt x="11584" y="13717"/>
                </a:cubicBezTo>
                <a:cubicBezTo>
                  <a:pt x="11559" y="13725"/>
                  <a:pt x="11524" y="13779"/>
                  <a:pt x="11509" y="13816"/>
                </a:cubicBezTo>
                <a:cubicBezTo>
                  <a:pt x="11492" y="13859"/>
                  <a:pt x="11449" y="13897"/>
                  <a:pt x="11435" y="13940"/>
                </a:cubicBezTo>
                <a:cubicBezTo>
                  <a:pt x="11426" y="13968"/>
                  <a:pt x="11417" y="13986"/>
                  <a:pt x="11410" y="14015"/>
                </a:cubicBezTo>
                <a:cubicBezTo>
                  <a:pt x="11360" y="14027"/>
                  <a:pt x="11361" y="14039"/>
                  <a:pt x="11361" y="14089"/>
                </a:cubicBezTo>
                <a:cubicBezTo>
                  <a:pt x="11361" y="14114"/>
                  <a:pt x="11361" y="14122"/>
                  <a:pt x="11361" y="14139"/>
                </a:cubicBezTo>
                <a:cubicBezTo>
                  <a:pt x="11518" y="14139"/>
                  <a:pt x="11675" y="14139"/>
                  <a:pt x="11832" y="14139"/>
                </a:cubicBezTo>
              </a:path>
              <a:path w="2656" h="1563">
                <a:moveTo>
                  <a:pt x="10914" y="14560"/>
                </a:moveTo>
                <a:cubicBezTo>
                  <a:pt x="10970" y="14567"/>
                  <a:pt x="10989" y="14584"/>
                  <a:pt x="11038" y="14610"/>
                </a:cubicBezTo>
                <a:cubicBezTo>
                  <a:pt x="11073" y="14628"/>
                  <a:pt x="11103" y="14634"/>
                  <a:pt x="11137" y="14660"/>
                </a:cubicBezTo>
                <a:cubicBezTo>
                  <a:pt x="11176" y="14690"/>
                  <a:pt x="11191" y="14725"/>
                  <a:pt x="11212" y="14759"/>
                </a:cubicBezTo>
                <a:cubicBezTo>
                  <a:pt x="11242" y="14774"/>
                  <a:pt x="11280" y="14793"/>
                  <a:pt x="11311" y="14808"/>
                </a:cubicBezTo>
                <a:cubicBezTo>
                  <a:pt x="11320" y="14814"/>
                  <a:pt x="11352" y="14852"/>
                  <a:pt x="11361" y="14858"/>
                </a:cubicBezTo>
                <a:cubicBezTo>
                  <a:pt x="11391" y="14873"/>
                  <a:pt x="11430" y="14893"/>
                  <a:pt x="11460" y="14908"/>
                </a:cubicBezTo>
                <a:cubicBezTo>
                  <a:pt x="11483" y="14921"/>
                  <a:pt x="11484" y="14929"/>
                  <a:pt x="11534" y="14932"/>
                </a:cubicBezTo>
                <a:cubicBezTo>
                  <a:pt x="11551" y="14932"/>
                  <a:pt x="11567" y="14932"/>
                  <a:pt x="11584" y="14932"/>
                </a:cubicBezTo>
                <a:cubicBezTo>
                  <a:pt x="11608" y="14947"/>
                  <a:pt x="11606" y="14954"/>
                  <a:pt x="11658" y="14957"/>
                </a:cubicBezTo>
                <a:cubicBezTo>
                  <a:pt x="11810" y="14966"/>
                  <a:pt x="12047" y="14989"/>
                  <a:pt x="12179" y="14932"/>
                </a:cubicBezTo>
                <a:cubicBezTo>
                  <a:pt x="12234" y="14908"/>
                  <a:pt x="12267" y="14873"/>
                  <a:pt x="12328" y="14858"/>
                </a:cubicBezTo>
                <a:cubicBezTo>
                  <a:pt x="12342" y="14847"/>
                  <a:pt x="12380" y="14834"/>
                  <a:pt x="12402" y="14808"/>
                </a:cubicBezTo>
                <a:cubicBezTo>
                  <a:pt x="12425" y="14786"/>
                  <a:pt x="12433" y="14781"/>
                  <a:pt x="12427" y="14759"/>
                </a:cubicBezTo>
                <a:cubicBezTo>
                  <a:pt x="12481" y="14744"/>
                  <a:pt x="12469" y="14733"/>
                  <a:pt x="12502" y="14709"/>
                </a:cubicBezTo>
                <a:cubicBezTo>
                  <a:pt x="12554" y="14670"/>
                  <a:pt x="12547" y="14675"/>
                  <a:pt x="12576" y="14635"/>
                </a:cubicBezTo>
                <a:cubicBezTo>
                  <a:pt x="12592" y="14619"/>
                  <a:pt x="12626" y="14594"/>
                  <a:pt x="12650" y="14560"/>
                </a:cubicBezTo>
                <a:cubicBezTo>
                  <a:pt x="12670" y="14531"/>
                  <a:pt x="12664" y="14494"/>
                  <a:pt x="12675" y="14461"/>
                </a:cubicBezTo>
                <a:cubicBezTo>
                  <a:pt x="12688" y="14422"/>
                  <a:pt x="12706" y="14399"/>
                  <a:pt x="12725" y="14362"/>
                </a:cubicBezTo>
                <a:cubicBezTo>
                  <a:pt x="12736" y="14341"/>
                  <a:pt x="12739" y="14309"/>
                  <a:pt x="12750" y="14288"/>
                </a:cubicBezTo>
                <a:cubicBezTo>
                  <a:pt x="12768" y="14263"/>
                  <a:pt x="12766" y="14287"/>
                  <a:pt x="12774" y="14238"/>
                </a:cubicBezTo>
                <a:cubicBezTo>
                  <a:pt x="12751" y="14248"/>
                  <a:pt x="12723" y="14253"/>
                  <a:pt x="12700" y="14263"/>
                </a:cubicBezTo>
              </a:path>
              <a:path w="2656" h="1563">
                <a:moveTo>
                  <a:pt x="12601" y="14188"/>
                </a:moveTo>
                <a:cubicBezTo>
                  <a:pt x="12601" y="14180"/>
                  <a:pt x="12601" y="14171"/>
                  <a:pt x="12601" y="14163"/>
                </a:cubicBezTo>
                <a:cubicBezTo>
                  <a:pt x="12679" y="14163"/>
                  <a:pt x="12734" y="14166"/>
                  <a:pt x="12799" y="14188"/>
                </a:cubicBezTo>
                <a:cubicBezTo>
                  <a:pt x="12845" y="14203"/>
                  <a:pt x="12878" y="14248"/>
                  <a:pt x="12923" y="14263"/>
                </a:cubicBezTo>
                <a:cubicBezTo>
                  <a:pt x="12963" y="14277"/>
                  <a:pt x="13010" y="14300"/>
                  <a:pt x="13047" y="14312"/>
                </a:cubicBezTo>
                <a:cubicBezTo>
                  <a:pt x="13118" y="14335"/>
                  <a:pt x="13158" y="14358"/>
                  <a:pt x="13221" y="14387"/>
                </a:cubicBezTo>
                <a:cubicBezTo>
                  <a:pt x="13256" y="14403"/>
                  <a:pt x="13234" y="14400"/>
                  <a:pt x="13271" y="14412"/>
                </a:cubicBezTo>
                <a:cubicBezTo>
                  <a:pt x="13246" y="14412"/>
                  <a:pt x="13238" y="14412"/>
                  <a:pt x="13221" y="14412"/>
                </a:cubicBezTo>
              </a:path>
              <a:path w="2656" h="1563">
                <a:moveTo>
                  <a:pt x="11063" y="14312"/>
                </a:moveTo>
                <a:cubicBezTo>
                  <a:pt x="11040" y="14335"/>
                  <a:pt x="11003" y="14400"/>
                  <a:pt x="10988" y="14412"/>
                </a:cubicBezTo>
                <a:cubicBezTo>
                  <a:pt x="10955" y="14439"/>
                  <a:pt x="10894" y="14496"/>
                  <a:pt x="10864" y="14511"/>
                </a:cubicBezTo>
                <a:cubicBezTo>
                  <a:pt x="10856" y="14511"/>
                  <a:pt x="10848" y="14511"/>
                  <a:pt x="10840" y="14511"/>
                </a:cubicBezTo>
                <a:cubicBezTo>
                  <a:pt x="10823" y="14561"/>
                  <a:pt x="10801" y="14532"/>
                  <a:pt x="10765" y="14585"/>
                </a:cubicBezTo>
                <a:cubicBezTo>
                  <a:pt x="10743" y="14617"/>
                  <a:pt x="10725" y="14651"/>
                  <a:pt x="10691" y="14684"/>
                </a:cubicBezTo>
                <a:cubicBezTo>
                  <a:pt x="10662" y="14713"/>
                  <a:pt x="10628" y="14748"/>
                  <a:pt x="10616" y="14784"/>
                </a:cubicBezTo>
                <a:cubicBezTo>
                  <a:pt x="10616" y="14808"/>
                  <a:pt x="10616" y="14817"/>
                  <a:pt x="10616" y="148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Ink 12"/>
          <p:cNvSpPr/>
          <p:nvPr/>
        </p:nvSpPr>
        <p:spPr>
          <a:xfrm>
            <a:off x="4125960" y="5813280"/>
            <a:ext cx="428400" cy="465120"/>
          </a:xfrm>
          <a:custGeom>
            <a:avLst/>
            <a:gdLst/>
            <a:ahLst/>
            <a:rect l="l" t="t" r="r" b="b"/>
            <a:pathLst>
              <a:path w="1191" h="1291">
                <a:moveTo>
                  <a:pt x="11658" y="16396"/>
                </a:moveTo>
                <a:lnTo>
                  <a:pt x="11630" y="16396"/>
                </a:lnTo>
                <a:lnTo>
                  <a:pt x="11619" y="16394"/>
                </a:lnTo>
                <a:lnTo>
                  <a:pt x="11609" y="16371"/>
                </a:lnTo>
                <a:lnTo>
                  <a:pt x="11615" y="16354"/>
                </a:lnTo>
                <a:lnTo>
                  <a:pt x="11623" y="16284"/>
                </a:lnTo>
                <a:lnTo>
                  <a:pt x="11633" y="16272"/>
                </a:lnTo>
                <a:lnTo>
                  <a:pt x="11661" y="16239"/>
                </a:lnTo>
                <a:lnTo>
                  <a:pt x="11683" y="16237"/>
                </a:lnTo>
                <a:lnTo>
                  <a:pt x="11708" y="16222"/>
                </a:lnTo>
                <a:lnTo>
                  <a:pt x="11748" y="16198"/>
                </a:lnTo>
                <a:lnTo>
                  <a:pt x="11753" y="16190"/>
                </a:lnTo>
                <a:lnTo>
                  <a:pt x="11782" y="16173"/>
                </a:lnTo>
                <a:lnTo>
                  <a:pt x="11819" y="16151"/>
                </a:lnTo>
                <a:lnTo>
                  <a:pt x="11859" y="16150"/>
                </a:lnTo>
                <a:lnTo>
                  <a:pt x="11906" y="16148"/>
                </a:lnTo>
                <a:lnTo>
                  <a:pt x="11977" y="16145"/>
                </a:lnTo>
                <a:lnTo>
                  <a:pt x="12022" y="16148"/>
                </a:lnTo>
                <a:lnTo>
                  <a:pt x="12080" y="16173"/>
                </a:lnTo>
                <a:lnTo>
                  <a:pt x="12130" y="16195"/>
                </a:lnTo>
                <a:lnTo>
                  <a:pt x="12123" y="16191"/>
                </a:lnTo>
                <a:lnTo>
                  <a:pt x="12129" y="16247"/>
                </a:lnTo>
                <a:lnTo>
                  <a:pt x="12137" y="16314"/>
                </a:lnTo>
                <a:lnTo>
                  <a:pt x="12124" y="16366"/>
                </a:lnTo>
                <a:lnTo>
                  <a:pt x="12105" y="16421"/>
                </a:lnTo>
                <a:lnTo>
                  <a:pt x="12088" y="16470"/>
                </a:lnTo>
                <a:lnTo>
                  <a:pt x="12080" y="16504"/>
                </a:lnTo>
                <a:lnTo>
                  <a:pt x="12030" y="16520"/>
                </a:lnTo>
                <a:lnTo>
                  <a:pt x="11980" y="16536"/>
                </a:lnTo>
                <a:lnTo>
                  <a:pt x="11958" y="16535"/>
                </a:lnTo>
                <a:lnTo>
                  <a:pt x="11906" y="16570"/>
                </a:lnTo>
                <a:lnTo>
                  <a:pt x="11898" y="16576"/>
                </a:lnTo>
                <a:lnTo>
                  <a:pt x="11866" y="16610"/>
                </a:lnTo>
                <a:lnTo>
                  <a:pt x="11857" y="16619"/>
                </a:lnTo>
                <a:lnTo>
                  <a:pt x="11825" y="16651"/>
                </a:lnTo>
                <a:lnTo>
                  <a:pt x="11785" y="16672"/>
                </a:lnTo>
                <a:lnTo>
                  <a:pt x="11757" y="16694"/>
                </a:lnTo>
                <a:lnTo>
                  <a:pt x="11739" y="16708"/>
                </a:lnTo>
                <a:lnTo>
                  <a:pt x="11711" y="16760"/>
                </a:lnTo>
                <a:lnTo>
                  <a:pt x="11683" y="16793"/>
                </a:lnTo>
                <a:lnTo>
                  <a:pt x="11653" y="16828"/>
                </a:lnTo>
                <a:lnTo>
                  <a:pt x="11626" y="16852"/>
                </a:lnTo>
                <a:lnTo>
                  <a:pt x="11609" y="16892"/>
                </a:lnTo>
                <a:lnTo>
                  <a:pt x="11591" y="16933"/>
                </a:lnTo>
                <a:lnTo>
                  <a:pt x="11567" y="16971"/>
                </a:lnTo>
                <a:lnTo>
                  <a:pt x="11559" y="17016"/>
                </a:lnTo>
                <a:lnTo>
                  <a:pt x="11550" y="17070"/>
                </a:lnTo>
                <a:lnTo>
                  <a:pt x="11521" y="17086"/>
                </a:lnTo>
                <a:lnTo>
                  <a:pt x="11509" y="17140"/>
                </a:lnTo>
                <a:lnTo>
                  <a:pt x="11499" y="17187"/>
                </a:lnTo>
                <a:lnTo>
                  <a:pt x="11496" y="17218"/>
                </a:lnTo>
                <a:lnTo>
                  <a:pt x="11485" y="17264"/>
                </a:lnTo>
                <a:lnTo>
                  <a:pt x="11477" y="17297"/>
                </a:lnTo>
                <a:lnTo>
                  <a:pt x="11469" y="17331"/>
                </a:lnTo>
                <a:lnTo>
                  <a:pt x="11460" y="17363"/>
                </a:lnTo>
                <a:lnTo>
                  <a:pt x="11492" y="17345"/>
                </a:lnTo>
                <a:lnTo>
                  <a:pt x="11510" y="17328"/>
                </a:lnTo>
                <a:lnTo>
                  <a:pt x="11534" y="17314"/>
                </a:lnTo>
                <a:lnTo>
                  <a:pt x="11567" y="17295"/>
                </a:lnTo>
                <a:lnTo>
                  <a:pt x="11615" y="17251"/>
                </a:lnTo>
                <a:lnTo>
                  <a:pt x="11633" y="17239"/>
                </a:lnTo>
                <a:lnTo>
                  <a:pt x="11666" y="17217"/>
                </a:lnTo>
                <a:lnTo>
                  <a:pt x="11746" y="17169"/>
                </a:lnTo>
                <a:lnTo>
                  <a:pt x="11757" y="17165"/>
                </a:lnTo>
                <a:lnTo>
                  <a:pt x="11801" y="17147"/>
                </a:lnTo>
                <a:lnTo>
                  <a:pt x="11828" y="17140"/>
                </a:lnTo>
                <a:lnTo>
                  <a:pt x="11881" y="17140"/>
                </a:lnTo>
                <a:lnTo>
                  <a:pt x="11948" y="17140"/>
                </a:lnTo>
                <a:lnTo>
                  <a:pt x="11979" y="17142"/>
                </a:lnTo>
                <a:lnTo>
                  <a:pt x="12030" y="17190"/>
                </a:lnTo>
                <a:lnTo>
                  <a:pt x="12045" y="17204"/>
                </a:lnTo>
                <a:lnTo>
                  <a:pt x="12088" y="17243"/>
                </a:lnTo>
                <a:lnTo>
                  <a:pt x="12105" y="17264"/>
                </a:lnTo>
                <a:lnTo>
                  <a:pt x="12135" y="17302"/>
                </a:lnTo>
                <a:lnTo>
                  <a:pt x="12153" y="17323"/>
                </a:lnTo>
                <a:lnTo>
                  <a:pt x="12179" y="17338"/>
                </a:lnTo>
                <a:lnTo>
                  <a:pt x="12218" y="17361"/>
                </a:lnTo>
                <a:lnTo>
                  <a:pt x="12272" y="17391"/>
                </a:lnTo>
                <a:lnTo>
                  <a:pt x="12303" y="17413"/>
                </a:lnTo>
                <a:lnTo>
                  <a:pt x="12329" y="17432"/>
                </a:lnTo>
                <a:lnTo>
                  <a:pt x="12324" y="17435"/>
                </a:lnTo>
                <a:lnTo>
                  <a:pt x="12378" y="17438"/>
                </a:lnTo>
                <a:lnTo>
                  <a:pt x="12441" y="17442"/>
                </a:lnTo>
                <a:lnTo>
                  <a:pt x="12496" y="17439"/>
                </a:lnTo>
                <a:lnTo>
                  <a:pt x="12526" y="17413"/>
                </a:lnTo>
                <a:lnTo>
                  <a:pt x="12573" y="17372"/>
                </a:lnTo>
                <a:lnTo>
                  <a:pt x="12635" y="17320"/>
                </a:lnTo>
                <a:lnTo>
                  <a:pt x="12650" y="17264"/>
                </a:lnTo>
                <a:lnTo>
                  <a:pt x="12663" y="17215"/>
                </a:lnTo>
                <a:lnTo>
                  <a:pt x="12636" y="17207"/>
                </a:lnTo>
                <a:lnTo>
                  <a:pt x="12626" y="17190"/>
                </a:lnTo>
                <a:close/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Ink 13"/>
          <p:cNvSpPr/>
          <p:nvPr/>
        </p:nvSpPr>
        <p:spPr>
          <a:xfrm>
            <a:off x="6232680" y="4643280"/>
            <a:ext cx="152280" cy="169920"/>
          </a:xfrm>
          <a:custGeom>
            <a:avLst/>
            <a:gdLst/>
            <a:ahLst/>
            <a:rect l="l" t="t" r="r" b="b"/>
            <a:pathLst>
              <a:path w="422" h="473">
                <a:moveTo>
                  <a:pt x="17735" y="12998"/>
                </a:moveTo>
                <a:cubicBezTo>
                  <a:pt x="17698" y="12985"/>
                  <a:pt x="17714" y="12973"/>
                  <a:pt x="17661" y="12973"/>
                </a:cubicBezTo>
                <a:cubicBezTo>
                  <a:pt x="17558" y="12973"/>
                  <a:pt x="17428" y="12965"/>
                  <a:pt x="17363" y="12998"/>
                </a:cubicBezTo>
                <a:cubicBezTo>
                  <a:pt x="17319" y="13020"/>
                  <a:pt x="17314" y="13015"/>
                  <a:pt x="17314" y="13072"/>
                </a:cubicBezTo>
                <a:cubicBezTo>
                  <a:pt x="17314" y="13154"/>
                  <a:pt x="17315" y="13225"/>
                  <a:pt x="17338" y="13295"/>
                </a:cubicBezTo>
                <a:cubicBezTo>
                  <a:pt x="17351" y="13336"/>
                  <a:pt x="17359" y="13340"/>
                  <a:pt x="17413" y="13345"/>
                </a:cubicBezTo>
                <a:cubicBezTo>
                  <a:pt x="17469" y="13350"/>
                  <a:pt x="17492" y="13335"/>
                  <a:pt x="17537" y="13320"/>
                </a:cubicBezTo>
                <a:cubicBezTo>
                  <a:pt x="17586" y="13304"/>
                  <a:pt x="17593" y="13314"/>
                  <a:pt x="17636" y="13271"/>
                </a:cubicBezTo>
                <a:cubicBezTo>
                  <a:pt x="17659" y="13249"/>
                  <a:pt x="17704" y="13235"/>
                  <a:pt x="17711" y="13221"/>
                </a:cubicBezTo>
                <a:cubicBezTo>
                  <a:pt x="17733" y="13177"/>
                  <a:pt x="17714" y="13052"/>
                  <a:pt x="17686" y="13022"/>
                </a:cubicBezTo>
                <a:cubicBezTo>
                  <a:pt x="17655" y="12988"/>
                  <a:pt x="17655" y="12974"/>
                  <a:pt x="17636" y="12948"/>
                </a:cubicBezTo>
                <a:cubicBezTo>
                  <a:pt x="17609" y="12912"/>
                  <a:pt x="17577" y="12923"/>
                  <a:pt x="17537" y="12923"/>
                </a:cubicBezTo>
                <a:cubicBezTo>
                  <a:pt x="17481" y="12923"/>
                  <a:pt x="17463" y="12935"/>
                  <a:pt x="17438" y="12948"/>
                </a:cubicBezTo>
                <a:cubicBezTo>
                  <a:pt x="17416" y="12959"/>
                  <a:pt x="17389" y="12967"/>
                  <a:pt x="17363" y="12973"/>
                </a:cubicBezTo>
              </a:path>
              <a:path w="422" h="473">
                <a:moveTo>
                  <a:pt x="17562" y="12898"/>
                </a:moveTo>
                <a:cubicBezTo>
                  <a:pt x="17533" y="12936"/>
                  <a:pt x="17537" y="12949"/>
                  <a:pt x="17537" y="12998"/>
                </a:cubicBezTo>
                <a:cubicBezTo>
                  <a:pt x="17537" y="13057"/>
                  <a:pt x="17525" y="13096"/>
                  <a:pt x="17512" y="13122"/>
                </a:cubicBezTo>
                <a:cubicBezTo>
                  <a:pt x="17489" y="13166"/>
                  <a:pt x="17487" y="13220"/>
                  <a:pt x="17487" y="13271"/>
                </a:cubicBezTo>
                <a:cubicBezTo>
                  <a:pt x="17487" y="13304"/>
                  <a:pt x="17487" y="13337"/>
                  <a:pt x="17487" y="13370"/>
                </a:cubicBezTo>
                <a:cubicBezTo>
                  <a:pt x="17447" y="13357"/>
                  <a:pt x="17462" y="13322"/>
                  <a:pt x="17462" y="13271"/>
                </a:cubicBezTo>
                <a:cubicBezTo>
                  <a:pt x="17462" y="13249"/>
                  <a:pt x="17446" y="13017"/>
                  <a:pt x="17487" y="13022"/>
                </a:cubicBezTo>
                <a:cubicBezTo>
                  <a:pt x="17517" y="13026"/>
                  <a:pt x="17532" y="13077"/>
                  <a:pt x="17537" y="13097"/>
                </a:cubicBezTo>
                <a:cubicBezTo>
                  <a:pt x="17537" y="13051"/>
                  <a:pt x="17537" y="12885"/>
                  <a:pt x="17537" y="12923"/>
                </a:cubicBezTo>
                <a:cubicBezTo>
                  <a:pt x="17537" y="12993"/>
                  <a:pt x="17523" y="13255"/>
                  <a:pt x="17562" y="13221"/>
                </a:cubicBezTo>
                <a:cubicBezTo>
                  <a:pt x="17602" y="13186"/>
                  <a:pt x="17649" y="13145"/>
                  <a:pt x="17661" y="13097"/>
                </a:cubicBezTo>
                <a:cubicBezTo>
                  <a:pt x="17658" y="13109"/>
                  <a:pt x="17632" y="13199"/>
                  <a:pt x="17611" y="13196"/>
                </a:cubicBezTo>
                <a:cubicBezTo>
                  <a:pt x="17590" y="13193"/>
                  <a:pt x="17568" y="13086"/>
                  <a:pt x="17562" y="13072"/>
                </a:cubicBezTo>
                <a:cubicBezTo>
                  <a:pt x="17562" y="13031"/>
                  <a:pt x="17562" y="13105"/>
                  <a:pt x="17562" y="13146"/>
                </a:cubicBezTo>
                <a:cubicBezTo>
                  <a:pt x="17562" y="13171"/>
                  <a:pt x="17562" y="13196"/>
                  <a:pt x="17562" y="13221"/>
                </a:cubicBezTo>
                <a:cubicBezTo>
                  <a:pt x="17589" y="13185"/>
                  <a:pt x="17606" y="13145"/>
                  <a:pt x="17611" y="13097"/>
                </a:cubicBezTo>
                <a:cubicBezTo>
                  <a:pt x="17616" y="13048"/>
                  <a:pt x="17611" y="12997"/>
                  <a:pt x="17611" y="12948"/>
                </a:cubicBezTo>
                <a:cubicBezTo>
                  <a:pt x="17611" y="12994"/>
                  <a:pt x="17593" y="13032"/>
                  <a:pt x="17587" y="13047"/>
                </a:cubicBezTo>
                <a:cubicBezTo>
                  <a:pt x="17568" y="13092"/>
                  <a:pt x="17587" y="13048"/>
                  <a:pt x="17587" y="130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Ink 14"/>
          <p:cNvSpPr/>
          <p:nvPr/>
        </p:nvSpPr>
        <p:spPr>
          <a:xfrm>
            <a:off x="6885000" y="4670280"/>
            <a:ext cx="15228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19447" y="13047"/>
                </a:moveTo>
                <a:cubicBezTo>
                  <a:pt x="19442" y="13031"/>
                  <a:pt x="19424" y="12986"/>
                  <a:pt x="19397" y="12973"/>
                </a:cubicBezTo>
                <a:cubicBezTo>
                  <a:pt x="19353" y="12951"/>
                  <a:pt x="19281" y="12994"/>
                  <a:pt x="19273" y="12998"/>
                </a:cubicBezTo>
                <a:cubicBezTo>
                  <a:pt x="19243" y="13011"/>
                  <a:pt x="19240" y="13033"/>
                  <a:pt x="19199" y="13047"/>
                </a:cubicBezTo>
                <a:cubicBezTo>
                  <a:pt x="19173" y="13056"/>
                  <a:pt x="19151" y="13066"/>
                  <a:pt x="19149" y="13097"/>
                </a:cubicBezTo>
                <a:cubicBezTo>
                  <a:pt x="19144" y="13159"/>
                  <a:pt x="19124" y="13179"/>
                  <a:pt x="19124" y="13246"/>
                </a:cubicBezTo>
                <a:cubicBezTo>
                  <a:pt x="19124" y="13297"/>
                  <a:pt x="19137" y="13328"/>
                  <a:pt x="19149" y="13370"/>
                </a:cubicBezTo>
                <a:cubicBezTo>
                  <a:pt x="19160" y="13407"/>
                  <a:pt x="19187" y="13433"/>
                  <a:pt x="19199" y="13469"/>
                </a:cubicBezTo>
                <a:cubicBezTo>
                  <a:pt x="19214" y="13513"/>
                  <a:pt x="19257" y="13520"/>
                  <a:pt x="19273" y="13568"/>
                </a:cubicBezTo>
                <a:cubicBezTo>
                  <a:pt x="19286" y="13606"/>
                  <a:pt x="19303" y="13593"/>
                  <a:pt x="19348" y="13593"/>
                </a:cubicBezTo>
                <a:cubicBezTo>
                  <a:pt x="19401" y="13593"/>
                  <a:pt x="19409" y="13580"/>
                  <a:pt x="19447" y="13543"/>
                </a:cubicBezTo>
                <a:cubicBezTo>
                  <a:pt x="19479" y="13511"/>
                  <a:pt x="19504" y="13491"/>
                  <a:pt x="19521" y="13469"/>
                </a:cubicBezTo>
                <a:cubicBezTo>
                  <a:pt x="19550" y="13431"/>
                  <a:pt x="19546" y="13418"/>
                  <a:pt x="19546" y="13370"/>
                </a:cubicBezTo>
                <a:cubicBezTo>
                  <a:pt x="19546" y="13321"/>
                  <a:pt x="19571" y="13171"/>
                  <a:pt x="19521" y="13146"/>
                </a:cubicBezTo>
                <a:cubicBezTo>
                  <a:pt x="19495" y="13133"/>
                  <a:pt x="19485" y="13110"/>
                  <a:pt x="19447" y="13097"/>
                </a:cubicBezTo>
                <a:cubicBezTo>
                  <a:pt x="19407" y="13084"/>
                  <a:pt x="19382" y="13075"/>
                  <a:pt x="19348" y="13047"/>
                </a:cubicBezTo>
              </a:path>
              <a:path w="423" h="621">
                <a:moveTo>
                  <a:pt x="19348" y="13047"/>
                </a:moveTo>
                <a:cubicBezTo>
                  <a:pt x="19348" y="13104"/>
                  <a:pt x="19338" y="13125"/>
                  <a:pt x="19323" y="13171"/>
                </a:cubicBezTo>
                <a:cubicBezTo>
                  <a:pt x="19309" y="13213"/>
                  <a:pt x="19309" y="13250"/>
                  <a:pt x="19298" y="13271"/>
                </a:cubicBezTo>
                <a:cubicBezTo>
                  <a:pt x="19276" y="13313"/>
                  <a:pt x="19298" y="13550"/>
                  <a:pt x="19298" y="13519"/>
                </a:cubicBezTo>
                <a:cubicBezTo>
                  <a:pt x="19298" y="13370"/>
                  <a:pt x="19298" y="13221"/>
                  <a:pt x="19298" y="13072"/>
                </a:cubicBezTo>
                <a:cubicBezTo>
                  <a:pt x="19324" y="13072"/>
                  <a:pt x="19385" y="13079"/>
                  <a:pt x="19397" y="13097"/>
                </a:cubicBezTo>
                <a:cubicBezTo>
                  <a:pt x="19432" y="13150"/>
                  <a:pt x="19397" y="13463"/>
                  <a:pt x="19397" y="13444"/>
                </a:cubicBezTo>
                <a:cubicBezTo>
                  <a:pt x="19397" y="13345"/>
                  <a:pt x="19397" y="13245"/>
                  <a:pt x="19397" y="13146"/>
                </a:cubicBezTo>
                <a:cubicBezTo>
                  <a:pt x="19459" y="13116"/>
                  <a:pt x="19467" y="13172"/>
                  <a:pt x="19472" y="13246"/>
                </a:cubicBezTo>
                <a:cubicBezTo>
                  <a:pt x="19477" y="13320"/>
                  <a:pt x="19472" y="13395"/>
                  <a:pt x="19472" y="13469"/>
                </a:cubicBezTo>
                <a:cubicBezTo>
                  <a:pt x="19472" y="13510"/>
                  <a:pt x="19472" y="13436"/>
                  <a:pt x="19472" y="13395"/>
                </a:cubicBezTo>
                <a:cubicBezTo>
                  <a:pt x="19472" y="13379"/>
                  <a:pt x="19480" y="13219"/>
                  <a:pt x="19447" y="13295"/>
                </a:cubicBezTo>
                <a:cubicBezTo>
                  <a:pt x="19426" y="13343"/>
                  <a:pt x="19476" y="13377"/>
                  <a:pt x="19422" y="133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Ink 15"/>
          <p:cNvSpPr/>
          <p:nvPr/>
        </p:nvSpPr>
        <p:spPr>
          <a:xfrm>
            <a:off x="6384960" y="4848120"/>
            <a:ext cx="285840" cy="304920"/>
          </a:xfrm>
          <a:custGeom>
            <a:avLst/>
            <a:gdLst/>
            <a:ahLst/>
            <a:rect l="l" t="t" r="r" b="b"/>
            <a:pathLst>
              <a:path w="795" h="844">
                <a:moveTo>
                  <a:pt x="18306" y="13469"/>
                </a:moveTo>
                <a:lnTo>
                  <a:pt x="18280" y="13478"/>
                </a:lnTo>
                <a:lnTo>
                  <a:pt x="18258" y="13488"/>
                </a:lnTo>
                <a:lnTo>
                  <a:pt x="18256" y="13519"/>
                </a:lnTo>
                <a:lnTo>
                  <a:pt x="18252" y="13574"/>
                </a:lnTo>
                <a:lnTo>
                  <a:pt x="18244" y="13593"/>
                </a:lnTo>
                <a:lnTo>
                  <a:pt x="18231" y="13618"/>
                </a:lnTo>
                <a:lnTo>
                  <a:pt x="18215" y="13651"/>
                </a:lnTo>
                <a:lnTo>
                  <a:pt x="18227" y="13681"/>
                </a:lnTo>
                <a:lnTo>
                  <a:pt x="18207" y="13717"/>
                </a:lnTo>
                <a:lnTo>
                  <a:pt x="18188" y="13751"/>
                </a:lnTo>
                <a:lnTo>
                  <a:pt x="18161" y="13805"/>
                </a:lnTo>
                <a:lnTo>
                  <a:pt x="18157" y="13841"/>
                </a:lnTo>
                <a:lnTo>
                  <a:pt x="18152" y="13887"/>
                </a:lnTo>
                <a:lnTo>
                  <a:pt x="18140" y="13897"/>
                </a:lnTo>
                <a:lnTo>
                  <a:pt x="18132" y="13915"/>
                </a:lnTo>
                <a:lnTo>
                  <a:pt x="18112" y="13961"/>
                </a:lnTo>
                <a:lnTo>
                  <a:pt x="18104" y="13947"/>
                </a:lnTo>
                <a:lnTo>
                  <a:pt x="18083" y="13990"/>
                </a:lnTo>
                <a:lnTo>
                  <a:pt x="18066" y="14026"/>
                </a:lnTo>
                <a:lnTo>
                  <a:pt x="18064" y="14018"/>
                </a:lnTo>
                <a:lnTo>
                  <a:pt x="18033" y="14039"/>
                </a:lnTo>
                <a:lnTo>
                  <a:pt x="18000" y="14061"/>
                </a:lnTo>
                <a:lnTo>
                  <a:pt x="17981" y="14081"/>
                </a:lnTo>
                <a:lnTo>
                  <a:pt x="17959" y="14114"/>
                </a:lnTo>
                <a:lnTo>
                  <a:pt x="17939" y="14145"/>
                </a:lnTo>
                <a:lnTo>
                  <a:pt x="17920" y="14139"/>
                </a:lnTo>
                <a:lnTo>
                  <a:pt x="17884" y="14163"/>
                </a:lnTo>
                <a:lnTo>
                  <a:pt x="17848" y="14187"/>
                </a:lnTo>
                <a:lnTo>
                  <a:pt x="17801" y="14220"/>
                </a:lnTo>
                <a:lnTo>
                  <a:pt x="17760" y="14238"/>
                </a:lnTo>
                <a:lnTo>
                  <a:pt x="17735" y="14238"/>
                </a:lnTo>
                <a:lnTo>
                  <a:pt x="17727" y="14238"/>
                </a:lnTo>
                <a:lnTo>
                  <a:pt x="17735" y="14263"/>
                </a:lnTo>
                <a:lnTo>
                  <a:pt x="17773" y="14292"/>
                </a:lnTo>
                <a:lnTo>
                  <a:pt x="17786" y="14288"/>
                </a:lnTo>
                <a:lnTo>
                  <a:pt x="17835" y="14288"/>
                </a:lnTo>
                <a:lnTo>
                  <a:pt x="18027" y="14288"/>
                </a:lnTo>
                <a:lnTo>
                  <a:pt x="18255" y="14261"/>
                </a:lnTo>
                <a:lnTo>
                  <a:pt x="18430" y="14312"/>
                </a:lnTo>
                <a:lnTo>
                  <a:pt x="18457" y="14320"/>
                </a:lnTo>
                <a:lnTo>
                  <a:pt x="18500" y="14312"/>
                </a:lnTo>
                <a:lnTo>
                  <a:pt x="18529" y="14312"/>
                </a:lnTo>
                <a:close/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Ink 16"/>
          <p:cNvSpPr/>
          <p:nvPr/>
        </p:nvSpPr>
        <p:spPr>
          <a:xfrm>
            <a:off x="6500880" y="5823000"/>
            <a:ext cx="277920" cy="455400"/>
          </a:xfrm>
          <a:custGeom>
            <a:avLst/>
            <a:gdLst/>
            <a:ahLst/>
            <a:rect l="l" t="t" r="r" b="b"/>
            <a:pathLst>
              <a:path w="770" h="1266">
                <a:moveTo>
                  <a:pt x="18107" y="16247"/>
                </a:moveTo>
                <a:lnTo>
                  <a:pt x="18123" y="16231"/>
                </a:lnTo>
                <a:lnTo>
                  <a:pt x="18148" y="16205"/>
                </a:lnTo>
                <a:lnTo>
                  <a:pt x="18182" y="16197"/>
                </a:lnTo>
                <a:lnTo>
                  <a:pt x="18227" y="16186"/>
                </a:lnTo>
                <a:lnTo>
                  <a:pt x="18221" y="16180"/>
                </a:lnTo>
                <a:lnTo>
                  <a:pt x="18256" y="16173"/>
                </a:lnTo>
                <a:lnTo>
                  <a:pt x="18325" y="16160"/>
                </a:lnTo>
                <a:lnTo>
                  <a:pt x="18477" y="16156"/>
                </a:lnTo>
                <a:lnTo>
                  <a:pt x="18529" y="16197"/>
                </a:lnTo>
                <a:lnTo>
                  <a:pt x="18560" y="16221"/>
                </a:lnTo>
                <a:lnTo>
                  <a:pt x="18551" y="16219"/>
                </a:lnTo>
                <a:lnTo>
                  <a:pt x="18554" y="16272"/>
                </a:lnTo>
                <a:lnTo>
                  <a:pt x="18557" y="16323"/>
                </a:lnTo>
                <a:lnTo>
                  <a:pt x="18560" y="16357"/>
                </a:lnTo>
                <a:lnTo>
                  <a:pt x="18529" y="16396"/>
                </a:lnTo>
                <a:lnTo>
                  <a:pt x="18488" y="16447"/>
                </a:lnTo>
                <a:lnTo>
                  <a:pt x="18453" y="16497"/>
                </a:lnTo>
                <a:lnTo>
                  <a:pt x="18405" y="16545"/>
                </a:lnTo>
                <a:lnTo>
                  <a:pt x="18348" y="16602"/>
                </a:lnTo>
                <a:lnTo>
                  <a:pt x="18293" y="16647"/>
                </a:lnTo>
                <a:lnTo>
                  <a:pt x="18231" y="16694"/>
                </a:lnTo>
                <a:lnTo>
                  <a:pt x="18226" y="16698"/>
                </a:lnTo>
                <a:lnTo>
                  <a:pt x="18159" y="16765"/>
                </a:lnTo>
                <a:lnTo>
                  <a:pt x="18157" y="16768"/>
                </a:lnTo>
                <a:lnTo>
                  <a:pt x="18157" y="16776"/>
                </a:lnTo>
                <a:lnTo>
                  <a:pt x="18157" y="16785"/>
                </a:lnTo>
                <a:lnTo>
                  <a:pt x="18157" y="16793"/>
                </a:lnTo>
                <a:lnTo>
                  <a:pt x="18199" y="16776"/>
                </a:lnTo>
                <a:lnTo>
                  <a:pt x="18228" y="16751"/>
                </a:lnTo>
                <a:lnTo>
                  <a:pt x="18256" y="16743"/>
                </a:lnTo>
                <a:lnTo>
                  <a:pt x="18371" y="16712"/>
                </a:lnTo>
                <a:lnTo>
                  <a:pt x="18465" y="16763"/>
                </a:lnTo>
                <a:lnTo>
                  <a:pt x="18554" y="16793"/>
                </a:lnTo>
                <a:lnTo>
                  <a:pt x="18611" y="16812"/>
                </a:lnTo>
                <a:lnTo>
                  <a:pt x="18694" y="16833"/>
                </a:lnTo>
                <a:lnTo>
                  <a:pt x="18752" y="16867"/>
                </a:lnTo>
                <a:lnTo>
                  <a:pt x="18784" y="16886"/>
                </a:lnTo>
                <a:lnTo>
                  <a:pt x="18821" y="16920"/>
                </a:lnTo>
                <a:lnTo>
                  <a:pt x="18827" y="16942"/>
                </a:lnTo>
                <a:lnTo>
                  <a:pt x="18843" y="16998"/>
                </a:lnTo>
                <a:lnTo>
                  <a:pt x="18814" y="17044"/>
                </a:lnTo>
                <a:lnTo>
                  <a:pt x="18802" y="17066"/>
                </a:lnTo>
                <a:lnTo>
                  <a:pt x="18777" y="17113"/>
                </a:lnTo>
                <a:lnTo>
                  <a:pt x="18737" y="17142"/>
                </a:lnTo>
                <a:lnTo>
                  <a:pt x="18703" y="17190"/>
                </a:lnTo>
                <a:lnTo>
                  <a:pt x="18674" y="17231"/>
                </a:lnTo>
                <a:lnTo>
                  <a:pt x="18619" y="17292"/>
                </a:lnTo>
                <a:lnTo>
                  <a:pt x="18604" y="17314"/>
                </a:lnTo>
                <a:lnTo>
                  <a:pt x="18578" y="17353"/>
                </a:lnTo>
                <a:lnTo>
                  <a:pt x="18573" y="17365"/>
                </a:lnTo>
                <a:lnTo>
                  <a:pt x="18529" y="17388"/>
                </a:lnTo>
                <a:lnTo>
                  <a:pt x="18478" y="17415"/>
                </a:lnTo>
                <a:lnTo>
                  <a:pt x="18411" y="17430"/>
                </a:lnTo>
                <a:lnTo>
                  <a:pt x="18355" y="17438"/>
                </a:lnTo>
                <a:lnTo>
                  <a:pt x="18278" y="17449"/>
                </a:lnTo>
                <a:lnTo>
                  <a:pt x="18266" y="17386"/>
                </a:lnTo>
                <a:lnTo>
                  <a:pt x="18207" y="17363"/>
                </a:lnTo>
                <a:lnTo>
                  <a:pt x="18158" y="17344"/>
                </a:lnTo>
                <a:lnTo>
                  <a:pt x="18135" y="17343"/>
                </a:lnTo>
                <a:lnTo>
                  <a:pt x="18107" y="17314"/>
                </a:lnTo>
                <a:lnTo>
                  <a:pt x="18077" y="17284"/>
                </a:lnTo>
                <a:lnTo>
                  <a:pt x="18069" y="17266"/>
                </a:lnTo>
                <a:lnTo>
                  <a:pt x="18058" y="17239"/>
                </a:lnTo>
                <a:lnTo>
                  <a:pt x="18058" y="17231"/>
                </a:lnTo>
                <a:lnTo>
                  <a:pt x="18058" y="17222"/>
                </a:lnTo>
                <a:lnTo>
                  <a:pt x="18058" y="17214"/>
                </a:lnTo>
                <a:close/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Ink 17"/>
          <p:cNvSpPr/>
          <p:nvPr/>
        </p:nvSpPr>
        <p:spPr>
          <a:xfrm>
            <a:off x="6153120" y="5313240"/>
            <a:ext cx="803160" cy="285840"/>
          </a:xfrm>
          <a:custGeom>
            <a:avLst/>
            <a:gdLst/>
            <a:ahLst/>
            <a:rect l="l" t="t" r="r" b="b"/>
            <a:pathLst>
              <a:path w="2234" h="795">
                <a:moveTo>
                  <a:pt x="17338" y="15106"/>
                </a:moveTo>
                <a:cubicBezTo>
                  <a:pt x="17361" y="15083"/>
                  <a:pt x="17365" y="15075"/>
                  <a:pt x="17388" y="15081"/>
                </a:cubicBezTo>
                <a:cubicBezTo>
                  <a:pt x="17401" y="15029"/>
                  <a:pt x="17398" y="15027"/>
                  <a:pt x="17438" y="14982"/>
                </a:cubicBezTo>
                <a:cubicBezTo>
                  <a:pt x="17464" y="14952"/>
                  <a:pt x="17486" y="14948"/>
                  <a:pt x="17512" y="14932"/>
                </a:cubicBezTo>
                <a:cubicBezTo>
                  <a:pt x="17528" y="14919"/>
                  <a:pt x="17557" y="14900"/>
                  <a:pt x="17587" y="14883"/>
                </a:cubicBezTo>
                <a:cubicBezTo>
                  <a:pt x="17614" y="14862"/>
                  <a:pt x="17584" y="14867"/>
                  <a:pt x="17636" y="14858"/>
                </a:cubicBezTo>
                <a:cubicBezTo>
                  <a:pt x="17648" y="14848"/>
                  <a:pt x="17678" y="14816"/>
                  <a:pt x="17711" y="14808"/>
                </a:cubicBezTo>
                <a:cubicBezTo>
                  <a:pt x="17831" y="14779"/>
                  <a:pt x="17994" y="14802"/>
                  <a:pt x="18107" y="14784"/>
                </a:cubicBezTo>
                <a:cubicBezTo>
                  <a:pt x="18222" y="14765"/>
                  <a:pt x="18354" y="14792"/>
                  <a:pt x="18455" y="14808"/>
                </a:cubicBezTo>
                <a:cubicBezTo>
                  <a:pt x="18495" y="14815"/>
                  <a:pt x="18517" y="14827"/>
                  <a:pt x="18554" y="14833"/>
                </a:cubicBezTo>
                <a:cubicBezTo>
                  <a:pt x="18579" y="14833"/>
                  <a:pt x="18587" y="14833"/>
                  <a:pt x="18604" y="14833"/>
                </a:cubicBezTo>
                <a:cubicBezTo>
                  <a:pt x="18631" y="14854"/>
                  <a:pt x="18601" y="14849"/>
                  <a:pt x="18653" y="14858"/>
                </a:cubicBezTo>
                <a:cubicBezTo>
                  <a:pt x="18677" y="14873"/>
                  <a:pt x="18677" y="14876"/>
                  <a:pt x="18728" y="14883"/>
                </a:cubicBezTo>
                <a:cubicBezTo>
                  <a:pt x="18743" y="14904"/>
                  <a:pt x="18737" y="14911"/>
                  <a:pt x="18752" y="14932"/>
                </a:cubicBezTo>
                <a:cubicBezTo>
                  <a:pt x="18777" y="14932"/>
                  <a:pt x="18802" y="14932"/>
                  <a:pt x="18827" y="14932"/>
                </a:cubicBezTo>
                <a:cubicBezTo>
                  <a:pt x="18835" y="14940"/>
                  <a:pt x="18891" y="14982"/>
                  <a:pt x="18901" y="15007"/>
                </a:cubicBezTo>
                <a:cubicBezTo>
                  <a:pt x="18901" y="15032"/>
                  <a:pt x="18901" y="15040"/>
                  <a:pt x="18901" y="15056"/>
                </a:cubicBezTo>
                <a:cubicBezTo>
                  <a:pt x="18915" y="15074"/>
                  <a:pt x="18933" y="15098"/>
                  <a:pt x="18951" y="15131"/>
                </a:cubicBezTo>
                <a:cubicBezTo>
                  <a:pt x="18973" y="15153"/>
                  <a:pt x="18982" y="15158"/>
                  <a:pt x="18976" y="15180"/>
                </a:cubicBezTo>
                <a:cubicBezTo>
                  <a:pt x="18996" y="15196"/>
                  <a:pt x="19019" y="15212"/>
                  <a:pt x="19050" y="15230"/>
                </a:cubicBezTo>
                <a:cubicBezTo>
                  <a:pt x="19058" y="15281"/>
                  <a:pt x="19055" y="15254"/>
                  <a:pt x="19075" y="15280"/>
                </a:cubicBezTo>
                <a:cubicBezTo>
                  <a:pt x="19091" y="15315"/>
                  <a:pt x="19107" y="15372"/>
                  <a:pt x="19124" y="15404"/>
                </a:cubicBezTo>
                <a:cubicBezTo>
                  <a:pt x="19147" y="15446"/>
                  <a:pt x="19142" y="15413"/>
                  <a:pt x="19149" y="15379"/>
                </a:cubicBezTo>
              </a:path>
              <a:path w="2234" h="795">
                <a:moveTo>
                  <a:pt x="19323" y="15131"/>
                </a:moveTo>
                <a:cubicBezTo>
                  <a:pt x="19286" y="15140"/>
                  <a:pt x="19261" y="15167"/>
                  <a:pt x="19248" y="15205"/>
                </a:cubicBezTo>
                <a:cubicBezTo>
                  <a:pt x="19238" y="15234"/>
                  <a:pt x="19227" y="15276"/>
                  <a:pt x="19224" y="15304"/>
                </a:cubicBezTo>
                <a:cubicBezTo>
                  <a:pt x="19219" y="15346"/>
                  <a:pt x="19203" y="15366"/>
                  <a:pt x="19199" y="15404"/>
                </a:cubicBezTo>
                <a:cubicBezTo>
                  <a:pt x="19199" y="15429"/>
                  <a:pt x="19199" y="15437"/>
                  <a:pt x="19199" y="15453"/>
                </a:cubicBezTo>
                <a:cubicBezTo>
                  <a:pt x="19145" y="15471"/>
                  <a:pt x="19198" y="15485"/>
                  <a:pt x="19174" y="15528"/>
                </a:cubicBezTo>
                <a:cubicBezTo>
                  <a:pt x="19166" y="15536"/>
                  <a:pt x="19157" y="15545"/>
                  <a:pt x="19149" y="15553"/>
                </a:cubicBezTo>
              </a:path>
              <a:path w="2234" h="795">
                <a:moveTo>
                  <a:pt x="17090" y="14759"/>
                </a:moveTo>
                <a:cubicBezTo>
                  <a:pt x="17149" y="14759"/>
                  <a:pt x="17169" y="14769"/>
                  <a:pt x="17214" y="14784"/>
                </a:cubicBezTo>
                <a:cubicBezTo>
                  <a:pt x="17239" y="14784"/>
                  <a:pt x="17247" y="14784"/>
                  <a:pt x="17264" y="14784"/>
                </a:cubicBezTo>
                <a:cubicBezTo>
                  <a:pt x="17276" y="14830"/>
                  <a:pt x="17320" y="14841"/>
                  <a:pt x="17338" y="14883"/>
                </a:cubicBezTo>
                <a:cubicBezTo>
                  <a:pt x="17355" y="14923"/>
                  <a:pt x="17338" y="15011"/>
                  <a:pt x="17338" y="15056"/>
                </a:cubicBezTo>
                <a:cubicBezTo>
                  <a:pt x="17314" y="15056"/>
                  <a:pt x="17306" y="15056"/>
                  <a:pt x="17314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Ink 18"/>
          <p:cNvSpPr/>
          <p:nvPr/>
        </p:nvSpPr>
        <p:spPr>
          <a:xfrm>
            <a:off x="847800" y="4384800"/>
            <a:ext cx="1598400" cy="1500120"/>
          </a:xfrm>
          <a:custGeom>
            <a:avLst/>
            <a:gdLst/>
            <a:ahLst/>
            <a:rect l="l" t="t" r="r" b="b"/>
            <a:pathLst>
              <a:path w="4441" h="4168">
                <a:moveTo>
                  <a:pt x="5581" y="12328"/>
                </a:moveTo>
                <a:lnTo>
                  <a:pt x="5464" y="12318"/>
                </a:lnTo>
                <a:lnTo>
                  <a:pt x="5389" y="12303"/>
                </a:lnTo>
                <a:lnTo>
                  <a:pt x="5283" y="12278"/>
                </a:lnTo>
                <a:lnTo>
                  <a:pt x="5210" y="12261"/>
                </a:lnTo>
                <a:lnTo>
                  <a:pt x="5135" y="12245"/>
                </a:lnTo>
                <a:lnTo>
                  <a:pt x="5060" y="12229"/>
                </a:lnTo>
                <a:lnTo>
                  <a:pt x="5012" y="12219"/>
                </a:lnTo>
                <a:lnTo>
                  <a:pt x="4984" y="12213"/>
                </a:lnTo>
                <a:lnTo>
                  <a:pt x="4936" y="12204"/>
                </a:lnTo>
                <a:lnTo>
                  <a:pt x="4898" y="12197"/>
                </a:lnTo>
                <a:lnTo>
                  <a:pt x="4872" y="12182"/>
                </a:lnTo>
                <a:lnTo>
                  <a:pt x="4837" y="12179"/>
                </a:lnTo>
                <a:lnTo>
                  <a:pt x="4520" y="12153"/>
                </a:lnTo>
                <a:lnTo>
                  <a:pt x="4094" y="12157"/>
                </a:lnTo>
                <a:lnTo>
                  <a:pt x="3820" y="12204"/>
                </a:lnTo>
                <a:lnTo>
                  <a:pt x="3775" y="12212"/>
                </a:lnTo>
                <a:lnTo>
                  <a:pt x="3738" y="12223"/>
                </a:lnTo>
                <a:lnTo>
                  <a:pt x="3721" y="12229"/>
                </a:lnTo>
                <a:lnTo>
                  <a:pt x="3688" y="12241"/>
                </a:lnTo>
                <a:lnTo>
                  <a:pt x="3652" y="12236"/>
                </a:lnTo>
                <a:lnTo>
                  <a:pt x="3621" y="12254"/>
                </a:lnTo>
                <a:lnTo>
                  <a:pt x="3584" y="12276"/>
                </a:lnTo>
                <a:lnTo>
                  <a:pt x="3526" y="12305"/>
                </a:lnTo>
                <a:lnTo>
                  <a:pt x="3497" y="12328"/>
                </a:lnTo>
                <a:lnTo>
                  <a:pt x="3470" y="12350"/>
                </a:lnTo>
                <a:lnTo>
                  <a:pt x="3436" y="12394"/>
                </a:lnTo>
                <a:lnTo>
                  <a:pt x="3423" y="12402"/>
                </a:lnTo>
                <a:lnTo>
                  <a:pt x="3382" y="12429"/>
                </a:lnTo>
                <a:lnTo>
                  <a:pt x="3343" y="12446"/>
                </a:lnTo>
                <a:lnTo>
                  <a:pt x="3299" y="12477"/>
                </a:lnTo>
                <a:lnTo>
                  <a:pt x="3271" y="12496"/>
                </a:lnTo>
                <a:lnTo>
                  <a:pt x="3218" y="12546"/>
                </a:lnTo>
                <a:lnTo>
                  <a:pt x="3175" y="12576"/>
                </a:lnTo>
                <a:lnTo>
                  <a:pt x="3146" y="12596"/>
                </a:lnTo>
                <a:lnTo>
                  <a:pt x="3093" y="12637"/>
                </a:lnTo>
                <a:lnTo>
                  <a:pt x="3076" y="12650"/>
                </a:lnTo>
                <a:lnTo>
                  <a:pt x="3053" y="12667"/>
                </a:lnTo>
                <a:lnTo>
                  <a:pt x="3045" y="12685"/>
                </a:lnTo>
                <a:lnTo>
                  <a:pt x="3026" y="12700"/>
                </a:lnTo>
                <a:lnTo>
                  <a:pt x="2983" y="12735"/>
                </a:lnTo>
                <a:lnTo>
                  <a:pt x="2952" y="12774"/>
                </a:lnTo>
                <a:lnTo>
                  <a:pt x="2927" y="12799"/>
                </a:lnTo>
                <a:lnTo>
                  <a:pt x="2897" y="12829"/>
                </a:lnTo>
                <a:lnTo>
                  <a:pt x="2892" y="12821"/>
                </a:lnTo>
                <a:lnTo>
                  <a:pt x="2853" y="12874"/>
                </a:lnTo>
                <a:lnTo>
                  <a:pt x="2821" y="12917"/>
                </a:lnTo>
                <a:lnTo>
                  <a:pt x="2807" y="12958"/>
                </a:lnTo>
                <a:lnTo>
                  <a:pt x="2778" y="12998"/>
                </a:lnTo>
                <a:lnTo>
                  <a:pt x="2749" y="13038"/>
                </a:lnTo>
                <a:lnTo>
                  <a:pt x="2720" y="13070"/>
                </a:lnTo>
                <a:lnTo>
                  <a:pt x="2704" y="13097"/>
                </a:lnTo>
                <a:lnTo>
                  <a:pt x="2687" y="13126"/>
                </a:lnTo>
                <a:lnTo>
                  <a:pt x="2697" y="13136"/>
                </a:lnTo>
                <a:lnTo>
                  <a:pt x="2679" y="13171"/>
                </a:lnTo>
                <a:lnTo>
                  <a:pt x="2651" y="13225"/>
                </a:lnTo>
                <a:lnTo>
                  <a:pt x="2625" y="13268"/>
                </a:lnTo>
                <a:lnTo>
                  <a:pt x="2604" y="13320"/>
                </a:lnTo>
                <a:lnTo>
                  <a:pt x="2587" y="13361"/>
                </a:lnTo>
                <a:lnTo>
                  <a:pt x="2568" y="13375"/>
                </a:lnTo>
                <a:lnTo>
                  <a:pt x="2555" y="13419"/>
                </a:lnTo>
                <a:lnTo>
                  <a:pt x="2542" y="13463"/>
                </a:lnTo>
                <a:lnTo>
                  <a:pt x="2544" y="13500"/>
                </a:lnTo>
                <a:lnTo>
                  <a:pt x="2530" y="13543"/>
                </a:lnTo>
                <a:lnTo>
                  <a:pt x="2515" y="13590"/>
                </a:lnTo>
                <a:lnTo>
                  <a:pt x="2475" y="13645"/>
                </a:lnTo>
                <a:lnTo>
                  <a:pt x="2456" y="13692"/>
                </a:lnTo>
                <a:lnTo>
                  <a:pt x="2438" y="13737"/>
                </a:lnTo>
                <a:lnTo>
                  <a:pt x="2424" y="13777"/>
                </a:lnTo>
                <a:lnTo>
                  <a:pt x="2406" y="13816"/>
                </a:lnTo>
                <a:lnTo>
                  <a:pt x="2391" y="13850"/>
                </a:lnTo>
                <a:lnTo>
                  <a:pt x="2363" y="13855"/>
                </a:lnTo>
                <a:lnTo>
                  <a:pt x="2356" y="13891"/>
                </a:lnTo>
                <a:lnTo>
                  <a:pt x="2304" y="14160"/>
                </a:lnTo>
                <a:lnTo>
                  <a:pt x="2366" y="14502"/>
                </a:lnTo>
                <a:lnTo>
                  <a:pt x="2381" y="14759"/>
                </a:lnTo>
                <a:lnTo>
                  <a:pt x="2393" y="14954"/>
                </a:lnTo>
                <a:lnTo>
                  <a:pt x="2386" y="15059"/>
                </a:lnTo>
                <a:lnTo>
                  <a:pt x="2456" y="15230"/>
                </a:lnTo>
                <a:lnTo>
                  <a:pt x="2474" y="15274"/>
                </a:lnTo>
                <a:lnTo>
                  <a:pt x="2476" y="15285"/>
                </a:lnTo>
                <a:lnTo>
                  <a:pt x="2505" y="15329"/>
                </a:lnTo>
                <a:lnTo>
                  <a:pt x="2524" y="15358"/>
                </a:lnTo>
                <a:lnTo>
                  <a:pt x="2558" y="15395"/>
                </a:lnTo>
                <a:lnTo>
                  <a:pt x="2580" y="15429"/>
                </a:lnTo>
                <a:lnTo>
                  <a:pt x="2594" y="15451"/>
                </a:lnTo>
                <a:lnTo>
                  <a:pt x="2622" y="15493"/>
                </a:lnTo>
                <a:lnTo>
                  <a:pt x="2629" y="15503"/>
                </a:lnTo>
                <a:lnTo>
                  <a:pt x="2664" y="15555"/>
                </a:lnTo>
                <a:lnTo>
                  <a:pt x="2691" y="15608"/>
                </a:lnTo>
                <a:lnTo>
                  <a:pt x="2729" y="15652"/>
                </a:lnTo>
                <a:lnTo>
                  <a:pt x="2760" y="15688"/>
                </a:lnTo>
                <a:lnTo>
                  <a:pt x="2783" y="15701"/>
                </a:lnTo>
                <a:lnTo>
                  <a:pt x="2803" y="15726"/>
                </a:lnTo>
                <a:lnTo>
                  <a:pt x="2818" y="15745"/>
                </a:lnTo>
                <a:lnTo>
                  <a:pt x="2840" y="15760"/>
                </a:lnTo>
                <a:lnTo>
                  <a:pt x="2853" y="15776"/>
                </a:lnTo>
                <a:lnTo>
                  <a:pt x="2892" y="15826"/>
                </a:lnTo>
                <a:lnTo>
                  <a:pt x="2888" y="15831"/>
                </a:lnTo>
                <a:lnTo>
                  <a:pt x="2927" y="15875"/>
                </a:lnTo>
                <a:lnTo>
                  <a:pt x="2960" y="15912"/>
                </a:lnTo>
                <a:lnTo>
                  <a:pt x="2997" y="15952"/>
                </a:lnTo>
                <a:lnTo>
                  <a:pt x="3026" y="15974"/>
                </a:lnTo>
                <a:lnTo>
                  <a:pt x="3055" y="15995"/>
                </a:lnTo>
                <a:lnTo>
                  <a:pt x="3076" y="16003"/>
                </a:lnTo>
                <a:lnTo>
                  <a:pt x="3125" y="16024"/>
                </a:lnTo>
                <a:lnTo>
                  <a:pt x="3184" y="16050"/>
                </a:lnTo>
                <a:lnTo>
                  <a:pt x="3284" y="16101"/>
                </a:lnTo>
                <a:lnTo>
                  <a:pt x="3349" y="16123"/>
                </a:lnTo>
                <a:lnTo>
                  <a:pt x="3406" y="16142"/>
                </a:lnTo>
                <a:lnTo>
                  <a:pt x="3471" y="16155"/>
                </a:lnTo>
                <a:lnTo>
                  <a:pt x="3522" y="16173"/>
                </a:lnTo>
                <a:lnTo>
                  <a:pt x="3587" y="16197"/>
                </a:lnTo>
                <a:lnTo>
                  <a:pt x="3607" y="16205"/>
                </a:lnTo>
                <a:lnTo>
                  <a:pt x="3671" y="16222"/>
                </a:lnTo>
                <a:lnTo>
                  <a:pt x="3716" y="16234"/>
                </a:lnTo>
                <a:lnTo>
                  <a:pt x="3749" y="16237"/>
                </a:lnTo>
                <a:lnTo>
                  <a:pt x="3795" y="16247"/>
                </a:lnTo>
                <a:lnTo>
                  <a:pt x="3824" y="16253"/>
                </a:lnTo>
                <a:lnTo>
                  <a:pt x="3898" y="16270"/>
                </a:lnTo>
                <a:lnTo>
                  <a:pt x="3919" y="16272"/>
                </a:lnTo>
                <a:lnTo>
                  <a:pt x="3972" y="16276"/>
                </a:lnTo>
                <a:lnTo>
                  <a:pt x="4081" y="16296"/>
                </a:lnTo>
                <a:lnTo>
                  <a:pt x="4093" y="16297"/>
                </a:lnTo>
                <a:lnTo>
                  <a:pt x="4189" y="16305"/>
                </a:lnTo>
                <a:lnTo>
                  <a:pt x="4274" y="16307"/>
                </a:lnTo>
                <a:lnTo>
                  <a:pt x="4366" y="16321"/>
                </a:lnTo>
                <a:lnTo>
                  <a:pt x="4426" y="16330"/>
                </a:lnTo>
                <a:lnTo>
                  <a:pt x="4451" y="16341"/>
                </a:lnTo>
                <a:lnTo>
                  <a:pt x="4514" y="16346"/>
                </a:lnTo>
                <a:lnTo>
                  <a:pt x="4850" y="16371"/>
                </a:lnTo>
                <a:lnTo>
                  <a:pt x="5452" y="16439"/>
                </a:lnTo>
                <a:lnTo>
                  <a:pt x="5755" y="16321"/>
                </a:lnTo>
                <a:lnTo>
                  <a:pt x="5793" y="16306"/>
                </a:lnTo>
                <a:lnTo>
                  <a:pt x="5818" y="16293"/>
                </a:lnTo>
                <a:lnTo>
                  <a:pt x="5854" y="16272"/>
                </a:lnTo>
                <a:lnTo>
                  <a:pt x="5906" y="16241"/>
                </a:lnTo>
                <a:lnTo>
                  <a:pt x="5894" y="16228"/>
                </a:lnTo>
                <a:lnTo>
                  <a:pt x="5953" y="16197"/>
                </a:lnTo>
                <a:lnTo>
                  <a:pt x="6004" y="16170"/>
                </a:lnTo>
                <a:lnTo>
                  <a:pt x="6057" y="16151"/>
                </a:lnTo>
                <a:lnTo>
                  <a:pt x="6102" y="16123"/>
                </a:lnTo>
                <a:lnTo>
                  <a:pt x="6139" y="16100"/>
                </a:lnTo>
                <a:lnTo>
                  <a:pt x="6167" y="16073"/>
                </a:lnTo>
                <a:lnTo>
                  <a:pt x="6201" y="16049"/>
                </a:lnTo>
                <a:lnTo>
                  <a:pt x="6238" y="16023"/>
                </a:lnTo>
                <a:lnTo>
                  <a:pt x="6263" y="16006"/>
                </a:lnTo>
                <a:lnTo>
                  <a:pt x="6300" y="15974"/>
                </a:lnTo>
                <a:lnTo>
                  <a:pt x="6316" y="15960"/>
                </a:lnTo>
                <a:lnTo>
                  <a:pt x="6357" y="15921"/>
                </a:lnTo>
                <a:lnTo>
                  <a:pt x="6375" y="15900"/>
                </a:lnTo>
                <a:lnTo>
                  <a:pt x="6389" y="15884"/>
                </a:lnTo>
                <a:lnTo>
                  <a:pt x="6408" y="15867"/>
                </a:lnTo>
                <a:lnTo>
                  <a:pt x="6424" y="15850"/>
                </a:lnTo>
                <a:lnTo>
                  <a:pt x="6450" y="15821"/>
                </a:lnTo>
                <a:lnTo>
                  <a:pt x="6490" y="15762"/>
                </a:lnTo>
                <a:lnTo>
                  <a:pt x="6524" y="15726"/>
                </a:lnTo>
                <a:lnTo>
                  <a:pt x="6541" y="15708"/>
                </a:lnTo>
                <a:lnTo>
                  <a:pt x="6560" y="15666"/>
                </a:lnTo>
                <a:lnTo>
                  <a:pt x="6573" y="15652"/>
                </a:lnTo>
                <a:lnTo>
                  <a:pt x="6587" y="15636"/>
                </a:lnTo>
                <a:lnTo>
                  <a:pt x="6604" y="15604"/>
                </a:lnTo>
                <a:lnTo>
                  <a:pt x="6623" y="15577"/>
                </a:lnTo>
                <a:lnTo>
                  <a:pt x="6639" y="15554"/>
                </a:lnTo>
                <a:lnTo>
                  <a:pt x="6661" y="15535"/>
                </a:lnTo>
                <a:lnTo>
                  <a:pt x="6672" y="15503"/>
                </a:lnTo>
                <a:lnTo>
                  <a:pt x="6687" y="15460"/>
                </a:lnTo>
                <a:lnTo>
                  <a:pt x="6686" y="15427"/>
                </a:lnTo>
                <a:lnTo>
                  <a:pt x="6697" y="15379"/>
                </a:lnTo>
                <a:lnTo>
                  <a:pt x="6708" y="15331"/>
                </a:lnTo>
                <a:lnTo>
                  <a:pt x="6714" y="15340"/>
                </a:lnTo>
                <a:lnTo>
                  <a:pt x="6722" y="15304"/>
                </a:lnTo>
                <a:lnTo>
                  <a:pt x="6731" y="15266"/>
                </a:lnTo>
                <a:lnTo>
                  <a:pt x="6740" y="15241"/>
                </a:lnTo>
                <a:lnTo>
                  <a:pt x="6747" y="15205"/>
                </a:lnTo>
                <a:lnTo>
                  <a:pt x="6757" y="15157"/>
                </a:lnTo>
                <a:lnTo>
                  <a:pt x="6762" y="15130"/>
                </a:lnTo>
                <a:lnTo>
                  <a:pt x="6772" y="15081"/>
                </a:lnTo>
                <a:lnTo>
                  <a:pt x="6780" y="15042"/>
                </a:lnTo>
                <a:lnTo>
                  <a:pt x="6792" y="15025"/>
                </a:lnTo>
                <a:lnTo>
                  <a:pt x="6796" y="14982"/>
                </a:lnTo>
                <a:lnTo>
                  <a:pt x="6824" y="14684"/>
                </a:lnTo>
                <a:lnTo>
                  <a:pt x="6842" y="14218"/>
                </a:lnTo>
                <a:lnTo>
                  <a:pt x="6772" y="13965"/>
                </a:lnTo>
                <a:lnTo>
                  <a:pt x="6761" y="13924"/>
                </a:lnTo>
                <a:lnTo>
                  <a:pt x="6745" y="13902"/>
                </a:lnTo>
                <a:lnTo>
                  <a:pt x="6722" y="13866"/>
                </a:lnTo>
                <a:lnTo>
                  <a:pt x="6704" y="13838"/>
                </a:lnTo>
                <a:lnTo>
                  <a:pt x="6698" y="13830"/>
                </a:lnTo>
                <a:lnTo>
                  <a:pt x="6672" y="13791"/>
                </a:lnTo>
                <a:lnTo>
                  <a:pt x="6639" y="13741"/>
                </a:lnTo>
                <a:lnTo>
                  <a:pt x="6604" y="13694"/>
                </a:lnTo>
                <a:lnTo>
                  <a:pt x="6573" y="13643"/>
                </a:lnTo>
                <a:lnTo>
                  <a:pt x="6561" y="13624"/>
                </a:lnTo>
                <a:lnTo>
                  <a:pt x="6519" y="13564"/>
                </a:lnTo>
                <a:lnTo>
                  <a:pt x="6499" y="13519"/>
                </a:lnTo>
                <a:lnTo>
                  <a:pt x="6481" y="13479"/>
                </a:lnTo>
                <a:lnTo>
                  <a:pt x="6464" y="13460"/>
                </a:lnTo>
                <a:lnTo>
                  <a:pt x="6449" y="13419"/>
                </a:lnTo>
                <a:lnTo>
                  <a:pt x="6437" y="13386"/>
                </a:lnTo>
                <a:lnTo>
                  <a:pt x="6436" y="13353"/>
                </a:lnTo>
                <a:lnTo>
                  <a:pt x="6424" y="13320"/>
                </a:lnTo>
                <a:lnTo>
                  <a:pt x="6412" y="13287"/>
                </a:lnTo>
                <a:lnTo>
                  <a:pt x="6410" y="13253"/>
                </a:lnTo>
                <a:lnTo>
                  <a:pt x="6400" y="13221"/>
                </a:lnTo>
                <a:lnTo>
                  <a:pt x="6388" y="13181"/>
                </a:lnTo>
                <a:lnTo>
                  <a:pt x="6372" y="13107"/>
                </a:lnTo>
                <a:lnTo>
                  <a:pt x="6350" y="13072"/>
                </a:lnTo>
                <a:lnTo>
                  <a:pt x="6327" y="13035"/>
                </a:lnTo>
                <a:lnTo>
                  <a:pt x="6269" y="12993"/>
                </a:lnTo>
                <a:lnTo>
                  <a:pt x="6251" y="12973"/>
                </a:lnTo>
                <a:lnTo>
                  <a:pt x="6231" y="12950"/>
                </a:lnTo>
                <a:lnTo>
                  <a:pt x="6235" y="12929"/>
                </a:lnTo>
                <a:lnTo>
                  <a:pt x="6201" y="12898"/>
                </a:lnTo>
                <a:lnTo>
                  <a:pt x="6184" y="12883"/>
                </a:lnTo>
                <a:lnTo>
                  <a:pt x="6168" y="12863"/>
                </a:lnTo>
                <a:lnTo>
                  <a:pt x="6152" y="12849"/>
                </a:lnTo>
                <a:lnTo>
                  <a:pt x="6106" y="12808"/>
                </a:lnTo>
                <a:lnTo>
                  <a:pt x="6091" y="12816"/>
                </a:lnTo>
                <a:lnTo>
                  <a:pt x="6052" y="12774"/>
                </a:lnTo>
                <a:lnTo>
                  <a:pt x="6029" y="12750"/>
                </a:lnTo>
                <a:lnTo>
                  <a:pt x="5994" y="12671"/>
                </a:lnTo>
                <a:lnTo>
                  <a:pt x="5978" y="12650"/>
                </a:lnTo>
                <a:lnTo>
                  <a:pt x="5954" y="12619"/>
                </a:lnTo>
                <a:lnTo>
                  <a:pt x="5932" y="12608"/>
                </a:lnTo>
                <a:lnTo>
                  <a:pt x="5904" y="12576"/>
                </a:lnTo>
                <a:lnTo>
                  <a:pt x="5886" y="12555"/>
                </a:lnTo>
                <a:lnTo>
                  <a:pt x="5873" y="12545"/>
                </a:lnTo>
                <a:lnTo>
                  <a:pt x="5854" y="12526"/>
                </a:lnTo>
                <a:lnTo>
                  <a:pt x="5818" y="12490"/>
                </a:lnTo>
                <a:lnTo>
                  <a:pt x="5820" y="12478"/>
                </a:lnTo>
                <a:lnTo>
                  <a:pt x="5779" y="12452"/>
                </a:lnTo>
                <a:lnTo>
                  <a:pt x="5742" y="12428"/>
                </a:lnTo>
                <a:lnTo>
                  <a:pt x="5730" y="12420"/>
                </a:lnTo>
                <a:lnTo>
                  <a:pt x="5705" y="12402"/>
                </a:lnTo>
                <a:lnTo>
                  <a:pt x="5677" y="12382"/>
                </a:lnTo>
                <a:lnTo>
                  <a:pt x="5639" y="12353"/>
                </a:lnTo>
                <a:lnTo>
                  <a:pt x="5606" y="12328"/>
                </a:lnTo>
                <a:lnTo>
                  <a:pt x="5581" y="12328"/>
                </a:lnTo>
                <a:lnTo>
                  <a:pt x="5573" y="12328"/>
                </a:lnTo>
                <a:lnTo>
                  <a:pt x="5581" y="12303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Ink 19"/>
          <p:cNvSpPr/>
          <p:nvPr/>
        </p:nvSpPr>
        <p:spPr>
          <a:xfrm>
            <a:off x="3571920" y="4367160"/>
            <a:ext cx="1500120" cy="1249560"/>
          </a:xfrm>
          <a:custGeom>
            <a:avLst/>
            <a:gdLst/>
            <a:ahLst/>
            <a:rect l="l" t="t" r="r" b="b"/>
            <a:pathLst>
              <a:path w="4168" h="3474">
                <a:moveTo>
                  <a:pt x="12378" y="12129"/>
                </a:moveTo>
                <a:lnTo>
                  <a:pt x="12337" y="12129"/>
                </a:lnTo>
                <a:lnTo>
                  <a:pt x="12344" y="12129"/>
                </a:lnTo>
                <a:lnTo>
                  <a:pt x="12303" y="12129"/>
                </a:lnTo>
                <a:lnTo>
                  <a:pt x="11949" y="12129"/>
                </a:lnTo>
                <a:lnTo>
                  <a:pt x="11574" y="12131"/>
                </a:lnTo>
                <a:lnTo>
                  <a:pt x="11237" y="12154"/>
                </a:lnTo>
                <a:lnTo>
                  <a:pt x="11164" y="12159"/>
                </a:lnTo>
                <a:lnTo>
                  <a:pt x="11100" y="12167"/>
                </a:lnTo>
                <a:lnTo>
                  <a:pt x="11038" y="12179"/>
                </a:lnTo>
                <a:lnTo>
                  <a:pt x="10998" y="12187"/>
                </a:lnTo>
                <a:lnTo>
                  <a:pt x="10976" y="12195"/>
                </a:lnTo>
                <a:lnTo>
                  <a:pt x="10939" y="12204"/>
                </a:lnTo>
                <a:lnTo>
                  <a:pt x="10892" y="12216"/>
                </a:lnTo>
                <a:lnTo>
                  <a:pt x="10858" y="12215"/>
                </a:lnTo>
                <a:lnTo>
                  <a:pt x="10815" y="12229"/>
                </a:lnTo>
                <a:lnTo>
                  <a:pt x="10778" y="12241"/>
                </a:lnTo>
                <a:lnTo>
                  <a:pt x="10702" y="12257"/>
                </a:lnTo>
                <a:lnTo>
                  <a:pt x="10666" y="12278"/>
                </a:lnTo>
                <a:lnTo>
                  <a:pt x="10629" y="12300"/>
                </a:lnTo>
                <a:lnTo>
                  <a:pt x="10610" y="12348"/>
                </a:lnTo>
                <a:lnTo>
                  <a:pt x="10567" y="12378"/>
                </a:lnTo>
                <a:lnTo>
                  <a:pt x="10535" y="12400"/>
                </a:lnTo>
                <a:lnTo>
                  <a:pt x="10478" y="12423"/>
                </a:lnTo>
                <a:lnTo>
                  <a:pt x="10443" y="12452"/>
                </a:lnTo>
                <a:lnTo>
                  <a:pt x="10428" y="12465"/>
                </a:lnTo>
                <a:lnTo>
                  <a:pt x="10387" y="12485"/>
                </a:lnTo>
                <a:lnTo>
                  <a:pt x="10368" y="12502"/>
                </a:lnTo>
                <a:lnTo>
                  <a:pt x="10357" y="12512"/>
                </a:lnTo>
                <a:lnTo>
                  <a:pt x="10328" y="12540"/>
                </a:lnTo>
                <a:lnTo>
                  <a:pt x="10319" y="12551"/>
                </a:lnTo>
                <a:lnTo>
                  <a:pt x="10296" y="12579"/>
                </a:lnTo>
                <a:lnTo>
                  <a:pt x="10270" y="12641"/>
                </a:lnTo>
                <a:lnTo>
                  <a:pt x="10244" y="12675"/>
                </a:lnTo>
                <a:lnTo>
                  <a:pt x="10213" y="12717"/>
                </a:lnTo>
                <a:lnTo>
                  <a:pt x="10175" y="12756"/>
                </a:lnTo>
                <a:lnTo>
                  <a:pt x="10145" y="12799"/>
                </a:lnTo>
                <a:lnTo>
                  <a:pt x="10131" y="12820"/>
                </a:lnTo>
                <a:lnTo>
                  <a:pt x="10105" y="12858"/>
                </a:lnTo>
                <a:lnTo>
                  <a:pt x="10096" y="12874"/>
                </a:lnTo>
                <a:lnTo>
                  <a:pt x="10079" y="12903"/>
                </a:lnTo>
                <a:lnTo>
                  <a:pt x="10025" y="12964"/>
                </a:lnTo>
                <a:lnTo>
                  <a:pt x="10021" y="12973"/>
                </a:lnTo>
                <a:lnTo>
                  <a:pt x="10005" y="13012"/>
                </a:lnTo>
                <a:lnTo>
                  <a:pt x="10006" y="13056"/>
                </a:lnTo>
                <a:lnTo>
                  <a:pt x="9996" y="13097"/>
                </a:lnTo>
                <a:lnTo>
                  <a:pt x="9984" y="13143"/>
                </a:lnTo>
                <a:lnTo>
                  <a:pt x="9979" y="13173"/>
                </a:lnTo>
                <a:lnTo>
                  <a:pt x="9971" y="13221"/>
                </a:lnTo>
                <a:lnTo>
                  <a:pt x="9961" y="13275"/>
                </a:lnTo>
                <a:lnTo>
                  <a:pt x="9959" y="13314"/>
                </a:lnTo>
                <a:lnTo>
                  <a:pt x="9947" y="13370"/>
                </a:lnTo>
                <a:lnTo>
                  <a:pt x="9946" y="13376"/>
                </a:lnTo>
                <a:lnTo>
                  <a:pt x="9926" y="13430"/>
                </a:lnTo>
                <a:lnTo>
                  <a:pt x="9922" y="13469"/>
                </a:lnTo>
                <a:lnTo>
                  <a:pt x="9890" y="13817"/>
                </a:lnTo>
                <a:lnTo>
                  <a:pt x="9855" y="14338"/>
                </a:lnTo>
                <a:lnTo>
                  <a:pt x="9947" y="14660"/>
                </a:lnTo>
                <a:lnTo>
                  <a:pt x="9954" y="14686"/>
                </a:lnTo>
                <a:lnTo>
                  <a:pt x="9959" y="14735"/>
                </a:lnTo>
                <a:lnTo>
                  <a:pt x="9971" y="14759"/>
                </a:lnTo>
                <a:lnTo>
                  <a:pt x="9995" y="14806"/>
                </a:lnTo>
                <a:lnTo>
                  <a:pt x="10040" y="14841"/>
                </a:lnTo>
                <a:lnTo>
                  <a:pt x="10071" y="14883"/>
                </a:lnTo>
                <a:lnTo>
                  <a:pt x="10099" y="14921"/>
                </a:lnTo>
                <a:lnTo>
                  <a:pt x="10122" y="14944"/>
                </a:lnTo>
                <a:lnTo>
                  <a:pt x="10145" y="14982"/>
                </a:lnTo>
                <a:lnTo>
                  <a:pt x="10165" y="15014"/>
                </a:lnTo>
                <a:lnTo>
                  <a:pt x="10169" y="15048"/>
                </a:lnTo>
                <a:lnTo>
                  <a:pt x="10195" y="15081"/>
                </a:lnTo>
                <a:lnTo>
                  <a:pt x="10231" y="15126"/>
                </a:lnTo>
                <a:lnTo>
                  <a:pt x="10283" y="15151"/>
                </a:lnTo>
                <a:lnTo>
                  <a:pt x="10319" y="15180"/>
                </a:lnTo>
                <a:lnTo>
                  <a:pt x="10331" y="15190"/>
                </a:lnTo>
                <a:lnTo>
                  <a:pt x="10358" y="15248"/>
                </a:lnTo>
                <a:lnTo>
                  <a:pt x="10368" y="15255"/>
                </a:lnTo>
                <a:lnTo>
                  <a:pt x="10410" y="15284"/>
                </a:lnTo>
                <a:lnTo>
                  <a:pt x="10421" y="15266"/>
                </a:lnTo>
                <a:lnTo>
                  <a:pt x="10468" y="15304"/>
                </a:lnTo>
                <a:lnTo>
                  <a:pt x="10493" y="15324"/>
                </a:lnTo>
                <a:lnTo>
                  <a:pt x="10532" y="15373"/>
                </a:lnTo>
                <a:lnTo>
                  <a:pt x="10542" y="15379"/>
                </a:lnTo>
                <a:lnTo>
                  <a:pt x="10575" y="15397"/>
                </a:lnTo>
                <a:lnTo>
                  <a:pt x="10589" y="15389"/>
                </a:lnTo>
                <a:lnTo>
                  <a:pt x="10616" y="15404"/>
                </a:lnTo>
                <a:lnTo>
                  <a:pt x="10670" y="15435"/>
                </a:lnTo>
                <a:lnTo>
                  <a:pt x="10688" y="15439"/>
                </a:lnTo>
                <a:lnTo>
                  <a:pt x="10740" y="15453"/>
                </a:lnTo>
                <a:lnTo>
                  <a:pt x="10797" y="15468"/>
                </a:lnTo>
                <a:lnTo>
                  <a:pt x="10856" y="15466"/>
                </a:lnTo>
                <a:lnTo>
                  <a:pt x="10914" y="15478"/>
                </a:lnTo>
                <a:lnTo>
                  <a:pt x="10956" y="15487"/>
                </a:lnTo>
                <a:lnTo>
                  <a:pt x="11011" y="15495"/>
                </a:lnTo>
                <a:lnTo>
                  <a:pt x="11063" y="15503"/>
                </a:lnTo>
                <a:lnTo>
                  <a:pt x="11114" y="15511"/>
                </a:lnTo>
                <a:lnTo>
                  <a:pt x="11136" y="15525"/>
                </a:lnTo>
                <a:lnTo>
                  <a:pt x="11187" y="15528"/>
                </a:lnTo>
                <a:lnTo>
                  <a:pt x="11368" y="15540"/>
                </a:lnTo>
                <a:lnTo>
                  <a:pt x="11559" y="15541"/>
                </a:lnTo>
                <a:lnTo>
                  <a:pt x="11733" y="15553"/>
                </a:lnTo>
                <a:lnTo>
                  <a:pt x="11840" y="15560"/>
                </a:lnTo>
                <a:lnTo>
                  <a:pt x="11928" y="15589"/>
                </a:lnTo>
                <a:lnTo>
                  <a:pt x="12030" y="15602"/>
                </a:lnTo>
                <a:lnTo>
                  <a:pt x="12265" y="15633"/>
                </a:lnTo>
                <a:lnTo>
                  <a:pt x="12638" y="15643"/>
                </a:lnTo>
                <a:lnTo>
                  <a:pt x="12849" y="15577"/>
                </a:lnTo>
                <a:lnTo>
                  <a:pt x="12893" y="15563"/>
                </a:lnTo>
                <a:lnTo>
                  <a:pt x="12889" y="15570"/>
                </a:lnTo>
                <a:lnTo>
                  <a:pt x="12923" y="15553"/>
                </a:lnTo>
                <a:lnTo>
                  <a:pt x="12966" y="15531"/>
                </a:lnTo>
                <a:lnTo>
                  <a:pt x="12997" y="15500"/>
                </a:lnTo>
                <a:lnTo>
                  <a:pt x="13047" y="15478"/>
                </a:lnTo>
                <a:lnTo>
                  <a:pt x="13097" y="15456"/>
                </a:lnTo>
                <a:lnTo>
                  <a:pt x="13147" y="15429"/>
                </a:lnTo>
                <a:lnTo>
                  <a:pt x="13196" y="15404"/>
                </a:lnTo>
                <a:lnTo>
                  <a:pt x="13261" y="15371"/>
                </a:lnTo>
                <a:lnTo>
                  <a:pt x="13318" y="15308"/>
                </a:lnTo>
                <a:lnTo>
                  <a:pt x="13370" y="15280"/>
                </a:lnTo>
                <a:lnTo>
                  <a:pt x="13412" y="15257"/>
                </a:lnTo>
                <a:lnTo>
                  <a:pt x="13475" y="15260"/>
                </a:lnTo>
                <a:lnTo>
                  <a:pt x="13519" y="15230"/>
                </a:lnTo>
                <a:lnTo>
                  <a:pt x="13557" y="15204"/>
                </a:lnTo>
                <a:lnTo>
                  <a:pt x="13625" y="15141"/>
                </a:lnTo>
                <a:lnTo>
                  <a:pt x="13667" y="15106"/>
                </a:lnTo>
                <a:lnTo>
                  <a:pt x="13723" y="15059"/>
                </a:lnTo>
                <a:lnTo>
                  <a:pt x="13819" y="14977"/>
                </a:lnTo>
                <a:lnTo>
                  <a:pt x="13841" y="14908"/>
                </a:lnTo>
                <a:lnTo>
                  <a:pt x="13859" y="14853"/>
                </a:lnTo>
                <a:lnTo>
                  <a:pt x="13859" y="14817"/>
                </a:lnTo>
                <a:lnTo>
                  <a:pt x="13866" y="14759"/>
                </a:lnTo>
                <a:lnTo>
                  <a:pt x="13872" y="14706"/>
                </a:lnTo>
                <a:lnTo>
                  <a:pt x="13883" y="14653"/>
                </a:lnTo>
                <a:lnTo>
                  <a:pt x="13891" y="14610"/>
                </a:lnTo>
                <a:lnTo>
                  <a:pt x="13903" y="14547"/>
                </a:lnTo>
                <a:lnTo>
                  <a:pt x="13897" y="14540"/>
                </a:lnTo>
                <a:lnTo>
                  <a:pt x="13915" y="14486"/>
                </a:lnTo>
                <a:lnTo>
                  <a:pt x="13915" y="14486"/>
                </a:lnTo>
                <a:lnTo>
                  <a:pt x="13956" y="14431"/>
                </a:lnTo>
                <a:lnTo>
                  <a:pt x="13965" y="14412"/>
                </a:lnTo>
                <a:lnTo>
                  <a:pt x="13988" y="14363"/>
                </a:lnTo>
                <a:lnTo>
                  <a:pt x="14013" y="14318"/>
                </a:lnTo>
                <a:lnTo>
                  <a:pt x="14039" y="14263"/>
                </a:lnTo>
                <a:lnTo>
                  <a:pt x="14052" y="14235"/>
                </a:lnTo>
                <a:lnTo>
                  <a:pt x="14084" y="14165"/>
                </a:lnTo>
                <a:lnTo>
                  <a:pt x="14089" y="14139"/>
                </a:lnTo>
                <a:lnTo>
                  <a:pt x="14117" y="14003"/>
                </a:lnTo>
                <a:lnTo>
                  <a:pt x="14102" y="13787"/>
                </a:lnTo>
                <a:lnTo>
                  <a:pt x="14064" y="13667"/>
                </a:lnTo>
                <a:lnTo>
                  <a:pt x="14052" y="13629"/>
                </a:lnTo>
                <a:lnTo>
                  <a:pt x="14030" y="13604"/>
                </a:lnTo>
                <a:lnTo>
                  <a:pt x="14015" y="13568"/>
                </a:lnTo>
                <a:lnTo>
                  <a:pt x="13990" y="13507"/>
                </a:lnTo>
                <a:lnTo>
                  <a:pt x="13975" y="13481"/>
                </a:lnTo>
                <a:lnTo>
                  <a:pt x="13940" y="13419"/>
                </a:lnTo>
                <a:lnTo>
                  <a:pt x="13927" y="13396"/>
                </a:lnTo>
                <a:lnTo>
                  <a:pt x="13905" y="13310"/>
                </a:lnTo>
                <a:lnTo>
                  <a:pt x="13891" y="13295"/>
                </a:lnTo>
                <a:lnTo>
                  <a:pt x="13863" y="13265"/>
                </a:lnTo>
                <a:lnTo>
                  <a:pt x="13832" y="13266"/>
                </a:lnTo>
                <a:lnTo>
                  <a:pt x="13816" y="13246"/>
                </a:lnTo>
                <a:lnTo>
                  <a:pt x="13787" y="13210"/>
                </a:lnTo>
                <a:lnTo>
                  <a:pt x="13770" y="13177"/>
                </a:lnTo>
                <a:lnTo>
                  <a:pt x="13742" y="13146"/>
                </a:lnTo>
                <a:lnTo>
                  <a:pt x="13723" y="13126"/>
                </a:lnTo>
                <a:lnTo>
                  <a:pt x="13674" y="13087"/>
                </a:lnTo>
                <a:lnTo>
                  <a:pt x="13643" y="13047"/>
                </a:lnTo>
                <a:lnTo>
                  <a:pt x="13624" y="13022"/>
                </a:lnTo>
                <a:lnTo>
                  <a:pt x="13592" y="12979"/>
                </a:lnTo>
                <a:lnTo>
                  <a:pt x="13568" y="12948"/>
                </a:lnTo>
                <a:lnTo>
                  <a:pt x="13542" y="12913"/>
                </a:lnTo>
                <a:lnTo>
                  <a:pt x="13522" y="12887"/>
                </a:lnTo>
                <a:lnTo>
                  <a:pt x="13494" y="12849"/>
                </a:lnTo>
                <a:lnTo>
                  <a:pt x="13449" y="12789"/>
                </a:lnTo>
                <a:lnTo>
                  <a:pt x="13462" y="12799"/>
                </a:lnTo>
                <a:lnTo>
                  <a:pt x="13419" y="12750"/>
                </a:lnTo>
                <a:lnTo>
                  <a:pt x="13379" y="12705"/>
                </a:lnTo>
                <a:lnTo>
                  <a:pt x="13345" y="12666"/>
                </a:lnTo>
                <a:lnTo>
                  <a:pt x="13295" y="12626"/>
                </a:lnTo>
                <a:lnTo>
                  <a:pt x="13227" y="12572"/>
                </a:lnTo>
                <a:lnTo>
                  <a:pt x="13167" y="12518"/>
                </a:lnTo>
                <a:lnTo>
                  <a:pt x="13097" y="12477"/>
                </a:lnTo>
                <a:lnTo>
                  <a:pt x="13061" y="12455"/>
                </a:lnTo>
                <a:lnTo>
                  <a:pt x="13019" y="12415"/>
                </a:lnTo>
                <a:lnTo>
                  <a:pt x="12998" y="12402"/>
                </a:lnTo>
                <a:lnTo>
                  <a:pt x="12971" y="12386"/>
                </a:lnTo>
                <a:lnTo>
                  <a:pt x="12924" y="12392"/>
                </a:lnTo>
                <a:lnTo>
                  <a:pt x="12898" y="12378"/>
                </a:lnTo>
                <a:lnTo>
                  <a:pt x="12875" y="12365"/>
                </a:lnTo>
                <a:lnTo>
                  <a:pt x="12817" y="12323"/>
                </a:lnTo>
                <a:lnTo>
                  <a:pt x="12774" y="12303"/>
                </a:lnTo>
                <a:lnTo>
                  <a:pt x="12732" y="12284"/>
                </a:lnTo>
                <a:lnTo>
                  <a:pt x="12687" y="12259"/>
                </a:lnTo>
                <a:lnTo>
                  <a:pt x="12650" y="12229"/>
                </a:lnTo>
                <a:lnTo>
                  <a:pt x="12642" y="12223"/>
                </a:lnTo>
                <a:lnTo>
                  <a:pt x="12603" y="12180"/>
                </a:lnTo>
                <a:lnTo>
                  <a:pt x="12601" y="12179"/>
                </a:lnTo>
                <a:lnTo>
                  <a:pt x="12553" y="12159"/>
                </a:lnTo>
                <a:lnTo>
                  <a:pt x="12532" y="12162"/>
                </a:lnTo>
                <a:lnTo>
                  <a:pt x="12477" y="12154"/>
                </a:lnTo>
                <a:lnTo>
                  <a:pt x="12429" y="12147"/>
                </a:lnTo>
                <a:lnTo>
                  <a:pt x="12377" y="12156"/>
                </a:lnTo>
                <a:lnTo>
                  <a:pt x="12328" y="12154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Ink 20"/>
          <p:cNvSpPr/>
          <p:nvPr/>
        </p:nvSpPr>
        <p:spPr>
          <a:xfrm>
            <a:off x="6000840" y="4321080"/>
            <a:ext cx="1401840" cy="1386000"/>
          </a:xfrm>
          <a:custGeom>
            <a:avLst/>
            <a:gdLst/>
            <a:ahLst/>
            <a:rect l="l" t="t" r="r" b="b"/>
            <a:pathLst>
              <a:path w="3895" h="3846">
                <a:moveTo>
                  <a:pt x="19348" y="12055"/>
                </a:moveTo>
                <a:lnTo>
                  <a:pt x="19313" y="12050"/>
                </a:lnTo>
                <a:lnTo>
                  <a:pt x="19271" y="12033"/>
                </a:lnTo>
                <a:lnTo>
                  <a:pt x="19224" y="12030"/>
                </a:lnTo>
                <a:lnTo>
                  <a:pt x="18939" y="12011"/>
                </a:lnTo>
                <a:lnTo>
                  <a:pt x="18548" y="11986"/>
                </a:lnTo>
                <a:lnTo>
                  <a:pt x="18281" y="12055"/>
                </a:lnTo>
                <a:lnTo>
                  <a:pt x="18213" y="12072"/>
                </a:lnTo>
                <a:lnTo>
                  <a:pt x="18152" y="12111"/>
                </a:lnTo>
                <a:lnTo>
                  <a:pt x="18083" y="12129"/>
                </a:lnTo>
                <a:lnTo>
                  <a:pt x="18033" y="12142"/>
                </a:lnTo>
                <a:lnTo>
                  <a:pt x="17984" y="12143"/>
                </a:lnTo>
                <a:lnTo>
                  <a:pt x="17934" y="12154"/>
                </a:lnTo>
                <a:lnTo>
                  <a:pt x="17904" y="12161"/>
                </a:lnTo>
                <a:lnTo>
                  <a:pt x="17836" y="12162"/>
                </a:lnTo>
                <a:lnTo>
                  <a:pt x="17810" y="12179"/>
                </a:lnTo>
                <a:lnTo>
                  <a:pt x="17793" y="12190"/>
                </a:lnTo>
                <a:lnTo>
                  <a:pt x="17783" y="12215"/>
                </a:lnTo>
                <a:lnTo>
                  <a:pt x="17760" y="12229"/>
                </a:lnTo>
                <a:lnTo>
                  <a:pt x="17744" y="12239"/>
                </a:lnTo>
                <a:lnTo>
                  <a:pt x="17691" y="12283"/>
                </a:lnTo>
                <a:lnTo>
                  <a:pt x="17661" y="12303"/>
                </a:lnTo>
                <a:lnTo>
                  <a:pt x="17609" y="12337"/>
                </a:lnTo>
                <a:lnTo>
                  <a:pt x="17594" y="12334"/>
                </a:lnTo>
                <a:lnTo>
                  <a:pt x="17537" y="12378"/>
                </a:lnTo>
                <a:lnTo>
                  <a:pt x="17493" y="12412"/>
                </a:lnTo>
                <a:lnTo>
                  <a:pt x="17444" y="12450"/>
                </a:lnTo>
                <a:lnTo>
                  <a:pt x="17413" y="12477"/>
                </a:lnTo>
                <a:lnTo>
                  <a:pt x="17399" y="12489"/>
                </a:lnTo>
                <a:lnTo>
                  <a:pt x="17363" y="12523"/>
                </a:lnTo>
                <a:lnTo>
                  <a:pt x="17338" y="12551"/>
                </a:lnTo>
                <a:lnTo>
                  <a:pt x="17291" y="12604"/>
                </a:lnTo>
                <a:lnTo>
                  <a:pt x="17232" y="12651"/>
                </a:lnTo>
                <a:lnTo>
                  <a:pt x="17190" y="12700"/>
                </a:lnTo>
                <a:lnTo>
                  <a:pt x="17167" y="12727"/>
                </a:lnTo>
                <a:lnTo>
                  <a:pt x="17104" y="12804"/>
                </a:lnTo>
                <a:lnTo>
                  <a:pt x="17090" y="12824"/>
                </a:lnTo>
                <a:lnTo>
                  <a:pt x="17068" y="12854"/>
                </a:lnTo>
                <a:lnTo>
                  <a:pt x="17039" y="12910"/>
                </a:lnTo>
                <a:lnTo>
                  <a:pt x="17016" y="12948"/>
                </a:lnTo>
                <a:lnTo>
                  <a:pt x="16995" y="12982"/>
                </a:lnTo>
                <a:lnTo>
                  <a:pt x="16967" y="13030"/>
                </a:lnTo>
                <a:lnTo>
                  <a:pt x="16942" y="13072"/>
                </a:lnTo>
                <a:lnTo>
                  <a:pt x="16922" y="13106"/>
                </a:lnTo>
                <a:lnTo>
                  <a:pt x="16889" y="13155"/>
                </a:lnTo>
                <a:lnTo>
                  <a:pt x="16867" y="13196"/>
                </a:lnTo>
                <a:lnTo>
                  <a:pt x="16849" y="13230"/>
                </a:lnTo>
                <a:lnTo>
                  <a:pt x="16835" y="13286"/>
                </a:lnTo>
                <a:lnTo>
                  <a:pt x="16818" y="13320"/>
                </a:lnTo>
                <a:lnTo>
                  <a:pt x="16803" y="13351"/>
                </a:lnTo>
                <a:lnTo>
                  <a:pt x="16782" y="13387"/>
                </a:lnTo>
                <a:lnTo>
                  <a:pt x="16768" y="13419"/>
                </a:lnTo>
                <a:lnTo>
                  <a:pt x="16742" y="13479"/>
                </a:lnTo>
                <a:lnTo>
                  <a:pt x="16713" y="13553"/>
                </a:lnTo>
                <a:lnTo>
                  <a:pt x="16694" y="13618"/>
                </a:lnTo>
                <a:lnTo>
                  <a:pt x="16683" y="13656"/>
                </a:lnTo>
                <a:lnTo>
                  <a:pt x="16673" y="13706"/>
                </a:lnTo>
                <a:lnTo>
                  <a:pt x="16669" y="13742"/>
                </a:lnTo>
                <a:lnTo>
                  <a:pt x="16635" y="14047"/>
                </a:lnTo>
                <a:lnTo>
                  <a:pt x="16636" y="14440"/>
                </a:lnTo>
                <a:lnTo>
                  <a:pt x="16694" y="14734"/>
                </a:lnTo>
                <a:lnTo>
                  <a:pt x="16703" y="14782"/>
                </a:lnTo>
                <a:lnTo>
                  <a:pt x="16709" y="14772"/>
                </a:lnTo>
                <a:lnTo>
                  <a:pt x="16718" y="14808"/>
                </a:lnTo>
                <a:lnTo>
                  <a:pt x="16729" y="14855"/>
                </a:lnTo>
                <a:lnTo>
                  <a:pt x="16729" y="14889"/>
                </a:lnTo>
                <a:lnTo>
                  <a:pt x="16743" y="14932"/>
                </a:lnTo>
                <a:lnTo>
                  <a:pt x="16772" y="15018"/>
                </a:lnTo>
                <a:lnTo>
                  <a:pt x="16771" y="15004"/>
                </a:lnTo>
                <a:lnTo>
                  <a:pt x="16793" y="15081"/>
                </a:lnTo>
                <a:lnTo>
                  <a:pt x="16808" y="15133"/>
                </a:lnTo>
                <a:lnTo>
                  <a:pt x="16799" y="15147"/>
                </a:lnTo>
                <a:lnTo>
                  <a:pt x="16818" y="15205"/>
                </a:lnTo>
                <a:lnTo>
                  <a:pt x="16832" y="15248"/>
                </a:lnTo>
                <a:lnTo>
                  <a:pt x="16851" y="15291"/>
                </a:lnTo>
                <a:lnTo>
                  <a:pt x="16867" y="15329"/>
                </a:lnTo>
                <a:lnTo>
                  <a:pt x="16877" y="15353"/>
                </a:lnTo>
                <a:lnTo>
                  <a:pt x="16918" y="15410"/>
                </a:lnTo>
                <a:lnTo>
                  <a:pt x="16942" y="15453"/>
                </a:lnTo>
                <a:lnTo>
                  <a:pt x="16961" y="15487"/>
                </a:lnTo>
                <a:lnTo>
                  <a:pt x="16946" y="15501"/>
                </a:lnTo>
                <a:lnTo>
                  <a:pt x="16966" y="15528"/>
                </a:lnTo>
                <a:lnTo>
                  <a:pt x="16975" y="15540"/>
                </a:lnTo>
                <a:lnTo>
                  <a:pt x="17016" y="15579"/>
                </a:lnTo>
                <a:lnTo>
                  <a:pt x="17041" y="15602"/>
                </a:lnTo>
                <a:lnTo>
                  <a:pt x="17078" y="15635"/>
                </a:lnTo>
                <a:lnTo>
                  <a:pt x="17101" y="15653"/>
                </a:lnTo>
                <a:lnTo>
                  <a:pt x="17140" y="15677"/>
                </a:lnTo>
                <a:lnTo>
                  <a:pt x="17165" y="15693"/>
                </a:lnTo>
                <a:lnTo>
                  <a:pt x="17199" y="15712"/>
                </a:lnTo>
                <a:lnTo>
                  <a:pt x="17239" y="15726"/>
                </a:lnTo>
                <a:lnTo>
                  <a:pt x="17284" y="15741"/>
                </a:lnTo>
                <a:lnTo>
                  <a:pt x="17308" y="15745"/>
                </a:lnTo>
                <a:lnTo>
                  <a:pt x="17363" y="15751"/>
                </a:lnTo>
                <a:lnTo>
                  <a:pt x="17515" y="15768"/>
                </a:lnTo>
                <a:lnTo>
                  <a:pt x="17664" y="15781"/>
                </a:lnTo>
                <a:lnTo>
                  <a:pt x="17810" y="15801"/>
                </a:lnTo>
                <a:lnTo>
                  <a:pt x="17918" y="15816"/>
                </a:lnTo>
                <a:lnTo>
                  <a:pt x="18034" y="15808"/>
                </a:lnTo>
                <a:lnTo>
                  <a:pt x="18132" y="15825"/>
                </a:lnTo>
                <a:lnTo>
                  <a:pt x="18217" y="15840"/>
                </a:lnTo>
                <a:lnTo>
                  <a:pt x="18290" y="15848"/>
                </a:lnTo>
                <a:lnTo>
                  <a:pt x="18380" y="15850"/>
                </a:lnTo>
                <a:lnTo>
                  <a:pt x="18604" y="15855"/>
                </a:lnTo>
                <a:lnTo>
                  <a:pt x="18892" y="15859"/>
                </a:lnTo>
                <a:lnTo>
                  <a:pt x="19075" y="15825"/>
                </a:lnTo>
                <a:lnTo>
                  <a:pt x="19120" y="15816"/>
                </a:lnTo>
                <a:lnTo>
                  <a:pt x="19158" y="15808"/>
                </a:lnTo>
                <a:lnTo>
                  <a:pt x="19199" y="15801"/>
                </a:lnTo>
                <a:lnTo>
                  <a:pt x="19261" y="15791"/>
                </a:lnTo>
                <a:lnTo>
                  <a:pt x="19312" y="15794"/>
                </a:lnTo>
                <a:lnTo>
                  <a:pt x="19372" y="15776"/>
                </a:lnTo>
                <a:lnTo>
                  <a:pt x="19425" y="15760"/>
                </a:lnTo>
                <a:lnTo>
                  <a:pt x="19460" y="15745"/>
                </a:lnTo>
                <a:lnTo>
                  <a:pt x="19496" y="15726"/>
                </a:lnTo>
                <a:lnTo>
                  <a:pt x="19506" y="15721"/>
                </a:lnTo>
                <a:lnTo>
                  <a:pt x="19542" y="15690"/>
                </a:lnTo>
                <a:lnTo>
                  <a:pt x="19571" y="15677"/>
                </a:lnTo>
                <a:lnTo>
                  <a:pt x="19613" y="15659"/>
                </a:lnTo>
                <a:lnTo>
                  <a:pt x="19615" y="15641"/>
                </a:lnTo>
                <a:lnTo>
                  <a:pt x="19645" y="15627"/>
                </a:lnTo>
                <a:lnTo>
                  <a:pt x="19687" y="15607"/>
                </a:lnTo>
                <a:lnTo>
                  <a:pt x="19721" y="15608"/>
                </a:lnTo>
                <a:lnTo>
                  <a:pt x="19769" y="15577"/>
                </a:lnTo>
                <a:lnTo>
                  <a:pt x="19821" y="15543"/>
                </a:lnTo>
                <a:lnTo>
                  <a:pt x="19877" y="15502"/>
                </a:lnTo>
                <a:lnTo>
                  <a:pt x="19918" y="15478"/>
                </a:lnTo>
                <a:lnTo>
                  <a:pt x="19945" y="15462"/>
                </a:lnTo>
                <a:lnTo>
                  <a:pt x="19996" y="15446"/>
                </a:lnTo>
                <a:lnTo>
                  <a:pt x="20017" y="15429"/>
                </a:lnTo>
                <a:lnTo>
                  <a:pt x="20054" y="15399"/>
                </a:lnTo>
                <a:lnTo>
                  <a:pt x="20102" y="15359"/>
                </a:lnTo>
                <a:lnTo>
                  <a:pt x="20141" y="15329"/>
                </a:lnTo>
                <a:lnTo>
                  <a:pt x="20163" y="15312"/>
                </a:lnTo>
                <a:lnTo>
                  <a:pt x="20228" y="15262"/>
                </a:lnTo>
                <a:lnTo>
                  <a:pt x="20265" y="15230"/>
                </a:lnTo>
                <a:lnTo>
                  <a:pt x="20298" y="15201"/>
                </a:lnTo>
                <a:lnTo>
                  <a:pt x="20320" y="15200"/>
                </a:lnTo>
                <a:lnTo>
                  <a:pt x="20340" y="15180"/>
                </a:lnTo>
                <a:lnTo>
                  <a:pt x="20354" y="15166"/>
                </a:lnTo>
                <a:lnTo>
                  <a:pt x="20397" y="15105"/>
                </a:lnTo>
                <a:lnTo>
                  <a:pt x="20414" y="15081"/>
                </a:lnTo>
                <a:lnTo>
                  <a:pt x="20432" y="15057"/>
                </a:lnTo>
                <a:lnTo>
                  <a:pt x="20442" y="15044"/>
                </a:lnTo>
                <a:lnTo>
                  <a:pt x="20464" y="15007"/>
                </a:lnTo>
                <a:lnTo>
                  <a:pt x="20493" y="14959"/>
                </a:lnTo>
                <a:lnTo>
                  <a:pt x="20524" y="14913"/>
                </a:lnTo>
                <a:lnTo>
                  <a:pt x="20538" y="14858"/>
                </a:lnTo>
                <a:lnTo>
                  <a:pt x="20568" y="14741"/>
                </a:lnTo>
                <a:lnTo>
                  <a:pt x="20556" y="14546"/>
                </a:lnTo>
                <a:lnTo>
                  <a:pt x="20563" y="14436"/>
                </a:lnTo>
                <a:lnTo>
                  <a:pt x="20582" y="14152"/>
                </a:lnTo>
                <a:lnTo>
                  <a:pt x="20622" y="13728"/>
                </a:lnTo>
                <a:lnTo>
                  <a:pt x="20538" y="13469"/>
                </a:lnTo>
                <a:lnTo>
                  <a:pt x="20524" y="13425"/>
                </a:lnTo>
                <a:lnTo>
                  <a:pt x="20533" y="13426"/>
                </a:lnTo>
                <a:lnTo>
                  <a:pt x="20513" y="13395"/>
                </a:lnTo>
                <a:lnTo>
                  <a:pt x="20484" y="13351"/>
                </a:lnTo>
                <a:lnTo>
                  <a:pt x="20465" y="13361"/>
                </a:lnTo>
                <a:lnTo>
                  <a:pt x="20439" y="13320"/>
                </a:lnTo>
                <a:lnTo>
                  <a:pt x="20410" y="13274"/>
                </a:lnTo>
                <a:lnTo>
                  <a:pt x="20390" y="13197"/>
                </a:lnTo>
                <a:lnTo>
                  <a:pt x="20365" y="13146"/>
                </a:lnTo>
                <a:lnTo>
                  <a:pt x="20332" y="13081"/>
                </a:lnTo>
                <a:lnTo>
                  <a:pt x="20311" y="13074"/>
                </a:lnTo>
                <a:lnTo>
                  <a:pt x="20265" y="13022"/>
                </a:lnTo>
                <a:lnTo>
                  <a:pt x="20245" y="13000"/>
                </a:lnTo>
                <a:lnTo>
                  <a:pt x="20247" y="12981"/>
                </a:lnTo>
                <a:lnTo>
                  <a:pt x="20216" y="12948"/>
                </a:lnTo>
                <a:lnTo>
                  <a:pt x="20201" y="12932"/>
                </a:lnTo>
                <a:lnTo>
                  <a:pt x="20169" y="12902"/>
                </a:lnTo>
                <a:lnTo>
                  <a:pt x="20141" y="12874"/>
                </a:lnTo>
                <a:lnTo>
                  <a:pt x="20124" y="12857"/>
                </a:lnTo>
                <a:lnTo>
                  <a:pt x="20104" y="12812"/>
                </a:lnTo>
                <a:lnTo>
                  <a:pt x="20092" y="12799"/>
                </a:lnTo>
                <a:lnTo>
                  <a:pt x="20077" y="12782"/>
                </a:lnTo>
                <a:lnTo>
                  <a:pt x="20058" y="12769"/>
                </a:lnTo>
                <a:lnTo>
                  <a:pt x="20042" y="12750"/>
                </a:lnTo>
                <a:lnTo>
                  <a:pt x="20014" y="12718"/>
                </a:lnTo>
                <a:lnTo>
                  <a:pt x="19986" y="12720"/>
                </a:lnTo>
                <a:lnTo>
                  <a:pt x="19968" y="12700"/>
                </a:lnTo>
                <a:lnTo>
                  <a:pt x="19948" y="12678"/>
                </a:lnTo>
                <a:lnTo>
                  <a:pt x="19920" y="12631"/>
                </a:lnTo>
                <a:lnTo>
                  <a:pt x="19893" y="12601"/>
                </a:lnTo>
                <a:lnTo>
                  <a:pt x="19881" y="12588"/>
                </a:lnTo>
                <a:lnTo>
                  <a:pt x="19827" y="12536"/>
                </a:lnTo>
                <a:lnTo>
                  <a:pt x="19819" y="12526"/>
                </a:lnTo>
                <a:lnTo>
                  <a:pt x="19799" y="12502"/>
                </a:lnTo>
                <a:lnTo>
                  <a:pt x="19791" y="12497"/>
                </a:lnTo>
                <a:lnTo>
                  <a:pt x="19769" y="12477"/>
                </a:lnTo>
                <a:lnTo>
                  <a:pt x="19749" y="12458"/>
                </a:lnTo>
                <a:lnTo>
                  <a:pt x="19703" y="12412"/>
                </a:lnTo>
                <a:lnTo>
                  <a:pt x="19695" y="12402"/>
                </a:lnTo>
                <a:lnTo>
                  <a:pt x="19671" y="12370"/>
                </a:lnTo>
                <a:lnTo>
                  <a:pt x="19649" y="12316"/>
                </a:lnTo>
                <a:lnTo>
                  <a:pt x="19621" y="12278"/>
                </a:lnTo>
                <a:lnTo>
                  <a:pt x="19577" y="12219"/>
                </a:lnTo>
                <a:lnTo>
                  <a:pt x="19588" y="12227"/>
                </a:lnTo>
                <a:lnTo>
                  <a:pt x="19546" y="12179"/>
                </a:lnTo>
                <a:lnTo>
                  <a:pt x="19524" y="12153"/>
                </a:lnTo>
                <a:lnTo>
                  <a:pt x="19525" y="12150"/>
                </a:lnTo>
                <a:lnTo>
                  <a:pt x="19496" y="12129"/>
                </a:lnTo>
                <a:lnTo>
                  <a:pt x="19448" y="12095"/>
                </a:lnTo>
                <a:lnTo>
                  <a:pt x="19420" y="12081"/>
                </a:lnTo>
                <a:lnTo>
                  <a:pt x="19372" y="12055"/>
                </a:lnTo>
                <a:lnTo>
                  <a:pt x="19335" y="12035"/>
                </a:lnTo>
                <a:lnTo>
                  <a:pt x="19313" y="12018"/>
                </a:lnTo>
                <a:lnTo>
                  <a:pt x="19273" y="12005"/>
                </a:lnTo>
                <a:lnTo>
                  <a:pt x="19248" y="12005"/>
                </a:lnTo>
                <a:lnTo>
                  <a:pt x="19240" y="12005"/>
                </a:lnTo>
                <a:lnTo>
                  <a:pt x="19224" y="12005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7:28:41Z</dcterms:created>
  <dc:creator>Admin</dc:creator>
  <dc:description/>
  <dc:language>en-US</dc:language>
  <cp:lastModifiedBy>Абросимова Ольга Викторовна</cp:lastModifiedBy>
  <dcterms:modified xsi:type="dcterms:W3CDTF">2011-10-31T17:59:42Z</dcterms:modified>
  <cp:revision>31</cp:revision>
  <dc:subject/>
  <dc:title>Слайд 1</dc:title>
</cp:coreProperties>
</file>