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2FD6-13B2-42B5-95C2-98D257CA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A045-2429-48E7-B43B-A35FC93E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CD2-D6A4-4A25-BD57-B5840FC4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867D-3E56-4FB3-88C8-547EC65D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CBAD-9214-4F9E-943C-FD6FA4D0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40D9-B814-4FFB-81D0-2C5A06A3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53AB-F9A5-4D9D-9EDA-957CC2A1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3310-9541-4E0B-BAA5-DA052908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5717-39CF-4C93-B607-7B4F4AB6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3B15-3C1A-48C2-B33C-CE5875AD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51D6-CD3F-425F-9A3D-8DB4631E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46C-A456-45F2-8639-88E86734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AEE1-C6DD-4B29-931C-2481E52D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2AAA-C46F-48C7-88B4-B51FDC44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F984-FE84-4B11-981B-CF7F583D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5482-9F76-48FB-8D5E-50FB4141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ED92-C0AC-4E82-9C1D-FC7036D2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74A-7E9A-4307-99DC-7DB4D98C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B6A1-259C-4E1F-8D32-99460509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DD5-7089-400B-98AF-FF15C808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A1C-3CDA-4678-8F52-FBE90084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FEE-7451-4639-ACEE-707454C4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85A-341B-4FEF-A5B9-1A4AB5DF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8EB8-8BE6-477D-A0D2-A2FF4EA4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582B-2A54-4358-8234-3651CFCECD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AC83-6817-4A44-96ED-CC30C1A9CF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57600" y="380520"/>
            <a:ext cx="5486400" cy="3581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екомендации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о оформлению документации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едагогических работников ДО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343400"/>
            <a:ext cx="6032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териал подготовлен творческой группой по реализации ФГТ ООП ДО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Протоколы педагогических советов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Диагностические материалы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Учёт поступления и выдачи методической литературы и пособий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Документация воспитателя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абель посещаемост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тренний фильтр детей (в группах раннего возраста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ведения о детях и их родителя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дети"/>
          <p:cNvPicPr/>
          <p:nvPr/>
        </p:nvPicPr>
        <p:blipFill>
          <a:blip r:embed="rId1"/>
          <a:stretch/>
        </p:blipFill>
        <p:spPr>
          <a:xfrm>
            <a:off x="5410080" y="4114800"/>
            <a:ext cx="1935360" cy="259092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Дневник группы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спитатели:_______________   __________________________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.Список детей (в виде таблицы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ФИ ребё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нтропометрические данные (на начало и конец год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аркировка меб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руппа здоровь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собенности здоровь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.Система закаливания дет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.Модель и режим двигательной актив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.Схема посадки детей за стол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.Деление детей на подгрупп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.Режим дня на холодный и тёплый период времени го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.Планирование воспитательно-образовательной работ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алендарь событий группы (на год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омплексно-тематический план образовательной деятельности на г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лан работы на ------ меся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мплексы утренней гимнасти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заимодействие с семьями воспитанни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аздники и развлеч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лан непосредственно образовательной деятельности (сетка НОД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мплексно-тематический план психолого-педагогической работы на месяц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омплексно-тематический план психолого-педагогической работы на месяц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25142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рок реализации тем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вание итогового мероприятия (события, праздника и т.п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Форма итогового мероприятия (праздник, выставка, коллаж, акция и  т.п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та проведения итогового    мероприят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72"/>
          <p:cNvSpPr/>
          <p:nvPr/>
        </p:nvSpPr>
        <p:spPr>
          <a:xfrm>
            <a:off x="3119400" y="2751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0"/>
          <a:ext cx="9144000" cy="7380360"/>
        </p:xfrm>
        <a:graphic>
          <a:graphicData uri="http://schemas.openxmlformats.org/drawingml/2006/table">
            <a:tbl>
              <a:tblPr/>
              <a:tblGrid>
                <a:gridCol w="606600"/>
                <a:gridCol w="1415880"/>
                <a:gridCol w="1238400"/>
                <a:gridCol w="928440"/>
                <a:gridCol w="1444680"/>
                <a:gridCol w="995400"/>
                <a:gridCol w="1120680"/>
                <a:gridCol w="1393920"/>
              </a:tblGrid>
              <a:tr h="314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День не-де-ли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Да-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ланиру-емые результа-ты развития интегра-тивных каче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Содержание совместной деятельности взрослого и детей (организованной образовательной деятельности)  с учётом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  <a:ea typeface="Times New Roman"/>
                        </a:rPr>
                        <a:t>интеграции образовательных областей и разных видов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Орга-низация разви-ваю-щей среды, мате-риаль-но-техни-ческое осна-щение проек-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Взаимо-дей-ствие с родите-лями, соци-альны-ми парт-нёр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римеча-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Непосредствен-но образовательн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Образова-тельная деятель-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в режимных момент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Группо-вая, подгруп-п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Инди-ви-ду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Ситуатив.беседы,дни рожден.,особые события и 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8.Диагностические таблицы уровня развития интегративных качеств дошкольников и освоения ООП ДО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Желаем успеха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маг"/>
          <p:cNvPicPr/>
          <p:nvPr/>
        </p:nvPicPr>
        <p:blipFill>
          <a:blip r:embed="rId1"/>
          <a:stretch/>
        </p:blipFill>
        <p:spPr>
          <a:xfrm>
            <a:off x="2819520" y="2057400"/>
            <a:ext cx="4343400" cy="434340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5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Перечень педагогической документации делится на два блока: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6960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бщая педагогическая документация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окументация педагого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Педагогическая документац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ограмма развит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бразовательная программа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Годовой план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Документация педагогов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кументация старшего воспитател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кументация воспитател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кументация специалис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4" descr="книги"/>
          <p:cNvPicPr/>
          <p:nvPr/>
        </p:nvPicPr>
        <p:blipFill>
          <a:blip r:embed="rId1"/>
          <a:stretch/>
        </p:blipFill>
        <p:spPr>
          <a:xfrm>
            <a:off x="4648320" y="4270320"/>
            <a:ext cx="2882880" cy="237816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687060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Документация старшего воспитателя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Сведения о педагогических кадрах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ИО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ата рождени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олж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разование (полностью прописывается образовательное учреждение, год окончания)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пециальность по диплому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валификационная категори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ата присвоения (число, месяц, год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град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омашний адре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2.Документация по аттестации и повышению квалификации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лан и график повышения квалифик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нк профессиональных потребностей или заявки на курсовую подготовк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тчёт о курсовой подготовк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чётные карточки педагого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3.План работы старшего воспитател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личные формы работы с педагогами, самообразование, аттестация и повышение квалификации педагог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заимодействие с родителями, школой и другими организация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нащение методического кабине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общение и внедрение передового опы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бота с молодыми специалистами, наставничество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нтроль за осуществлением воспитательно-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новационная и экспериментальная     деятельность учрежден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4.Документы по видам контроля: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 циклограмма контрольно-диагностической деятельност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 по итогам контрол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формляются результаты контроля: выводы, решения, рекомендац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водятся заседания педагогических и методических советов, производственные совещания, рабочие совещания с педагогическим составо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деланные замечания и предложения фиксируются в документации согласно номенклатуре дел данного образовательного учреждения.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5.Тетрадь регистрации форм методической работы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ней необходимо указывать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ату проведения методического мероприят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го название и тематику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.И.О. ответственного и Ф.И.О. участников данного мероприят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06T18:43:0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