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9C9-63BC-4F08-8B4A-BBB6634C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8CF-6815-4C70-A603-F15A945C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F75-315B-432F-9EBD-787F656C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D33-5637-4384-BF00-565C61A9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92AF-BF10-4F2B-9CB8-E273FCF9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8BF2-968A-4D4B-9A41-CED58AC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6501-2D38-4583-A2CC-071BED9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5A23-E41A-448C-8D72-DF586A7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53F0-0E60-49CF-A7AE-CE6C7435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5334-83CA-440B-A852-B0EE1A12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9EB4-6B2B-4802-8DC4-DE997A8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38A-B277-4462-9DF6-B334E98D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67A1-4F9E-4192-B6B1-6F5C27F1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4E01-C507-43F8-9632-AD8D68A9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E7CF-7417-4A86-9490-3A21FD2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3902-CFF2-4C34-B194-D5F808EB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3EF3-4453-4E54-863D-6506BE5E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314-B4B5-416C-BFBC-283D3A4A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A2F-7649-4943-87D1-FB2A6FA3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E5D-BCDD-4126-89B5-5747E8CE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018-7727-426F-85A2-6C300DA2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B56-505C-4EB8-98A8-9AD5034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7C7-3C85-4463-9D53-A7902D5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489-B87C-4F41-B701-28A43DC1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98FA-245A-46F3-B6DC-C24C83B159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1B77-EBCF-4EDD-8E8E-E9BB753FA1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7600" y="380520"/>
            <a:ext cx="5486400" cy="3581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 оформлению документаци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едагогических работников ДО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343400"/>
            <a:ext cx="6032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териал подготовлен творческой группой по реализации ФГТ ООП ДО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Протоколы педагогических советов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Диагностические материалы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Учёт поступления и выдачи методической литературы и пособий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воспитателя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абель посещаемост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тренний фильтр детей (в группах раннего возраста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ведения о детях и их родителя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дети"/>
          <p:cNvPicPr/>
          <p:nvPr/>
        </p:nvPicPr>
        <p:blipFill>
          <a:blip r:embed="rId1"/>
          <a:stretch/>
        </p:blipFill>
        <p:spPr>
          <a:xfrm>
            <a:off x="5410080" y="4114800"/>
            <a:ext cx="1935360" cy="259092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Дневник групп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и:_______________   __________________________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.Список детей (в виде таблицы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 ребё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нтропометрические данные (на начало и конец год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аркировка меб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руппа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собенности здоровь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.Система закаливания дет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.Модель и режим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.Схема посадки детей за стол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.Деление детей на подгрупп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.Режим дня на холодный и тёплый период времени г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.Планирование воспитательно-образовательной работ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алендарь событий группы (на год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образовательной деятельности на г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лан работы на ------ меся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ы утренней гимнасти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заимодействие с семьями воспитанни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здники и развлеч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лан непосредственно образовательной деятельности (сетка НОД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омплексно-тематический план психолого-педагогической работы на месяц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рок реализации тем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вание итогового мероприятия (события, праздника и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Форма итогового мероприятия (праздник, выставка, коллаж, акция и  т.п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ата проведения итогового    мероприят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72"/>
          <p:cNvSpPr/>
          <p:nvPr/>
        </p:nvSpPr>
        <p:spPr>
          <a:xfrm>
            <a:off x="3119400" y="2751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7380360"/>
        </p:xfrm>
        <a:graphic>
          <a:graphicData uri="http://schemas.openxmlformats.org/drawingml/2006/table">
            <a:tbl>
              <a:tblPr/>
              <a:tblGrid>
                <a:gridCol w="606600"/>
                <a:gridCol w="1415880"/>
                <a:gridCol w="1238400"/>
                <a:gridCol w="928440"/>
                <a:gridCol w="1444680"/>
                <a:gridCol w="995400"/>
                <a:gridCol w="1120680"/>
                <a:gridCol w="1393920"/>
              </a:tblGrid>
              <a:tr h="314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ень не-де-л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а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ланиру-емые результа-ты развития интегра-тивных качест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одержание совместной деятельности взрослого и детей (организованной образовательной деятельности)  с учётом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 Antiqua"/>
                          <a:ea typeface="Times New Roman"/>
                        </a:rPr>
                        <a:t>интеграции образовательных областей и разных видов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рга-низация разви-ваю-щей среды, мате-риаль-но-техни-ческое осна-щение проек-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заимо-дей-ствие с родите-лями, соци-альны-ми парт-нё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имеча-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епосредствен-но образовательная деяте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Образова-тельная деятель-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в режимных момент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руппо-вая, подгруп-п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нди-ви-ду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Ситуатив.беседы,дни рожден.,особые события и 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.Диагностические таблицы уровня развития интегративных качеств дошкольников и освоения ООП ДО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dff"/>
                </a:solidFill>
                <a:latin typeface="Comic Sans MS"/>
              </a:rPr>
              <a:t>Желаем успеха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маг"/>
          <p:cNvPicPr/>
          <p:nvPr/>
        </p:nvPicPr>
        <p:blipFill>
          <a:blip r:embed="rId1"/>
          <a:stretch/>
        </p:blipFill>
        <p:spPr>
          <a:xfrm>
            <a:off x="2819520" y="2057400"/>
            <a:ext cx="4343400" cy="434340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50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речень педагогической документации делится на два блока: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щая педагогическая документация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кументация педагого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едагогическая документа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грамма развит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разовательная программа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одовой пла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педагогов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таршего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воспитател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окументация специали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4" descr="книги"/>
          <p:cNvPicPr/>
          <p:nvPr/>
        </p:nvPicPr>
        <p:blipFill>
          <a:blip r:embed="rId1"/>
          <a:stretch/>
        </p:blipFill>
        <p:spPr>
          <a:xfrm>
            <a:off x="4648320" y="4270320"/>
            <a:ext cx="2882880" cy="2378160"/>
          </a:xfrm>
          <a:prstGeom prst="rect">
            <a:avLst/>
          </a:prstGeom>
          <a:ln w="38160">
            <a:solidFill>
              <a:srgbClr val="ffb8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Документация старшего воспитателя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mic Sans MS"/>
              </a:rPr>
              <a:t>Сведения о педагогических кадра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И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рожден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лж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зование (полностью прописывается образовательное учреждение, год окончания)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ециальность по дипл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валификационная категори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ата присвоения (число, месяц, год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град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омашний адре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2.Документация по аттестации и повышению квалификации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 и график повышения квалифик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нк профессиональных потребностей или заявки на курсовую подготовк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тчёт о курсовой подготовк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чётные карточки педагог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3.План работы старшего воспитател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личные формы работы с педагогами, самообразование, аттестация и повышение квалификации педагогов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заимодействие с родителями, школой и другими организациям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нащение методического кабине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общение и внедрение передового опы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бота с молодыми специалистами, наставничество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троль за осуществлением воспитательно-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новационная и экспериментальная     деятельность учрежд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omic Sans MS"/>
              </a:rPr>
              <a:t>4.Документы по видам контроля: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 циклограмма контрольно-диагност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 по итогам контрол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формляются результаты контроля: выводы, решения, рекомендаци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одятся заседания педагогических и методических советов, производственные совещания, рабочие совещания с педагогическим составом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деланные замечания и предложения фиксируются в документации согласно номенклатуре дел данного образовательного учреждения.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5.Тетрадь регистрации форм методической работы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ней необходимо указыват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ату проведения методического мероприятия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го название и тематику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.И.О. ответственного и Ф.И.О. участников данного мероприят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6T18:43:0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