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4798-BB6F-4B75-8C20-502D24A5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EC0B-22D9-4C73-A87D-97538183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3726-580A-434C-8815-95D60BF9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70A-F33D-4B07-87A6-BB0007BE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D96-1686-447F-9132-FCAC16D57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9788-A496-482F-B499-D723B1AE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D355-054C-4E88-BC27-AB19025D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4F96-71C2-4BAF-A542-61A821DA6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B49E-40F9-4438-9549-46F85E49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0D61-7CAE-446A-819E-D8F8409AF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88A3-FE7E-440C-8D65-8C2A88F7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120C-3220-4A07-88CA-2E8D9ECA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BE63-6628-43DF-9A1B-025EF72E3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304920"/>
            <a:ext cx="86108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If you don’t know where you’re going you’ll probably end up   somewhere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ffff"/>
                </a:solidFill>
                <a:latin typeface="Arial Black"/>
              </a:rPr>
              <a:t>els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68400"/>
            <a:ext cx="9144000" cy="6994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3720" y="556560"/>
            <a:ext cx="9000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believe that appearance is the most important thing in the wor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5880" y="1340640"/>
            <a:ext cx="6896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think there are any advantages of being you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4800" y="2133000"/>
            <a:ext cx="76575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know what makes English the international languag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7360" y="2923560"/>
            <a:ext cx="68832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know why we are so excited about the intern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8600" y="3715560"/>
            <a:ext cx="5327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think there is the future for book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8960" y="4365000"/>
            <a:ext cx="6683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understand why people go in extreme spor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" y="5012640"/>
            <a:ext cx="49737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you believe in national stereotyp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3160" y="1228320"/>
            <a:ext cx="8082720" cy="40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Do you know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Arial"/>
              </a:rPr>
              <a:t>what you know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86360" y="0"/>
            <a:ext cx="5057640" cy="6657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0" y="1663920"/>
            <a:ext cx="4199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don’t know where Timbuktu 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don’t know where the garbage go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don’t know where babies come fr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 don’t know where I’m going 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9144000" cy="68227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77080" y="1699560"/>
            <a:ext cx="566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Timbukt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20" y="5692680"/>
            <a:ext cx="9143280" cy="11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2280" bIns="381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The Legendary City of Timbuktu in Mali, 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46920" y="5012280"/>
            <a:ext cx="379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arbage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86728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871600" y="1627920"/>
            <a:ext cx="326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abbag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932360" cy="6264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768920" y="76680"/>
            <a:ext cx="4375080" cy="48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o you know where Timbuktu 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o you know where the garb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g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o you know where babies 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Do you know where you’re go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6520" y="262800"/>
            <a:ext cx="7392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Where the heart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Where is baby’s  belly bu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Where land meets s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 Where does the garbage 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 Where are your blue kangaro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 Where the wild things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  Where dreams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 Where do babies come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  Where did I leave my gla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Where Willy w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20:10Z</dcterms:created>
  <dc:creator>Надя</dc:creator>
  <dc:description/>
  <dc:language>en-US</dc:language>
  <cp:lastModifiedBy>Надя</cp:lastModifiedBy>
  <dcterms:modified xsi:type="dcterms:W3CDTF">2010-04-26T06:31:39Z</dcterms:modified>
  <cp:revision>8</cp:revision>
  <dc:subject/>
  <dc:title>Слайд 1</dc:title>
</cp:coreProperties>
</file>