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39D7-2854-45F6-8FC7-02C2F0E5B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789A-E3F7-4E5E-B832-E25D18556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1138-8AD3-4FED-AAE4-B7DD30674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B322-85C6-47AE-80CF-D9167EF3F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FB97-749A-4B56-9C1B-DBF4723CB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7671-677A-403F-A760-2AEA7E719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A53A-B3B4-43CE-A2EB-85C267ECA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D9FE-54A3-437F-84C3-0B8532C30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3C8B-FFE1-4C17-994A-393FBD27B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6A75-5C5B-470C-A0C3-52DB1E638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4C5B-ECEF-4CEA-9AEC-F35FDFD5F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78B3-6B65-43D0-9AC0-0364EB5E7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1308D-9236-4879-8539-A2325FE58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0880" y="304920"/>
            <a:ext cx="86108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 Black"/>
              </a:rPr>
              <a:t>If you don’t know where you’re going you’ll probably end up   somewhere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 Black"/>
              </a:rPr>
              <a:t>                                              </a:t>
            </a:r>
            <a:r>
              <a:rPr b="0" lang="en-US" sz="3200" spc="-1" strike="noStrike">
                <a:solidFill>
                  <a:srgbClr val="00ffff"/>
                </a:solidFill>
                <a:latin typeface="Arial Black"/>
              </a:rPr>
              <a:t>els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-68400"/>
            <a:ext cx="9144000" cy="6994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53720" y="556560"/>
            <a:ext cx="9000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 you believe that appearance is the most important thing in the worl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5880" y="1340640"/>
            <a:ext cx="6896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 you think there are any advantages of being you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4800" y="2133000"/>
            <a:ext cx="76575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 you know what makes English the international languag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7360" y="2923560"/>
            <a:ext cx="68832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 you know why we are so excited about the intern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8600" y="3715560"/>
            <a:ext cx="5327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 you think there is the future for book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8960" y="4365000"/>
            <a:ext cx="66837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 you understand why people go in extreme spor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0040" y="5012640"/>
            <a:ext cx="49737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 you believe in national stereotyp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63160" y="1228320"/>
            <a:ext cx="808272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Do you know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what you know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086360" y="0"/>
            <a:ext cx="5057640" cy="6657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1663920"/>
            <a:ext cx="41990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 don’t know where Timbuktu 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 don’t know where the garbage go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 don’t know where babies come fr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 don’t know where I’m going 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227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477080" y="1699560"/>
            <a:ext cx="5667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Timbukt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20" y="5692680"/>
            <a:ext cx="9143280" cy="11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2280" bIns="381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e Legendary City of Timbuktu in Mali, Af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146920" y="5012280"/>
            <a:ext cx="379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garbage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86728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871600" y="1627920"/>
            <a:ext cx="3269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abbag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4932360" cy="6264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768920" y="76680"/>
            <a:ext cx="4375080" cy="48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o you know where Timbuktu i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o you know where the garba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go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o you know where babies 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r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o you know where you’re go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26520" y="262800"/>
            <a:ext cx="73922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Where the heart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Where is baby’s  belly but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 Where land meets s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  Where does the garbage 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.  Where are your blue kangaro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.  Where the wild things 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.  Where dreams be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.  Where do babies come fr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9.  Where did I leave my g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. Where Willy w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8T16:20:10Z</dcterms:created>
  <dc:creator>Надя</dc:creator>
  <dc:description/>
  <dc:language>en-US</dc:language>
  <cp:lastModifiedBy>Надя</cp:lastModifiedBy>
  <dcterms:modified xsi:type="dcterms:W3CDTF">2010-04-26T06:31:39Z</dcterms:modified>
  <cp:revision>8</cp:revision>
  <dc:subject/>
  <dc:title>Слайд 1</dc:title>
</cp:coreProperties>
</file>