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3A2-0243-4F92-B44D-DAB87138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79F-85AC-4436-AC8D-EB8FD27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F9D-A37A-4573-8FE7-46527133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CDE-B9BB-4914-B0A5-8A4FAAE9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AA5-6515-49B3-AD82-C3131D12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3F0-AB79-4775-9CDA-A48F5678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4857-3E96-47FA-B677-14E5D346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8641-90DF-4059-AF71-1D00387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B54-7593-4452-AD34-6EB3F681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CADB-B752-4E60-BF77-988740AC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D045-1E62-4E4D-B5A2-3C81A96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E72-0BD0-42A2-9268-043B1FA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E4B-57CB-43F3-9C9F-6DF4DF2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4D26-4704-4D43-95A2-A30A8CDA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4A1-F33C-487A-9A12-F7FBC74C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E81C-34E0-4E34-B816-C31F67A0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1CF2-873A-4F91-B682-54BDF54E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F4FC-B0C8-4295-91CB-21C16175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3448-0FBB-4698-8995-EEF7D3B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E0B6-C925-4863-A7CB-62931696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3A80-5263-4CE1-963C-80D5E5BE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DF5C-3FD4-48A1-9049-4B0A148F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1D1-F4C6-4832-984D-64BDB48C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9FE9-7C63-46CC-8D67-03ADF1E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2DBD-9D92-4ED2-974E-C9F4999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B383-AE00-4F62-A999-40CCE18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0180-06C0-466C-896C-7C8B3AB3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7A00-C529-4F37-851C-F3889C2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ADEE-C708-467A-AFAD-B5E5AF9B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5EF0-16E7-43E7-B215-C52B03B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823A-0FF0-4013-8111-F477E498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B7D8-6ECF-4664-8B23-4EA6782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676E-6896-4F5E-9E6E-81E2DFD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E8D-0944-4EDA-B9EF-1FAFB10E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F53B-1D36-4F8A-9403-0C2E68E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232C-C7E7-41BA-AEBB-33D7DA5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D1C7-6FC6-40A1-80E7-A7E128A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17EC-3211-4F98-9E0A-E3867EF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3EED-B107-49F4-9C1C-6D6DCD9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9D99-B14D-4364-A968-39E7304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98C2-6975-4A4D-AE34-D13144B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EAA2-BB72-4A3B-BCC4-301290DC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7B42-E158-4CFB-B1B8-6F84C3FB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29F-6348-4B3E-BEFD-49D6A19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782-656E-4FF5-91A3-08DA533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12F-912D-44E6-88E5-5CD3314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792-9CDD-47B1-99F1-E650DCD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732-52F2-40C0-B4CA-6B40BF1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B060-E44F-4AFB-B7EB-3AC8BECB01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C4CC-61EC-4875-8A94-6C03E02DCF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00B-25CF-4120-A408-9D34BDB65A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C00-BBAB-4078-8FA0-DCC3B4DDFD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еханизмы и причины развит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743040" y="2054160"/>
            <a:ext cx="3732120" cy="1517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94320" y="731520"/>
            <a:ext cx="4016160" cy="4894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Овал 4"/>
          <p:cNvSpPr/>
          <p:nvPr/>
        </p:nvSpPr>
        <p:spPr>
          <a:xfrm>
            <a:off x="3565440" y="333360"/>
            <a:ext cx="3024360" cy="1440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сшибка» нервных  процесс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Овал 5"/>
          <p:cNvSpPr/>
          <p:nvPr/>
        </p:nvSpPr>
        <p:spPr>
          <a:xfrm>
            <a:off x="5364000" y="2349360"/>
            <a:ext cx="2808360" cy="165600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ертный ти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050920" y="40892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крепляются рефлексы, не любят менять друзей, привязанности, трудности с адаптаци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2411280" y="5373720"/>
            <a:ext cx="41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обходимы новые впечатле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В современных условиях развития образования и внедрения ФГОС, все больше возрастает ответственность родителей за психическое здоровье дете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качестве предварительной работы предлагаю провести изучение типов семейного воспитания на основе методики Миниярова “Стили семейного воспитания”. Родителям предлагается выполнить данный тест в домашних условия или на родительском собрании, как результат работы  психолог представляет полученные данные  в график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56000" y="62028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Невроз – психогенное (конфликтогенное) нервно-психическое расстройство личности вследствие неразрешенных/неразрешаемых внутри и межличностных конфликтов и проявляющееся симптомами невротического регистра реагирования при отсутствии психотических симптом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(Карвасарский Б.Д.,1980, 1985; Эйдемиллер Э.Г.,200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68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3"/>
          <p:cNvSpPr/>
          <p:nvPr/>
        </p:nvSpPr>
        <p:spPr>
          <a:xfrm>
            <a:off x="1692360" y="3598920"/>
            <a:ext cx="2592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b5"/>
              </a:gs>
              <a:gs pos="100000">
                <a:srgbClr val="abe87b"/>
              </a:gs>
            </a:gsLst>
            <a:lin ang="5400000"/>
          </a:gradFill>
          <a:ln w="9360">
            <a:solidFill>
              <a:srgbClr val="a7ea5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з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611280" y="692280"/>
            <a:ext cx="2376360" cy="151272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тер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Овал 5"/>
          <p:cNvSpPr/>
          <p:nvPr/>
        </p:nvSpPr>
        <p:spPr>
          <a:xfrm>
            <a:off x="3635280" y="782640"/>
            <a:ext cx="2308320" cy="1332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з навязчивых состоян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Овал 6"/>
          <p:cNvSpPr/>
          <p:nvPr/>
        </p:nvSpPr>
        <p:spPr>
          <a:xfrm>
            <a:off x="6372360" y="907920"/>
            <a:ext cx="2232000" cy="129708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ст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кругленный прямоугольник 8"/>
          <p:cNvSpPr/>
          <p:nvPr/>
        </p:nvSpPr>
        <p:spPr>
          <a:xfrm>
            <a:off x="4565520" y="4175280"/>
            <a:ext cx="231012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Скругленный прямоугольник 9"/>
          <p:cNvSpPr/>
          <p:nvPr/>
        </p:nvSpPr>
        <p:spPr>
          <a:xfrm>
            <a:off x="7137360" y="4175280"/>
            <a:ext cx="18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Прямая со стрелкой 11" descr=""/>
          <p:cNvPicPr/>
          <p:nvPr/>
        </p:nvPicPr>
        <p:blipFill>
          <a:blip r:embed="rId1"/>
          <a:stretch/>
        </p:blipFill>
        <p:spPr>
          <a:xfrm>
            <a:off x="1523880" y="2060640"/>
            <a:ext cx="1530360" cy="162720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2919240" y="1968480"/>
            <a:ext cx="1676520" cy="1719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ая со стрелкой 16" descr=""/>
          <p:cNvPicPr/>
          <p:nvPr/>
        </p:nvPicPr>
        <p:blipFill>
          <a:blip r:embed="rId3"/>
          <a:stretch/>
        </p:blipFill>
        <p:spPr>
          <a:xfrm>
            <a:off x="2925720" y="2060640"/>
            <a:ext cx="4730760" cy="1627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ая со стрелкой 18" descr=""/>
          <p:cNvPicPr/>
          <p:nvPr/>
        </p:nvPicPr>
        <p:blipFill>
          <a:blip r:embed="rId4"/>
          <a:stretch/>
        </p:blipFill>
        <p:spPr>
          <a:xfrm>
            <a:off x="5546880" y="2163600"/>
            <a:ext cx="2006280" cy="22068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ая со стрелкой 20" descr=""/>
          <p:cNvPicPr/>
          <p:nvPr/>
        </p:nvPicPr>
        <p:blipFill>
          <a:blip r:embed="rId5"/>
          <a:stretch/>
        </p:blipFill>
        <p:spPr>
          <a:xfrm>
            <a:off x="7418520" y="2170080"/>
            <a:ext cx="787320" cy="220032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21" descr=""/>
          <p:cNvPicPr/>
          <p:nvPr/>
        </p:nvPicPr>
        <p:blipFill>
          <a:blip r:embed="rId6"/>
          <a:stretch/>
        </p:blipFill>
        <p:spPr>
          <a:xfrm>
            <a:off x="1712880" y="5389560"/>
            <a:ext cx="5705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вал 1"/>
          <p:cNvSpPr/>
          <p:nvPr/>
        </p:nvSpPr>
        <p:spPr>
          <a:xfrm>
            <a:off x="611280" y="692280"/>
            <a:ext cx="2867040" cy="201600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стер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0" r="31992" b="0"/>
          <a:stretch/>
        </p:blipFill>
        <p:spPr>
          <a:xfrm>
            <a:off x="611280" y="2959200"/>
            <a:ext cx="2867040" cy="2917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ащитная реакция организма, независимо от воли челове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явления: параличи, запоры, судороги, глухот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к действовать: спокойно выполнять просьбу ребенка; не доводить до истери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 оказывать внимания и нежности к истерическим проявления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958840"/>
            <a:ext cx="3070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11280" y="2420640"/>
            <a:ext cx="475272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вязчивые страхи, движения, тики, «шмыгание носом», облизывание губ и т.д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движение голово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Овал 4"/>
          <p:cNvSpPr/>
          <p:nvPr/>
        </p:nvSpPr>
        <p:spPr>
          <a:xfrm>
            <a:off x="826920" y="620640"/>
            <a:ext cx="2737080" cy="1656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вроз навязчивых состоя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651640" y="171360"/>
            <a:ext cx="31431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вышенная возбудимость, вспыльчивость, упрямство, плохой со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лаксивость, боязливость, повышенная утомляемость, (пугают родители распадом семь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881080" cy="176364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6"/>
          <p:cNvSpPr/>
          <p:nvPr/>
        </p:nvSpPr>
        <p:spPr>
          <a:xfrm>
            <a:off x="4710240" y="189000"/>
            <a:ext cx="23097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7020000" y="5229360"/>
            <a:ext cx="1908000" cy="9936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4797360" y="907920"/>
            <a:ext cx="1238400" cy="95724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7242120" y="3968640"/>
            <a:ext cx="9018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731520"/>
            <a:ext cx="4016160" cy="4894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Прямоугольник 4" descr=""/>
          <p:cNvPicPr/>
          <p:nvPr/>
        </p:nvPicPr>
        <p:blipFill>
          <a:blip r:embed="rId2"/>
          <a:stretch/>
        </p:blipFill>
        <p:spPr>
          <a:xfrm>
            <a:off x="1096920" y="5529240"/>
            <a:ext cx="6950160" cy="1603440"/>
          </a:xfrm>
          <a:prstGeom prst="rect">
            <a:avLst/>
          </a:prstGeom>
          <a:ln w="0">
            <a:noFill/>
          </a:ln>
        </p:spPr>
      </p:pic>
      <p:sp>
        <p:nvSpPr>
          <p:cNvPr id="255" name="Овал 5"/>
          <p:cNvSpPr/>
          <p:nvPr/>
        </p:nvSpPr>
        <p:spPr>
          <a:xfrm>
            <a:off x="468360" y="620640"/>
            <a:ext cx="3024000" cy="1656000"/>
          </a:xfrm>
          <a:prstGeom prst="ellipse">
            <a:avLst/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грузка процессов возбужд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Овал 6"/>
          <p:cNvSpPr/>
          <p:nvPr/>
        </p:nvSpPr>
        <p:spPr>
          <a:xfrm>
            <a:off x="611280" y="3068640"/>
            <a:ext cx="2881080" cy="13683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лабый ти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(дети плачут, внушаемы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Прямая со стрелкой 8" descr=""/>
          <p:cNvPicPr/>
          <p:nvPr/>
        </p:nvPicPr>
        <p:blipFill>
          <a:blip r:embed="rId3"/>
          <a:stretch/>
        </p:blipFill>
        <p:spPr>
          <a:xfrm>
            <a:off x="1371600" y="4406760"/>
            <a:ext cx="341280" cy="798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90000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учать преодолевать труд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Овал 10"/>
          <p:cNvSpPr/>
          <p:nvPr/>
        </p:nvSpPr>
        <p:spPr>
          <a:xfrm>
            <a:off x="5580000" y="620640"/>
            <a:ext cx="2808360" cy="1513080"/>
          </a:xfrm>
          <a:prstGeom prst="ellipse">
            <a:avLst/>
          </a:prstGeom>
          <a:gradFill rotWithShape="0">
            <a:gsLst>
              <a:gs pos="0">
                <a:srgbClr val="d1f8b5"/>
              </a:gs>
              <a:gs pos="100000">
                <a:srgbClr val="abe87b"/>
              </a:gs>
            </a:gsLst>
            <a:lin ang="5400000"/>
          </a:gradFill>
          <a:ln w="9360">
            <a:solidFill>
              <a:srgbClr val="a7ea5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грузка процессов тормож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0" name="Овал 11"/>
          <p:cNvGrpSpPr/>
          <p:nvPr/>
        </p:nvGrpSpPr>
        <p:grpSpPr>
          <a:xfrm>
            <a:off x="5516640" y="3029040"/>
            <a:ext cx="2786040" cy="1493640"/>
            <a:chOff x="5516640" y="3029040"/>
            <a:chExt cx="2786040" cy="1493640"/>
          </a:xfrm>
        </p:grpSpPr>
        <p:pic>
          <p:nvPicPr>
            <p:cNvPr id="261" name="Овал 11" descr=""/>
            <p:cNvPicPr/>
            <p:nvPr/>
          </p:nvPicPr>
          <p:blipFill>
            <a:blip r:embed="rId4"/>
            <a:stretch/>
          </p:blipFill>
          <p:spPr>
            <a:xfrm>
              <a:off x="5516640" y="3029040"/>
              <a:ext cx="27860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70600" y="3268800"/>
              <a:ext cx="18842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rebuchet MS"/>
                </a:rPr>
                <a:t>Неуравновешенный тип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3" name="TextBox 13"/>
          <p:cNvSpPr/>
          <p:nvPr/>
        </p:nvSpPr>
        <p:spPr>
          <a:xfrm>
            <a:off x="5148360" y="486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же запрещать, не категорично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20:24Z</dcterms:created>
  <dc:creator>Пользователь Windows</dc:creator>
  <dc:description/>
  <dc:language>en-US</dc:language>
  <cp:lastModifiedBy>Марина</cp:lastModifiedBy>
  <dcterms:modified xsi:type="dcterms:W3CDTF">2012-10-07T05:24:38Z</dcterms:modified>
  <cp:revision>17</cp:revision>
  <dc:subject/>
  <dc:title>Детский невроз</dc:title>
</cp:coreProperties>
</file>