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CC1-8ED5-4D0E-85CD-BF8B1B07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D43-92A4-453F-8009-10EF21F2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022-04D0-47DE-813F-11EEE71F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51A-6D66-42A5-B17D-062076EC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9605-39FC-4FA5-9A12-3D34956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A187-E625-47A1-9FD1-646619A5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FE09-B592-4094-A6F2-AA5D4FF8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D52-2BFA-42F0-9C16-44DFB56D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B66D-F28E-448A-8AC0-407882A6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B462-E224-445F-A60E-1E352D41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B6D-2729-41C4-93CC-8A2AA078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F71-F10C-41BA-B81A-B09A2C32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0758-68BB-48DD-8B2B-D50586CA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0A0-019C-45D3-A6C9-72D3427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CA73-B841-4F72-968D-722CD4D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5071-B667-4454-B6BA-6043DCF6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039-8E0E-4B6C-A117-969BDF78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3C90-0843-4D98-92B9-01706BA8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B7502-42E7-4EDF-AA92-7A3746A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1176A-B415-4030-9BE8-E2FE47E7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C667E-559B-4295-9791-CE4624C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E990-45AD-46A7-A509-882D6E8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475-1C84-4724-B111-5736162E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BA19A-FD7B-451E-88A4-13361FD4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63D3-D240-41E2-8B76-7EF5BC2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F0E6-8CD2-4974-8D92-96A652E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1C31-3B33-43C9-80CC-5EF53942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8380-D455-42A8-B3C8-04C1596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FAE7-5685-4D66-B7C4-B1984696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D7EFB-BBBC-420A-849C-89D457D6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5702-478D-487B-9799-FD4FC7CA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7DBF-E06E-4BCD-9047-BD9D0B94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A37B-1295-4260-AE98-6B574BB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95D-80B6-4496-AE6E-DC4C0197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ADD94-FE9C-4F9C-BBC6-562C63C4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C6BE6-869E-4C3D-8E9D-694D2E08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E21E-20B3-494A-80FF-57D4F992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2B25A-0904-479F-BA67-EE1B5B0F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7943-922D-469A-A3C0-62442E7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95881-6212-4608-B10B-25CFE5DA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9A49D-A08D-430D-B57E-3D78EADF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61243-E48C-468D-B5A8-AED24DBF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3CBF-12B3-403D-A98E-30A3C1B1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B81-C753-4E43-915B-F075B32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590-B344-4D40-B466-06944806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054-ACE9-4A15-99BA-BDBACCF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5B4-D9F5-4DDC-9170-36A1D8E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BFC-8DE5-4F0B-BD06-2B54AB0E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9546-D048-4C4A-9E62-AFF5ED8CADF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DF2-894F-4291-B307-0AF9821386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40C2-ED78-480E-9787-9919F1F5DFF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439-16BB-4C00-A87D-E926D1ECE2B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Механизмы и причины развит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85720" y="2786040"/>
            <a:ext cx="740592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743040" y="2054160"/>
            <a:ext cx="3732120" cy="1517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94320" y="731520"/>
            <a:ext cx="4016160" cy="48942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Овал 4"/>
          <p:cNvSpPr/>
          <p:nvPr/>
        </p:nvSpPr>
        <p:spPr>
          <a:xfrm>
            <a:off x="3565440" y="333360"/>
            <a:ext cx="3024360" cy="1440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«сшибка» нервных  процессов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Овал 5"/>
          <p:cNvSpPr/>
          <p:nvPr/>
        </p:nvSpPr>
        <p:spPr>
          <a:xfrm>
            <a:off x="5364000" y="2349360"/>
            <a:ext cx="2808360" cy="165600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ертный ти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2050920" y="408924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Закрепляются рефлексы, не любят менять друзей, привязанности, трудности с адаптацие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2411280" y="5373720"/>
            <a:ext cx="41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обходимы новые впечатлени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В современных условиях развития образования и внедрения ФГОС, все больше возрастает ответственность родителей за психическое здоровье детей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В качестве предварительной работы предлагаю провести изучение типов семейного воспитания на основе методики Миниярова “Стили семейного воспитания”. Родителям предлагается выполнить данный тест в домашних условия или на родительском собрании, как результат работы  психолог представляет полученные данные  в графике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356000" y="62028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04040"/>
                </a:solidFill>
                <a:latin typeface="Trebuchet MS"/>
              </a:rPr>
              <a:t>Невроз – психогенное (конфликтогенное) нервно-психическое расстройство личности вследствие неразрешенных/неразрешаемых внутри и межличностных конфликтов и проявляющееся симптомами невротического регистра реагирования при отсутствии психотических симптомов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(Карвасарский Б.Д.,1980, 1985; Эйдемиллер Э.Г.,2000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686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Скругленный прямоугольник 3"/>
          <p:cNvSpPr/>
          <p:nvPr/>
        </p:nvSpPr>
        <p:spPr>
          <a:xfrm>
            <a:off x="1692360" y="3598920"/>
            <a:ext cx="259236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f8b5"/>
              </a:gs>
              <a:gs pos="100000">
                <a:srgbClr val="abe87b"/>
              </a:gs>
            </a:gsLst>
            <a:lin ang="5400000"/>
          </a:gradFill>
          <a:ln w="9360">
            <a:solidFill>
              <a:srgbClr val="a7ea5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з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611280" y="692280"/>
            <a:ext cx="2376360" cy="151272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стер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Овал 5"/>
          <p:cNvSpPr/>
          <p:nvPr/>
        </p:nvSpPr>
        <p:spPr>
          <a:xfrm>
            <a:off x="3635280" y="782640"/>
            <a:ext cx="2308320" cy="1332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з навязчивых состоян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Овал 6"/>
          <p:cNvSpPr/>
          <p:nvPr/>
        </p:nvSpPr>
        <p:spPr>
          <a:xfrm>
            <a:off x="6372360" y="907920"/>
            <a:ext cx="2232000" cy="1297080"/>
          </a:xfrm>
          <a:prstGeom prst="ellipse">
            <a:avLst/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врост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Скругленный прямоугольник 8"/>
          <p:cNvSpPr/>
          <p:nvPr/>
        </p:nvSpPr>
        <p:spPr>
          <a:xfrm>
            <a:off x="4565520" y="4175280"/>
            <a:ext cx="231012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Скругленный прямоугольник 9"/>
          <p:cNvSpPr/>
          <p:nvPr/>
        </p:nvSpPr>
        <p:spPr>
          <a:xfrm>
            <a:off x="7137360" y="4175280"/>
            <a:ext cx="18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Прямая со стрелкой 11" descr=""/>
          <p:cNvPicPr/>
          <p:nvPr/>
        </p:nvPicPr>
        <p:blipFill>
          <a:blip r:embed="rId1"/>
          <a:stretch/>
        </p:blipFill>
        <p:spPr>
          <a:xfrm>
            <a:off x="1523880" y="2060640"/>
            <a:ext cx="1530360" cy="162720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2919240" y="1968480"/>
            <a:ext cx="1676520" cy="17193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ая со стрелкой 16" descr=""/>
          <p:cNvPicPr/>
          <p:nvPr/>
        </p:nvPicPr>
        <p:blipFill>
          <a:blip r:embed="rId3"/>
          <a:stretch/>
        </p:blipFill>
        <p:spPr>
          <a:xfrm>
            <a:off x="2925720" y="2060640"/>
            <a:ext cx="4730760" cy="1627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ая со стрелкой 18" descr=""/>
          <p:cNvPicPr/>
          <p:nvPr/>
        </p:nvPicPr>
        <p:blipFill>
          <a:blip r:embed="rId4"/>
          <a:stretch/>
        </p:blipFill>
        <p:spPr>
          <a:xfrm>
            <a:off x="5546880" y="2163600"/>
            <a:ext cx="2006280" cy="220680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ая со стрелкой 20" descr=""/>
          <p:cNvPicPr/>
          <p:nvPr/>
        </p:nvPicPr>
        <p:blipFill>
          <a:blip r:embed="rId5"/>
          <a:stretch/>
        </p:blipFill>
        <p:spPr>
          <a:xfrm>
            <a:off x="7418520" y="2170080"/>
            <a:ext cx="787320" cy="2200320"/>
          </a:xfrm>
          <a:prstGeom prst="rect">
            <a:avLst/>
          </a:prstGeom>
          <a:ln w="0">
            <a:noFill/>
          </a:ln>
        </p:spPr>
      </p:pic>
      <p:pic>
        <p:nvPicPr>
          <p:cNvPr id="234" name="Прямоугольник 21" descr=""/>
          <p:cNvPicPr/>
          <p:nvPr/>
        </p:nvPicPr>
        <p:blipFill>
          <a:blip r:embed="rId6"/>
          <a:stretch/>
        </p:blipFill>
        <p:spPr>
          <a:xfrm>
            <a:off x="1712880" y="5389560"/>
            <a:ext cx="5705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Овал 1"/>
          <p:cNvSpPr/>
          <p:nvPr/>
        </p:nvSpPr>
        <p:spPr>
          <a:xfrm>
            <a:off x="611280" y="692280"/>
            <a:ext cx="2867040" cy="2016000"/>
          </a:xfrm>
          <a:prstGeom prst="ellipse">
            <a:avLst/>
          </a:prstGeom>
          <a:gradFill rotWithShape="0">
            <a:gsLst>
              <a:gs pos="0">
                <a:srgbClr val="fdb3af"/>
              </a:gs>
              <a:gs pos="100000">
                <a:srgbClr val="f07872"/>
              </a:gs>
            </a:gsLst>
            <a:lin ang="5400000"/>
          </a:gradFill>
          <a:ln w="9360">
            <a:solidFill>
              <a:srgbClr val="f14124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Истер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rcRect l="0" t="0" r="31992" b="0"/>
          <a:stretch/>
        </p:blipFill>
        <p:spPr>
          <a:xfrm>
            <a:off x="611280" y="2959200"/>
            <a:ext cx="2867040" cy="2917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Защитная реакция организма, независимо от воли человек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роявления: параличи, запоры, судороги, глухот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к действовать: спокойно выполнять просьбу ребенка; не доводить до истерик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е оказывать внимания и нежности к истерическим проявлениям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2958840"/>
            <a:ext cx="3070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11280" y="2420640"/>
            <a:ext cx="475272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вязчивые страхи, движения, тики, «шмыгание носом», облизывание губ и т.д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движение голово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Овал 4"/>
          <p:cNvSpPr/>
          <p:nvPr/>
        </p:nvSpPr>
        <p:spPr>
          <a:xfrm>
            <a:off x="826920" y="620640"/>
            <a:ext cx="2737080" cy="1656000"/>
          </a:xfrm>
          <a:prstGeom prst="ellipse">
            <a:avLst/>
          </a:prstGeom>
          <a:gradFill rotWithShape="0">
            <a:gsLst>
              <a:gs pos="0">
                <a:srgbClr val="ffc0ad"/>
              </a:gs>
              <a:gs pos="100000">
                <a:srgbClr val="ff8a67"/>
              </a:gs>
            </a:gsLst>
            <a:lin ang="5400000"/>
          </a:gradFill>
          <a:ln w="9360">
            <a:solidFill>
              <a:srgbClr val="ff8021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евроз навязчивых состояни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651640" y="171360"/>
            <a:ext cx="314316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94320" y="731520"/>
            <a:ext cx="401616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вышенная возбудимость, вспыльчивость, упрямство, плохой сон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лаксивость, боязливость, повышенная утомляемость, (пугают родители распадом семьи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881080" cy="1763640"/>
          </a:xfrm>
          <a:prstGeom prst="rect">
            <a:avLst/>
          </a:prstGeom>
          <a:ln w="0">
            <a:noFill/>
          </a:ln>
        </p:spPr>
      </p:pic>
      <p:sp>
        <p:nvSpPr>
          <p:cNvPr id="247" name="Скругленный прямоугольник 6"/>
          <p:cNvSpPr/>
          <p:nvPr/>
        </p:nvSpPr>
        <p:spPr>
          <a:xfrm>
            <a:off x="4710240" y="189000"/>
            <a:ext cx="23097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ecece"/>
              </a:gs>
              <a:gs pos="100000">
                <a:srgbClr val="9f9f9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7020000" y="5229360"/>
            <a:ext cx="1908000" cy="9936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4797360" y="907920"/>
            <a:ext cx="1238400" cy="957240"/>
          </a:xfrm>
          <a:prstGeom prst="rect">
            <a:avLst/>
          </a:prstGeom>
          <a:ln w="0">
            <a:noFill/>
          </a:ln>
        </p:spPr>
      </p:pic>
      <p:pic>
        <p:nvPicPr>
          <p:cNvPr id="25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7242120" y="3968640"/>
            <a:ext cx="9018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9880" y="2446200"/>
            <a:ext cx="363528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731520"/>
            <a:ext cx="4016160" cy="48942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76400" y="3497400"/>
            <a:ext cx="3387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Прямоугольник 4" descr=""/>
          <p:cNvPicPr/>
          <p:nvPr/>
        </p:nvPicPr>
        <p:blipFill>
          <a:blip r:embed="rId2"/>
          <a:stretch/>
        </p:blipFill>
        <p:spPr>
          <a:xfrm>
            <a:off x="1096920" y="5529240"/>
            <a:ext cx="6950160" cy="1603440"/>
          </a:xfrm>
          <a:prstGeom prst="rect">
            <a:avLst/>
          </a:prstGeom>
          <a:ln w="0">
            <a:noFill/>
          </a:ln>
        </p:spPr>
      </p:pic>
      <p:sp>
        <p:nvSpPr>
          <p:cNvPr id="255" name="Овал 5"/>
          <p:cNvSpPr/>
          <p:nvPr/>
        </p:nvSpPr>
        <p:spPr>
          <a:xfrm>
            <a:off x="468360" y="620640"/>
            <a:ext cx="3024000" cy="1656000"/>
          </a:xfrm>
          <a:prstGeom prst="ellipse">
            <a:avLst/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грузка процессов возбужд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Овал 6"/>
          <p:cNvSpPr/>
          <p:nvPr/>
        </p:nvSpPr>
        <p:spPr>
          <a:xfrm>
            <a:off x="611280" y="3068640"/>
            <a:ext cx="2881080" cy="13683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Слабый тип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(дети плачут, внушаемы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Прямая со стрелкой 8" descr=""/>
          <p:cNvPicPr/>
          <p:nvPr/>
        </p:nvPicPr>
        <p:blipFill>
          <a:blip r:embed="rId3"/>
          <a:stretch/>
        </p:blipFill>
        <p:spPr>
          <a:xfrm>
            <a:off x="1371600" y="4406760"/>
            <a:ext cx="341280" cy="798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9"/>
          <p:cNvSpPr/>
          <p:nvPr/>
        </p:nvSpPr>
        <p:spPr>
          <a:xfrm>
            <a:off x="900000" y="5013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учать преодолевать трудност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Овал 10"/>
          <p:cNvSpPr/>
          <p:nvPr/>
        </p:nvSpPr>
        <p:spPr>
          <a:xfrm>
            <a:off x="5580000" y="620640"/>
            <a:ext cx="2808360" cy="1513080"/>
          </a:xfrm>
          <a:prstGeom prst="ellipse">
            <a:avLst/>
          </a:prstGeom>
          <a:gradFill rotWithShape="0">
            <a:gsLst>
              <a:gs pos="0">
                <a:srgbClr val="d1f8b5"/>
              </a:gs>
              <a:gs pos="100000">
                <a:srgbClr val="abe87b"/>
              </a:gs>
            </a:gsLst>
            <a:lin ang="5400000"/>
          </a:gradFill>
          <a:ln w="9360">
            <a:solidFill>
              <a:srgbClr val="a7ea52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регрузка процессов торможения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60" name="Овал 11"/>
          <p:cNvGrpSpPr/>
          <p:nvPr/>
        </p:nvGrpSpPr>
        <p:grpSpPr>
          <a:xfrm>
            <a:off x="5516640" y="3029040"/>
            <a:ext cx="2786040" cy="1493640"/>
            <a:chOff x="5516640" y="3029040"/>
            <a:chExt cx="2786040" cy="1493640"/>
          </a:xfrm>
        </p:grpSpPr>
        <p:pic>
          <p:nvPicPr>
            <p:cNvPr id="261" name="Овал 11" descr=""/>
            <p:cNvPicPr/>
            <p:nvPr/>
          </p:nvPicPr>
          <p:blipFill>
            <a:blip r:embed="rId4"/>
            <a:stretch/>
          </p:blipFill>
          <p:spPr>
            <a:xfrm>
              <a:off x="5516640" y="3029040"/>
              <a:ext cx="278604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970600" y="3268800"/>
              <a:ext cx="18842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rebuchet MS"/>
                </a:rPr>
                <a:t>Неуравновешенный тип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63" name="TextBox 13"/>
          <p:cNvSpPr/>
          <p:nvPr/>
        </p:nvSpPr>
        <p:spPr>
          <a:xfrm>
            <a:off x="5148360" y="4869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еже запрещать, не категорично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6:20:24Z</dcterms:created>
  <dc:creator>Пользователь Windows</dc:creator>
  <dc:description/>
  <dc:language>en-US</dc:language>
  <cp:lastModifiedBy>Марина</cp:lastModifiedBy>
  <dcterms:modified xsi:type="dcterms:W3CDTF">2012-10-07T05:24:38Z</dcterms:modified>
  <cp:revision>17</cp:revision>
  <dc:subject/>
  <dc:title>Детский невроз</dc:title>
</cp:coreProperties>
</file>