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163-9C66-4F65-8437-9ACCC394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8CC-01DA-450D-93B4-76ADA8F4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EA1-F59F-44D4-837A-A3AEC5BB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7F1-7A39-45D0-80AE-1EE487E7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FB6-E080-4DAF-BCC7-8EB4DF59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DFF-E020-4BF9-9806-DA144BD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0240-82B0-4302-8DF0-E26746BE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C79-7AC7-4484-BF5B-43EE3AB6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880-038F-497A-AAA5-C26BD39D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089-8002-4B0A-8EC7-357A6AE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2F1-6321-4070-864C-3A5A818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CA2-DD7B-43EF-8CAC-4448F582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C54D-6024-4FE9-BBD2-6D4EF1FFA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374328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Две составляющие мира в поэзии    Ф. И. Тютче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Наташа 3\Литература\мой лучший урок\80712636_large_Tyutchev_memorial_Bryansk.jpg"/>
          <p:cNvPicPr/>
          <p:nvPr/>
        </p:nvPicPr>
        <p:blipFill>
          <a:blip r:embed="rId1"/>
          <a:stretch/>
        </p:blipFill>
        <p:spPr>
          <a:xfrm>
            <a:off x="4643280" y="404640"/>
            <a:ext cx="3953160" cy="5992920"/>
          </a:xfrm>
          <a:prstGeom prst="rect">
            <a:avLst/>
          </a:prstGeom>
          <a:ln w="0">
            <a:noFill/>
          </a:ln>
        </p:spPr>
      </p:pic>
      <p:pic>
        <p:nvPicPr>
          <p:cNvPr id="43" name="Lyudvig Van Bethoven - .mp3" descr=""/>
          <p:cNvPicPr/>
          <p:nvPr/>
        </p:nvPicPr>
        <p:blipFill>
          <a:blip r:embed="rId2"/>
          <a:stretch/>
        </p:blipFill>
        <p:spPr>
          <a:xfrm>
            <a:off x="793116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D:\Наташа 3\Литература\мой лучший урок\34174256_1224794480_8627cb3f476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4882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2"/>
          <p:cNvSpPr/>
          <p:nvPr/>
        </p:nvSpPr>
        <p:spPr>
          <a:xfrm>
            <a:off x="5292720" y="566640"/>
            <a:ext cx="36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ce6f2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ень и но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На мир таинственный дух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Над этой бездной безымянн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Покров наброшен златотка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Высокой волею бог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ень — сей блистательный пок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ень, земнородных оживлень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уши болящей исцелень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Друг человеков и бог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Но меркнет день — настала ноч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Пришла — и, с мира роков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Ткань благодатную покр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Сорвав, отбрасывает прочь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И бездна нам обнаж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С своими страхами и мглам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И нет преград меж ей и нами 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dee8"/>
                </a:solidFill>
                <a:latin typeface="Calibri"/>
              </a:rPr>
              <a:t>Вот отчего нам ночь страш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Наташа 3\Литература\мой лучший урок\t_038.jpg"/>
          <p:cNvPicPr/>
          <p:nvPr/>
        </p:nvPicPr>
        <p:blipFill>
          <a:blip r:embed="rId1"/>
          <a:stretch/>
        </p:blipFill>
        <p:spPr>
          <a:xfrm>
            <a:off x="47520" y="115920"/>
            <a:ext cx="9096480" cy="6454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3"/>
          <p:cNvSpPr/>
          <p:nvPr/>
        </p:nvSpPr>
        <p:spPr>
          <a:xfrm>
            <a:off x="4781520" y="404640"/>
            <a:ext cx="4105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eef4"/>
                </a:solidFill>
                <a:latin typeface="Calibri"/>
              </a:rPr>
              <a:t>                   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ДВА ГОЛО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Мужайтесь, о други, боритесь прилежно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Хоть бой и неравен, борьба безнадежн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Над вами светила молчат в вышине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од вами могилы - молчат и о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усть в горнем Олимпе блаженствуют бог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Бессмертье их чуждо труда и тревог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Тревога и труд лишь для смертных сердец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Для них нет победы, для них есть коне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Мужайтесь, боритесь, о храбрые друг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Как бой ни жесток, ни упорна борьба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Над вами безмолвные звездные круг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од вами немые, глухие гроб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Пускай олимпийцы завистливым ок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Глядят на борьбу непреклонных серде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Кто ратуя пал, побежденный лишь роко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dbeef4"/>
                </a:solidFill>
                <a:latin typeface="Calibri"/>
              </a:rPr>
              <a:t>Тот вырвал из рук их победный венец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Наташа 3\Литература\мой лучший урок\2053063399_l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31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4788000" y="1484280"/>
            <a:ext cx="415764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, вещая душа мо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 вещая душа мо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 сердце, полное тревоги,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О, как ты бьешься на поро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Как бы двойного бытия!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Так ты — жилица двух мир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Твой день — болезненный и страст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Твой сон — пророчески-неясн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Как откровение духов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nnokentij Smoktunovskij - .mp3 о вещая.mp3" descr=""/>
          <p:cNvPicPr/>
          <p:nvPr/>
        </p:nvPicPr>
        <p:blipFill>
          <a:blip r:embed="rId2"/>
          <a:stretch/>
        </p:blipFill>
        <p:spPr>
          <a:xfrm>
            <a:off x="7812000" y="58244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Наташа 3\Литература\мой лучший урок\3ed75a86-541d-44d3-b.jpg"/>
          <p:cNvPicPr/>
          <p:nvPr/>
        </p:nvPicPr>
        <p:blipFill>
          <a:blip r:embed="rId1"/>
          <a:stretch/>
        </p:blipFill>
        <p:spPr>
          <a:xfrm>
            <a:off x="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324000" y="836640"/>
            <a:ext cx="4254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 чем ты воешь, ветр ночн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 чем так сетуешь безумно?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Что значит странный голос тв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То глухо жалобный, то шумн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онятным сердцу язык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Твердишь о непонятной муке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И роешь и взрываешь в н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орой неистовые звуки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, страшных песен сих не п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ро древний хаос, про родимы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Как жадно мир души ноч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Внимает повести любимо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Из смертной рвется он груд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н с беспредельным жаждет слиться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О, бурь заснувших не буди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8eb4e3"/>
                </a:solidFill>
                <a:latin typeface="Calibri"/>
              </a:rPr>
              <a:t>Под ними хаос шевелится!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M. Kozakov - F.Tyutchev. O chem ty voesh', vetr nochnoj_.mp3" descr=""/>
          <p:cNvPicPr/>
          <p:nvPr/>
        </p:nvPicPr>
        <p:blipFill>
          <a:blip r:embed="rId2"/>
          <a:stretch/>
        </p:blipFill>
        <p:spPr>
          <a:xfrm>
            <a:off x="8028000" y="588636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Наташа 3\Литература\мой лучший урок\suskunadamzoomerhi3.jpg"/>
          <p:cNvPicPr/>
          <p:nvPr/>
        </p:nvPicPr>
        <p:blipFill>
          <a:blip r:embed="rId1"/>
          <a:stretch/>
        </p:blipFill>
        <p:spPr>
          <a:xfrm>
            <a:off x="1143000" y="-27000"/>
            <a:ext cx="688500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4211640" y="28584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Как сердцу высказать себ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Другому как понять теб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Поймёт ли он, чем ты живёш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Мысль изреченная есть лож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D:\Наташа 3\Литература\мой лучший урок\4c1c0354-8d07-38b7-3375-0272bd19b8ec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284720" y="5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Пускай страдальческую гру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Волнуют страсти роковые 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Душа готова, как Мар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ce6f2"/>
                </a:solidFill>
                <a:latin typeface="Calibri"/>
              </a:rPr>
              <a:t>К ногам Христа навек прильну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D:\Наташа 3\Литература\мой лучший урок\the-universe-creates-masterpieces-of-art1-1297924197.jpg"/>
          <p:cNvPicPr/>
          <p:nvPr/>
        </p:nvPicPr>
        <p:blipFill>
          <a:blip r:embed="rId1"/>
          <a:stretch/>
        </p:blipFill>
        <p:spPr>
          <a:xfrm>
            <a:off x="934920" y="38160"/>
            <a:ext cx="8209080" cy="679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:\Наташа 3\Литература\мой лучший урок\0_3e713_450137a8_L.jpeg"/>
          <p:cNvPicPr/>
          <p:nvPr/>
        </p:nvPicPr>
        <p:blipFill>
          <a:blip r:embed="rId2"/>
          <a:stretch/>
        </p:blipFill>
        <p:spPr>
          <a:xfrm>
            <a:off x="0" y="0"/>
            <a:ext cx="5562720" cy="68486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5724360" y="1052640"/>
            <a:ext cx="322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К поэзии Тютчева можно подходить с трех разных точек зрения: можно обратить внимание на выраженные в ней мысли, можно постараться выявить ее философское содержание, можно, наконец, остановиться на ее чисто художественных достоинствах. Со всех трех точек зрения, поэзия Тютчева заслуживает величайшего вним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                   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d7e4b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Lyudvig Van Bethoven - .mp3" descr=""/>
          <p:cNvPicPr/>
          <p:nvPr/>
        </p:nvPicPr>
        <p:blipFill>
          <a:blip r:embed="rId3"/>
          <a:stretch/>
        </p:blipFill>
        <p:spPr>
          <a:xfrm>
            <a:off x="802800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на</cp:lastModifiedBy>
  <dcterms:modified xsi:type="dcterms:W3CDTF">2012-10-04T04:22:23Z</dcterms:modified>
  <cp:revision>8</cp:revision>
  <dc:subject/>
  <dc:title>«Две составляющие мира в поэзии    Ф. И. Тютчева»</dc:title>
</cp:coreProperties>
</file>