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768B-6F97-4530-B72F-1C40F0A4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7601-8225-471E-ACA0-D14674B3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7C8-85C9-4B51-917F-DAE6E5F7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F58A-5B4A-47BA-B325-F300D78A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96C-C627-4949-A5B7-C175DEBC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FF0-9F6E-4635-945C-D2CB4E13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475-55AC-4E37-8EEA-1FAA0AC5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E2A4-E226-48E5-A5AA-59F72341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E16-EBF3-45D9-AD9C-8E1807CB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1A0C-D8BB-480F-8233-7C675E11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74BC-715C-4FFB-B75F-7EE834D7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50B9-9534-469A-BD03-5EEE6946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38F2-0F4E-43B3-9D20-2350F4B3FE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374328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Две составляющие мира в поэзии    Ф. И. Тютче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:\Наташа 3\Литература\мой лучший урок\80712636_large_Tyutchev_memorial_Bryansk.jpg"/>
          <p:cNvPicPr/>
          <p:nvPr/>
        </p:nvPicPr>
        <p:blipFill>
          <a:blip r:embed="rId1"/>
          <a:stretch/>
        </p:blipFill>
        <p:spPr>
          <a:xfrm>
            <a:off x="4643280" y="404640"/>
            <a:ext cx="3953160" cy="5992920"/>
          </a:xfrm>
          <a:prstGeom prst="rect">
            <a:avLst/>
          </a:prstGeom>
          <a:ln w="0">
            <a:noFill/>
          </a:ln>
        </p:spPr>
      </p:pic>
      <p:pic>
        <p:nvPicPr>
          <p:cNvPr id="43" name="Lyudvig Van Bethoven - .mp3" descr=""/>
          <p:cNvPicPr/>
          <p:nvPr/>
        </p:nvPicPr>
        <p:blipFill>
          <a:blip r:embed="rId2"/>
          <a:stretch/>
        </p:blipFill>
        <p:spPr>
          <a:xfrm>
            <a:off x="793116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D:\Наташа 3\Литература\мой лучший урок\34174256_1224794480_8627cb3f476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48828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5292720" y="566640"/>
            <a:ext cx="36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ce6f2"/>
                </a:solidFill>
                <a:latin typeface="Calibri"/>
              </a:rPr>
              <a:t>             </a:t>
            </a: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День и ноч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На мир таинственный духов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Над этой бездной безымянн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Покров наброшен златотка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Высокой волею бог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День — сей блистательный пок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День, земнородных оживлень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Души болящей исцелень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Друг человеков и бог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Но меркнет день — настала ноч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Пришла — и, с мира роков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Ткань благодатную покр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Сорвав, отбрасывает прочь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И бездна нам обнаж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С своими страхами и мглам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И нет преград меж ей и нами 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Вот отчего нам ночь страш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D:\Наташа 3\Литература\мой лучший урок\t_038.jpg"/>
          <p:cNvPicPr/>
          <p:nvPr/>
        </p:nvPicPr>
        <p:blipFill>
          <a:blip r:embed="rId1"/>
          <a:stretch/>
        </p:blipFill>
        <p:spPr>
          <a:xfrm>
            <a:off x="47520" y="115920"/>
            <a:ext cx="9096480" cy="64548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4781520" y="404640"/>
            <a:ext cx="41054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beef4"/>
                </a:solidFill>
                <a:latin typeface="Calibri"/>
              </a:rPr>
              <a:t>                   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ДВА ГОЛОС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Мужайтесь, о други, боритесь прилежно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Хоть бой и неравен, борьба безнадежна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Над вами светила молчат в вышине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Под вами могилы - молчат и он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Пусть в горнем Олимпе блаженствуют бог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Бессмертье их чуждо труда и тревог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Тревога и труд лишь для смертных сердец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Для них нет победы, для них есть конец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Мужайтесь, боритесь, о храбрые друг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Как бой ни жесток, ни упорна борьба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Над вами безмолвные звездные круг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Под вами немые, глухие гроб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Пускай олимпийцы завистливым ок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Глядят на борьбу непреклонных сердец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Кто ратуя пал, побежденный лишь роком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Тот вырвал из рук их победный венец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D:\Наташа 3\Литература\мой лучший урок\2053063399_l.jpg"/>
          <p:cNvPicPr/>
          <p:nvPr/>
        </p:nvPicPr>
        <p:blipFill>
          <a:blip r:embed="rId1"/>
          <a:stretch/>
        </p:blipFill>
        <p:spPr>
          <a:xfrm>
            <a:off x="0" y="0"/>
            <a:ext cx="9109080" cy="6831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4788000" y="1484280"/>
            <a:ext cx="415764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О, вещая душа моя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О вещая душа мо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О сердце, полное тревоги, 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О, как ты бьешься на порог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Как бы двойного бытия!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Так ты — жилица двух миров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Твой день — болезненный и страстны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Твой сон — пророчески-неясны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Как откровение духов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nnokentij Smoktunovskij - .mp3 о вещая.mp3" descr=""/>
          <p:cNvPicPr/>
          <p:nvPr/>
        </p:nvPicPr>
        <p:blipFill>
          <a:blip r:embed="rId2"/>
          <a:stretch/>
        </p:blipFill>
        <p:spPr>
          <a:xfrm>
            <a:off x="7812000" y="582444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D:\Наташа 3\Литература\мой лучший урок\3ed75a86-541d-44d3-b.jpg"/>
          <p:cNvPicPr/>
          <p:nvPr/>
        </p:nvPicPr>
        <p:blipFill>
          <a:blip r:embed="rId1"/>
          <a:stretch/>
        </p:blipFill>
        <p:spPr>
          <a:xfrm>
            <a:off x="0" y="-9360"/>
            <a:ext cx="9155160" cy="68673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324000" y="836640"/>
            <a:ext cx="4254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О чем ты воешь, ветр ночной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О чем так сетуешь безумно?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Что значит странный голос тв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То глухо жалобный, то шумн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Понятным сердцу язык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Твердишь о непонятной муке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И роешь и взрываешь в н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Порой неистовые звуки!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О, страшных песен сих не п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Про древний хаос, про родимы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Как жадно мир души ночн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Внимает повести любимо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Из смертной рвется он груд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Он с беспредельным жаждет слиться!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О, бурь заснувших не буди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Под ними хаос шевелится!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M. Kozakov - F.Tyutchev. O chem ty voesh', vetr nochnoj_.mp3" descr=""/>
          <p:cNvPicPr/>
          <p:nvPr/>
        </p:nvPicPr>
        <p:blipFill>
          <a:blip r:embed="rId2"/>
          <a:stretch/>
        </p:blipFill>
        <p:spPr>
          <a:xfrm>
            <a:off x="8028000" y="58863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D:\Наташа 3\Литература\мой лучший урок\suskunadamzoomerhi3.jpg"/>
          <p:cNvPicPr/>
          <p:nvPr/>
        </p:nvPicPr>
        <p:blipFill>
          <a:blip r:embed="rId1"/>
          <a:stretch/>
        </p:blipFill>
        <p:spPr>
          <a:xfrm>
            <a:off x="1143000" y="-27000"/>
            <a:ext cx="6885000" cy="6885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4211640" y="28584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e6f2"/>
                </a:solidFill>
                <a:latin typeface="Calibri"/>
              </a:rPr>
              <a:t>Как сердцу высказать себ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e6f2"/>
                </a:solidFill>
                <a:latin typeface="Calibri"/>
              </a:rPr>
              <a:t>Другому как понять теб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e6f2"/>
                </a:solidFill>
                <a:latin typeface="Calibri"/>
              </a:rPr>
              <a:t>Поймёт ли он, чем ты живёш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e6f2"/>
                </a:solidFill>
                <a:latin typeface="Calibri"/>
              </a:rPr>
              <a:t>Мысль изреченная есть лож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D:\Наташа 3\Литература\мой лучший урок\4c1c0354-8d07-38b7-3375-0272bd19b8ec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4284720" y="54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e6f2"/>
                </a:solidFill>
                <a:latin typeface="Calibri"/>
              </a:rPr>
              <a:t>Пускай страдальческую груд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e6f2"/>
                </a:solidFill>
                <a:latin typeface="Calibri"/>
              </a:rPr>
              <a:t>Волнуют страсти роковые 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e6f2"/>
                </a:solidFill>
                <a:latin typeface="Calibri"/>
              </a:rPr>
              <a:t>Душа готова, как Мари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e6f2"/>
                </a:solidFill>
                <a:latin typeface="Calibri"/>
              </a:rPr>
              <a:t>К ногам Христа навек прильну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D:\Наташа 3\Литература\мой лучший урок\the-universe-creates-masterpieces-of-art1-1297924197.jpg"/>
          <p:cNvPicPr/>
          <p:nvPr/>
        </p:nvPicPr>
        <p:blipFill>
          <a:blip r:embed="rId1"/>
          <a:stretch/>
        </p:blipFill>
        <p:spPr>
          <a:xfrm>
            <a:off x="934920" y="38160"/>
            <a:ext cx="8209080" cy="6799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D:\Наташа 3\Литература\мой лучший урок\0_3e713_450137a8_L.jpeg"/>
          <p:cNvPicPr/>
          <p:nvPr/>
        </p:nvPicPr>
        <p:blipFill>
          <a:blip r:embed="rId2"/>
          <a:stretch/>
        </p:blipFill>
        <p:spPr>
          <a:xfrm>
            <a:off x="0" y="0"/>
            <a:ext cx="5562720" cy="68486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5724360" y="1052640"/>
            <a:ext cx="3221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7e4bd"/>
                </a:solidFill>
                <a:latin typeface="Calibri"/>
              </a:rPr>
              <a:t>       </a:t>
            </a:r>
            <a:r>
              <a:rPr b="1" lang="ru-RU" sz="2000" spc="-1" strike="noStrike">
                <a:solidFill>
                  <a:srgbClr val="d7e4bd"/>
                </a:solidFill>
                <a:latin typeface="Calibri"/>
              </a:rPr>
              <a:t>К поэзии Тютчева можно подходить с трех разных точек зрения: можно обратить внимание на выраженные в ней мысли, можно постараться выявить ее философское содержание, можно, наконец, остановиться на ее чисто художественных достоинствах. Со всех трех точек зрения, поэзия Тютчева заслуживает величайшего вним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7e4bd"/>
                </a:solidFill>
                <a:latin typeface="Calibri"/>
              </a:rPr>
              <a:t>                   </a:t>
            </a:r>
            <a:r>
              <a:rPr b="1" lang="ru-RU" sz="2000" spc="-1" strike="noStrike">
                <a:solidFill>
                  <a:srgbClr val="d7e4bd"/>
                </a:solidFill>
                <a:latin typeface="Calibri"/>
              </a:rPr>
              <a:t>В.Брю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7e4bd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d7e4bd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d7e4bd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Lyudvig Van Bethoven - .mp3" descr=""/>
          <p:cNvPicPr/>
          <p:nvPr/>
        </p:nvPicPr>
        <p:blipFill>
          <a:blip r:embed="rId3"/>
          <a:stretch/>
        </p:blipFill>
        <p:spPr>
          <a:xfrm>
            <a:off x="802800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на</cp:lastModifiedBy>
  <dcterms:modified xsi:type="dcterms:W3CDTF">2012-10-04T04:22:23Z</dcterms:modified>
  <cp:revision>8</cp:revision>
  <dc:subject/>
  <dc:title>«Две составляющие мира в поэзии    Ф. И. Тютчева»</dc:title>
</cp:coreProperties>
</file>